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CAA-1718-4148-8F60-487BF837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82B-FF74-404F-95F0-4970F753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3A2F2F-74A5-44EB-802A-DB13A810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493005-1DC1-4696-A709-8FDDD959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35A87A-7BF2-4558-BDBE-CE4D6EBB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83A1D-95E4-44CE-B1FD-A2644DB4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6708D9-2909-4F26-BDAD-326DC4F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6A2A3F-61AC-4B17-8F97-5B19FA9A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140EB3-B8D1-4989-A97A-3CC407FA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09BEA5-2DC7-4AFE-ADC4-2EBDBBEE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D2A4CA-0BA4-4D1D-8DEB-38E742B0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FCB-F361-4716-9449-8F68BDD4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F2B-97A6-474F-B9A6-E0A07005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D8EF9-2B3F-4178-99C0-7E8EF8B1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B5D84-857F-449B-97B8-ADA968A0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A99BE-504B-4A83-940D-D310AF27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96914-B1AF-41B8-BF74-7723825D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64C69-00D6-4689-98F9-5C6F997C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D1DB6-190B-4AF8-9F45-5AF0A2A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22610-5500-4E80-9A7C-2F55CC0F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B2A-4483-4F57-8DC0-B90881B5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51C77-09D2-4CAC-A74C-5F8DB142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E658C-1043-43AC-9DF5-8EA93D52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D18E7-22AC-4603-AAB8-78C8E67A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00DA9-1DEB-4890-A918-CD5B74F3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FEC3F-4AB7-40D1-B4BB-30B0E667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A631-C0C9-4C6F-A8DC-E53AB313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584B6-8598-41B6-9A24-54CA2626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C904-2FB5-4CE7-B2A4-4EBFC6BC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A5CF6-6FD5-4406-B17D-2ED1724C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3152-A728-4974-AF39-FB723058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556-BC06-419D-ADB5-07586116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D81F2-B65F-4671-8F7C-CDC02035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FC6D-9B1A-419B-8073-EF5778A1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6BADC-B577-42B0-B23F-E74722F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BB41-CF6E-43A6-A190-B59AE758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2F8D-C266-4B94-B354-1F459D7A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DB68-8CB3-4A5F-A629-78BD9760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C22B-D5D4-4768-9615-9BAB6D5E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72D7C-2229-4323-8788-FE6B402F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4588F-B8E4-46D3-B69B-C343767A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2E76E-1F80-4114-B5A3-6E62E561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3DB-9F54-4028-B23E-2071E754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14CA3-8591-43D1-A9D4-163760C0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0C711B-8E03-4895-85E8-74573E22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89C30-4F06-4AF0-BC3C-5C8D4999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10E3E-639F-4086-8FD0-25C67EAF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46164-51EB-473A-A56F-D0C000F1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D6D6D-616E-409E-8856-814F2AB8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A41A8-6DF1-4A02-B7FA-E161C500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71656-3329-4280-BE8F-82976AEB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F462D-A82B-4947-8F4F-A4795AD6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5ADA8-F11F-4AD6-860C-03DE367E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ED9-0E77-4C1C-B220-BD2E80C3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6C627-AB5F-4DCB-92E1-D44C7AC4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0318E-9765-4485-A694-514D83EA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1CB1B-6FBC-41A6-B5E5-5C219B39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70024-0A40-4575-A12C-73CAC188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C8844-CDC3-4D69-922B-39116B23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08AE7-AECA-4A78-B1BA-CF7BEBA4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AE79-AA8A-4F9D-A9A3-BBD6A20C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3590B-D30C-48CE-89F2-7184E8C4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BA603-5394-4A90-8420-F5FC1E28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011DB-D63F-4410-A3FB-41B39DC0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1CC-FF87-46FB-BCCB-9C6C5E7C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DF9E-E6FD-4391-B6AF-806C9E1E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A55D6-F5AA-4C79-8E41-81444F02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76DD6-F8C6-4DBA-A37B-64132285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B786-74BF-4551-A6C2-1AE44818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BE1AD-7669-4A10-BB43-C11E4C9B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BB617-1328-4E16-9393-F21541A8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5F47B-34E2-4607-8D09-A4ADF7D3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E279A-165A-4164-BE67-1ED65782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E2FE4-98BD-4C11-B165-FE0A0DC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87CA6-D738-4022-AE9D-54CB506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AC7-FD06-4E2E-B10F-73C9E344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D9E58-4BA4-425F-AB37-9A82362E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EE601-593E-4006-8758-5F0AB21B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1DEAD-3CCD-42DC-8F1D-9F752C27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23C41-675C-44B9-9CFC-499AC73F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91C8A-E33A-4BA4-98A4-67791B86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E5120-4F32-4748-A4D3-0FDC6A0D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9A08D-2D3F-42D8-97B2-011EA0B5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B7013-053D-4156-9444-74295F4B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AF76F-7204-435A-BE3B-59C4F89D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E7575-F110-4F5F-94D9-F52EBB3F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82C-028E-4B1A-822F-DE6CCFDD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01D8C-2C37-4E21-BA91-BEC1B297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1C136-B5A3-4C26-984E-3871E98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2C478-AE44-46DF-B308-3267BD2D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FF16D-4921-4265-AE31-DE3CEDDD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8B86E-8F2D-49A5-8B12-46C3435A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624550-166F-4A3E-A366-0E7DD254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4C9F76-992B-43C5-8C9E-36F822EF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CC8B19-65C2-4268-91A7-1084F12E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863AB8-34F2-4C4D-AC20-37F1F14A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C32CE0-677D-42C1-B1E8-993A1BD8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67A-D442-40B1-87DA-714156F2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7BE2FB-0D38-4171-9871-D57093DE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AC09F7-50B2-4A05-8FF2-96B87F9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B495A3-F018-405E-8C5C-B51788F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89F54E-0848-4FCD-8D3E-E6764ED2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3BEA4F-8C8C-4FAD-994F-D3E80BF5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B0F7F2-9B81-4084-A1C3-EC3E7AE8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1481F5-AEA2-4D75-807A-A4A278A1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C8F940-0ABD-41B3-814C-4BBCDD7C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BC7871-6FBB-41AD-89F8-EF90BF5B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CCC331-ED55-49FC-99F8-8CD7846B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05D2-875C-47CB-9698-CE8A16287977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8102-764B-4E37-B871-41B8BDAFFA3E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212A-54C2-4D2D-A15C-5DFE49815412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0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EFB2-77A2-4131-BC61-48B026665ED6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FBD6-D8B5-4864-B9BE-C364C3A02745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0B33-DD34-4D67-A87F-4F316A263BD8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8e8ed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0D10-2FAA-484B-A1B4-FD40C947DF41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0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FBFF-1D00-45CB-85C6-92D233BD9D77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e8f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4e8f2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5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  <a:p>
            <a:pPr lvl="6" marL="1187280" indent="-182520">
              <a:buClr>
                <a:srgbClr val="d8e8e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8e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d8e8ed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deff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deff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2e0e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2213-F96D-4D54-8697-BE9B5B6EB4BA}" type="slidenum">
              <a:rPr b="0" lang="ru-RU" sz="1600" spc="-1" strike="noStrike">
                <a:solidFill>
                  <a:srgbClr val="d2e0e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3"/>
          <p:cNvSpPr/>
          <p:nvPr/>
        </p:nvSpPr>
        <p:spPr>
          <a:xfrm>
            <a:off x="1042920" y="1628640"/>
            <a:ext cx="705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пришёл ко мне с утра?</a:t>
            </a:r>
            <a:endParaRPr b="0" lang="en-US" sz="2800" spc="-1" strike="noStrike">
              <a:solidFill>
                <a:srgbClr val="d8e8e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сказал: «Вставать пора»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ашу кто успел сварить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Чаю в чашку мне налить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косички мне заплёл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Целый дом один подмёл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цветов в саду нарвал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меня поцеловал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ребячий любит смех?</a:t>
            </a:r>
            <a:br>
              <a:rPr sz="2800"/>
            </a:br>
            <a:r>
              <a:rPr b="0" lang="ru-RU" sz="2800" spc="-1" strike="noStrike">
                <a:solidFill>
                  <a:srgbClr val="040404"/>
                </a:solidFill>
                <a:latin typeface="Arial"/>
              </a:rPr>
              <a:t>Кто на свете лучше всех?</a:t>
            </a:r>
            <a:endParaRPr b="0" lang="en-US" sz="2800" spc="-1" strike="noStrike">
              <a:solidFill>
                <a:srgbClr val="d8e8ed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e8ed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1" descr="13.gif"/>
          <p:cNvPicPr/>
          <p:nvPr/>
        </p:nvPicPr>
        <p:blipFill>
          <a:blip r:embed="rId1"/>
          <a:stretch/>
        </p:blipFill>
        <p:spPr>
          <a:xfrm>
            <a:off x="480960" y="620640"/>
            <a:ext cx="8182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Рисунок 2" descr="5.gif"/>
          <p:cNvPicPr/>
          <p:nvPr/>
        </p:nvPicPr>
        <p:blipFill>
          <a:blip r:embed="rId1"/>
          <a:stretch/>
        </p:blipFill>
        <p:spPr>
          <a:xfrm>
            <a:off x="601560" y="771480"/>
            <a:ext cx="79311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2" descr="1.gif"/>
          <p:cNvPicPr/>
          <p:nvPr/>
        </p:nvPicPr>
        <p:blipFill>
          <a:blip r:embed="rId1"/>
          <a:stretch/>
        </p:blipFill>
        <p:spPr>
          <a:xfrm>
            <a:off x="4572000" y="3500280"/>
            <a:ext cx="4276800" cy="301968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3" descr="3.gif"/>
          <p:cNvPicPr/>
          <p:nvPr/>
        </p:nvPicPr>
        <p:blipFill>
          <a:blip r:embed="rId2"/>
          <a:stretch/>
        </p:blipFill>
        <p:spPr>
          <a:xfrm>
            <a:off x="4572000" y="404640"/>
            <a:ext cx="4321080" cy="298152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4.gif"/>
          <p:cNvPicPr/>
          <p:nvPr/>
        </p:nvPicPr>
        <p:blipFill>
          <a:blip r:embed="rId3"/>
          <a:stretch/>
        </p:blipFill>
        <p:spPr>
          <a:xfrm>
            <a:off x="250920" y="3500280"/>
            <a:ext cx="4249800" cy="302436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11.gif"/>
          <p:cNvPicPr/>
          <p:nvPr/>
        </p:nvPicPr>
        <p:blipFill>
          <a:blip r:embed="rId4"/>
          <a:stretch/>
        </p:blipFill>
        <p:spPr>
          <a:xfrm>
            <a:off x="250920" y="47628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2" descr="10.gif"/>
          <p:cNvPicPr/>
          <p:nvPr/>
        </p:nvPicPr>
        <p:blipFill>
          <a:blip r:embed="rId1"/>
          <a:stretch/>
        </p:blipFill>
        <p:spPr>
          <a:xfrm>
            <a:off x="250920" y="620640"/>
            <a:ext cx="4176720" cy="581976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3" descr="6.gif"/>
          <p:cNvPicPr/>
          <p:nvPr/>
        </p:nvPicPr>
        <p:blipFill>
          <a:blip r:embed="rId2"/>
          <a:stretch/>
        </p:blipFill>
        <p:spPr>
          <a:xfrm>
            <a:off x="4643280" y="620640"/>
            <a:ext cx="424980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4:36:37Z</dcterms:created>
  <dc:creator>Slonik</dc:creator>
  <dc:description/>
  <dc:language>en-US</dc:language>
  <cp:lastModifiedBy>User</cp:lastModifiedBy>
  <dcterms:modified xsi:type="dcterms:W3CDTF">2012-10-25T08:06:34Z</dcterms:modified>
  <cp:revision>10</cp:revision>
  <dc:subject/>
  <dc:title>Слайд 1</dc:title>
</cp:coreProperties>
</file>