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9327-8BE0-49FB-9E0F-489347782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59FC-B6AD-455E-8FA7-2837308F3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C1FD81-793E-43D7-84F4-A42BD57FE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0F40FA-E9D0-4EEA-827A-D5945182C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745031-3016-4B8B-BE9A-0C0A81B21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0CB0C8-1DA0-4262-B312-CCED4D44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CEBAAE-67E9-4A75-AE7B-8171144F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28FAB1-2CDE-4EC9-8E60-429B5B1F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E3395F-CF09-45DF-8B9F-AADB77CAF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75E828-ECDF-41B0-8CBB-3CFFC4D51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8022D5-D7B8-4961-A69C-BC3BDA696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6C84-F1CC-4FE8-8DE5-D86C52C3D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BE5A-097F-4334-9312-A40A31D5B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A9138A-1BDB-44A5-973C-8ABB49155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4F4F4E-DDB8-4420-8098-8DBC96655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2E6626-8438-4608-BCB7-D93AD5F86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D12681-E325-4F23-BE5A-4A4D68723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CA04A0-2607-4AC6-BAA6-60218F3EE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98DBAB-67B2-4263-817A-1E0CCD7BD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AE7F00-9CE2-4B19-A108-999C2166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3020-AB0E-49D5-B075-CC4CCC8C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C4CBFE-FD86-4940-B4A6-C3786C50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AE10E6-3FDE-48CD-A457-9A0002E0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D6B38E-499C-4DF1-B783-75F5EA9D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887F85-DAB2-4C7E-9F43-DB3D5EAEF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1313A8-DB1B-46BB-B68C-664CC76C9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493D5-7A2B-4DBA-A9D4-3CD28A3F0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BBA15-A3F8-4A59-8168-72F6B5664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5B61F-4FE4-46F1-952E-9E0D4D178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28822-9110-45BD-B194-4D61A2D3B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19AF5-3638-4773-87EC-DCBD2EDB7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C45E-AA1E-4E43-AD6E-97107BE2F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35242-3E89-4992-B117-16A4DBE29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3D37F-F193-4F31-A95A-AA8B33D6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8D4B8-8ED6-49CD-8840-E3885F75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19073-E077-4798-9672-D6D18DC1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D0E65-C6C9-4291-B14C-4E048F179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DBCE2-C770-48D8-A9A0-6314AD036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AAB06-2142-4FA1-BF6F-D6E4CF62B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74B865-F8A4-4596-AF71-C9A7507AF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F25787-F2DD-4ED2-A5F4-843CCB786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0F81A8-DCAC-4A32-8DEB-91591DB6F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A271-268A-408B-936B-95C39259D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A13A8D-B261-4DF4-9C98-A7CB78A29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158B65-E74A-4584-8B4B-7B18E6009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BCDC80-5665-4DE6-905C-120B3B670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B1DE2D-7FF6-4F29-A5AA-0DC7060E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D86D1F-584F-49FD-967E-D81CF1C3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23C1DA-F665-472F-AB00-B5E56032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715AE8-A846-4810-98D3-305B94186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7D315A-3DB2-4D33-BBB1-46153E3D0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BC978B-8075-47EE-8BD7-33766B691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A02AA-736E-4FBF-9028-6D68A08F2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BD17-974A-4C02-A906-58C500760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110D7-F7F2-40E8-9584-CC9D65BCA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FB115-7D90-460D-BCCF-B559202F5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0FE9E-0052-44FF-87B2-9EFA09107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0891B-D763-40A0-8A1A-B6DF2C15F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1653C-026A-48BA-9FB1-0AF17B1DA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034AC-DD35-4354-A461-192F60B2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CDD50-2CE1-40D9-A1A1-CCD9C912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2665C-A61A-4800-A0D7-63493A05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FC3F9-33E7-4EC3-8EB5-987EE4620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1469C6-73E5-43E5-B817-067D89461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CE2E-ECC4-4D31-9CF6-A1488E6EF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48D23-432B-4FBF-BEFF-65063FDF4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DF871-8BA3-415F-99F1-0398F5DDD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24CF1-0FD3-49A6-A720-0C5AB1EEB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F1EB1-85EC-4A8A-A1F0-D5B1C0035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405291-F863-4085-99EB-75B57A746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B8DF7-D3D3-41F1-908E-A471BF990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C7FC0-26E2-4E17-B801-A46FBAC12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300FB-94D8-4581-8E30-0FDCF5B1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CDAF1-52CB-49AA-8D8F-786170EF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7BB70-5C2F-4EE1-AB4A-6D437301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56CA-CF95-492B-BC69-A85BF13B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F399C-55F2-415F-843B-BF28DD8AC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00CE20-8654-41AA-8D8B-2FC974B2A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FAC0F-51FC-4581-991C-F394CC926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F87DCF-5847-4CAC-A269-136DE9D09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0D10F-CD19-474E-81C3-2DFACF41D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04EC91-2D31-4A1E-8C04-D43E5DC08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6514D-0C89-4B14-8526-F7FD01749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D768B6-5CCD-41AC-92EB-D4B6587A0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703A22-57CD-4E85-9253-E5CC0E25A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B2F085-20EC-45BD-B983-D3F2924B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1823-BF93-4336-8E17-F6A92C01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DB0175-9D96-4620-9FA5-29E63BF3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0F055-DA69-47C2-853D-B37785CF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C00D1D-CC48-4B5F-94DA-ADA641FD1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C12310-F526-4D5A-9FBF-3B1E8DCBC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29E7F-3F40-487E-A54D-FA26DE77E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D8875B-2119-4B4E-A598-5F93013A5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DD6118-DFB5-4088-98EB-0942F1D74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94B3A7-8594-4B3A-95DC-04C6CA190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4256F1-FF8C-4312-AACB-08B4C98E9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A35D57-2150-450F-888C-5E9911B73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C4B9-54D5-4069-B889-D0889A0E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6B6245-CEC9-4E42-A85D-27412BC30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ACAE8B-F1F1-4076-BA91-5513BDE9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641217-EDD1-4640-A20E-C453B01E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B7C5B1-9BC0-4519-A30B-42583F2A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FA1267-FEA7-48EE-BBED-E7ABF53E2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0B8E3B-4214-4E64-AD09-DC96139CA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3A91A5-1EAC-4F0C-8A36-902B53B8C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157A85-DA29-4291-8BE8-063E08BD0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20D38A-3B52-4233-B69E-9E030F994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2EB802-4F80-4186-8A1A-E8FCB5D00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8e8ed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ddeff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ddeff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2e0e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63EF7-7C78-495F-B8FB-1B3E8C3AF880}" type="slidenum">
              <a:rPr b="0" lang="ru-RU" sz="1600" spc="-1" strike="noStrike">
                <a:solidFill>
                  <a:srgbClr val="d2e0e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4e8f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5" marL="1187280" indent="-182520">
              <a:buClr>
                <a:srgbClr val="d8e8e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6" marL="1187280" indent="-182520">
              <a:buClr>
                <a:srgbClr val="d8e8e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8e8ed"/>
                </a:solidFill>
                <a:latin typeface="Cambri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4e8f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5" marL="1187280" indent="-182520">
              <a:buClr>
                <a:srgbClr val="d8e8e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6" marL="1187280" indent="-182520">
              <a:buClr>
                <a:srgbClr val="d8e8e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ddeff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ddeff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2e0e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331B6-F634-4B1A-901F-3D8B4C0A93EE}" type="slidenum">
              <a:rPr b="0" lang="ru-RU" sz="1600" spc="-1" strike="noStrike">
                <a:solidFill>
                  <a:srgbClr val="d2e0e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8e8ed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8e8ed"/>
                </a:solidFill>
                <a:latin typeface="Cambria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4e8f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5" marL="1187280" indent="-182520">
              <a:buClr>
                <a:srgbClr val="d8e8e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6" marL="1187280" indent="-182520">
              <a:buClr>
                <a:srgbClr val="d8e8e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ddeff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ddeff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2e0e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C21A9-5410-4B40-8459-CAF88128953D}" type="slidenum">
              <a:rPr b="0" lang="ru-RU" sz="1600" spc="-1" strike="noStrike">
                <a:solidFill>
                  <a:srgbClr val="d2e0e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e0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4e8f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5" marL="1187280" indent="-182520">
              <a:buClr>
                <a:srgbClr val="d8e8e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6" marL="1187280" indent="-182520">
              <a:buClr>
                <a:srgbClr val="d8e8e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ddeff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ddeff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2e0e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D7C92-EB82-472C-9619-D18AA3348109}" type="slidenum">
              <a:rPr b="0" lang="ru-RU" sz="1600" spc="-1" strike="noStrike">
                <a:solidFill>
                  <a:srgbClr val="d2e0e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8e8ed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8e8ed"/>
                </a:solidFill>
                <a:latin typeface="Cambria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4e8f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5" marL="1187280" indent="-182520">
              <a:buClr>
                <a:srgbClr val="d8e8e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6" marL="1187280" indent="-182520">
              <a:buClr>
                <a:srgbClr val="d8e8e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ddeff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ddeff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2e0e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A5B64-8D97-4145-8552-36A7E1C4208A}" type="slidenum">
              <a:rPr b="0" lang="ru-RU" sz="1600" spc="-1" strike="noStrike">
                <a:solidFill>
                  <a:srgbClr val="d2e0e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8e8ed"/>
                </a:solidFill>
                <a:latin typeface="Cambria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4e8f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5" marL="1187280" indent="-182520">
              <a:buClr>
                <a:srgbClr val="d8e8e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6" marL="1187280" indent="-182520">
              <a:buClr>
                <a:srgbClr val="d8e8e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ddeff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ddeff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2e0e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F1B2C-4B72-472D-A83D-A397B466CC18}" type="slidenum">
              <a:rPr b="0" lang="ru-RU" sz="1600" spc="-1" strike="noStrike">
                <a:solidFill>
                  <a:srgbClr val="d2e0e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8e8ed"/>
                </a:solidFill>
                <a:latin typeface="Cambria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4e8f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5" marL="1187280" indent="-182520">
              <a:buClr>
                <a:srgbClr val="d8e8e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6" marL="1187280" indent="-182520">
              <a:buClr>
                <a:srgbClr val="d8e8e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ddeff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ddeff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2e0e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778E6-A37F-406F-82E5-26345D11611C}" type="slidenum">
              <a:rPr b="0" lang="ru-RU" sz="1600" spc="-1" strike="noStrike">
                <a:solidFill>
                  <a:srgbClr val="d2e0e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e0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4e8f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5" marL="1187280" indent="-182520">
              <a:buClr>
                <a:srgbClr val="d8e8e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6" marL="1187280" indent="-182520">
              <a:buClr>
                <a:srgbClr val="d8e8e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ddeff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ddeff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2e0e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E4BF1-BC81-4D81-BB5B-19E26C765608}" type="slidenum">
              <a:rPr b="0" lang="ru-RU" sz="1600" spc="-1" strike="noStrike">
                <a:solidFill>
                  <a:srgbClr val="d2e0e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8e8ed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4e8f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5" marL="1187280" indent="-182520">
              <a:buClr>
                <a:srgbClr val="d8e8e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6" marL="1187280" indent="-182520">
              <a:buClr>
                <a:srgbClr val="d8e8e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ddeff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ddeff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2e0e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6183E-9DD7-46DE-A5B8-9A7B4D12618F}" type="slidenum">
              <a:rPr b="0" lang="ru-RU" sz="1600" spc="-1" strike="noStrike">
                <a:solidFill>
                  <a:srgbClr val="d2e0e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8e8ed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395" name="TextBox 3"/>
          <p:cNvSpPr/>
          <p:nvPr/>
        </p:nvSpPr>
        <p:spPr>
          <a:xfrm>
            <a:off x="1042920" y="1628640"/>
            <a:ext cx="70581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0404"/>
                </a:solidFill>
                <a:latin typeface="Arial"/>
              </a:rPr>
              <a:t>Кто пришёл ко мне с утра?</a:t>
            </a:r>
            <a:endParaRPr b="0" lang="en-US" sz="2800" spc="-1" strike="noStrike">
              <a:solidFill>
                <a:srgbClr val="d8e8ed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0404"/>
                </a:solidFill>
                <a:latin typeface="Arial"/>
              </a:rPr>
              <a:t>Кто сказал: «Вставать пора»?</a:t>
            </a:r>
            <a:br>
              <a:rPr sz="2800"/>
            </a:br>
            <a:r>
              <a:rPr b="0" lang="ru-RU" sz="2800" spc="-1" strike="noStrike">
                <a:solidFill>
                  <a:srgbClr val="040404"/>
                </a:solidFill>
                <a:latin typeface="Arial"/>
              </a:rPr>
              <a:t>Кашу кто успел сварить?</a:t>
            </a:r>
            <a:br>
              <a:rPr sz="2800"/>
            </a:br>
            <a:r>
              <a:rPr b="0" lang="ru-RU" sz="2800" spc="-1" strike="noStrike">
                <a:solidFill>
                  <a:srgbClr val="040404"/>
                </a:solidFill>
                <a:latin typeface="Arial"/>
              </a:rPr>
              <a:t>Чаю в чашку мне налить?</a:t>
            </a:r>
            <a:br>
              <a:rPr sz="2800"/>
            </a:br>
            <a:r>
              <a:rPr b="0" lang="ru-RU" sz="2800" spc="-1" strike="noStrike">
                <a:solidFill>
                  <a:srgbClr val="040404"/>
                </a:solidFill>
                <a:latin typeface="Arial"/>
              </a:rPr>
              <a:t>Кто косички мне заплёл?</a:t>
            </a:r>
            <a:br>
              <a:rPr sz="2800"/>
            </a:br>
            <a:r>
              <a:rPr b="0" lang="ru-RU" sz="2800" spc="-1" strike="noStrike">
                <a:solidFill>
                  <a:srgbClr val="040404"/>
                </a:solidFill>
                <a:latin typeface="Arial"/>
              </a:rPr>
              <a:t>Целый дом один подмёл?</a:t>
            </a:r>
            <a:br>
              <a:rPr sz="2800"/>
            </a:br>
            <a:r>
              <a:rPr b="0" lang="ru-RU" sz="2800" spc="-1" strike="noStrike">
                <a:solidFill>
                  <a:srgbClr val="040404"/>
                </a:solidFill>
                <a:latin typeface="Arial"/>
              </a:rPr>
              <a:t>Кто цветов в саду нарвал?</a:t>
            </a:r>
            <a:br>
              <a:rPr sz="2800"/>
            </a:br>
            <a:r>
              <a:rPr b="0" lang="ru-RU" sz="2800" spc="-1" strike="noStrike">
                <a:solidFill>
                  <a:srgbClr val="040404"/>
                </a:solidFill>
                <a:latin typeface="Arial"/>
              </a:rPr>
              <a:t>Кто меня поцеловал?</a:t>
            </a:r>
            <a:br>
              <a:rPr sz="2800"/>
            </a:br>
            <a:r>
              <a:rPr b="0" lang="ru-RU" sz="2800" spc="-1" strike="noStrike">
                <a:solidFill>
                  <a:srgbClr val="040404"/>
                </a:solidFill>
                <a:latin typeface="Arial"/>
              </a:rPr>
              <a:t>Кто ребячий любит смех?</a:t>
            </a:r>
            <a:br>
              <a:rPr sz="2800"/>
            </a:br>
            <a:r>
              <a:rPr b="0" lang="ru-RU" sz="2800" spc="-1" strike="noStrike">
                <a:solidFill>
                  <a:srgbClr val="040404"/>
                </a:solidFill>
                <a:latin typeface="Arial"/>
              </a:rPr>
              <a:t>Кто на свете лучше всех?</a:t>
            </a:r>
            <a:endParaRPr b="0" lang="en-US" sz="2800" spc="-1" strike="noStrike">
              <a:solidFill>
                <a:srgbClr val="d8e8ed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e8ed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Рисунок 1" descr="13.gif"/>
          <p:cNvPicPr/>
          <p:nvPr/>
        </p:nvPicPr>
        <p:blipFill>
          <a:blip r:embed="rId1"/>
          <a:stretch/>
        </p:blipFill>
        <p:spPr>
          <a:xfrm>
            <a:off x="480960" y="620640"/>
            <a:ext cx="81820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Рисунок 2" descr="5.gif"/>
          <p:cNvPicPr/>
          <p:nvPr/>
        </p:nvPicPr>
        <p:blipFill>
          <a:blip r:embed="rId1"/>
          <a:stretch/>
        </p:blipFill>
        <p:spPr>
          <a:xfrm>
            <a:off x="601560" y="771480"/>
            <a:ext cx="7931160" cy="532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Рисунок 2" descr="1.gif"/>
          <p:cNvPicPr/>
          <p:nvPr/>
        </p:nvPicPr>
        <p:blipFill>
          <a:blip r:embed="rId1"/>
          <a:stretch/>
        </p:blipFill>
        <p:spPr>
          <a:xfrm>
            <a:off x="4572000" y="3500280"/>
            <a:ext cx="4276800" cy="3019680"/>
          </a:xfrm>
          <a:prstGeom prst="rect">
            <a:avLst/>
          </a:prstGeom>
          <a:ln w="0">
            <a:noFill/>
          </a:ln>
        </p:spPr>
      </p:pic>
      <p:pic>
        <p:nvPicPr>
          <p:cNvPr id="399" name="Рисунок 3" descr="3.gif"/>
          <p:cNvPicPr/>
          <p:nvPr/>
        </p:nvPicPr>
        <p:blipFill>
          <a:blip r:embed="rId2"/>
          <a:stretch/>
        </p:blipFill>
        <p:spPr>
          <a:xfrm>
            <a:off x="4572000" y="404640"/>
            <a:ext cx="4321080" cy="2981520"/>
          </a:xfrm>
          <a:prstGeom prst="rect">
            <a:avLst/>
          </a:prstGeom>
          <a:ln w="0">
            <a:noFill/>
          </a:ln>
        </p:spPr>
      </p:pic>
      <p:pic>
        <p:nvPicPr>
          <p:cNvPr id="400" name="Рисунок 4" descr="4.gif"/>
          <p:cNvPicPr/>
          <p:nvPr/>
        </p:nvPicPr>
        <p:blipFill>
          <a:blip r:embed="rId3"/>
          <a:stretch/>
        </p:blipFill>
        <p:spPr>
          <a:xfrm>
            <a:off x="250920" y="3500280"/>
            <a:ext cx="4249800" cy="3024360"/>
          </a:xfrm>
          <a:prstGeom prst="rect">
            <a:avLst/>
          </a:prstGeom>
          <a:ln w="0">
            <a:noFill/>
          </a:ln>
        </p:spPr>
      </p:pic>
      <p:pic>
        <p:nvPicPr>
          <p:cNvPr id="401" name="Рисунок 5" descr="11.gif"/>
          <p:cNvPicPr/>
          <p:nvPr/>
        </p:nvPicPr>
        <p:blipFill>
          <a:blip r:embed="rId4"/>
          <a:stretch/>
        </p:blipFill>
        <p:spPr>
          <a:xfrm>
            <a:off x="250920" y="476280"/>
            <a:ext cx="42861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Рисунок 2" descr="10.gif"/>
          <p:cNvPicPr/>
          <p:nvPr/>
        </p:nvPicPr>
        <p:blipFill>
          <a:blip r:embed="rId1"/>
          <a:stretch/>
        </p:blipFill>
        <p:spPr>
          <a:xfrm>
            <a:off x="250920" y="620640"/>
            <a:ext cx="4176720" cy="5819760"/>
          </a:xfrm>
          <a:prstGeom prst="rect">
            <a:avLst/>
          </a:prstGeom>
          <a:ln w="0">
            <a:noFill/>
          </a:ln>
        </p:spPr>
      </p:pic>
      <p:pic>
        <p:nvPicPr>
          <p:cNvPr id="403" name="Рисунок 3" descr="6.gif"/>
          <p:cNvPicPr/>
          <p:nvPr/>
        </p:nvPicPr>
        <p:blipFill>
          <a:blip r:embed="rId2"/>
          <a:stretch/>
        </p:blipFill>
        <p:spPr>
          <a:xfrm>
            <a:off x="4643280" y="620640"/>
            <a:ext cx="4249800" cy="58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4:36:37Z</dcterms:created>
  <dc:creator>Slonik</dc:creator>
  <dc:description/>
  <dc:language>en-US</dc:language>
  <cp:lastModifiedBy>User</cp:lastModifiedBy>
  <dcterms:modified xsi:type="dcterms:W3CDTF">2012-10-25T08:06:34Z</dcterms:modified>
  <cp:revision>10</cp:revision>
  <dc:subject/>
  <dc:title>Слайд 1</dc:title>
</cp:coreProperties>
</file>