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873-A990-4DB3-BEDD-311528FF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43F-489B-48C6-83EA-E0B4F98E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CE0-DEC5-4252-8147-7E6AD003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FC0-466B-41E7-84D1-899031AB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D37-F757-4E51-BDB8-B3AB2BDC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8D2-CFF8-4A4E-855C-B5A7B00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EED-5A94-43B1-9A97-735E9E4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C83-4DC6-4F97-94F6-C98D78D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602-7DC5-4CDE-B61D-0D68BB2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76C-A79F-4EB4-8FF1-6BC3FB70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38E-B3AA-4259-8B8B-59CA1C0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CB1-B400-413E-9214-40BE676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47D-A291-4526-B9F2-039381A2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know about the capital of the U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13372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Littel hera\Рабочий стол\МАТВЕЙ\ШКОЛА\182[1].jpg"/>
          <p:cNvPicPr/>
          <p:nvPr/>
        </p:nvPicPr>
        <p:blipFill>
          <a:blip r:embed="rId2"/>
          <a:srcRect l="0" t="72301" r="50790" b="0"/>
          <a:stretch/>
        </p:blipFill>
        <p:spPr>
          <a:xfrm>
            <a:off x="395280" y="304920"/>
            <a:ext cx="3719520" cy="2619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Littel hera\Рабочий стол\МАТВЕЙ\ШКОЛА\182[1].jpg"/>
          <p:cNvPicPr/>
          <p:nvPr/>
        </p:nvPicPr>
        <p:blipFill>
          <a:blip r:embed="rId3"/>
          <a:srcRect l="53156" t="72301" r="0" b="0"/>
          <a:stretch/>
        </p:blipFill>
        <p:spPr>
          <a:xfrm>
            <a:off x="5105520" y="304920"/>
            <a:ext cx="3733560" cy="259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19720" y="4191120"/>
            <a:ext cx="4495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1600200"/>
          <a:ext cx="8305920" cy="4316400"/>
        </p:xfrm>
        <a:graphic>
          <a:graphicData uri="http://schemas.openxmlformats.org/drawingml/2006/table">
            <a:tbl>
              <a:tblPr/>
              <a:tblGrid>
                <a:gridCol w="2170080"/>
                <a:gridCol w="3067920"/>
                <a:gridCol w="30679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ht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 1(1,2) page 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GOHOME_1.GIF"/>
          <p:cNvPicPr/>
          <p:nvPr/>
        </p:nvPicPr>
        <p:blipFill>
          <a:blip r:embed="rId1"/>
          <a:stretch/>
        </p:blipFill>
        <p:spPr>
          <a:xfrm>
            <a:off x="7000920" y="485784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Today at the lesson we’ve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learned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eviewed the material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ritt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4714920" y="37861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the names of the places with their Russian equivalen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s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 Paul'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ор Святого Пав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а Парл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итанский 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ингемский дво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циональная гал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минстерское абба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lse do you think could be of great interest for Russ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esses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п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piec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еде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ory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ору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sur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кро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lloch Castle"/>
          <p:cNvPicPr/>
          <p:nvPr/>
        </p:nvPicPr>
        <p:blipFill>
          <a:blip r:embed="rId1"/>
          <a:stretch/>
        </p:blipFill>
        <p:spPr>
          <a:xfrm>
            <a:off x="4819680" y="1752480"/>
            <a:ext cx="3695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hink … could be of interest for Russians becau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l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ions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и, экс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ces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5257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 is so old! The Romans found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t more than 2000 years ago. They started it as a fortress. Later they transformed it into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ли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 town. Different people came to damage and destroy it! But Londoners restor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тавриров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ir city again and again. How skilful they w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400" y="1752120"/>
            <a:ext cx="2209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Littel hera\Рабочий стол\МАТВЕЙ\ШКОЛА\182[1].jpg"/>
          <p:cNvPicPr/>
          <p:nvPr/>
        </p:nvPicPr>
        <p:blipFill>
          <a:blip r:embed="rId1"/>
          <a:srcRect l="53156" t="72301" r="0" b="0"/>
          <a:stretch/>
        </p:blipFill>
        <p:spPr>
          <a:xfrm>
            <a:off x="5029200" y="2286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38862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91120" y="45720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 understand that London is really a precious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гоц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one of the British Crow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I can't forget its places of interes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stminster Abb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gnificent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олеп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! It is a church near the Houses of Parliament. British monarchs are crowned in Westminster Abb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5562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 Paul's Cathed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main church of London. It is so big! They treasur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 ценя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t because many famous people are buried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хороне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re, Lord Nelson for exampl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esidence of the British monarchs. It is wonderful! Best British designers decorated it. But they say that the Queen likes to stay at her castles outside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09852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Николай\Мои документы\Рефераты\Buckingham_Palace_-London-18Aug2008-4c.jpg"/>
          <p:cNvPicPr/>
          <p:nvPr/>
        </p:nvPicPr>
        <p:blipFill>
          <a:blip r:embed="rId2"/>
          <a:stretch/>
        </p:blipFill>
        <p:spPr>
          <a:xfrm>
            <a:off x="5791320" y="3581280"/>
            <a:ext cx="306684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040" y="533160"/>
            <a:ext cx="43434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itish Mus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a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ll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us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щ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orld treasures; their exhibitions contain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al masterpieces: rar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aintings, ancient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culptures, unique books, works of cast masters, arms and ar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96216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962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at country is it in? Fill in the tabl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British Museum                   9. the Metropolitan Museum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tsar Cannon                       10. the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Broadway                               11. the Pushkin Museum of fine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estminster Abbey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2. Buckingham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the Tretyakov Gallery               13. the House of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he Grand Kremlin Palac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thedral of Chr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the Tsar Bell                               15. St Paul's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the Statue of Liberty                   16. the National Gall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4114800" cy="247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1:57:50Z</dcterms:created>
  <dc:creator>Татьяна</dc:creator>
  <dc:description/>
  <dc:language>en-US</dc:language>
  <cp:lastModifiedBy>Татьяна</cp:lastModifiedBy>
  <dcterms:modified xsi:type="dcterms:W3CDTF">2011-05-14T15:10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