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5.jpeg" ContentType="image/jpeg"/>
  <Override PartName="/ppt/media/image14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649-B68E-4728-B668-96BC2E9D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B87-1B65-4228-844B-A1BE7AE2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88E-379D-4D87-AF60-22BD3FFF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8D77-6C5F-4908-BD4A-E3CF12D2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D41-18E7-42C3-B5C4-2541E633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5E1F-4A20-4355-A0EA-CAC53924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DEB-16FF-414A-9C64-DFC4CB64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D72-3C61-4699-818A-2EECBAB0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A871-C679-41B2-ADAC-8BA84BCD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2B5-59CB-43AA-82F1-813577D4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7A3-3C1C-4611-B2A6-B5BA9B18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97B-32BF-4757-B03C-97CFF537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5416-8D8D-409C-A554-AC570BC6A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know about the capital of the U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2133720" cy="2971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Documents and Settings\Littel hera\Рабочий стол\МАТВЕЙ\ШКОЛА\182[1].jpg"/>
          <p:cNvPicPr/>
          <p:nvPr/>
        </p:nvPicPr>
        <p:blipFill>
          <a:blip r:embed="rId2"/>
          <a:srcRect l="0" t="72301" r="50790" b="0"/>
          <a:stretch/>
        </p:blipFill>
        <p:spPr>
          <a:xfrm>
            <a:off x="395280" y="304920"/>
            <a:ext cx="3719520" cy="2619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Littel hera\Рабочий стол\МАТВЕЙ\ШКОЛА\182[1].jpg"/>
          <p:cNvPicPr/>
          <p:nvPr/>
        </p:nvPicPr>
        <p:blipFill>
          <a:blip r:embed="rId3"/>
          <a:srcRect l="53156" t="72301" r="0" b="0"/>
          <a:stretch/>
        </p:blipFill>
        <p:spPr>
          <a:xfrm>
            <a:off x="5105520" y="304920"/>
            <a:ext cx="3733560" cy="2590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419720" y="4191120"/>
            <a:ext cx="4495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1600200"/>
          <a:ext cx="8305920" cy="4316400"/>
        </p:xfrm>
        <a:graphic>
          <a:graphicData uri="http://schemas.openxmlformats.org/drawingml/2006/table">
            <a:tbl>
              <a:tblPr/>
              <a:tblGrid>
                <a:gridCol w="2170080"/>
                <a:gridCol w="3067920"/>
                <a:gridCol w="30679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hts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 1(1,2) page 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 new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6" descr="GOHOME_1.GIF"/>
          <p:cNvPicPr/>
          <p:nvPr/>
        </p:nvPicPr>
        <p:blipFill>
          <a:blip r:embed="rId1"/>
          <a:stretch/>
        </p:blipFill>
        <p:spPr>
          <a:xfrm>
            <a:off x="7000920" y="485784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Today at the lesson we’ve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learned abo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reviewed the material abo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o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re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ritt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:\Program Files\Microsoft Office\MEDIA\CAGCAT10\j0284916.jpg"/>
          <p:cNvPicPr/>
          <p:nvPr/>
        </p:nvPicPr>
        <p:blipFill>
          <a:blip r:embed="rId1"/>
          <a:stretch/>
        </p:blipFill>
        <p:spPr>
          <a:xfrm>
            <a:off x="4714920" y="37861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ch the names of the places with their Russian equivalent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uses of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itish Mus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stminster Abb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 Paul's Cathed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ор Святого Пав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ма Парла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итанский 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кингемский дво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циональная галер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тминстерское аббат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lse do you think could be of great interest for Russ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esses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п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pieces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шедев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ulptures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ory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оору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sures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кровищ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Balloch Castle"/>
          <p:cNvPicPr/>
          <p:nvPr/>
        </p:nvPicPr>
        <p:blipFill>
          <a:blip r:embed="rId1"/>
          <a:stretch/>
        </p:blipFill>
        <p:spPr>
          <a:xfrm>
            <a:off x="4819680" y="1752480"/>
            <a:ext cx="36957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think … could be of interest for Russians becaus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les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м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ings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р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s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ibitions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тавки, экспоз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ences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4956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5257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 is so old! The Romans founded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t more than 2000 years ago. They started it as a fortress. Later they transformed it into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разовали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 town. Different people came to damage and destroy it! But Londoners restored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ставрирова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ir city again and again. How skilful they w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29400" y="1752120"/>
            <a:ext cx="22096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Documents and Settings\Littel hera\Рабочий стол\МАТВЕЙ\ШКОЛА\182[1].jpg"/>
          <p:cNvPicPr/>
          <p:nvPr/>
        </p:nvPicPr>
        <p:blipFill>
          <a:blip r:embed="rId1"/>
          <a:srcRect l="53156" t="72301" r="0" b="0"/>
          <a:stretch/>
        </p:blipFill>
        <p:spPr>
          <a:xfrm>
            <a:off x="5029200" y="22860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29200" y="3352680"/>
            <a:ext cx="388620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191120" y="45720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 understand that London is really a precious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агоцен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tone of the British Crown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I can't forget its places of interest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stminster Abb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agnificent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колеп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! It is a church near the Houses of Parliament. British monarchs are crowned in Westminster Abbe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5562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 Paul's Cathed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main church of London. It is so big! They treasure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 ценя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t because many famous people are buried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хороне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re, Lord Nelson for example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residence of the British monarchs. It is wonderful! Best British designers decorated it. But they say that the Queen likes to stay at her castles outside Lond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3098520" cy="304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Documents and Settings\Николай\Мои документы\Рефераты\Buckingham_Palace_-London-18Aug2008-4c.jpg"/>
          <p:cNvPicPr/>
          <p:nvPr/>
        </p:nvPicPr>
        <p:blipFill>
          <a:blip r:embed="rId2"/>
          <a:stretch/>
        </p:blipFill>
        <p:spPr>
          <a:xfrm>
            <a:off x="5791320" y="3581280"/>
            <a:ext cx="306684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43040" y="533160"/>
            <a:ext cx="43434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ritish Muse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a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ll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use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щаю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orld treasures; their exhibitions contain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real masterpieces: rare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paintings, ancient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ев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culptures, unique books, works of cast masters, arms and ar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96216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3962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hat country is it in? Fill in the tabl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British Museum                   9. the Metropolitan Museum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he tsar Cannon                       10. the T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Broadway                               11. the Pushkin Museum of fine 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Westminster Abbey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12. Buckingham Pa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the Tretyakov Gallery               13. the House of Parli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the Grand Kremlin Palac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thedral of Chr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the Tsar Bell                               15. St Paul's Cathed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the Statue of Liberty                   16. the National Gall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4114800" cy="2477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1:57:50Z</dcterms:created>
  <dc:creator>Татьяна</dc:creator>
  <dc:description/>
  <dc:language>en-US</dc:language>
  <cp:lastModifiedBy>Татьяна</cp:lastModifiedBy>
  <dcterms:modified xsi:type="dcterms:W3CDTF">2011-05-14T15:10:2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