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42.png" ContentType="image/png"/>
  <Override PartName="/ppt/media/image23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24.jpeg" ContentType="image/jpeg"/>
  <Override PartName="/ppt/media/image40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37.jpeg" ContentType="image/jpeg"/>
  <Override PartName="/ppt/media/image5.png" ContentType="image/png"/>
  <Override PartName="/ppt/media/image10.jpeg" ContentType="image/jpeg"/>
  <Override PartName="/ppt/media/image41.png" ContentType="image/png"/>
  <Override PartName="/ppt/media/image30.jpeg" ContentType="image/jpeg"/>
  <Override PartName="/ppt/media/image31.png" ContentType="image/png"/>
  <Override PartName="/ppt/media/image43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6.png" ContentType="image/png"/>
  <Override PartName="/ppt/media/image36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0E72-EB70-4BBF-A704-0A974F499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62CB-5418-4B00-9961-151ADE66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768F-9F61-482C-AF31-0B58466DB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212A-7D80-4D6A-A560-833129B47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400BF-8F58-41DB-BC61-1C5F6A44F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48B2A-16C1-4ECB-84C3-612DD559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62355-16AC-45E9-BB86-A3E066DB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88D99-219C-41DF-B8D4-AB1CF774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086C2-30B3-4AC6-BD45-1EB2FD54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09346-7E01-49D8-A6B2-D931319B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2CA62-4C7F-4F0E-98F4-F4B9E887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401B-BDB6-4247-9FC8-B349069F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B02E13-94AA-495C-90A4-AB867516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1E160-1AEB-4F4C-83E0-845DC2D2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FF8C7-B669-4F3A-9B3E-A99EEA15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9C4DB-FA11-49E5-B2C5-D391EC8D8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0C9AD-FA0C-4D0C-B148-5D91D061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0E796-CA52-42EA-BA8B-5C6526137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E59E9-7538-42AB-A0C6-0E41D1D9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EBA16-0FAF-4BCA-9CD7-8B8AEB93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4A57E-4A01-4F9C-9B6B-F58CB710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0062E-BB3D-4105-A08C-290CF85A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692C-5938-49AF-9DCE-CB66792B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26CD2-E894-42BD-B04E-F9614613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9899B-5272-412E-88FC-42F6E19A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8B9ED-EDE9-4A33-A251-497A528F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39325-2DA4-4BE0-9013-C5B0E4FF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D47EE-9746-4B8B-AEB7-52238A49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B23C8-5AA4-4AAD-8C7E-685070475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BD7FE-51C4-4BA0-8B57-18544894D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40F6FE-A8BA-4127-A7ED-3B360F21B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0CBCD9-9E64-4458-8433-770913C2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915309-C630-4AE7-A88B-38F47C9B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67A7-5E08-4CE4-AA47-16BDE84F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E25A8F-5387-47EA-80E8-447F84BC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4CE80D-CA6E-4BCF-A3B9-C839F654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1415F0-969F-4AA9-ABCF-413FD905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A35184-9EF1-4B24-AB89-3B0B3271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ACADAD-AB1C-4012-9C1D-49028A2B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160570-F6E8-41B7-8AF9-6E2BAA3E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6C9266-6088-4996-AE35-1A3155F8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8AE314-1D0B-4268-B8DA-04DDB26D5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1023E7-69F7-4616-9B66-61E40AF96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8062-238E-4D0E-A419-76B79DB7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7346-760F-4965-B7F1-0B7389E8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3454-CE8C-4183-BE74-7289912D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72CF-9EA0-4B7B-A00E-69D7F989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6C0A-E2F0-4601-80F5-FAF2A9E1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3B21-6A9A-41EC-B440-B5AF29082BF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3614-A2A0-42F3-866C-7A41D87FEE8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0D6E-FB40-4B9A-8EF1-7AFD0FA12891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9095-A956-45AF-8720-271776A5D30F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14200" y="2205000"/>
            <a:ext cx="8786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    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Выполнил: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ученик 6 «В» кадетского класс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    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МОУ Инзенская средняя общеобразовательная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школа №4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Логинов Антон 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    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Научный руководитель: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учитель русского языка и литературы, Курганов В.В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Номер слайда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264A-A6C4-4DDC-AF2E-426E80388980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1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WordArt 9" descr=""/>
          <p:cNvPicPr/>
          <p:nvPr/>
        </p:nvPicPr>
        <p:blipFill>
          <a:blip r:embed="rId1"/>
          <a:stretch/>
        </p:blipFill>
        <p:spPr>
          <a:xfrm>
            <a:off x="1060560" y="1700280"/>
            <a:ext cx="7699320" cy="1536480"/>
          </a:xfrm>
          <a:prstGeom prst="rect">
            <a:avLst/>
          </a:prstGeom>
          <a:ln w="0">
            <a:noFill/>
          </a:ln>
        </p:spPr>
      </p:pic>
      <p:pic>
        <p:nvPicPr>
          <p:cNvPr id="173" name="Прямоугольник 8" descr=""/>
          <p:cNvPicPr/>
          <p:nvPr/>
        </p:nvPicPr>
        <p:blipFill>
          <a:blip r:embed="rId2"/>
          <a:stretch/>
        </p:blipFill>
        <p:spPr>
          <a:xfrm>
            <a:off x="853920" y="444600"/>
            <a:ext cx="7796520" cy="1152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990720" y="1828800"/>
            <a:ext cx="458928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В 1918 году гербом Советской России становится серп и молот в лучах восходящего солнца на фоне земного шара – как знак перемен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Герб окаймляли колосья, которые были перевязаны ленточками с названиями союзных республик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Номер слайда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3BD9-2009-401D-8EB2-6354B612F9A5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gerbUSi"/>
          <p:cNvPicPr/>
          <p:nvPr/>
        </p:nvPicPr>
        <p:blipFill>
          <a:blip r:embed="rId2"/>
          <a:stretch/>
        </p:blipFill>
        <p:spPr>
          <a:xfrm>
            <a:off x="5796000" y="2349360"/>
            <a:ext cx="2952720" cy="309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990720" y="1483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Это официальный символ государственной власти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Белая полоса- означает, что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у России нет злых намерений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на честно и дружелюбно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тносится ко всем странам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иняя полоса говорит о том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то Россия против войны и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хочет дружить со всеми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родам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расная полоса означает, что каждый гражданин России готов защищать свободу и честь Родины от врагов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Номер слайда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7A10-A05C-4408-AC08-99A2DD3A51C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Rectangle 2" descr=""/>
          <p:cNvPicPr/>
          <p:nvPr/>
        </p:nvPicPr>
        <p:blipFill>
          <a:blip r:embed="rId1"/>
          <a:stretch/>
        </p:blipFill>
        <p:spPr>
          <a:xfrm>
            <a:off x="987480" y="255600"/>
            <a:ext cx="7785000" cy="8780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flagRusi"/>
          <p:cNvPicPr/>
          <p:nvPr/>
        </p:nvPicPr>
        <p:blipFill>
          <a:blip r:embed="rId2"/>
          <a:stretch/>
        </p:blipFill>
        <p:spPr>
          <a:xfrm>
            <a:off x="5715000" y="2071800"/>
            <a:ext cx="3073320" cy="27381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755280" y="1483920"/>
            <a:ext cx="5545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ри царствовании Петра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существует сразу три флаг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Белый с синим поперечным крестом (Андреевский) –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для военного флот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Бело-сине- красный– для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торгового флот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Черно-желто-белый – государственный флаг             Российской империи.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9" name="Номер слайда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663D-8A49-4DAD-96A6-C9D16BAE46F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987480" y="390600"/>
            <a:ext cx="7785000" cy="7430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poltavi"/>
          <p:cNvPicPr/>
          <p:nvPr/>
        </p:nvPicPr>
        <p:blipFill>
          <a:blip r:embed="rId2"/>
          <a:stretch/>
        </p:blipFill>
        <p:spPr>
          <a:xfrm>
            <a:off x="6156360" y="2349360"/>
            <a:ext cx="2448000" cy="309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990720" y="1483920"/>
            <a:ext cx="4518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 момента установления советской власти сменился не только герб, но и флаг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Теперь он стал красным  и на нем помещался серп и молот, такие же как и на герб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3" name="Номер слайда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AC9B-5B5B-4F7E-8F38-DBA7952D0395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987480" y="255600"/>
            <a:ext cx="7785000" cy="8780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flagsUSi"/>
          <p:cNvPicPr/>
          <p:nvPr/>
        </p:nvPicPr>
        <p:blipFill>
          <a:blip r:embed="rId2"/>
          <a:stretch/>
        </p:blipFill>
        <p:spPr>
          <a:xfrm>
            <a:off x="5508720" y="2421000"/>
            <a:ext cx="3068640" cy="2952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990360" y="1988640"/>
            <a:ext cx="4660920" cy="39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В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XXI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век Россия вступила уже с бело-сине-красным флагом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Решение о принятии этого флага было принято первым Президентом России Борисом Николаевичем Ельциным.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Номер слайда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F785-C269-420C-A320-27B2F209BDE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987480" y="158760"/>
            <a:ext cx="7785000" cy="1041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символика"/>
          <p:cNvPicPr/>
          <p:nvPr/>
        </p:nvPicPr>
        <p:blipFill>
          <a:blip r:embed="rId2"/>
          <a:stretch/>
        </p:blipFill>
        <p:spPr>
          <a:xfrm>
            <a:off x="5580000" y="620640"/>
            <a:ext cx="3056040" cy="216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0" name="Picture 6" descr="yelt1i"/>
          <p:cNvPicPr/>
          <p:nvPr/>
        </p:nvPicPr>
        <p:blipFill>
          <a:blip r:embed="rId3"/>
          <a:stretch/>
        </p:blipFill>
        <p:spPr>
          <a:xfrm>
            <a:off x="5867280" y="3141720"/>
            <a:ext cx="2664000" cy="3097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56760" y="1356840"/>
            <a:ext cx="4357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 День Победы 9 мая и в День защитника Отечества можно увидеть Знамя                              Победы во время праздничного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арада в Москве на Красной площади в момент возложения цветов и венков к могиле Неизвестного солдата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Номер слайда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8663-AF60-4FBF-B13C-061942CE7213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Rectangle 13" descr=""/>
          <p:cNvPicPr/>
          <p:nvPr/>
        </p:nvPicPr>
        <p:blipFill>
          <a:blip r:embed="rId1"/>
          <a:stretch/>
        </p:blipFill>
        <p:spPr>
          <a:xfrm>
            <a:off x="987480" y="450720"/>
            <a:ext cx="7785000" cy="8240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Парад"/>
          <p:cNvPicPr/>
          <p:nvPr/>
        </p:nvPicPr>
        <p:blipFill>
          <a:blip r:embed="rId2"/>
          <a:stretch/>
        </p:blipFill>
        <p:spPr>
          <a:xfrm>
            <a:off x="4822920" y="2286000"/>
            <a:ext cx="4321080" cy="2736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285480" y="1483920"/>
            <a:ext cx="47149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видетельством  разгрома                                   фашистской                                            Германии стала                                               груда немецких                                         знамен,                                                        брошенных                                    советскими  солдатами к подножию Мавзолея во время Парада Победы в 1945 году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Номер слайда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ACFB-3C69-4C4A-A33F-92050E34CDC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Rectangle 2" descr=""/>
          <p:cNvPicPr/>
          <p:nvPr/>
        </p:nvPicPr>
        <p:blipFill>
          <a:blip r:embed="rId1"/>
          <a:stretch/>
        </p:blipFill>
        <p:spPr>
          <a:xfrm>
            <a:off x="987480" y="255600"/>
            <a:ext cx="7785000" cy="10191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Парад 1"/>
          <p:cNvPicPr/>
          <p:nvPr/>
        </p:nvPicPr>
        <p:blipFill>
          <a:blip r:embed="rId2"/>
          <a:stretch/>
        </p:blipFill>
        <p:spPr>
          <a:xfrm>
            <a:off x="4714920" y="3571920"/>
            <a:ext cx="3892680" cy="2941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Родная землица и во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не снится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Родина – мать , умей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за нее постоять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Родина краше солнца, дороже золот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Номер слайда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63DA-0CAD-4C68-88FB-E4546AE82440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55320" cy="1231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книги"/>
          <p:cNvPicPr/>
          <p:nvPr/>
        </p:nvPicPr>
        <p:blipFill>
          <a:blip r:embed="rId2"/>
          <a:stretch/>
        </p:blipFill>
        <p:spPr>
          <a:xfrm>
            <a:off x="6372360" y="1341360"/>
            <a:ext cx="2266920" cy="2451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990720" y="227664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onstantia"/>
              </a:rPr>
              <a:t>В ком нет любви к стране родной,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1" i="1" lang="ru-RU" sz="2400" spc="-1" strike="noStrike">
                <a:solidFill>
                  <a:srgbClr val="ffffff"/>
                </a:solidFill>
                <a:latin typeface="Constantia"/>
              </a:rPr>
              <a:t>Те сердцем нищи, как калек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Т.Г. Шевченко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onstantia"/>
              </a:rPr>
              <a:t>Жизнь каждого принадлежит Отечеству, и не удальство, а только истинная храбрость приносит ему пользу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.С. Нахимов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onstantia"/>
              </a:rPr>
              <a:t>Тот, кто не любит свою страну, ничего любить не может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Д. Байрон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Номер слайда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8E60-5A02-4B38-9FD1-F1A97F2B7B1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Rectangle 2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8242560" cy="1285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image048"/>
          <p:cNvPicPr/>
          <p:nvPr/>
        </p:nvPicPr>
        <p:blipFill>
          <a:blip r:embed="rId2"/>
          <a:stretch/>
        </p:blipFill>
        <p:spPr>
          <a:xfrm>
            <a:off x="1042920" y="476280"/>
            <a:ext cx="2233800" cy="244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99680" y="1483920"/>
            <a:ext cx="826308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Россия – необъятная стран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Её площадь составляет 17 млн. кв.км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Расстояние с севера на юг – около 4 тыс. км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А если мы полетим на самолете с запада на                          восток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то будем в пути    около 12           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         часов, пролетев над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         просторами России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        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10 тыс. км.     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Номер слайда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45DE-CFEE-462D-89FE-6D3ABE283AD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mapKrui"/>
          <p:cNvPicPr/>
          <p:nvPr/>
        </p:nvPicPr>
        <p:blipFill>
          <a:blip r:embed="rId2"/>
          <a:stretch/>
        </p:blipFill>
        <p:spPr>
          <a:xfrm>
            <a:off x="1428840" y="4071960"/>
            <a:ext cx="3354120" cy="2500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ГИМН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ГЕР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ФЛАГ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Номер слайда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90C3-D9FC-455D-B458-358B0E13413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Rectangle 2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8242560" cy="1285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2500200" y="2000160"/>
            <a:ext cx="5770800" cy="3929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"/>
          <p:cNvPicPr/>
          <p:nvPr/>
        </p:nvPicPr>
        <p:blipFill>
          <a:blip r:embed="rId3"/>
          <a:stretch/>
        </p:blipFill>
        <p:spPr>
          <a:xfrm>
            <a:off x="6286680" y="3714840"/>
            <a:ext cx="190476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99680" y="1557360"/>
            <a:ext cx="826308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Герб- отличительный символ любого государств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Золотой двуглавый оре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Щит с изображением всадник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Скипетр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Держав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Номер слайда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C892-74CD-47DF-8672-F7153E32883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Rectangle 2" descr=""/>
          <p:cNvPicPr/>
          <p:nvPr/>
        </p:nvPicPr>
        <p:blipFill>
          <a:blip r:embed="rId1"/>
          <a:stretch/>
        </p:blipFill>
        <p:spPr>
          <a:xfrm>
            <a:off x="987480" y="414360"/>
            <a:ext cx="7785000" cy="8604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ГЕРБ"/>
          <p:cNvPicPr/>
          <p:nvPr/>
        </p:nvPicPr>
        <p:blipFill>
          <a:blip r:embed="rId2"/>
          <a:stretch/>
        </p:blipFill>
        <p:spPr>
          <a:xfrm>
            <a:off x="5878440" y="2205000"/>
            <a:ext cx="2941560" cy="3081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990360" y="1628640"/>
            <a:ext cx="52369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о начала 16 века Россия была разрозненным государством, состоящим из нескольких независимых княжеств, поэтому  о едином государственном гербе не могло быть и речи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Герб появился при  Иване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II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. В качестве герба в то время выступала печать, на лицевой стороне которой был изображен всадник, протыкающий копьем змия, а  на оборотной- двуглавый орел.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Номер слайда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BCAF-0235-4413-B120-D86950AF7DE5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Василий 111 и герб Москвы"/>
          <p:cNvPicPr/>
          <p:nvPr/>
        </p:nvPicPr>
        <p:blipFill>
          <a:blip r:embed="rId2"/>
          <a:stretch/>
        </p:blipFill>
        <p:spPr>
          <a:xfrm>
            <a:off x="6300720" y="2205000"/>
            <a:ext cx="2448000" cy="3816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211280" y="1828800"/>
            <a:ext cx="455148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Еще до появления печати гербом Московского княжества считалась икона – эмблема Воина Небесного, св. Георгия Победоносца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очитание Георгия как святого началось с 5 в. И получило распространение во всем христианском мире. С принятием христианства почитание св. Георгия пришло и на Русь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Номер слайда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4D5D-09CA-441C-AE92-38C9D458FD4E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Георгий Победоносец"/>
          <p:cNvPicPr/>
          <p:nvPr/>
        </p:nvPicPr>
        <p:blipFill>
          <a:blip r:embed="rId2"/>
          <a:stretch/>
        </p:blipFill>
        <p:spPr>
          <a:xfrm>
            <a:off x="1116000" y="1989000"/>
            <a:ext cx="3027240" cy="3883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900000" y="1628640"/>
            <a:ext cx="49672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Историки 18 века полагали, что двуглавый орел пришел на Русь из Византии в результате женитьбы Ивана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II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на Софье Палеолог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Однако современные исследователи подвергают сомнению это утверждение. Возможно, изображение орла появилось на русских монетах под влиянием южнославянских стран, где двуглавый орел использовался как герб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Византии же орел служил отличительным знаком принадлежности к императорскому двору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ысказывается также предположение о заимствовании русскими князьями двуглавого орла из Золотой Орды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Номер слайда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8860-4F5B-49C4-A4F6-032C057BFCD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Государственный герб Руси в кон"/>
          <p:cNvPicPr/>
          <p:nvPr/>
        </p:nvPicPr>
        <p:blipFill>
          <a:blip r:embed="rId2"/>
          <a:stretch/>
        </p:blipFill>
        <p:spPr>
          <a:xfrm>
            <a:off x="6012000" y="2060640"/>
            <a:ext cx="2736720" cy="2973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Номер слайда 4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9107-DC6D-4774-820A-36980A38924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Rectangle 2" descr=""/>
          <p:cNvPicPr/>
          <p:nvPr/>
        </p:nvPicPr>
        <p:blipFill>
          <a:blip r:embed="rId1"/>
          <a:stretch/>
        </p:blipFill>
        <p:spPr>
          <a:xfrm>
            <a:off x="450720" y="73080"/>
            <a:ext cx="8242560" cy="1305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Государственный герб Руси в  16 в"/>
          <p:cNvPicPr/>
          <p:nvPr/>
        </p:nvPicPr>
        <p:blipFill>
          <a:blip r:embed="rId2"/>
          <a:stretch/>
        </p:blipFill>
        <p:spPr>
          <a:xfrm>
            <a:off x="1476360" y="1916280"/>
            <a:ext cx="2016000" cy="2089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2" name="Picture 6" descr="Государственный герб Руси в   1 четв"/>
          <p:cNvPicPr/>
          <p:nvPr/>
        </p:nvPicPr>
        <p:blipFill>
          <a:blip r:embed="rId3"/>
          <a:stretch/>
        </p:blipFill>
        <p:spPr>
          <a:xfrm>
            <a:off x="3995640" y="1916280"/>
            <a:ext cx="2016360" cy="2089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3" name="Picture 7" descr="Государственный герб Руси в   во 2 пол"/>
          <p:cNvPicPr/>
          <p:nvPr/>
        </p:nvPicPr>
        <p:blipFill>
          <a:blip r:embed="rId4"/>
          <a:stretch/>
        </p:blipFill>
        <p:spPr>
          <a:xfrm>
            <a:off x="6443640" y="1916280"/>
            <a:ext cx="1944720" cy="2089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4" name="Picture 8" descr="Государственный Герб 1799 г"/>
          <p:cNvPicPr/>
          <p:nvPr/>
        </p:nvPicPr>
        <p:blipFill>
          <a:blip r:embed="rId5"/>
          <a:stretch/>
        </p:blipFill>
        <p:spPr>
          <a:xfrm>
            <a:off x="2627280" y="4365720"/>
            <a:ext cx="2016000" cy="201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5" name="Picture 9" descr="Государственный Герб сер"/>
          <p:cNvPicPr/>
          <p:nvPr/>
        </p:nvPicPr>
        <p:blipFill>
          <a:blip r:embed="rId6"/>
          <a:stretch/>
        </p:blipFill>
        <p:spPr>
          <a:xfrm>
            <a:off x="5364000" y="4365720"/>
            <a:ext cx="1944720" cy="201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990360" y="1557360"/>
            <a:ext cx="4157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 1856 году появились 3 варианта государственного герба: Большой, Средний, Малый, различавшиеся по числу деталей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 большом гербе вокруг щитка с двуглавым орлом располагались гербы российских земель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Номер слайда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2B46-67F5-4375-A08D-5AD3D4EF3994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Большой Государственный Герб  Российской Империи"/>
          <p:cNvPicPr/>
          <p:nvPr/>
        </p:nvPicPr>
        <p:blipFill>
          <a:blip r:embed="rId2"/>
          <a:stretch/>
        </p:blipFill>
        <p:spPr>
          <a:xfrm>
            <a:off x="5292720" y="2060640"/>
            <a:ext cx="3456000" cy="3744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08:15:22Z</dcterms:created>
  <dc:creator>Голуб</dc:creator>
  <dc:description/>
  <dc:language>en-US</dc:language>
  <cp:lastModifiedBy>Учитель</cp:lastModifiedBy>
  <dcterms:modified xsi:type="dcterms:W3CDTF">2012-10-25T05:28:12Z</dcterms:modified>
  <cp:revision>63</cp:revision>
  <dc:subject/>
  <dc:title>Заголовок слайда отсутствуе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11000000000001023720</vt:lpwstr>
  </property>
</Properties>
</file>