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5.png" ContentType="image/png"/>
  <Override PartName="/ppt/media/image10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FEB-EAC5-4308-B956-D0B908DC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489-702E-42D1-BAF6-AB5D66FB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8BC-9CA3-4A45-9E6D-0251CE7D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5FC-939F-49C3-B85C-F877A02E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E6EB-75DB-4F7C-8CEB-02AA4AF8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04A5-2E71-4762-80C4-C06BDCA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7323-2A28-4E6A-9A3E-BD87698D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38304-84FA-44D7-B727-38D663E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C571B-8B04-4DF5-A6E3-3EE72AC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919EC-88E6-411C-BCE4-D505C96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26414-A0AD-43E4-8010-88ADA67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5C3-3179-434C-9F5C-C831016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918DF-535F-41A5-ABEE-6188B55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3755-7DBB-4E71-BD68-7DC197E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DE58E-0D2C-4283-A47A-65C45668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297EC-2241-4E9B-83A0-361719D8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170A-5FF6-42AE-9F69-BF2AD5F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354F-BE81-4566-B40A-354C5E97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57CD-9155-44A1-AE9F-524EEA6E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51E0-C431-43F9-9868-76D001F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6A1D-F2F9-4A90-AD1F-6DCDD3A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1F93-DDC4-48CF-BEC8-91C81C63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B21-8185-4E12-86DA-8BF573C6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D111B-4C34-40AA-B95D-49316991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06A1-1BA6-42EB-B13C-1C21613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B337-A43C-4BB0-AF1D-1AACFD9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5990-CDF6-4C85-B8D4-E3B5715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B879-40D4-4FAC-97C9-1B4A9D91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BCA0-1FA9-491E-B79F-B9CB3093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4B26-D1EF-45F6-B49F-0EE3852B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57FBD-CDC6-4328-B162-145027C8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42228-9C4C-4103-B330-6A44326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3C172-8F2C-4BAD-961D-9E099106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582-6E42-46D6-8021-93CD2476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D24E2-1B01-4897-A4BC-08E1726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076EF-0051-4B29-8F34-75ED1BF6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43F9D-1581-4736-80C4-2CA41B6E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195BB-8401-4561-AECF-E87BAD6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1D367-DF84-4FCC-AD9E-42BB4B1B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AF2C3-51CC-4169-8B8F-93371768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B77BD-C7FD-4AC3-9539-4DE7E01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28AF8-E5F2-4196-972F-01005763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B014A-1C58-44D5-BBE6-B78D6C34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922-9883-4A94-A58D-84B81CD7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1CE-7237-4144-83B0-0E786296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066-6E8F-406E-8F95-B56E35D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198-0E75-40F5-A809-6ACF6D4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8DC-F701-4CBD-96F2-4E0ECDC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51B-48E1-4914-8D80-C7F2FC8D79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F392-774E-47B0-87C4-D8BB44F553E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8BF-252E-4470-9B2E-C2A8972045D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2FF-D4E3-4215-8144-2CA606C71C8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14200" y="2205000"/>
            <a:ext cx="8786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ученик 6 «В» кадетского класс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ОУ Инзенская средняя общеобразовательна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школа №4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Логинов Антон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Научный руководитель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учитель русского языка и литературы, Курганов В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6E1-53D9-469D-B870-01EFFDA0ED0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WordArt 9" descr=""/>
          <p:cNvPicPr/>
          <p:nvPr/>
        </p:nvPicPr>
        <p:blipFill>
          <a:blip r:embed="rId1"/>
          <a:stretch/>
        </p:blipFill>
        <p:spPr>
          <a:xfrm>
            <a:off x="1060560" y="1700280"/>
            <a:ext cx="7699320" cy="15364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2"/>
          <a:stretch/>
        </p:blipFill>
        <p:spPr>
          <a:xfrm>
            <a:off x="853920" y="444600"/>
            <a:ext cx="7796520" cy="115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828800"/>
            <a:ext cx="45892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1918 году гербом Советской России становится серп и молот в лучах восходящего солнца на фоне земного шара – как знак перемен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ерб окаймляли колосья, которые были перевязаны ленточками с названиями союзных республи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D6FF-2311-4935-A590-6359954BBEB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gerbUSi"/>
          <p:cNvPicPr/>
          <p:nvPr/>
        </p:nvPicPr>
        <p:blipFill>
          <a:blip r:embed="rId2"/>
          <a:stretch/>
        </p:blipFill>
        <p:spPr>
          <a:xfrm>
            <a:off x="5796000" y="2349360"/>
            <a:ext cx="29527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9072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официальный символ государственной вла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лая полоса- означает, чт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 России нет злых намерен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на честно и дружелюбно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носится ко всем страна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няя полоса говорит о том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оссия против войны 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чет дружить со всем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од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сная полоса означает, что каждый гражданин России готов защищать свободу и честь Родины от враг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CF6E-D8AD-4413-BD45-ED2B313F827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878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flagRusi"/>
          <p:cNvPicPr/>
          <p:nvPr/>
        </p:nvPicPr>
        <p:blipFill>
          <a:blip r:embed="rId2"/>
          <a:stretch/>
        </p:blipFill>
        <p:spPr>
          <a:xfrm>
            <a:off x="5715000" y="2071800"/>
            <a:ext cx="3073320" cy="273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55280" y="1483920"/>
            <a:ext cx="554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 царствовании Петр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существует сразу три флаг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ый с синим поперечным крестом (Андреевский)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ля военного ф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о-сине- красный– дл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оргового ф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ерно-желто-белый – государственный флаг             Российской империи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0FB-D8FC-4797-B992-123B89D6CE0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987480" y="390600"/>
            <a:ext cx="7785000" cy="743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oltavi"/>
          <p:cNvPicPr/>
          <p:nvPr/>
        </p:nvPicPr>
        <p:blipFill>
          <a:blip r:embed="rId2"/>
          <a:stretch/>
        </p:blipFill>
        <p:spPr>
          <a:xfrm>
            <a:off x="6156360" y="2349360"/>
            <a:ext cx="24480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90720" y="1483920"/>
            <a:ext cx="451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 момента установления советской власти сменился не только герб, но и фла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перь он стал красным  и на нем помещался серп и молот, такие же как и на герб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CB6-F29C-4D05-87A9-B69F918C66D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8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flagsUSi"/>
          <p:cNvPicPr/>
          <p:nvPr/>
        </p:nvPicPr>
        <p:blipFill>
          <a:blip r:embed="rId2"/>
          <a:stretch/>
        </p:blipFill>
        <p:spPr>
          <a:xfrm>
            <a:off x="5508720" y="2421000"/>
            <a:ext cx="306864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90360" y="1988640"/>
            <a:ext cx="466092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XI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век Россия вступила уже с бело-сине-красным флаго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шение о принятии этого флага было принято первым Президентом России Борисом Николаевичем Ельциным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8BB7-5C37-40E7-9651-05BD088279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987480" y="158760"/>
            <a:ext cx="7785000" cy="1041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имволика"/>
          <p:cNvPicPr/>
          <p:nvPr/>
        </p:nvPicPr>
        <p:blipFill>
          <a:blip r:embed="rId2"/>
          <a:stretch/>
        </p:blipFill>
        <p:spPr>
          <a:xfrm>
            <a:off x="5580000" y="620640"/>
            <a:ext cx="3056040" cy="216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6" descr="yelt1i"/>
          <p:cNvPicPr/>
          <p:nvPr/>
        </p:nvPicPr>
        <p:blipFill>
          <a:blip r:embed="rId3"/>
          <a:stretch/>
        </p:blipFill>
        <p:spPr>
          <a:xfrm>
            <a:off x="5867280" y="3141720"/>
            <a:ext cx="2664000" cy="30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56760" y="1356840"/>
            <a:ext cx="4357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День Победы 9 мая и в День защитника Отечества можно увидеть Знамя                              Победы во время праздничног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рада в Москве на Красной площади в момент возложения цветов и венков к могиле Неизвестного солдата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51BF-B287-4162-90E3-66851B35318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Rectangle 13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824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Парад"/>
          <p:cNvPicPr/>
          <p:nvPr/>
        </p:nvPicPr>
        <p:blipFill>
          <a:blip r:embed="rId2"/>
          <a:stretch/>
        </p:blipFill>
        <p:spPr>
          <a:xfrm>
            <a:off x="4822920" y="2286000"/>
            <a:ext cx="4321080" cy="27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85480" y="1483920"/>
            <a:ext cx="4714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детельством  разгрома                                   фашистской                                            Германии стала                                               груда немецких                                         знамен,                                                        брошенных                                    советскими  солдатами к подножию Мавзолея во время Парада Победы в 1945 году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E22-BB21-46CE-A9EF-9DDDD6DA33C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019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Парад 1"/>
          <p:cNvPicPr/>
          <p:nvPr/>
        </p:nvPicPr>
        <p:blipFill>
          <a:blip r:embed="rId2"/>
          <a:stretch/>
        </p:blipFill>
        <p:spPr>
          <a:xfrm>
            <a:off x="4714920" y="3571920"/>
            <a:ext cx="3892680" cy="294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ная землица и в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не снит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ина – мать , уме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а нее постоя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ина краше солнца, дороже зо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C5C-8064-4C3C-954E-3AE1208AF47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книги"/>
          <p:cNvPicPr/>
          <p:nvPr/>
        </p:nvPicPr>
        <p:blipFill>
          <a:blip r:embed="rId2"/>
          <a:stretch/>
        </p:blipFill>
        <p:spPr>
          <a:xfrm>
            <a:off x="6372360" y="1341360"/>
            <a:ext cx="2266920" cy="2451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227664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 ком нет любви к стране родной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Те сердцем нищи, как кале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.Г. Шевченк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Жизнь каждого принадлежит Отечеству, и не удальство, а только истинная храбрость приносит ему польз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.С. Нахим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Тот, кто не любит свою страну, ничего любить не мож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. Байро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953-700E-456C-B58A-00A662A189C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image048"/>
          <p:cNvPicPr/>
          <p:nvPr/>
        </p:nvPicPr>
        <p:blipFill>
          <a:blip r:embed="rId2"/>
          <a:stretch/>
        </p:blipFill>
        <p:spPr>
          <a:xfrm>
            <a:off x="1042920" y="476280"/>
            <a:ext cx="22338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99680" y="1483920"/>
            <a:ext cx="82630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оссия – необъятная стран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ё площадь составляет 17 млн. кв.к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асстояние с севера на юг – около 4 тыс. к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 если мы полетим на самолете с запада на                          восток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о будем в пути    около 12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часов, пролетев над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просторами Росси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0 тыс. км.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31B-DA72-46D0-BED7-9E9721CE48B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mapKrui"/>
          <p:cNvPicPr/>
          <p:nvPr/>
        </p:nvPicPr>
        <p:blipFill>
          <a:blip r:embed="rId2"/>
          <a:stretch/>
        </p:blipFill>
        <p:spPr>
          <a:xfrm>
            <a:off x="1428840" y="4071960"/>
            <a:ext cx="335412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ИМ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ЕР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ФЛА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19CB-7838-436D-9DD0-0E1DB359C8C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5770800" cy="3929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6286680" y="3714840"/>
            <a:ext cx="19047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99680" y="1557360"/>
            <a:ext cx="82630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ерб- отличительный символ любого государст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олотой двуглавый оре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Щит с изображением всадн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кипе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ержа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D4B-A63E-416D-96C8-5470911E86F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987480" y="414360"/>
            <a:ext cx="7785000" cy="86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ГЕРБ"/>
          <p:cNvPicPr/>
          <p:nvPr/>
        </p:nvPicPr>
        <p:blipFill>
          <a:blip r:embed="rId2"/>
          <a:stretch/>
        </p:blipFill>
        <p:spPr>
          <a:xfrm>
            <a:off x="5878440" y="2205000"/>
            <a:ext cx="2941560" cy="308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360" y="1628640"/>
            <a:ext cx="5236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 начала 16 века Россия была разрозненным государством, состоящим из нескольких независимых княжеств, поэтому  о едином государственном гербе не могло быть и реч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ерб появился при  Иване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 В качестве герба в то время выступала печать, на лицевой стороне которой был изображен всадник, протыкающий копьем змия, а  на оборотной- двуглавый орел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014-E47A-44A0-9F93-EA02173C573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Василий 111 и герб Москвы"/>
          <p:cNvPicPr/>
          <p:nvPr/>
        </p:nvPicPr>
        <p:blipFill>
          <a:blip r:embed="rId2"/>
          <a:stretch/>
        </p:blipFill>
        <p:spPr>
          <a:xfrm>
            <a:off x="6300720" y="2205000"/>
            <a:ext cx="2448000" cy="38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11280" y="1828800"/>
            <a:ext cx="45514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ще до появления печати гербом Московского княжества считалась икона – эмблема Воина Небесного, св. Георгия Победоносц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читание Георгия как святого началось с 5 в. И получило распространение во всем христианском мире. С принятием христианства почитание св. Георгия пришло и на Рус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E0BA-01B2-4789-B49E-5735EC84636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Георгий Победоносец"/>
          <p:cNvPicPr/>
          <p:nvPr/>
        </p:nvPicPr>
        <p:blipFill>
          <a:blip r:embed="rId2"/>
          <a:stretch/>
        </p:blipFill>
        <p:spPr>
          <a:xfrm>
            <a:off x="1116000" y="1989000"/>
            <a:ext cx="3027240" cy="388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00000" y="1628640"/>
            <a:ext cx="496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ки 18 века полагали, что двуглавый орел пришел на Русь из Византии в результате женитьбы Ивана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 Софье Палеоло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днако современные исследователи подвергают сомнению это утверждение. Возможно, изображение орла появилось на русских монетах под влиянием южнославянских стран, где двуглавый орел использовался как герб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Византии же орел служил отличительным знаком принадлежности к императорскому двору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казывается также предположение о заимствовании русскими князьями двуглавого орла из Золотой Ор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9D0-0FA7-4340-8912-40F50FB4C9E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Государственный герб Руси в кон"/>
          <p:cNvPicPr/>
          <p:nvPr/>
        </p:nvPicPr>
        <p:blipFill>
          <a:blip r:embed="rId2"/>
          <a:stretch/>
        </p:blipFill>
        <p:spPr>
          <a:xfrm>
            <a:off x="6012000" y="2060640"/>
            <a:ext cx="2736720" cy="29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BE96-DF7A-4D39-B16D-2ACDFC61A03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Rectangle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0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Государственный герб Руси в  16 в"/>
          <p:cNvPicPr/>
          <p:nvPr/>
        </p:nvPicPr>
        <p:blipFill>
          <a:blip r:embed="rId2"/>
          <a:stretch/>
        </p:blipFill>
        <p:spPr>
          <a:xfrm>
            <a:off x="1476360" y="1916280"/>
            <a:ext cx="201600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Государственный герб Руси в   1 четв"/>
          <p:cNvPicPr/>
          <p:nvPr/>
        </p:nvPicPr>
        <p:blipFill>
          <a:blip r:embed="rId3"/>
          <a:stretch/>
        </p:blipFill>
        <p:spPr>
          <a:xfrm>
            <a:off x="3995640" y="1916280"/>
            <a:ext cx="201636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7" descr="Государственный герб Руси в   во 2 пол"/>
          <p:cNvPicPr/>
          <p:nvPr/>
        </p:nvPicPr>
        <p:blipFill>
          <a:blip r:embed="rId4"/>
          <a:stretch/>
        </p:blipFill>
        <p:spPr>
          <a:xfrm>
            <a:off x="6443640" y="1916280"/>
            <a:ext cx="194472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8" descr="Государственный Герб 1799 г"/>
          <p:cNvPicPr/>
          <p:nvPr/>
        </p:nvPicPr>
        <p:blipFill>
          <a:blip r:embed="rId5"/>
          <a:stretch/>
        </p:blipFill>
        <p:spPr>
          <a:xfrm>
            <a:off x="2627280" y="4365720"/>
            <a:ext cx="2016000" cy="201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5" name="Picture 9" descr="Государственный Герб сер"/>
          <p:cNvPicPr/>
          <p:nvPr/>
        </p:nvPicPr>
        <p:blipFill>
          <a:blip r:embed="rId6"/>
          <a:stretch/>
        </p:blipFill>
        <p:spPr>
          <a:xfrm>
            <a:off x="5364000" y="4365720"/>
            <a:ext cx="1944720" cy="201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90360" y="1557360"/>
            <a:ext cx="415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856 году появились 3 варианта государственного герба: Большой, Средний, Малый, различавшиеся по числу детал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большом гербе вокруг щитка с двуглавым орлом располагались гербы российских земель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1A9F-D34D-4A52-9D47-9D40C606183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Большой Государственный Герб  Российской Империи"/>
          <p:cNvPicPr/>
          <p:nvPr/>
        </p:nvPicPr>
        <p:blipFill>
          <a:blip r:embed="rId2"/>
          <a:stretch/>
        </p:blipFill>
        <p:spPr>
          <a:xfrm>
            <a:off x="5292720" y="2060640"/>
            <a:ext cx="3456000" cy="37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8:15:22Z</dcterms:created>
  <dc:creator>Голуб</dc:creator>
  <dc:description/>
  <dc:language>en-US</dc:language>
  <cp:lastModifiedBy>Учитель</cp:lastModifiedBy>
  <dcterms:modified xsi:type="dcterms:W3CDTF">2012-10-25T05:28:12Z</dcterms:modified>
  <cp:revision>63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1000000000001023720</vt:lpwstr>
  </property>
</Properties>
</file>