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9CF-DC8E-4E73-93AF-E5140FB0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64D-F1FE-49F5-8D6F-FF438193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495-A8C7-4D4D-ACEE-54332745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990-681C-4F9C-88CA-CC9C1C82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7A7D-A0AB-4415-AB76-B52102D1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B3C-CE68-4408-BF51-864ACF09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E3A3-1242-4E0F-B39A-2DD0E343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1429-4A95-42CE-AAF7-E30D1004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3958-442A-48F7-98E5-6CFCE1E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0712-587B-4DAA-9D83-5319A81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8FDD-80A0-4B56-B087-76E8FA4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C5F-31F9-43C0-AB9F-B58F609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CEF9-6B78-429E-8CBB-D13DEA2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AF25-EA51-496D-A293-6611B55E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85F-A440-44C6-9E8F-4D2CE0D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1A54-A9FA-4203-B031-B8297934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942E-0943-445C-968F-254D5834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FC7-CBE2-43DA-80EC-48A4CE9E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794-C70A-44B6-8022-F5A164C9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471-EF5C-435A-B3EB-20AC88DE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6A2-9E8E-46D7-BBCC-478C0CD2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A33-52BD-4501-BD1E-3DBE617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7EB-CA36-417D-AEE6-E36A31A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B7A-D659-49F7-AB59-9C8D4364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1FE-DCAB-4BB3-BA84-4884A47346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206-DF43-47CB-930E-CB72E74AF8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1;&#1080;&#1097;&#1085;&#1099;&#1077;" TargetMode="External"/><Relationship Id="rId3" Type="http://schemas.openxmlformats.org/officeDocument/2006/relationships/hyperlink" Target="http://ru.wikipedia.org/wiki/&#1052;&#1083;&#1077;&#1082;&#1086;&#1087;&#1080;&#1090;&#1072;&#1102;&#1097;&#1080;&#1077;" TargetMode="External"/><Relationship Id="rId4" Type="http://schemas.openxmlformats.org/officeDocument/2006/relationships/hyperlink" Target="http://ru.wikipedia.org/wiki/&#1055;&#1089;&#1086;&#1074;&#1099;&#1077;" TargetMode="External"/><Relationship Id="rId5" Type="http://schemas.openxmlformats.org/officeDocument/2006/relationships/hyperlink" Target="http://ru.wikipedia.org/wiki/&#1051;&#1080;&#1089;&#1080;&#1094;&#1072;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7;&#1077;&#1074;&#1077;&#1088;&#1085;&#1099;&#1081;_&#1087;&#1086;&#1083;&#1103;&#1088;&#1085;&#1099;&#1081;_&#1082;&#1088;&#1091;&#1075;" TargetMode="External"/><Relationship Id="rId3" Type="http://schemas.openxmlformats.org/officeDocument/2006/relationships/hyperlink" Target="http://ru.wikipedia.org/wiki/&#1057;&#1077;&#1074;&#1077;&#1088;&#1085;&#1099;&#1081;_&#1051;&#1077;&#1076;&#1086;&#1074;&#1080;&#1090;&#1099;&#1081;_&#1086;&#1082;&#1077;&#1072;&#1085;" TargetMode="External"/><Relationship Id="rId4" Type="http://schemas.openxmlformats.org/officeDocument/2006/relationships/hyperlink" Target="http://ru.wikipedia.org/wiki/&#1058;&#1091;&#1085;&#1076;&#1088;&#1072;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се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58512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готовил учени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 «Г» класс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БУ лицея №6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Ширшиков Владисл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есе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есе́ц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или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лярная лисица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—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хищно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млекопитающе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емейства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псовы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единственный представитель рода песцов. Сравнительно небольшое хищное животное, напоминающее </a:t>
            </a: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лисицу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Длина тела 50—75 см, хвоста — 25—30 см, высота в холке — 20—30 см. Средняя масса тела самца — 3,5 кг, максимальная — до 9 кг, самки — 3 к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0" y="1630440"/>
            <a:ext cx="3530520" cy="4279680"/>
            <a:chOff x="4572000" y="1630440"/>
            <a:chExt cx="3530520" cy="427968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4572000" y="1630440"/>
              <a:ext cx="353052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572000" y="1630440"/>
              <a:ext cx="3530520" cy="427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Распространение и подви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есец распространён за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Северным полярным кругом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, на побережье и островах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еверного Ледовитого океан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, в тундровой и лесотундровой зонах. В России это типичный представитель фауны материковой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тундры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и лесотундры. Во время зимних кочевок песец заходит до Южной Финляндии, южной части Прибайкалья, низовьев Аму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Хозяйственное зна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сец — важный промысловый зверь, является источником ценного меха; на севере составляет основу пушного промысла. Особо ценятся шкурки голубого песца, который является также объектом клеточного разведения. На островах, окруженных незамерзающим морем, налажено полусвободное разведение — песцы живут на свободе и по сигналу прибегают на корм к специальным ловушка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48320" y="1600200"/>
            <a:ext cx="4038480" cy="3995640"/>
            <a:chOff x="4648320" y="1600200"/>
            <a:chExt cx="4038480" cy="399564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648320" y="1600200"/>
              <a:ext cx="4038480" cy="39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 txBox="1"/>
            <p:nvPr/>
          </p:nvSpPr>
          <p:spPr>
            <a:xfrm>
              <a:off x="4648320" y="1600200"/>
              <a:ext cx="4038480" cy="39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мка песе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9440" y="1600200"/>
            <a:ext cx="62625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Детеныши песц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онец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пасибо за просмотр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9:51:43Z</dcterms:created>
  <dc:creator>Admin</dc:creator>
  <dc:description/>
  <dc:language>en-US</dc:language>
  <cp:lastModifiedBy>Виктор Викторов</cp:lastModifiedBy>
  <dcterms:modified xsi:type="dcterms:W3CDTF">2012-10-25T15:40:19Z</dcterms:modified>
  <cp:revision>12</cp:revision>
  <dc:subject/>
  <dc:title>Песец</dc:title>
</cp:coreProperties>
</file>