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534-C055-4A59-B911-1E631D32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E32-399C-4EF7-94C4-203FD2D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1C0-EC87-49F3-B048-7EE34CE7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1C2-CE85-4761-A12E-BD639225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C2B-E77B-4110-95A2-DB63B832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E8B-9D8D-4D38-B667-8B633482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A05-97DA-44BC-A098-5C421DA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C49-AF58-4890-A572-F02C562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49DB-7DFC-4E56-BA61-9AAE367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0C83-CE4E-48DF-AD29-18F60AFF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5CCF-67CA-492A-BFE8-91CCF22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DF3-EF2D-4B8B-87C1-85DBC198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4A7-107F-4D32-A9DE-F80574EA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4BB9-4857-44DE-BCDC-A1B4818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312-434C-4D1A-BF57-954CF3A5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4171-5386-437E-AF95-E7BF7CB6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6267-5C18-4882-AC68-09271C74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BC5-D53E-46F1-B242-0B53975D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229-6C18-4662-8293-FBC5790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B56-96FC-43BA-9CB4-F451C9FF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290-83F7-47D8-8244-131972B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C74-4584-47BE-9BFD-D2960755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CB8-A8C9-44BE-962A-745E4EE4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82F-582C-42ED-A15D-A100911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876-E4C0-4751-9A59-364300A990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2E7-D036-4B23-B4E1-3E424927D8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1;&#1080;&#1097;&#1085;&#1099;&#1077;" TargetMode="External"/><Relationship Id="rId3" Type="http://schemas.openxmlformats.org/officeDocument/2006/relationships/hyperlink" Target="http://ru.wikipedia.org/wiki/&#1052;&#1083;&#1077;&#1082;&#1086;&#1087;&#1080;&#1090;&#1072;&#1102;&#1097;&#1080;&#1077;" TargetMode="External"/><Relationship Id="rId4" Type="http://schemas.openxmlformats.org/officeDocument/2006/relationships/hyperlink" Target="http://ru.wikipedia.org/wiki/&#1055;&#1089;&#1086;&#1074;&#1099;&#1077;" TargetMode="External"/><Relationship Id="rId5" Type="http://schemas.openxmlformats.org/officeDocument/2006/relationships/hyperlink" Target="http://ru.wikipedia.org/wiki/&#1051;&#1080;&#1089;&#1080;&#1094;&#1072;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7;&#1077;&#1074;&#1077;&#1088;&#1085;&#1099;&#1081;_&#1087;&#1086;&#1083;&#1103;&#1088;&#1085;&#1099;&#1081;_&#1082;&#1088;&#1091;&#1075;" TargetMode="External"/><Relationship Id="rId3" Type="http://schemas.openxmlformats.org/officeDocument/2006/relationships/hyperlink" Target="http://ru.wikipedia.org/wiki/&#1057;&#1077;&#1074;&#1077;&#1088;&#1085;&#1099;&#1081;_&#1051;&#1077;&#1076;&#1086;&#1074;&#1080;&#1090;&#1099;&#1081;_&#1086;&#1082;&#1077;&#1072;&#1085;" TargetMode="External"/><Relationship Id="rId4" Type="http://schemas.openxmlformats.org/officeDocument/2006/relationships/hyperlink" Target="http://ru.wikipedia.org/wiki/&#1058;&#1091;&#1085;&#1076;&#1088;&#1072;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58512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готовил учен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 «Г» класс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БУ лицея №6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Ширшиков Владисл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есе́ц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или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лярная лисиц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хищно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млекопитающе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емейства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псовы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единственный представитель рода песцов. Сравнительно небольшое хищное животное, напоминающее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лисицу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Длина тела 50—75 см, хвоста — 25—30 см, высота в холке — 20—30 см. Средняя масса тела самца — 3,5 кг, максимальная — до 9 кг, самки — 3 к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0" y="1630440"/>
            <a:ext cx="3530520" cy="4279680"/>
            <a:chOff x="4572000" y="1630440"/>
            <a:chExt cx="3530520" cy="427968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572000" y="1630440"/>
              <a:ext cx="353052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572000" y="1630440"/>
              <a:ext cx="3530520" cy="427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аспространение и подви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есец распространён за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Северным полярным круго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, на побережье и островах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еверного Ледовитого океан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, в тундровой и лесотундровой зонах. В России это типичный представитель фауны материковой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тундры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и лесотундры. Во время зимних кочевок песец заходит до Южной Финляндии, южной части Прибайкалья, низовьев Аму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Хозяйственное зна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сец — важный промысловый зверь, является источником ценного меха; на севере составляет основу пушного промысла. Особо ценятся шкурки голубого песца, который является также объектом клеточного разведения. На островах, окруженных незамерзающим морем, налажено полусвободное разведение — песцы живут на свободе и по сигналу прибегают на корм к специальным ловушк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48320" y="1600200"/>
            <a:ext cx="4038480" cy="3995640"/>
            <a:chOff x="4648320" y="1600200"/>
            <a:chExt cx="4038480" cy="399564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4648320" y="1600200"/>
              <a:ext cx="4038480" cy="39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мка 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2625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етеныши песц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онец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пасибо за просмотр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9:51:43Z</dcterms:created>
  <dc:creator>Admin</dc:creator>
  <dc:description/>
  <dc:language>en-US</dc:language>
  <cp:lastModifiedBy>Виктор Викторов</cp:lastModifiedBy>
  <dcterms:modified xsi:type="dcterms:W3CDTF">2012-10-25T15:40:19Z</dcterms:modified>
  <cp:revision>12</cp:revision>
  <dc:subject/>
  <dc:title>Песец</dc:title>
</cp:coreProperties>
</file>