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538-FA66-4567-B7EA-8EED221E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100-FDE4-4341-A124-89AFA99F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E48-F9CD-4D69-A1C9-8F57F092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406-3742-4659-9117-974759EE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A23-B287-436C-ADA9-2B722AA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445-2F6A-4A91-9D08-6B11B9F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A79-23F8-45A6-B82F-E98D20F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236-AFC9-4DFB-BEA9-E608431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1C4-E80C-40EB-9DED-67A9C381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058-54A4-449B-9EC1-9E52D8A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520-9A16-4D71-893F-65AD262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FDD-2751-4647-9875-B36E9F5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8B0E-CFC9-42E6-BE25-8385BB65D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2004840" y="1590840"/>
            <a:ext cx="5322960" cy="195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6013800" y="5516640"/>
            <a:ext cx="22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жанская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1148400" y="54936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Средня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akeup2"/>
          <p:cNvPicPr/>
          <p:nvPr/>
        </p:nvPicPr>
        <p:blipFill>
          <a:blip r:embed="rId2"/>
          <a:srcRect l="0" t="24017" r="0" b="0"/>
          <a:stretch/>
        </p:blipFill>
        <p:spPr>
          <a:xfrm>
            <a:off x="1763640" y="4005360"/>
            <a:ext cx="2131920" cy="179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4359960" y="623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ю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620640"/>
            <a:ext cx="3840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б"/>
          <p:cNvPicPr/>
          <p:nvPr/>
        </p:nvPicPr>
        <p:blipFill>
          <a:blip r:embed="rId1">
            <a:lum contrast="24000"/>
          </a:blip>
          <a:srcRect l="0" t="0" r="25513" b="0"/>
          <a:stretch/>
        </p:blipFill>
        <p:spPr>
          <a:xfrm>
            <a:off x="539640" y="404640"/>
            <a:ext cx="3456000" cy="284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teni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860640"/>
            <a:ext cx="38894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1025640"/>
            <a:ext cx="5113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litrakarglaz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56000" y="333360"/>
            <a:ext cx="3671640" cy="246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karandglaz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26920" y="3357720"/>
            <a:ext cx="72010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acelip"/>
          <p:cNvPicPr/>
          <p:nvPr/>
        </p:nvPicPr>
        <p:blipFill>
          <a:blip r:embed="rId1"/>
          <a:stretch/>
        </p:blipFill>
        <p:spPr>
          <a:xfrm>
            <a:off x="2676600" y="620640"/>
            <a:ext cx="3451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68360" y="404640"/>
            <a:ext cx="2927160" cy="331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alitragub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195640" y="4365720"/>
            <a:ext cx="4895640" cy="187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gloss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156360" y="404640"/>
            <a:ext cx="2468520" cy="338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gigien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924360" y="333360"/>
            <a:ext cx="1539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alitrapomad"/>
          <p:cNvPicPr/>
          <p:nvPr/>
        </p:nvPicPr>
        <p:blipFill>
          <a:blip r:embed="rId1"/>
          <a:stretch/>
        </p:blipFill>
        <p:spPr>
          <a:xfrm>
            <a:off x="1397160" y="1251000"/>
            <a:ext cx="63496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akeup2"/>
          <p:cNvPicPr/>
          <p:nvPr/>
        </p:nvPicPr>
        <p:blipFill>
          <a:blip r:embed="rId1"/>
          <a:srcRect l="0" t="24017" r="0" b="0"/>
          <a:stretch/>
        </p:blipFill>
        <p:spPr>
          <a:xfrm>
            <a:off x="2050920" y="1268280"/>
            <a:ext cx="4864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391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1413000"/>
            <a:ext cx="2922840" cy="295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19640" y="333360"/>
            <a:ext cx="2351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076720" y="2997360"/>
            <a:ext cx="3527640" cy="320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34560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987480"/>
            <a:ext cx="6408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х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59080" y="1052640"/>
            <a:ext cx="4156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3554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5508720" y="3357720"/>
            <a:ext cx="30240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32000" y="942840"/>
            <a:ext cx="6264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э"/>
          <p:cNvPicPr/>
          <p:nvPr/>
        </p:nvPicPr>
        <p:blipFill>
          <a:blip r:embed="rId1"/>
          <a:stretch/>
        </p:blipFill>
        <p:spPr>
          <a:xfrm>
            <a:off x="1116000" y="1665360"/>
            <a:ext cx="712800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92360" y="1012680"/>
            <a:ext cx="5611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в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333360"/>
            <a:ext cx="3313080" cy="29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ь"/>
          <p:cNvPicPr/>
          <p:nvPr/>
        </p:nvPicPr>
        <p:blipFill>
          <a:blip r:embed="rId2"/>
          <a:stretch/>
        </p:blipFill>
        <p:spPr>
          <a:xfrm>
            <a:off x="4427640" y="3500280"/>
            <a:ext cx="3816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м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1230480"/>
            <a:ext cx="61927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1233360"/>
            <a:ext cx="6408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7:12:11Z</dcterms:created>
  <dc:creator> </dc:creator>
  <dc:description/>
  <dc:language>en-US</dc:language>
  <cp:lastModifiedBy>еня</cp:lastModifiedBy>
  <dcterms:modified xsi:type="dcterms:W3CDTF">2006-12-27T02:46:02Z</dcterms:modified>
  <cp:revision>4</cp:revision>
  <dc:subject/>
  <dc:title>Слайд 1</dc:title>
</cp:coreProperties>
</file>