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BFD-AF07-4BD8-B588-E12104FE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550-66D4-4533-91BD-57215D9E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717-57F4-43CA-81F9-41994573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3A5-D2D8-4D40-A028-7BE0D33D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98D-5A0B-4C06-93B3-605A67F1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690-A7CE-4D22-956F-50DB055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B0A-357B-4D09-BFE4-115CA4A2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517-5A13-4944-BE0C-134CEC5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C91-1728-41B1-8128-F38AD1F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5F-6230-4090-8A00-14EEA3C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6E2-F93F-4538-911C-46BBCAC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16E-0B09-499A-A194-8E718DB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FD0-CD76-4CFE-9A16-BB4E85082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2004840" y="1590840"/>
            <a:ext cx="5322960" cy="195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6013800" y="5516640"/>
            <a:ext cx="22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жанская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148400" y="54936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akeup2"/>
          <p:cNvPicPr/>
          <p:nvPr/>
        </p:nvPicPr>
        <p:blipFill>
          <a:blip r:embed="rId2"/>
          <a:srcRect l="0" t="24017" r="0" b="0"/>
          <a:stretch/>
        </p:blipFill>
        <p:spPr>
          <a:xfrm>
            <a:off x="1763640" y="4005360"/>
            <a:ext cx="2131920" cy="179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4359960" y="623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ю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20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б"/>
          <p:cNvPicPr/>
          <p:nvPr/>
        </p:nvPicPr>
        <p:blipFill>
          <a:blip r:embed="rId1">
            <a:lum contrast="24000"/>
          </a:blip>
          <a:srcRect l="0" t="0" r="25513" b="0"/>
          <a:stretch/>
        </p:blipFill>
        <p:spPr>
          <a:xfrm>
            <a:off x="539640" y="404640"/>
            <a:ext cx="3456000" cy="284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ten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860640"/>
            <a:ext cx="38894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1025640"/>
            <a:ext cx="5113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litrakarglaz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333360"/>
            <a:ext cx="3671640" cy="246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karandglaz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26920" y="3357720"/>
            <a:ext cx="7201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acelip"/>
          <p:cNvPicPr/>
          <p:nvPr/>
        </p:nvPicPr>
        <p:blipFill>
          <a:blip r:embed="rId1"/>
          <a:stretch/>
        </p:blipFill>
        <p:spPr>
          <a:xfrm>
            <a:off x="2676600" y="620640"/>
            <a:ext cx="3451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404640"/>
            <a:ext cx="2927160" cy="331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alitragub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195640" y="4365720"/>
            <a:ext cx="4895640" cy="187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gloss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156360" y="404640"/>
            <a:ext cx="246852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gigien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924360" y="333360"/>
            <a:ext cx="153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alitrapomad"/>
          <p:cNvPicPr/>
          <p:nvPr/>
        </p:nvPicPr>
        <p:blipFill>
          <a:blip r:embed="rId1"/>
          <a:stretch/>
        </p:blipFill>
        <p:spPr>
          <a:xfrm>
            <a:off x="1397160" y="1251000"/>
            <a:ext cx="63496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akeup2"/>
          <p:cNvPicPr/>
          <p:nvPr/>
        </p:nvPicPr>
        <p:blipFill>
          <a:blip r:embed="rId1"/>
          <a:srcRect l="0" t="24017" r="0" b="0"/>
          <a:stretch/>
        </p:blipFill>
        <p:spPr>
          <a:xfrm>
            <a:off x="2050920" y="1268280"/>
            <a:ext cx="4864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391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1413000"/>
            <a:ext cx="2922840" cy="295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19640" y="333360"/>
            <a:ext cx="2351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076720" y="2997360"/>
            <a:ext cx="3527640" cy="320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456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987480"/>
            <a:ext cx="6408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х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59080" y="1052640"/>
            <a:ext cx="4156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355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5508720" y="3357720"/>
            <a:ext cx="30240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32000" y="942840"/>
            <a:ext cx="6264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э"/>
          <p:cNvPicPr/>
          <p:nvPr/>
        </p:nvPicPr>
        <p:blipFill>
          <a:blip r:embed="rId1"/>
          <a:stretch/>
        </p:blipFill>
        <p:spPr>
          <a:xfrm>
            <a:off x="1116000" y="1665360"/>
            <a:ext cx="71280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92360" y="1012680"/>
            <a:ext cx="5611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в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333360"/>
            <a:ext cx="3313080" cy="29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ь"/>
          <p:cNvPicPr/>
          <p:nvPr/>
        </p:nvPicPr>
        <p:blipFill>
          <a:blip r:embed="rId2"/>
          <a:stretch/>
        </p:blipFill>
        <p:spPr>
          <a:xfrm>
            <a:off x="4427640" y="3500280"/>
            <a:ext cx="3816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м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1230480"/>
            <a:ext cx="61927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1233360"/>
            <a:ext cx="6408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12:11Z</dcterms:created>
  <dc:creator> </dc:creator>
  <dc:description/>
  <dc:language>en-US</dc:language>
  <cp:lastModifiedBy>еня</cp:lastModifiedBy>
  <dcterms:modified xsi:type="dcterms:W3CDTF">2006-12-27T02:46:02Z</dcterms:modified>
  <cp:revision>4</cp:revision>
  <dc:subject/>
  <dc:title>Слайд 1</dc:title>
</cp:coreProperties>
</file>