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16F-95EB-452C-8064-014081EF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E7E-D0C4-4CB4-978E-6B2CDDF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95F-1BB7-40BD-8AD7-E65F4163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8C5-79EE-4E04-8309-AC126A0C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7E7-5946-4475-B576-6099F30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162-FD5D-4A3F-8C75-632F4180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211-C805-4BB8-BEDB-2634A3D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802-5B1E-4A23-A73F-D37D076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DED-E912-4D37-90DC-31A0796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217-7B80-4777-9D1F-840E5DF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04-001E-41D5-9C37-6824608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C9F-D2BE-4C7E-B383-32AD128C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553-1B2F-4DD6-BA1A-9411BCFD0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казённое дошкольное образовательное учреждение общеразвивающего вида детский сад № 16 города Слободского Кир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0360" y="2041200"/>
            <a:ext cx="43336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грая, дети учатся развлекаться, а это одно из самых полезных занятий на све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рих Фром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232000" y="3213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месте весело игра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995640" y="49417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рак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тор по физкуль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46680" y="61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26 - Track 26.mp3" descr=""/>
          <p:cNvPicPr/>
          <p:nvPr/>
        </p:nvPicPr>
        <p:blipFill>
          <a:blip r:embed="rId2"/>
          <a:stretch/>
        </p:blipFill>
        <p:spPr>
          <a:xfrm>
            <a:off x="1763640" y="54021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1700280"/>
            <a:ext cx="72403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ой задачей физического воспитания является поиск эффективных средств совершенствования развития двигательной сферы детей дошкольного возраста на основе формирования у них потребности движения. Дошкольный возраст – это тот период, когда ребёнок усиленно растёт и развивается. В период формирования личности, когда закладывается основа здоров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2411280" y="3821040"/>
            <a:ext cx="40356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280" y="980640"/>
            <a:ext cx="6202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вижная игра – сложная эмоциональная деятельность детей, направленная на решение двигательных задач, основанная на движении, наличие правил. Подвижная игра является психологической разрядкой, избавляет от психосоматики и мышечных блоков. Подвижная игра удовлетворяет насущные потребности ребё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340000" y="3789360"/>
            <a:ext cx="40323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5640" y="76464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16000" y="1628640"/>
            <a:ext cx="511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познавательных и профессиональных мотивов и интересов педагогов о подвижных играх как средстве здоровьесбережения дошкольн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28303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1641240"/>
            <a:ext cx="59040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уализировать имеющие у педагогов знания по организации подвижных иг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особствовать использованию практики современных требований к организации подвижных иг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250920" y="4025880"/>
            <a:ext cx="21938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и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699920"/>
            <a:ext cx="662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Обогатилось видовое разнообразие подвижных игр: логоритмические, песенки игры, театрализация, игры с элементами массажа и т.д., наряду с традиционными и народными иг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асширилась работа воспитателей над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 Проведена  неделя  подвижных 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 Игры, разученные  в  проце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местных  проектов , дети  переносят  в  самостоятельную  игровую 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5:33Z</dcterms:created>
  <dc:creator>Alexx</dc:creator>
  <dc:description/>
  <dc:language>en-US</dc:language>
  <cp:lastModifiedBy>Alexx</cp:lastModifiedBy>
  <dcterms:modified xsi:type="dcterms:W3CDTF">2012-10-25T11:20:27Z</dcterms:modified>
  <cp:revision>12</cp:revision>
  <dc:subject/>
  <dc:title>Презентация PowerPoint</dc:title>
</cp:coreProperties>
</file>