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EC81-828C-441D-9BAE-AFC56411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0D9D-F3FC-419C-AC93-D8B58CE0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979E-58FD-495C-BD12-A26DACC8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BFE1-AAD9-42B1-A271-9B0596508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4366-4789-43F6-B3C6-81C1F7B7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5BC7-6D4D-493A-AB6B-A32053BE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C495-A9A0-4318-AC86-5FD23F3F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9335-8A5B-4C55-B82F-BF38B3E3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F549-E095-4BDF-8D9B-68F0AE24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C7D2-48F3-4DB8-96B0-34A69899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CC27-F6C0-44D9-8C84-E3E27B21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EA53-FF45-45C3-B14D-E04D390F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D46C-7C64-4A4A-A464-59F09F1BC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://ru.wikipedia.org/wiki/1941" TargetMode="External"/><Relationship Id="rId4" Type="http://schemas.openxmlformats.org/officeDocument/2006/relationships/hyperlink" Target="http://ru.wikipedia.org/wiki/1945" TargetMode="External"/><Relationship Id="rId5" Type="http://schemas.openxmlformats.org/officeDocument/2006/relationships/hyperlink" Target="http://ru.wikipedia.org/wiki/&#1042;&#1086;&#1081;&#1085;&#1072;" TargetMode="External"/><Relationship Id="rId6" Type="http://schemas.openxmlformats.org/officeDocument/2006/relationships/hyperlink" Target="http://ru.wikipedia.org/wiki/&#1057;&#1086;&#1102;&#1079;_&#1057;&#1086;&#1074;&#1077;&#1090;&#1089;&#1082;&#1080;&#1093;_&#1057;&#1086;&#1094;&#1080;&#1072;&#1083;&#1080;&#1089;&#1090;&#1080;&#1095;&#1077;&#1089;&#1082;&#1080;&#1093;_&#1056;&#1077;&#1089;&#1087;&#1091;&#1073;&#1083;&#1080;&#1082;" TargetMode="External"/><Relationship Id="rId7" Type="http://schemas.openxmlformats.org/officeDocument/2006/relationships/hyperlink" Target="http://ru.wikipedia.org/wiki/&#1058;&#1088;&#1077;&#1090;&#1080;&#1081;_&#1088;&#1077;&#1081;&#1093;" TargetMode="External"/><Relationship Id="rId8" Type="http://schemas.openxmlformats.org/officeDocument/2006/relationships/hyperlink" Target="http://ru.wikipedia.org/wiki/&#1058;&#1088;&#1077;&#1090;&#1080;&#1081;_&#1088;&#1077;&#1081;&#1093;" TargetMode="External"/><Relationship Id="rId9" Type="http://schemas.openxmlformats.org/officeDocument/2006/relationships/hyperlink" Target="http://ru.wikipedia.org/wiki/&#1045;&#1074;&#1088;&#1086;&#1087;&#1072;" TargetMode="External"/><Relationship Id="rId10" Type="http://schemas.openxmlformats.org/officeDocument/2006/relationships/hyperlink" Target="http://ru.wikipedia.org/wiki/&#1057;&#1090;&#1088;&#1072;&#1085;&#1099;_&#1086;&#1089;&#1080;_&#1080;_&#1080;&#1093;_&#1089;&#1086;&#1102;&#1079;&#1085;&#1080;&#1082;&#1080;" TargetMode="External"/><Relationship Id="rId11" Type="http://schemas.openxmlformats.org/officeDocument/2006/relationships/hyperlink" Target="http://ru.wikipedia.org/wiki/&#1041;&#1086;&#1083;&#1075;&#1072;&#1088;&#1080;&#1103;" TargetMode="External"/><Relationship Id="rId12" Type="http://schemas.openxmlformats.org/officeDocument/2006/relationships/hyperlink" Target="http://ru.wikipedia.org/wiki/&#1042;&#1077;&#1085;&#1075;&#1088;&#1080;&#1103;" TargetMode="External"/><Relationship Id="rId13" Type="http://schemas.openxmlformats.org/officeDocument/2006/relationships/hyperlink" Target="http://ru.wikipedia.org/wiki/&#1048;&#1090;&#1072;&#1083;&#1080;&#1103;" TargetMode="External"/><Relationship Id="rId14" Type="http://schemas.openxmlformats.org/officeDocument/2006/relationships/hyperlink" Target="http://ru.wikipedia.org/wiki/&#1056;&#1091;&#1084;&#1099;&#1085;&#1080;&#1103;" TargetMode="External"/><Relationship Id="rId15" Type="http://schemas.openxmlformats.org/officeDocument/2006/relationships/hyperlink" Target="http://ru.wikipedia.org/wiki/&#1055;&#1077;&#1088;&#1074;&#1072;&#1103;_&#1057;&#1083;&#1086;&#1074;&#1072;&#1094;&#1082;&#1072;&#1103;_&#1088;&#1077;&#1089;&#1087;&#1091;&#1073;&#1083;&#1080;&#1082;&#1072;" TargetMode="External"/><Relationship Id="rId16" Type="http://schemas.openxmlformats.org/officeDocument/2006/relationships/hyperlink" Target="http://ru.wikipedia.org/wiki/&#1060;&#1080;&#1085;&#1083;&#1103;&#1085;&#1076;&#1080;&#1103;" TargetMode="External"/><Relationship Id="rId17" Type="http://schemas.openxmlformats.org/officeDocument/2006/relationships/hyperlink" Target="http://ru.wikipedia.org/wiki/&#1061;&#1086;&#1088;&#1074;&#1072;&#1090;&#1080;&#1103;" TargetMode="External"/><Relationship Id="rId18" Type="http://schemas.openxmlformats.org/officeDocument/2006/relationships/hyperlink" Target="http://ru.wikipedia.org/wiki/&#1042;&#1090;&#1086;&#1088;&#1072;&#1103;_&#1084;&#1080;&#1088;&#1086;&#1074;&#1072;&#1103;_&#1074;&#1086;&#1081;&#1085;&#1072;" TargetMode="External"/><Relationship Id="rId1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hyperlink" Target="http://ru.wikipedia.org/wiki/18_&#1080;&#1102;&#1085;&#1103;" TargetMode="External"/><Relationship Id="rId4" Type="http://schemas.openxmlformats.org/officeDocument/2006/relationships/hyperlink" Target="http://ru.wikipedia.org/wiki/&#1042;&#1077;&#1083;&#1080;&#1082;&#1072;&#1103;_&#1054;&#1090;&#1077;&#1095;&#1077;&#1089;&#1090;&#1074;&#1077;&#1085;&#1085;&#1072;&#1103;_&#1074;&#1086;&#1081;&#1085;&#1072;#cite_note-24" TargetMode="External"/><Relationship Id="rId5" Type="http://schemas.openxmlformats.org/officeDocument/2006/relationships/hyperlink" Target="http://ru.wikipedia.org/wiki/&#1042;&#1077;&#1083;&#1080;&#1082;&#1072;&#1103;_&#1054;&#1090;&#1077;&#1095;&#1077;&#1089;&#1090;&#1074;&#1077;&#1085;&#1085;&#1072;&#1103;_&#1074;&#1086;&#1081;&#1085;&#1072;#cite_note-25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ru.wikipedia.org/wiki/&#1050;&#1088;&#1099;&#1084;&#1089;&#1082;&#1080;&#1081;_&#1092;&#1088;&#1086;&#1085;&#1090;" TargetMode="External"/><Relationship Id="rId3" Type="http://schemas.openxmlformats.org/officeDocument/2006/relationships/hyperlink" Target="http://ru.wikipedia.org/wiki/&#1050;&#1088;&#1099;&#1084;&#1089;&#1082;&#1080;&#1081;_&#1092;&#1088;&#1086;&#1085;&#1090;" TargetMode="External"/><Relationship Id="rId4" Type="http://schemas.openxmlformats.org/officeDocument/2006/relationships/hyperlink" Target="http://ru.wikipedia.org/wiki/&#1061;&#1072;&#1088;&#1100;&#1082;&#1086;&#1074;&#1089;&#1082;&#1072;&#1103;_&#1086;&#1087;&#1077;&#1088;&#1072;&#1094;&#1080;&#1103;_(1942)" TargetMode="External"/><Relationship Id="rId5" Type="http://schemas.openxmlformats.org/officeDocument/2006/relationships/hyperlink" Target="http://ru.wikipedia.org/wiki/&#1057;&#1090;&#1072;&#1083;&#1080;&#1085;&#1075;&#1088;&#1072;&#1076;&#1089;&#1082;&#1072;&#1103;_&#1073;&#1080;&#1090;&#1074;&#1072;#.D0.91.D0.B8.D1.82.D0.B2.D0.B0_.D0.BD.D0.B0.D1.87.D0.B8.D0.BD.D0.B0.D0.B5.D1.82.D1.81.D1.8F" TargetMode="External"/><Relationship Id="rId6" Type="http://schemas.openxmlformats.org/officeDocument/2006/relationships/hyperlink" Target="http://ru.wikipedia.org/wiki/&#1042;&#1086;&#1083;&#1075;&#1072;" TargetMode="External"/><Relationship Id="rId7" Type="http://schemas.openxmlformats.org/officeDocument/2006/relationships/hyperlink" Target="http://ru.wikipedia.org/wiki/&#1055;&#1077;&#1088;&#1074;&#1072;&#1103;_&#1056;&#1078;&#1077;&#1074;&#1089;&#1082;&#1086;-&#1057;&#1099;&#1095;&#1105;&#1074;&#1089;&#1082;&#1072;&#1103;_&#1086;&#1087;&#1077;&#1088;&#1072;&#1094;&#1080;&#1103;" TargetMode="External"/><Relationship Id="rId8" Type="http://schemas.openxmlformats.org/officeDocument/2006/relationships/hyperlink" Target="http://ru.wikipedia.org/wiki/&#1055;&#1077;&#1088;&#1074;&#1072;&#1103;_&#1056;&#1078;&#1077;&#1074;&#1089;&#1082;&#1086;-&#1057;&#1099;&#1095;&#1105;&#1074;&#1089;&#1082;&#1072;&#1103;_&#1086;&#1087;&#1077;&#1088;&#1072;&#1094;&#1080;&#1103;" TargetMode="External"/><Relationship Id="rId9" Type="http://schemas.openxmlformats.org/officeDocument/2006/relationships/hyperlink" Target="http://ru.wikipedia.org/wiki/&#1042;&#1077;&#1083;&#1080;&#1082;&#1072;&#1103;_&#1054;&#1090;&#1077;&#1095;&#1077;&#1089;&#1090;&#1074;&#1077;&#1085;&#1085;&#1072;&#1103;_&#1074;&#1086;&#1081;&#1085;&#1072;#cite_note-5_10_1-40" TargetMode="External"/><Relationship Id="rId10" Type="http://schemas.openxmlformats.org/officeDocument/2006/relationships/hyperlink" Target="http://ru.wikipedia.org/wiki/&#1051;&#1102;&#1073;&#1072;&#1085;&#1089;&#1082;&#1072;&#1103;_&#1085;&#1072;&#1089;&#1090;&#1091;&#1087;&#1072;&#1090;&#1077;&#1083;&#1100;&#1085;&#1072;&#1103;_&#1086;&#1087;&#1077;&#1088;&#1072;&#1094;&#1080;&#1103;" TargetMode="External"/><Relationship Id="rId11" Type="http://schemas.openxmlformats.org/officeDocument/2006/relationships/hyperlink" Target="http://ru.wikipedia.org/wiki/&#1051;&#1102;&#1073;&#1072;&#1085;&#1089;&#1082;&#1072;&#1103;_&#1085;&#1072;&#1089;&#1090;&#1091;&#1087;&#1072;&#1090;&#1077;&#1083;&#1100;&#1085;&#1072;&#1103;_&#1086;&#1087;&#1077;&#1088;&#1072;&#1094;&#1080;&#1103;" TargetMode="External"/><Relationship Id="rId12" Type="http://schemas.openxmlformats.org/officeDocument/2006/relationships/hyperlink" Target="http://ru.wikipedia.org/wiki/2-&#1103;_&#1091;&#1076;&#1072;&#1088;&#1085;&#1072;&#1103;_&#1072;&#1088;&#1084;&#1080;&#1103;" TargetMode="External"/><Relationship Id="rId13" Type="http://schemas.openxmlformats.org/officeDocument/2006/relationships/hyperlink" Target="http://ru.wikipedia.org/wiki/&#1042;&#1077;&#1083;&#1080;&#1082;&#1072;&#1103;_&#1054;&#1090;&#1077;&#1095;&#1077;&#1089;&#1090;&#1074;&#1077;&#1085;&#1085;&#1072;&#1103;_&#1074;&#1086;&#1081;&#1085;&#1072;#cite_note-5_10_1-40" TargetMode="External"/><Relationship Id="rId14" Type="http://schemas.openxmlformats.org/officeDocument/2006/relationships/hyperlink" Target="http://ru.wikipedia.org/w/index.php?title=&#1060;&#1072;&#1081;&#1083;:StalingradRus.jpg&amp;filetimestamp=20060224074538" TargetMode="External"/><Relationship Id="rId15" Type="http://schemas.openxmlformats.org/officeDocument/2006/relationships/hyperlink" Target="http://ru.wikipedia.org/w/index.php?title=&#1060;&#1072;&#1081;&#1083;:StalingradRus.jpg&amp;filetimestamp=20060224074538" TargetMode="External"/><Relationship Id="rId16" Type="http://schemas.openxmlformats.org/officeDocument/2006/relationships/hyperlink" Target="http://ru.wikipedia.org/wiki/&#1057;&#1090;&#1072;&#1083;&#1080;&#1085;&#1075;&#1088;&#1072;&#1076;" TargetMode="External"/><Relationship Id="rId17" Type="http://schemas.openxmlformats.org/officeDocument/2006/relationships/hyperlink" Target="http://ru.wikipedia.org/wiki/1942_&#1075;&#1086;&#1076;" TargetMode="External"/><Relationship Id="rId18" Type="http://schemas.openxmlformats.org/officeDocument/2006/relationships/hyperlink" Target="http://ru.wikipedia.org/wiki/3_&#1080;&#1102;&#1083;&#1103;" TargetMode="External"/><Relationship Id="rId19" Type="http://schemas.openxmlformats.org/officeDocument/2006/relationships/hyperlink" Target="http://ru.wikipedia.org/wiki/1941_&#1075;&#1086;&#1076;" TargetMode="External"/><Relationship Id="rId20" Type="http://schemas.openxmlformats.org/officeDocument/2006/relationships/hyperlink" Target="http://ru.wikipedia.org/wiki/&#1042;&#1089;&#1105;_&#1076;&#1083;&#1103;_&#1092;&#1088;&#1086;&#1085;&#1090;&#1072;!_&#1042;&#1089;&#1105;_&#1076;&#1083;&#1103;_&#1087;&#1086;&#1073;&#1077;&#1076;&#1099;!" TargetMode="External"/><Relationship Id="rId21" Type="http://schemas.openxmlformats.org/officeDocument/2006/relationships/hyperlink" Target="http://ru.wikipedia.org/wiki/&#1069;&#1082;&#1086;&#1085;&#1086;&#1084;&#1080;&#1082;&#1072;_&#1057;&#1057;&#1057;&#1056;" TargetMode="External"/><Relationship Id="rId22" Type="http://schemas.openxmlformats.org/officeDocument/2006/relationships/hyperlink" Target="http://ru.wikipedia.org/wiki/&#1069;&#1074;&#1072;&#1082;&#1091;&#1072;&#1094;&#1080;&#1103;_&#1074;_&#1057;&#1057;&#1057;&#1056;_&#1074;&#1086;_&#1074;&#1088;&#1077;&#1084;&#1103;_&#1042;&#1077;&#1083;&#1080;&#1082;&#1086;&#1081;_&#1054;&#1090;&#1077;&#1095;&#1077;&#1089;&#1090;&#1074;&#1077;&#1085;&#1085;&#1086;&#1081;_&#1074;&#1086;&#1081;&#1085;&#1099;" TargetMode="External"/><Relationship Id="rId23" Type="http://schemas.openxmlformats.org/officeDocument/2006/relationships/hyperlink" Target="http://ru.wikipedia.org/wiki/&#1042;&#1077;&#1083;&#1080;&#1082;&#1072;&#1103;_&#1054;&#1090;&#1077;&#1095;&#1077;&#1089;&#1090;&#1074;&#1077;&#1085;&#1085;&#1072;&#1103;_&#1074;&#1086;&#1081;&#1085;&#1072;#cite_note-41" TargetMode="External"/><Relationship Id="rId24" Type="http://schemas.openxmlformats.org/officeDocument/2006/relationships/hyperlink" Target="http://ru.wikipedia.org/wiki/&#1051;&#1077;&#1085;&#1076;-&#1083;&#1080;&#1079;" TargetMode="External"/><Relationship Id="rId25" Type="http://schemas.openxmlformats.org/officeDocument/2006/relationships/hyperlink" Target="http://ru.wikipedia.org/wiki/&#1057;&#1064;&#1040;" TargetMode="External"/><Relationship Id="rId26" Type="http://schemas.openxmlformats.org/officeDocument/2006/relationships/hyperlink" Target="http://ru.wikipedia.org/w/index.php?title=&#1060;&#1072;&#1081;&#1083;:StalingradRus.jpg&amp;filetimestamp=20060224074538" TargetMode="External"/><Relationship Id="rId27" Type="http://schemas.openxmlformats.org/officeDocument/2006/relationships/image" Target="../media/image5.png"/><Relationship Id="rId28" Type="http://schemas.openxmlformats.org/officeDocument/2006/relationships/hyperlink" Target="http://ru.wikipedia.org/wiki/&#1050;&#1088;&#1099;&#1084;&#1089;&#1082;&#1080;&#1081;_&#1092;&#1088;&#1086;&#1085;&#1090;" TargetMode="External"/><Relationship Id="rId29" Type="http://schemas.openxmlformats.org/officeDocument/2006/relationships/hyperlink" Target="http://ru.wikipedia.org/wiki/&#1050;&#1088;&#1099;&#1084;&#1089;&#1082;&#1080;&#1081;_&#1092;&#1088;&#1086;&#1085;&#1090;" TargetMode="External"/><Relationship Id="rId30" Type="http://schemas.openxmlformats.org/officeDocument/2006/relationships/hyperlink" Target="http://ru.wikipedia.org/wiki/&#1061;&#1072;&#1088;&#1100;&#1082;&#1086;&#1074;&#1089;&#1082;&#1072;&#1103;_&#1086;&#1087;&#1077;&#1088;&#1072;&#1094;&#1080;&#1103;_(1942)" TargetMode="External"/><Relationship Id="rId31" Type="http://schemas.openxmlformats.org/officeDocument/2006/relationships/hyperlink" Target="http://ru.wikipedia.org/wiki/&#1057;&#1090;&#1072;&#1083;&#1080;&#1085;&#1075;&#1088;&#1072;&#1076;&#1089;&#1082;&#1072;&#1103;_&#1073;&#1080;&#1090;&#1074;&#1072;#.D0.91.D0.B8.D1.82.D0.B2.D0.B0_.D0.BD.D0.B0.D1.87.D0.B8.D0.BD.D0.B0.D0.B5.D1.82.D1.81.D1.8F" TargetMode="External"/><Relationship Id="rId32" Type="http://schemas.openxmlformats.org/officeDocument/2006/relationships/hyperlink" Target="http://ru.wikipedia.org/wiki/&#1042;&#1086;&#1083;&#1075;&#1072;" TargetMode="External"/><Relationship Id="rId33" Type="http://schemas.openxmlformats.org/officeDocument/2006/relationships/hyperlink" Target="http://ru.wikipedia.org/wiki/&#1055;&#1077;&#1088;&#1074;&#1072;&#1103;_&#1056;&#1078;&#1077;&#1074;&#1089;&#1082;&#1086;-&#1057;&#1099;&#1095;&#1105;&#1074;&#1089;&#1082;&#1072;&#1103;_&#1086;&#1087;&#1077;&#1088;&#1072;&#1094;&#1080;&#1103;" TargetMode="External"/><Relationship Id="rId34" Type="http://schemas.openxmlformats.org/officeDocument/2006/relationships/hyperlink" Target="http://ru.wikipedia.org/wiki/&#1055;&#1077;&#1088;&#1074;&#1072;&#1103;_&#1056;&#1078;&#1077;&#1074;&#1089;&#1082;&#1086;-&#1057;&#1099;&#1095;&#1105;&#1074;&#1089;&#1082;&#1072;&#1103;_&#1086;&#1087;&#1077;&#1088;&#1072;&#1094;&#1080;&#1103;" TargetMode="External"/><Relationship Id="rId35" Type="http://schemas.openxmlformats.org/officeDocument/2006/relationships/hyperlink" Target="http://ru.wikipedia.org/wiki/&#1042;&#1077;&#1083;&#1080;&#1082;&#1072;&#1103;_&#1054;&#1090;&#1077;&#1095;&#1077;&#1089;&#1090;&#1074;&#1077;&#1085;&#1085;&#1072;&#1103;_&#1074;&#1086;&#1081;&#1085;&#1072;#cite_note-5_10_1-40" TargetMode="External"/><Relationship Id="rId36" Type="http://schemas.openxmlformats.org/officeDocument/2006/relationships/hyperlink" Target="http://ru.wikipedia.org/wiki/&#1051;&#1102;&#1073;&#1072;&#1085;&#1089;&#1082;&#1072;&#1103;_&#1085;&#1072;&#1089;&#1090;&#1091;&#1087;&#1072;&#1090;&#1077;&#1083;&#1100;&#1085;&#1072;&#1103;_&#1086;&#1087;&#1077;&#1088;&#1072;&#1094;&#1080;&#1103;" TargetMode="External"/><Relationship Id="rId37" Type="http://schemas.openxmlformats.org/officeDocument/2006/relationships/hyperlink" Target="http://ru.wikipedia.org/wiki/&#1051;&#1102;&#1073;&#1072;&#1085;&#1089;&#1082;&#1072;&#1103;_&#1085;&#1072;&#1089;&#1090;&#1091;&#1087;&#1072;&#1090;&#1077;&#1083;&#1100;&#1085;&#1072;&#1103;_&#1086;&#1087;&#1077;&#1088;&#1072;&#1094;&#1080;&#1103;" TargetMode="External"/><Relationship Id="rId38" Type="http://schemas.openxmlformats.org/officeDocument/2006/relationships/hyperlink" Target="http://ru.wikipedia.org/wiki/2-&#1103;_&#1091;&#1076;&#1072;&#1088;&#1085;&#1072;&#1103;_&#1072;&#1088;&#1084;&#1080;&#1103;" TargetMode="External"/><Relationship Id="rId39" Type="http://schemas.openxmlformats.org/officeDocument/2006/relationships/hyperlink" Target="http://ru.wikipedia.org/wiki/&#1042;&#1077;&#1083;&#1080;&#1082;&#1072;&#1103;_&#1054;&#1090;&#1077;&#1095;&#1077;&#1089;&#1090;&#1074;&#1077;&#1085;&#1085;&#1072;&#1103;_&#1074;&#1086;&#1081;&#1085;&#1072;#cite_note-5_10_1-40" TargetMode="External"/><Relationship Id="rId40" Type="http://schemas.openxmlformats.org/officeDocument/2006/relationships/hyperlink" Target="http://ru.wikipedia.org/w/index.php?title=&#1060;&#1072;&#1081;&#1083;:StalingradRus.jpg&amp;filetimestamp=20060224074538" TargetMode="External"/><Relationship Id="rId41" Type="http://schemas.openxmlformats.org/officeDocument/2006/relationships/hyperlink" Target="http://ru.wikipedia.org/w/index.php?title=&#1060;&#1072;&#1081;&#1083;:StalingradRus.jpg&amp;filetimestamp=20060224074538" TargetMode="External"/><Relationship Id="rId42" Type="http://schemas.openxmlformats.org/officeDocument/2006/relationships/hyperlink" Target="http://ru.wikipedia.org/wiki/&#1057;&#1090;&#1072;&#1083;&#1080;&#1085;&#1075;&#1088;&#1072;&#1076;" TargetMode="External"/><Relationship Id="rId43" Type="http://schemas.openxmlformats.org/officeDocument/2006/relationships/hyperlink" Target="http://ru.wikipedia.org/wiki/1942_&#1075;&#1086;&#1076;" TargetMode="External"/><Relationship Id="rId44" Type="http://schemas.openxmlformats.org/officeDocument/2006/relationships/hyperlink" Target="http://ru.wikipedia.org/wiki/3_&#1080;&#1102;&#1083;&#1103;" TargetMode="External"/><Relationship Id="rId45" Type="http://schemas.openxmlformats.org/officeDocument/2006/relationships/hyperlink" Target="http://ru.wikipedia.org/wiki/1941_&#1075;&#1086;&#1076;" TargetMode="External"/><Relationship Id="rId46" Type="http://schemas.openxmlformats.org/officeDocument/2006/relationships/hyperlink" Target="http://ru.wikipedia.org/wiki/&#1042;&#1089;&#1105;_&#1076;&#1083;&#1103;_&#1092;&#1088;&#1086;&#1085;&#1090;&#1072;!_&#1042;&#1089;&#1105;_&#1076;&#1083;&#1103;_&#1087;&#1086;&#1073;&#1077;&#1076;&#1099;!" TargetMode="External"/><Relationship Id="rId47" Type="http://schemas.openxmlformats.org/officeDocument/2006/relationships/hyperlink" Target="http://ru.wikipedia.org/wiki/&#1069;&#1082;&#1086;&#1085;&#1086;&#1084;&#1080;&#1082;&#1072;_&#1057;&#1057;&#1057;&#1056;" TargetMode="External"/><Relationship Id="rId48" Type="http://schemas.openxmlformats.org/officeDocument/2006/relationships/hyperlink" Target="http://ru.wikipedia.org/wiki/&#1069;&#1074;&#1072;&#1082;&#1091;&#1072;&#1094;&#1080;&#1103;_&#1074;_&#1057;&#1057;&#1057;&#1056;_&#1074;&#1086;_&#1074;&#1088;&#1077;&#1084;&#1103;_&#1042;&#1077;&#1083;&#1080;&#1082;&#1086;&#1081;_&#1054;&#1090;&#1077;&#1095;&#1077;&#1089;&#1090;&#1074;&#1077;&#1085;&#1085;&#1086;&#1081;_&#1074;&#1086;&#1081;&#1085;&#1099;" TargetMode="External"/><Relationship Id="rId49" Type="http://schemas.openxmlformats.org/officeDocument/2006/relationships/hyperlink" Target="http://ru.wikipedia.org/wiki/&#1042;&#1077;&#1083;&#1080;&#1082;&#1072;&#1103;_&#1054;&#1090;&#1077;&#1095;&#1077;&#1089;&#1090;&#1074;&#1077;&#1085;&#1085;&#1072;&#1103;_&#1074;&#1086;&#1081;&#1085;&#1072;#cite_note-41" TargetMode="External"/><Relationship Id="rId50" Type="http://schemas.openxmlformats.org/officeDocument/2006/relationships/hyperlink" Target="http://ru.wikipedia.org/wiki/&#1051;&#1077;&#1085;&#1076;-&#1083;&#1080;&#1079;" TargetMode="External"/><Relationship Id="rId51" Type="http://schemas.openxmlformats.org/officeDocument/2006/relationships/hyperlink" Target="http://ru.wikipedia.org/wiki/&#1057;&#1064;&#1040;" TargetMode="External"/><Relationship Id="rId52" Type="http://schemas.openxmlformats.org/officeDocument/2006/relationships/hyperlink" Target="http://ru.wikipedia.org/w/index.php?title=&#1060;&#1072;&#1081;&#1083;:StalingradRus.jpg&amp;filetimestamp=20060224074538" TargetMode="External"/><Relationship Id="rId53" Type="http://schemas.openxmlformats.org/officeDocument/2006/relationships/image" Target="../media/image5.png"/><Relationship Id="rId54" Type="http://schemas.openxmlformats.org/officeDocument/2006/relationships/image" Target="../media/image6.jpeg"/><Relationship Id="rId55" Type="http://schemas.openxmlformats.org/officeDocument/2006/relationships/hyperlink" Target="http://ru.wikipedia.org/wiki/&#1050;&#1088;&#1099;&#1084;&#1089;&#1082;&#1080;&#1081;_&#1092;&#1088;&#1086;&#1085;&#1090;" TargetMode="External"/><Relationship Id="rId56" Type="http://schemas.openxmlformats.org/officeDocument/2006/relationships/hyperlink" Target="http://ru.wikipedia.org/wiki/&#1050;&#1088;&#1099;&#1084;&#1089;&#1082;&#1080;&#1081;_&#1092;&#1088;&#1086;&#1085;&#1090;" TargetMode="External"/><Relationship Id="rId57" Type="http://schemas.openxmlformats.org/officeDocument/2006/relationships/hyperlink" Target="http://ru.wikipedia.org/wiki/&#1061;&#1072;&#1088;&#1100;&#1082;&#1086;&#1074;&#1089;&#1082;&#1072;&#1103;_&#1086;&#1087;&#1077;&#1088;&#1072;&#1094;&#1080;&#1103;_(1942)" TargetMode="External"/><Relationship Id="rId58" Type="http://schemas.openxmlformats.org/officeDocument/2006/relationships/hyperlink" Target="http://ru.wikipedia.org/wiki/&#1057;&#1090;&#1072;&#1083;&#1080;&#1085;&#1075;&#1088;&#1072;&#1076;&#1089;&#1082;&#1072;&#1103;_&#1073;&#1080;&#1090;&#1074;&#1072;#.D0.91.D0.B8.D1.82.D0.B2.D0.B0_.D0.BD.D0.B0.D1.87.D0.B8.D0.BD.D0.B0.D0.B5.D1.82.D1.81.D1.8F" TargetMode="External"/><Relationship Id="rId59" Type="http://schemas.openxmlformats.org/officeDocument/2006/relationships/hyperlink" Target="http://ru.wikipedia.org/wiki/&#1042;&#1086;&#1083;&#1075;&#1072;" TargetMode="External"/><Relationship Id="rId60" Type="http://schemas.openxmlformats.org/officeDocument/2006/relationships/hyperlink" Target="http://ru.wikipedia.org/wiki/&#1055;&#1077;&#1088;&#1074;&#1072;&#1103;_&#1056;&#1078;&#1077;&#1074;&#1089;&#1082;&#1086;-&#1057;&#1099;&#1095;&#1105;&#1074;&#1089;&#1082;&#1072;&#1103;_&#1086;&#1087;&#1077;&#1088;&#1072;&#1094;&#1080;&#1103;" TargetMode="External"/><Relationship Id="rId61" Type="http://schemas.openxmlformats.org/officeDocument/2006/relationships/hyperlink" Target="http://ru.wikipedia.org/wiki/&#1055;&#1077;&#1088;&#1074;&#1072;&#1103;_&#1056;&#1078;&#1077;&#1074;&#1089;&#1082;&#1086;-&#1057;&#1099;&#1095;&#1105;&#1074;&#1089;&#1082;&#1072;&#1103;_&#1086;&#1087;&#1077;&#1088;&#1072;&#1094;&#1080;&#1103;" TargetMode="External"/><Relationship Id="rId62" Type="http://schemas.openxmlformats.org/officeDocument/2006/relationships/hyperlink" Target="http://ru.wikipedia.org/wiki/&#1042;&#1077;&#1083;&#1080;&#1082;&#1072;&#1103;_&#1054;&#1090;&#1077;&#1095;&#1077;&#1089;&#1090;&#1074;&#1077;&#1085;&#1085;&#1072;&#1103;_&#1074;&#1086;&#1081;&#1085;&#1072;#cite_note-5_10_1-40" TargetMode="External"/><Relationship Id="rId63" Type="http://schemas.openxmlformats.org/officeDocument/2006/relationships/hyperlink" Target="http://ru.wikipedia.org/wiki/&#1051;&#1102;&#1073;&#1072;&#1085;&#1089;&#1082;&#1072;&#1103;_&#1085;&#1072;&#1089;&#1090;&#1091;&#1087;&#1072;&#1090;&#1077;&#1083;&#1100;&#1085;&#1072;&#1103;_&#1086;&#1087;&#1077;&#1088;&#1072;&#1094;&#1080;&#1103;" TargetMode="External"/><Relationship Id="rId64" Type="http://schemas.openxmlformats.org/officeDocument/2006/relationships/hyperlink" Target="http://ru.wikipedia.org/wiki/&#1051;&#1102;&#1073;&#1072;&#1085;&#1089;&#1082;&#1072;&#1103;_&#1085;&#1072;&#1089;&#1090;&#1091;&#1087;&#1072;&#1090;&#1077;&#1083;&#1100;&#1085;&#1072;&#1103;_&#1086;&#1087;&#1077;&#1088;&#1072;&#1094;&#1080;&#1103;" TargetMode="External"/><Relationship Id="rId6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7080" cy="7361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79280" y="0"/>
            <a:ext cx="88250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ликая отечественная война 1941-1945 годах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42920" y="0"/>
            <a:ext cx="6985080" cy="6597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340000" y="4277160"/>
            <a:ext cx="540072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ли́кая Оте́чественная война́ (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94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945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вой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Союза Советских Социалистических Республ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против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нацистской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Герма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и её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европейски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союзни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(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Болгар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Венгр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Итал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Румы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Словак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Финлянд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Хорват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 по мнению ряда историков, решающая часть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Второй мировой вой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-181080" y="-171360"/>
            <a:ext cx="9649080" cy="7029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9280" y="360"/>
            <a:ext cx="91440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8 июня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 1941 года некоторые соединения приграничных военных округов СССР были приведены в боевую готовность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[25]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 13-15 июня в западные округа были отправлены Директивы НКО и ГШ («Для повышения боевой готовности…») о начале выдвижения частей первого и второго эшелонов к границе, под видом «учений». Стрелковые части округов первого эшелона согласно этим директивам должны были занимать оборону в 5-10 км от границы, части второго эшелона, стрелковые и механизированные корпуса, должны были занять оборону в 30-40 км от границы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[26]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4429080" y="-4432320"/>
            <a:ext cx="3384360" cy="118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На основании некорректных данных о потерях вермахта в ходе зимнего наступления РККА Верховным Командованием СССР в летне-осенней кампании 1942 года войскам была поставлена невыполнимая задача: полностью разгромить врага и освободить всю территорию страны. Основные военные события произошли на юго-западном направлении: поражение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Крымского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 фронта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, катастрофа в 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Харьковской операции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(12-25 мая), Воронежско-Ворошиловградская стратегическая оборонительная операция (28 июня — 24 июля), 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/>
              </a:rPr>
              <a:t>Сталинградская стратегическая оборонительная операция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(17июля — 18 ноября), Северо-Кавказская стратегическая оборонительная операция (25 июля — 31 декабря). Противник продвинулся на 500—650 км, вышел к 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/>
              </a:rPr>
              <a:t>Волге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, овладел частью перевалов Главного Кавказского хребта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Ряд крупных операций произошёл на центральном направлении: 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7"/>
              </a:rPr>
              <a:t>Ржевско-Сычёвская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8"/>
              </a:rPr>
              <a:t> операция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(30 июля — 23 августа), слившаяся с контрударом войск Западного фронта в районе Сухиничи, Козельск (22-29 августа), всего 228 232 человека потерь</a:t>
            </a:r>
            <a:r>
              <a:rPr b="0" lang="ru-RU" sz="900" spc="-1" strike="noStrike" u="sng" baseline="30000">
                <a:solidFill>
                  <a:srgbClr val="009999"/>
                </a:solidFill>
                <a:uFillTx/>
                <a:latin typeface="Arial"/>
                <a:ea typeface="Arial"/>
                <a:hlinkClick r:id="rId9"/>
              </a:rPr>
              <a:t>[41]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); а также на северо-западном направлении: 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0"/>
              </a:rPr>
              <a:t>Любанская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1"/>
              </a:rPr>
              <a:t> наступательная операция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(7января — 30 апреля), слившаяся с операцией по выводу из окружения 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2"/>
              </a:rPr>
              <a:t>2-й ударной армии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(13 мая — 10 июля), оказавшейся в окружении в результате первой операции; общие потери — 403 118 человек</a:t>
            </a:r>
            <a:r>
              <a:rPr b="0" lang="ru-RU" sz="900" spc="-1" strike="noStrike" u="sng" baseline="30000">
                <a:solidFill>
                  <a:srgbClr val="009999"/>
                </a:solidFill>
                <a:uFillTx/>
                <a:latin typeface="Arial"/>
                <a:ea typeface="Arial"/>
                <a:hlinkClick r:id="rId13"/>
              </a:rPr>
              <a:t>[41]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Для германской армии ситуация также стала принимать угрожающий оборот: хотя её потери продолжали быть значительно ниже советских, более слабая немецкая военная экономика не позволяла заменять потерянные самолёты и танки с такой же скоростью, как это делала противоположная сторона, а предельно неэффективное использование людских ресурсов в армии не позволяло пополнять дивизии, действующие на Востоке, в нужной мере, что привело к переходу ряда дивизий на шестибатальонный штат (с девятибатальонного); личный состав боевых рот на сталинградском направлении сократился до 27 человек (из 180 по штату). Кроме того, в результате операций на Юге России и без того очень длинный восточный фронт немцев значительно удлинился, собственно немецких частей уже не хватало для создания необходимых оборонительных плотностей. Значительные участки фронта заняли войска союзников Германии — румынская 3-я и формирующаяся 4-я армии, 8-я итальянская и 2-я венгерская армии. Именно эти армии оказались ахиллесовой пятой вермахта в последовавшей вскоре осенне-зимней кампани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4"/>
              </a:rPr>
              <a:t>  </a:t>
            </a:r>
            <a:r>
              <a:rPr b="0" lang="ru-RU" sz="11100" spc="-1" strike="noStrike">
                <a:solidFill>
                  <a:srgbClr val="0b0080"/>
                </a:solidFill>
                <a:latin typeface="Arial"/>
                <a:ea typeface="Arial"/>
              </a:rPr>
              <a:t> </a:t>
            </a:r>
            <a:r>
              <a:rPr b="0" lang="ru-RU" sz="900" spc="-1" strike="noStrike">
                <a:solidFill>
                  <a:srgbClr val="0b0080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5"/>
              </a:rPr>
              <a:t>  </a:t>
            </a:r>
            <a:r>
              <a:rPr b="0" lang="ru-RU" sz="600" spc="-1" strike="noStrike">
                <a:solidFill>
                  <a:srgbClr val="0b0080"/>
                </a:solidFill>
                <a:latin typeface="Arial"/>
                <a:ea typeface="Arial"/>
              </a:rPr>
              <a:t> </a:t>
            </a:r>
            <a:r>
              <a:rPr b="0" lang="ru-RU" sz="800" spc="-1" strike="noStrike">
                <a:solidFill>
                  <a:srgbClr val="0b0080"/>
                </a:solidFill>
                <a:latin typeface="Arial"/>
                <a:ea typeface="Arial"/>
              </a:rPr>
              <a:t>   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Советские солдаты ведут бои на подступах к 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6"/>
              </a:rPr>
              <a:t>Сталинграду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. Лето 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7"/>
              </a:rPr>
              <a:t>1942 год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8"/>
              </a:rPr>
              <a:t>3 июля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9"/>
              </a:rPr>
              <a:t>1941 года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, Сталин обратился к народу с лозунгом «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0"/>
              </a:rPr>
              <a:t>Всё для фронта! Всё для победы!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»; к лету 1942 года (менее чем за 1 год) завершился перевод 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1"/>
              </a:rPr>
              <a:t>экономики СССР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на военные рельсы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С началом войны в СССР началась 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2"/>
              </a:rPr>
              <a:t>массовая эвакуация населения, производительных сил, учреждений и материальных ресурсов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. В восточные районы страны было эвакуировано значительное число предприятий (только во втором полугодии 1941 года — ок. 2600), вывезено 2,3 млн голов скота. В первом полугодии 1942 года было выпущено 10 тыс. самолётов, 11 тыс. танков, 54 тыс. орудий. Во втором полугодии их выпуск увеличился более чем в 1,5 раза. Всего в 1942 году СССР выпустил стрелкового оружия всех типов (без револьверов и пистолетов) 5,91 млн ед., орудий и миномётов всех типов и калибров (без авиационных, морских и танковых/САУ пушек) 287,0 тыс. шт., танков и САУ всех типов 24,5 тыс. шт., самолётов всех типов 25,4 тыс. шт., в том числе боевых 21,7 тыс. шт.</a:t>
            </a:r>
            <a:r>
              <a:rPr b="0" lang="ru-RU" sz="900" spc="-1" strike="noStrike" u="sng" baseline="30000">
                <a:solidFill>
                  <a:srgbClr val="009999"/>
                </a:solidFill>
                <a:uFillTx/>
                <a:latin typeface="Arial"/>
                <a:ea typeface="Arial"/>
                <a:hlinkClick r:id="rId23"/>
              </a:rPr>
              <a:t>[42]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Значительное количество боевой техники было получено и по 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4"/>
              </a:rPr>
              <a:t>ленд-лизу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В результате соглашений между СССР, Великобританией и 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5"/>
              </a:rPr>
              <a:t>США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в 1941—1942 годах сложилось ядро антигитлеровской коалици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26"/>
          </p:cNvPr>
          <p:cNvPicPr/>
          <p:nvPr/>
        </p:nvPicPr>
        <p:blipFill>
          <a:blip r:embed="rId27"/>
          <a:stretch/>
        </p:blipFill>
        <p:spPr>
          <a:xfrm>
            <a:off x="-4514760" y="4425840"/>
            <a:ext cx="142920" cy="104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-10766520" y="-3586680"/>
            <a:ext cx="2808360" cy="1408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На основании некорректных данных о потерях вермахта в ходе зимнего наступления РККА Верховным Командованием СССР в летне-осенней кампании 1942 года войскам была поставлена невыполнимая задача: полностью разгромить врага и освободить всю территорию страны. Основные военные события произошли на юго-западном направлении: поражение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8"/>
              </a:rPr>
              <a:t>Крымского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9"/>
              </a:rPr>
              <a:t> фронта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, катастрофа в 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0"/>
              </a:rPr>
              <a:t>Харьковской операции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(12-25 мая), Воронежско-Ворошиловградская стратегическая оборонительная операция (28 июня — 24 июля), 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1"/>
              </a:rPr>
              <a:t>Сталинградская стратегическая оборонительная операция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(17июля — 18 ноября), Северо-Кавказская стратегическая оборонительная операция (25 июля — 31 декабря). Противник продвинулся на 500—650 км, вышел к 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2"/>
              </a:rPr>
              <a:t>Волге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, овладел частью перевалов Главного Кавказского хребта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Ряд крупных операций произошёл на центральном направлении: 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3"/>
              </a:rPr>
              <a:t>Ржевско-Сычёвская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4"/>
              </a:rPr>
              <a:t> операция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(30 июля — 23 августа), слившаяся с контрударом войск Западного фронта в районе Сухиничи, Козельск (22-29 августа), всего 228 232 человека потерь</a:t>
            </a:r>
            <a:r>
              <a:rPr b="0" lang="ru-RU" sz="900" spc="-1" strike="noStrike" u="sng" baseline="30000">
                <a:solidFill>
                  <a:srgbClr val="009999"/>
                </a:solidFill>
                <a:uFillTx/>
                <a:latin typeface="Arial"/>
                <a:ea typeface="Arial"/>
                <a:hlinkClick r:id="rId35"/>
              </a:rPr>
              <a:t>[41]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); а также на северо-западном направлении: 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6"/>
              </a:rPr>
              <a:t>Любанская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7"/>
              </a:rPr>
              <a:t> наступательная операция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(7января — 30 апреля), слившаяся с операцией по выводу из окружения 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8"/>
              </a:rPr>
              <a:t>2-й ударной армии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(13 мая — 10 июля), оказавшейся в окружении в результате первой операции; общие потери — 403 118 человек</a:t>
            </a:r>
            <a:r>
              <a:rPr b="0" lang="ru-RU" sz="900" spc="-1" strike="noStrike" u="sng" baseline="30000">
                <a:solidFill>
                  <a:srgbClr val="009999"/>
                </a:solidFill>
                <a:uFillTx/>
                <a:latin typeface="Arial"/>
                <a:ea typeface="Arial"/>
                <a:hlinkClick r:id="rId39"/>
              </a:rPr>
              <a:t>[41]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Для германской армии ситуация также стала принимать угрожающий оборот: хотя её потери продолжали быть значительно ниже советских, более слабая немецкая военная экономика не позволяла заменять потерянные самолёты и танки с такой же скоростью, как это делала противоположная сторона, а предельно неэффективное использование людских ресурсов в армии не позволяло пополнять дивизии, действующие на Востоке, в нужной мере, что привело к переходу ряда дивизий на шестибатальонный штат (с девятибатальонного); личный состав боевых рот на сталинградском направлении сократился до 27 человек (из 180 по штату). Кроме того, в результате операций на Юге России и без того очень длинный восточный фронт немцев значительно удлинился, собственно немецких частей уже не хватало для создания необходимых оборонительных плотностей. Значительные участки фронта заняли войска союзников Германии — румынская 3-я и формирующаяся 4-я армии, 8-я итальянская и 2-я венгерская армии. Именно эти армии оказались ахиллесовой пятой вермахта в последовавшей вскоре осенне-зимней кампани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0"/>
              </a:rPr>
              <a:t>  </a:t>
            </a:r>
            <a:r>
              <a:rPr b="0" lang="ru-RU" sz="11100" spc="-1" strike="noStrike">
                <a:solidFill>
                  <a:srgbClr val="0b0080"/>
                </a:solidFill>
                <a:latin typeface="Arial"/>
                <a:ea typeface="Arial"/>
              </a:rPr>
              <a:t> </a:t>
            </a:r>
            <a:r>
              <a:rPr b="0" lang="ru-RU" sz="900" spc="-1" strike="noStrike">
                <a:solidFill>
                  <a:srgbClr val="0b0080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1"/>
              </a:rPr>
              <a:t>  </a:t>
            </a:r>
            <a:r>
              <a:rPr b="0" lang="ru-RU" sz="600" spc="-1" strike="noStrike">
                <a:solidFill>
                  <a:srgbClr val="0b0080"/>
                </a:solidFill>
                <a:latin typeface="Arial"/>
                <a:ea typeface="Arial"/>
              </a:rPr>
              <a:t> </a:t>
            </a:r>
            <a:r>
              <a:rPr b="0" lang="ru-RU" sz="800" spc="-1" strike="noStrike">
                <a:solidFill>
                  <a:srgbClr val="0b0080"/>
                </a:solidFill>
                <a:latin typeface="Arial"/>
                <a:ea typeface="Arial"/>
              </a:rPr>
              <a:t>   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Советские солдаты ведут бои на подступах к 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2"/>
              </a:rPr>
              <a:t>Сталинграду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. Лето 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3"/>
              </a:rPr>
              <a:t>1942 год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4"/>
              </a:rPr>
              <a:t>3 июля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5"/>
              </a:rPr>
              <a:t>1941 года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, Сталин обратился к народу с лозунгом «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6"/>
              </a:rPr>
              <a:t>Всё для фронта! Всё для победы!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»; к лету 1942 года (менее чем за 1 год) завершился перевод 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7"/>
              </a:rPr>
              <a:t>экономики СССР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на военные рельсы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С началом войны в СССР началась 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8"/>
              </a:rPr>
              <a:t>массовая эвакуация населения, производительных сил, учреждений и материальных ресурсов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. В восточные районы страны было эвакуировано значительное число предприятий (только во втором полугодии 1941 года — ок. 2600), вывезено 2,3 млн голов скота. В первом полугодии 1942 года было выпущено 10 тыс. самолётов, 11 тыс. танков, 54 тыс. орудий. Во втором полугодии их выпуск увеличился более чем в 1,5 раза. Всего в 1942 году СССР выпустил стрелкового оружия всех типов (без револьверов и пистолетов) 5,91 млн ед., орудий и миномётов всех типов и калибров (без авиационных, морских и танковых/САУ пушек) 287,0 тыс. шт., танков и САУ всех типов 24,5 тыс. шт., самолётов всех типов 25,4 тыс. шт., в том числе боевых 21,7 тыс. шт.</a:t>
            </a:r>
            <a:r>
              <a:rPr b="0" lang="ru-RU" sz="900" spc="-1" strike="noStrike" u="sng" baseline="30000">
                <a:solidFill>
                  <a:srgbClr val="009999"/>
                </a:solidFill>
                <a:uFillTx/>
                <a:latin typeface="Arial"/>
                <a:ea typeface="Arial"/>
                <a:hlinkClick r:id="rId49"/>
              </a:rPr>
              <a:t>[42]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Значительное количество боевой техники было получено и по 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0"/>
              </a:rPr>
              <a:t>ленд-лизу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В результате соглашений между СССР, Великобританией и </a:t>
            </a:r>
            <a:r>
              <a:rPr b="0" lang="ru-RU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1"/>
              </a:rPr>
              <a:t>США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в 1941—1942 годах сложилось ядро антигитлеровской коалици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52"/>
          </p:cNvPr>
          <p:cNvPicPr/>
          <p:nvPr/>
        </p:nvPicPr>
        <p:blipFill>
          <a:blip r:embed="rId53"/>
          <a:stretch/>
        </p:blipFill>
        <p:spPr>
          <a:xfrm>
            <a:off x="-4514760" y="4425840"/>
            <a:ext cx="142920" cy="104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flipV="1" rot="10800000">
            <a:off x="0" y="-135360"/>
            <a:ext cx="9151920" cy="53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 основании некорректных данных о потерях вермахта в ходе зимнего наступления РККА Верховным Командованием СССР в летне-осенней кампани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42 года войскам была поставлена невыполнимая задача: полностью разгромить врага и освободить всю территорию страны. Основные военные события произошли на юго-западном направлении: поражение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Крымского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6"/>
              </a:rPr>
              <a:t> фрон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атастрофа в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7"/>
              </a:rPr>
              <a:t>Харьковской опер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(12-25 мая), Воронежско-Ворошиловградская стратегическая оборонительная операция (28 июня — 24 июля),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8"/>
              </a:rPr>
              <a:t>Сталинградская стратегическая оборонительная опер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(17июля — 18 ноября), Северо-Кавказская стратегическая оборонительная операция (25 июля — 31 декабря). Противник продвинулся на 500—650 км, вышел к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9"/>
              </a:rPr>
              <a:t>Волг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владел частью перевалов Главного Кавказского хреб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яд крупных операций произошёл на центральном направлении: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0"/>
              </a:rPr>
              <a:t>Ржевско-Сычёвская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1"/>
              </a:rPr>
              <a:t> опер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(30 июля — 23 августа), слившаяся с контрударом войск Западного фронта в районе Сухиничи, Козельск (22-29 августа), всего 228 232 человека потерь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2"/>
              </a:rPr>
              <a:t>[41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 а также на северо-западном направлении: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3"/>
              </a:rPr>
              <a:t>Любанская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4"/>
              </a:rPr>
              <a:t> наступательная опер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(7января — 30 апреля), слившаяся с операцией по выводу из окружения 2-й ударной армии (13 мая — 10 июля), оказавшейся в окружении в результате первой операции; общие потери — 403 118 человек[41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11280" y="0"/>
            <a:ext cx="8532720" cy="814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конец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втор Бычкова Светлана Серге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ница 4 «А» кла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5:31:28Z</dcterms:created>
  <dc:creator>User</dc:creator>
  <dc:description/>
  <dc:language>en-US</dc:language>
  <cp:lastModifiedBy>Учителя</cp:lastModifiedBy>
  <dcterms:modified xsi:type="dcterms:W3CDTF">2012-05-15T12:19:56Z</dcterms:modified>
  <cp:revision>4</cp:revision>
  <dc:subject/>
  <dc:title>Слайд 1</dc:title>
</cp:coreProperties>
</file>