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FD9F-F5B3-4C87-A1F6-78B89E61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F7DB-11AC-40C3-A0FA-E6DBDCCE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ED95-9FF4-43FA-9B1C-AED91C4C8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6D89-8690-4F76-A137-7B4B70C7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61FB-B251-4962-A501-15566753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A747-CCD1-4835-AA0F-E2099A68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D478-9D76-4BEF-B03D-F460C7FB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F19B-4B92-4F51-A579-2639C80B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F63B-2D81-47A5-9F94-DEAA0AB9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BB02-80CA-457F-B171-95C0198C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DB73-4569-489A-AB71-27EFCDDB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EE85-5CDF-46CE-9D05-095D1570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F213-7DA9-4B52-9056-6D4F65BC3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усский народный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здничный костю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ба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раф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панечка и душегрей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ловной уб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3122640" y="138960"/>
            <a:ext cx="266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Times New Roman"/>
              </a:rPr>
              <a:t>Кокош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685800" y="8380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2268"/>
                </a:solidFill>
                <a:latin typeface="Arial"/>
              </a:rPr>
              <a:t>Слово "кокошник" происходит от древнеславянского слова "кокош", означающего курицу-наседку или пету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C:\Users\user\Pictures\003.jpg"/>
          <p:cNvPicPr/>
          <p:nvPr/>
        </p:nvPicPr>
        <p:blipFill>
          <a:blip r:embed="rId2"/>
          <a:stretch/>
        </p:blipFill>
        <p:spPr>
          <a:xfrm>
            <a:off x="5562720" y="1905120"/>
            <a:ext cx="2808000" cy="3429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Users\user\Pictures\кика.jpg"/>
          <p:cNvPicPr/>
          <p:nvPr/>
        </p:nvPicPr>
        <p:blipFill>
          <a:blip r:embed="rId3"/>
          <a:stretch/>
        </p:blipFill>
        <p:spPr>
          <a:xfrm>
            <a:off x="838080" y="1905120"/>
            <a:ext cx="3029040" cy="3581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орма и декор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женских головных убо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оловные уборы украшались изображениями солнца, звезд, древа, цветов, пти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Зи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715000" y="3505320"/>
            <a:ext cx="2933640" cy="2781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09480" y="380880"/>
            <a:ext cx="2657520" cy="2772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62120" y="3429000"/>
            <a:ext cx="2563560" cy="2895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5715000" y="380880"/>
            <a:ext cx="2809800" cy="2895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Вес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3504960" cy="2552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562720" y="1371600"/>
            <a:ext cx="2387520" cy="3581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Ле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029200" y="1828800"/>
            <a:ext cx="3279600" cy="3505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838080" y="1752480"/>
            <a:ext cx="2970360" cy="3505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Ос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3348000" cy="2778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567400" y="228600"/>
            <a:ext cx="3187800" cy="4419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3200400" y="3429000"/>
            <a:ext cx="3352680" cy="3009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ужской костю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ба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т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я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апти или сап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апка из войл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890960" y="1828800"/>
            <a:ext cx="3338640" cy="5029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844880" y="1143000"/>
            <a:ext cx="368964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5280" y="1295280"/>
            <a:ext cx="3532320" cy="4114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962520" y="1557360"/>
            <a:ext cx="4724280" cy="3471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уба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убаха-долгорукав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666880" y="1066680"/>
            <a:ext cx="3936960" cy="5257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раф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Rectangle 3" descr=""/>
          <p:cNvPicPr/>
          <p:nvPr/>
        </p:nvPicPr>
        <p:blipFill>
          <a:blip r:embed="rId2"/>
          <a:stretch/>
        </p:blipFill>
        <p:spPr>
          <a:xfrm>
            <a:off x="2514600" y="1447920"/>
            <a:ext cx="4556160" cy="4724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114800" y="1828800"/>
            <a:ext cx="4572000" cy="3225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33520" y="1219320"/>
            <a:ext cx="3178080" cy="49784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панечка и душегрей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137200" y="0"/>
            <a:ext cx="438768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47516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200400" y="1447920"/>
            <a:ext cx="3017880" cy="4314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здничная одежда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 юге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876920" y="1447920"/>
            <a:ext cx="3504960" cy="5257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33520" y="1504800"/>
            <a:ext cx="3211560" cy="5124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066680" y="2286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Девичьи головные убо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2733480" cy="2710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562720" y="990720"/>
            <a:ext cx="3314520" cy="4012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819520" y="2590920"/>
            <a:ext cx="3055680" cy="3992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58000" y="5257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2057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у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4191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я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Женские головные уб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95880" y="1143000"/>
            <a:ext cx="2765520" cy="3687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04920" y="1219320"/>
            <a:ext cx="2938320" cy="2958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43000" y="4419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4952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3352680" y="2362320"/>
            <a:ext cx="2519640" cy="3687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86200" y="6172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кош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Microsoft</cp:lastModifiedBy>
  <dcterms:modified xsi:type="dcterms:W3CDTF">2012-10-25T17:58:09Z</dcterms:modified>
  <cp:revision>1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