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4E19-42E1-4BF4-B781-41E842041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B9EE-C7AF-446F-AAD6-56E7615E4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D4A3-304B-48AC-9405-15C7839D8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9948-73FA-4931-8E01-004C1501E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CA97-1068-44CD-B036-3EFEC8F99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0A82-3FD3-4949-9CAD-3504E1250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8540-9426-4285-8393-BD3FA7D40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4A8C-86F1-48FD-85E9-D94110677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C51C-9A7F-4004-85B6-DDC096BCE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BC09-A699-49F2-80DE-1C4E8A8BE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683A-31F1-4667-9A25-310807008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3E9C-B29F-4EC0-B651-DFBA8AD71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03EC7-F526-4F2C-ABF3-2B9BBD3795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усский народный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раздничный костю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убах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араф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панечка и душегрей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оловной уб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1"/>
          <p:cNvSpPr/>
          <p:nvPr/>
        </p:nvSpPr>
        <p:spPr>
          <a:xfrm>
            <a:off x="3122640" y="138960"/>
            <a:ext cx="266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  <a:ea typeface="Times New Roman"/>
              </a:rPr>
              <a:t>Кокошн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2"/>
          <p:cNvSpPr/>
          <p:nvPr/>
        </p:nvSpPr>
        <p:spPr>
          <a:xfrm>
            <a:off x="685800" y="838080"/>
            <a:ext cx="80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22268"/>
                </a:solidFill>
                <a:latin typeface="Arial"/>
              </a:rPr>
              <a:t>Слово "кокошник" происходит от древнеславянского слова "кокош", означающего курицу-наседку или петух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6" descr="C:\Users\user\Pictures\003.jpg"/>
          <p:cNvPicPr/>
          <p:nvPr/>
        </p:nvPicPr>
        <p:blipFill>
          <a:blip r:embed="rId2"/>
          <a:stretch/>
        </p:blipFill>
        <p:spPr>
          <a:xfrm>
            <a:off x="5562720" y="1905120"/>
            <a:ext cx="2808000" cy="3429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C:\Users\user\Pictures\кика.jpg"/>
          <p:cNvPicPr/>
          <p:nvPr/>
        </p:nvPicPr>
        <p:blipFill>
          <a:blip r:embed="rId3"/>
          <a:stretch/>
        </p:blipFill>
        <p:spPr>
          <a:xfrm>
            <a:off x="838080" y="1905120"/>
            <a:ext cx="3029040" cy="35812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9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3000"/>
                            </p:stCondLst>
                            <p:childTnLst>
                              <p:par>
                                <p:cTn id="9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3500"/>
                            </p:stCondLst>
                            <p:childTnLst>
                              <p:par>
                                <p:cTn id="9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Форма и декор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женских головных убор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2438280"/>
            <a:ext cx="8229600" cy="36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Головные уборы украшались изображениями солнца, звезд, древа, цветов, пти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Зи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715000" y="3505320"/>
            <a:ext cx="2933640" cy="27813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609480" y="380880"/>
            <a:ext cx="2657520" cy="27720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62120" y="3429000"/>
            <a:ext cx="2563560" cy="28954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5"/>
          <a:stretch/>
        </p:blipFill>
        <p:spPr>
          <a:xfrm>
            <a:off x="5715000" y="380880"/>
            <a:ext cx="2809800" cy="28958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00"/>
                </a:solidFill>
                <a:latin typeface="Arial"/>
              </a:rPr>
              <a:t>Вес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762120" y="1981080"/>
            <a:ext cx="3504960" cy="25527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5562720" y="1371600"/>
            <a:ext cx="2387520" cy="35812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Лет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5029200" y="1828800"/>
            <a:ext cx="3279600" cy="35053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838080" y="1752480"/>
            <a:ext cx="2970360" cy="35053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Arial"/>
              </a:rPr>
              <a:t>Осен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609480" y="1143000"/>
            <a:ext cx="3348000" cy="27781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5567400" y="228600"/>
            <a:ext cx="3187800" cy="44197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3200400" y="3429000"/>
            <a:ext cx="3352680" cy="30099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ужской костю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убах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Шта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я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Лапти или сапо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Шапка из войло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890960" y="1828800"/>
            <a:ext cx="3338640" cy="50292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4844880" y="1143000"/>
            <a:ext cx="3689640" cy="5715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25280" y="1295280"/>
            <a:ext cx="3532320" cy="41148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3962520" y="1557360"/>
            <a:ext cx="4724280" cy="34718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убах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убаха-долгорукав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666880" y="1066680"/>
            <a:ext cx="3936960" cy="5257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арафа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Rectangle 3" descr=""/>
          <p:cNvPicPr/>
          <p:nvPr/>
        </p:nvPicPr>
        <p:blipFill>
          <a:blip r:embed="rId2"/>
          <a:stretch/>
        </p:blipFill>
        <p:spPr>
          <a:xfrm>
            <a:off x="2514600" y="1447920"/>
            <a:ext cx="4556160" cy="47242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114800" y="1828800"/>
            <a:ext cx="4572000" cy="32259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533520" y="1219320"/>
            <a:ext cx="3178080" cy="497844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Епанечка и душегрей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137200" y="0"/>
            <a:ext cx="438768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47516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3200400" y="1447920"/>
            <a:ext cx="3017880" cy="43146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раздничная одежда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на юге Росс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876920" y="1447920"/>
            <a:ext cx="3504960" cy="52578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533520" y="1504800"/>
            <a:ext cx="3211560" cy="51246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066680" y="228600"/>
            <a:ext cx="7391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Девичьи головные убо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04920" y="1066680"/>
            <a:ext cx="2733480" cy="27100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5562720" y="990720"/>
            <a:ext cx="3314520" cy="40129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819520" y="2590920"/>
            <a:ext cx="3055680" cy="39924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6858000" y="52578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ене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809880" y="20574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ру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914400" y="41911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вяз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Женские головные убо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6095880" y="1143000"/>
            <a:ext cx="2765520" cy="36878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304920" y="1219320"/>
            <a:ext cx="2938320" cy="29588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143000" y="44197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лат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086600" y="49528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оро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3352680" y="2362320"/>
            <a:ext cx="2519640" cy="36874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886200" y="61722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окош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9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Microsoft</cp:lastModifiedBy>
  <dcterms:modified xsi:type="dcterms:W3CDTF">2012-10-25T17:58:09Z</dcterms:modified>
  <cp:revision>15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