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4E1-B062-4174-A2CF-9801743B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C09-FF4B-4461-967F-FAE7B130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0DA-FD6C-4462-B359-EF72063D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B10-2971-4004-8092-50843205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7D4-DC15-4B65-BF81-8D9CF8AB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9BC-8331-4AE6-95FC-0E9D859A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F47-BDC0-4F71-B638-6CF5BB81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92F-E914-4B2A-80FD-93D5C90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25F-A3F3-4CC7-97C1-26B7F10C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030-D977-48F9-8ED6-4B069F0C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90C-EF39-4EF7-9C1B-2AA72D75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151-1E5F-4624-A1F6-FFD8A30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7FF4-C9AC-4EAC-9E05-FAAD239F2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униципальное бюджетное общеобразовательное учрежд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Старосуркинская средняя общеобразовательная школа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Таня\Desktop\ШКОЛА\Старосуркинская 1.jpg"/>
          <p:cNvPicPr/>
          <p:nvPr/>
        </p:nvPicPr>
        <p:blipFill>
          <a:blip r:embed="rId1"/>
          <a:stretch/>
        </p:blipFill>
        <p:spPr>
          <a:xfrm>
            <a:off x="1116000" y="2708280"/>
            <a:ext cx="7077240" cy="351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81440" y="188640"/>
            <a:ext cx="453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В лаборатори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Таня\Desktop\ШКОЛА\7..JPG"/>
          <p:cNvPicPr/>
          <p:nvPr/>
        </p:nvPicPr>
        <p:blipFill>
          <a:blip r:embed="rId1"/>
          <a:stretch/>
        </p:blipFill>
        <p:spPr>
          <a:xfrm>
            <a:off x="4140360" y="136440"/>
            <a:ext cx="4824360" cy="6434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Лаборатор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Таня\Desktop\ШКОЛА\8..JPG"/>
          <p:cNvPicPr/>
          <p:nvPr/>
        </p:nvPicPr>
        <p:blipFill>
          <a:blip r:embed="rId1"/>
          <a:stretch/>
        </p:blipFill>
        <p:spPr>
          <a:xfrm>
            <a:off x="3492360" y="333360"/>
            <a:ext cx="547236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Фотография с нашего урока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mic Sans MS"/>
              </a:rPr>
              <a:t>Ребята выполняют лабораторную работ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Таня\Desktop\ШКОЛА\9..JPG"/>
          <p:cNvPicPr/>
          <p:nvPr/>
        </p:nvPicPr>
        <p:blipFill>
          <a:blip r:embed="rId1"/>
          <a:stretch/>
        </p:blipFill>
        <p:spPr>
          <a:xfrm>
            <a:off x="2268360" y="1181160"/>
            <a:ext cx="4751640" cy="553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неклассная рабо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«Физика - малыша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Таня\Desktop\ШКОЛА\10.jpg"/>
          <p:cNvPicPr/>
          <p:nvPr/>
        </p:nvPicPr>
        <p:blipFill>
          <a:blip r:embed="rId1"/>
          <a:stretch/>
        </p:blipFill>
        <p:spPr>
          <a:xfrm>
            <a:off x="395280" y="1700280"/>
            <a:ext cx="7777080" cy="498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Девочки показывают спектакл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«Путешествие по созвездия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Таня\Desktop\ШКОЛА\11.jpg"/>
          <p:cNvPicPr/>
          <p:nvPr/>
        </p:nvPicPr>
        <p:blipFill>
          <a:blip r:embed="rId1"/>
          <a:stretch/>
        </p:blipFill>
        <p:spPr>
          <a:xfrm>
            <a:off x="250920" y="1341360"/>
            <a:ext cx="868824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Игра "Морской бой» между 10 и 11 клас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Таня\Desktop\ШКОЛА\z_47a10b4e.jpg"/>
          <p:cNvPicPr/>
          <p:nvPr/>
        </p:nvPicPr>
        <p:blipFill>
          <a:blip r:embed="rId1"/>
          <a:stretch/>
        </p:blipFill>
        <p:spPr>
          <a:xfrm>
            <a:off x="395280" y="1052640"/>
            <a:ext cx="7961400" cy="5575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Учебно-методический компл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Таня\Desktop\ШКОЛА\P1080121.JPG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Работы самих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Таня\Desktop\ШКОЛА\P1080127.JPG"/>
          <p:cNvPicPr/>
          <p:nvPr/>
        </p:nvPicPr>
        <p:blipFill>
          <a:blip r:embed="rId1"/>
          <a:stretch/>
        </p:blipFill>
        <p:spPr>
          <a:xfrm>
            <a:off x="250920" y="1003320"/>
            <a:ext cx="8497800" cy="567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одводя итог, можно утверждать, что традиционные ресурсы, используемые для создания кабинета, могут и должны дополняться и расширяться за счёт профессионального творчества и научного поиска учителя, реализуя тем самым современные педагогические подходы в организации образовательного процесса. При этом принципиально изменяется и качество образовательного взаимодействия учащихся, учителя и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189000"/>
            <a:ext cx="8496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Кабинет физики основан со дня открытия школы, в 1996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В кабинете физики стационарно установлены интерактивная доска, проектор и компьютер. Кабинет оснащен приборами для проведения демонстрационного и лабораторного эксперимента. Также имеются цифровая мини-лаборатория, сменные и постоянные учебно-информационные стенды, таблицы, программы, учебники, интерактивные наглядные пособия, коллекция учебных видеофильмов, дисков, раздаточный дидактический материа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В  кабинете есть библиотека специальной литературы по предмету, подписные издания «Физика в школе», приложение к газете «Первое сентября» - «Физика-все для учителя» «Физика –школьникам». В целом наша материально-техническая база, информационно-методическое обеспечение кабинета, а также мебель соответствуют всем современным требования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5410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бинет физ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1700280"/>
            <a:ext cx="88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абинет – это учебное помещение школы, которое оснащено наглядными пособиями, учебным оборудованием, мебелью и техническими средствами обучения, в котором проводится учебная, факультативная и внеклассная работа с учащимися, и методическая работа по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Каждый ученик школы с 7 по 11 класс строго по расписанию посещает кабинет физики. Любой предмет, особенно физика, для ребенка начинается с желания узнавать как можно больше об окружающем его мире. Очень важно, чтобы ученик мог чувствовать себя уверенно в своих начинаниях. Внешний вид кабинета, информационно-методическое обеспечение кабинета и материально-техническая база может помочь ему в э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Н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ш кабинет физ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Рабочее место учите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Таня\Desktop\ШКОЛА\4..JPG"/>
          <p:cNvPicPr/>
          <p:nvPr/>
        </p:nvPicPr>
        <p:blipFill>
          <a:blip r:embed="rId1"/>
          <a:stretch/>
        </p:blipFill>
        <p:spPr>
          <a:xfrm>
            <a:off x="971640" y="2205000"/>
            <a:ext cx="737064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Демонстрационный ст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Интерактивная до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рое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Таня\Desktop\ШКОЛА\3..jpg"/>
          <p:cNvPicPr/>
          <p:nvPr/>
        </p:nvPicPr>
        <p:blipFill>
          <a:blip r:embed="rId1"/>
          <a:stretch/>
        </p:blipFill>
        <p:spPr>
          <a:xfrm>
            <a:off x="539640" y="1700280"/>
            <a:ext cx="7937640" cy="4883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Рабочие места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Шкафы с учебной литератур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Таня\Desktop\ШКОЛА\2.jpg"/>
          <p:cNvPicPr/>
          <p:nvPr/>
        </p:nvPicPr>
        <p:blipFill>
          <a:blip r:embed="rId1"/>
          <a:stretch/>
        </p:blipFill>
        <p:spPr>
          <a:xfrm>
            <a:off x="539640" y="1525680"/>
            <a:ext cx="8209080" cy="533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енные 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Стенд познавательной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Классный угол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Международная система единиц (С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«Приставка для образования десятичных кратных и дольных едини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«Физические постоянны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Users\Таня\Desktop\ШКОЛА\5..JPG"/>
          <p:cNvPicPr/>
          <p:nvPr/>
        </p:nvPicPr>
        <p:blipFill>
          <a:blip r:embed="rId1"/>
          <a:stretch/>
        </p:blipFill>
        <p:spPr>
          <a:xfrm>
            <a:off x="539640" y="2421000"/>
            <a:ext cx="780588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338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тенд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Готовимся к ЕГЭ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Таня\Desktop\ШКОЛА\6..JPG"/>
          <p:cNvPicPr/>
          <p:nvPr/>
        </p:nvPicPr>
        <p:blipFill>
          <a:blip r:embed="rId1"/>
          <a:stretch/>
        </p:blipFill>
        <p:spPr>
          <a:xfrm>
            <a:off x="3419640" y="189000"/>
            <a:ext cx="554184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9:11:35Z</dcterms:created>
  <dc:creator>Таня</dc:creator>
  <dc:description/>
  <dc:language>en-US</dc:language>
  <cp:lastModifiedBy>Альмина</cp:lastModifiedBy>
  <dcterms:modified xsi:type="dcterms:W3CDTF">2012-10-23T15:04:59Z</dcterms:modified>
  <cp:revision>4</cp:revision>
  <dc:subject/>
  <dc:title>Муниципальное бюджетное общеобразовательное учреждение  «Старосуркинская средняя общеобразовательная школа»</dc:title>
</cp:coreProperties>
</file>