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594-3B77-4053-83C9-6CC2CE23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A5A-489C-4143-B6E1-3A752009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90F-8BB6-444A-858F-0980ACA8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826-7A39-48A3-83A5-8EC22A60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E766-0CDF-4482-8402-A8304F92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9460-06AC-4429-88DA-ECF385B6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028F-2DE3-42A0-BC87-CECA4128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A6C3-86F0-409A-85E4-7234F24F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99C0-B1CF-40F7-B1EA-B18156D2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5C01-37F6-4BB6-9788-9C73C62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A10B-2BCC-4EFA-B5A3-E0CABBF8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AC3-8089-4F62-AD9A-9B1A236D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25FD-9352-4CF1-8348-C0352249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4099-FD5F-485C-BFB8-C2660CA8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0946-FE32-4DC4-BDBB-13F82C41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0B33-5EA7-4B16-A166-66A7EF27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3C75-0CF0-449A-A9A9-C9C42EDA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49A6-651F-4FA4-8484-CCB1ECF2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A972-384C-4CE7-BB2D-E83B5AC8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2EBF0-62D2-4612-BA88-53059838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CC51-EE78-49B2-8E10-AF6BA280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CCD9-0D8F-4633-8C9C-F3D85ED8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DAC-32A5-492A-947F-4A198466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EC6C-1FA8-4ED3-AAB8-3FBC4B3F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C5E3-61C0-41D6-8868-ACECF81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C4DA9-B8CC-4957-A9E9-395AAD4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CA27-4820-4451-9B7F-7AB53E6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E8AC-F920-46D4-AD4A-4CFB1D2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11FE-9924-4479-8042-EDA80851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91A9B-2E1A-4E85-BC30-BC82446F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CB483-D082-4445-BFB2-DC9DA050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5591-5617-484F-8EBB-13340EBD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0A47-4A7F-4B38-BFF7-2104EDE2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EB9-82CB-4F75-A1E0-F63B06C8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44E7-D632-44EE-9CB0-1B778896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82E0-DF8F-47AE-AAC0-33E4049A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3F201-2230-42EA-90D2-FADD4C0D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26C8C-AE9E-43E8-A447-B054A61D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0536-3984-41A0-9FED-2BBC5390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E2A4-6F78-4566-90BB-514A4B8C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449E-1ED8-4616-B497-9F03AE1C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6A14-C7B9-49BE-B11F-9E14BFFC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81E3-1411-4D30-BD5E-8A5A3F72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2AE-57D5-4010-A0D7-0144B28E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6B4-6B34-49C8-B269-8C0D550E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F3C-7E4F-4C1D-9634-84F3C35B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596-8A5D-4A14-9F50-B1B1A19D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C33-4951-437D-9C43-2C9129E9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E383-2139-482B-9633-3F2A3E562CC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6BCF-D728-4E6E-828A-D2AABB66286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C90F-52C5-453E-BD3C-EC9F1DB5DF1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DF35-91E0-4391-9445-5ACB88711BB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24614_2320.jpg"/>
          <p:cNvPicPr/>
          <p:nvPr/>
        </p:nvPicPr>
        <p:blipFill>
          <a:blip r:embed="rId2"/>
          <a:stretch/>
        </p:blipFill>
        <p:spPr>
          <a:xfrm>
            <a:off x="0" y="0"/>
            <a:ext cx="59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3" descr=""/>
          <p:cNvPicPr/>
          <p:nvPr/>
        </p:nvPicPr>
        <p:blipFill>
          <a:blip r:embed="rId3"/>
          <a:stretch/>
        </p:blipFill>
        <p:spPr>
          <a:xfrm>
            <a:off x="2657520" y="2712960"/>
            <a:ext cx="7656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щая характеристика професс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номист осуществляет сбор, обработку, упорядочение информации об экономических явлениях и процессах (для достижения наивысших результатов предприятий и организаций). Анализирует ход и результат экономической деятельности и оценку ее успешности, совершенствует процесс экономической деятельности, планирует деятельность предприятия, определяет системы оплаты труда и поощрений для всех категорий работников предприятия, анализирует причины перерасхода фонда заработной пла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left_executive_img.jpg"/>
          <p:cNvPicPr/>
          <p:nvPr/>
        </p:nvPicPr>
        <p:blipFill>
          <a:blip r:embed="rId2"/>
          <a:stretch/>
        </p:blipFill>
        <p:spPr>
          <a:xfrm>
            <a:off x="1643040" y="2928960"/>
            <a:ext cx="5786640" cy="3602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680" y="14284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номист является одним из самых значимых специалистов на предприятии. Ни одно предприятие не может вести свою деятельность без бизнес-пла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Index.jpg"/>
          <p:cNvPicPr/>
          <p:nvPr/>
        </p:nvPicPr>
        <p:blipFill>
          <a:blip r:embed="rId2"/>
          <a:stretch/>
        </p:blipFill>
        <p:spPr>
          <a:xfrm>
            <a:off x="6072120" y="1428840"/>
            <a:ext cx="2857680" cy="46432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934640"/>
            <a:ext cx="59720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обенностью этой профессии в современных реалиях есть то, что сейчас на рынке труда переизбыток экономис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рос породил очень уж большое предложение, поэтому работодатели выбирают не вчерашних выпускников, а специалистов с опы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ребования профессии к человек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вное качество любого экономиста – способность к логическому мышлению, которую иногда называют математическим складом ум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Рисунок 3" descr="infor1.jpg"/>
          <p:cNvPicPr/>
          <p:nvPr/>
        </p:nvPicPr>
        <p:blipFill>
          <a:blip r:embed="rId2"/>
          <a:stretch/>
        </p:blipFill>
        <p:spPr>
          <a:xfrm>
            <a:off x="2214720" y="3214800"/>
            <a:ext cx="4500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4" descr="rate.jpg"/>
          <p:cNvPicPr/>
          <p:nvPr/>
        </p:nvPicPr>
        <p:blipFill>
          <a:blip r:embed="rId2"/>
          <a:stretch/>
        </p:blipFill>
        <p:spPr>
          <a:xfrm>
            <a:off x="4189320" y="2492280"/>
            <a:ext cx="4954680" cy="3430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ребования профессии к человек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934640"/>
            <a:ext cx="4788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льше шансов преуспеть в роли экономиста имеют люди с высокой организованностью, собранностью, внимательностью, аккуратностью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ольшое значение имеет и общая эмоциональная устойчивость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ребования профессии к человек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856880"/>
            <a:ext cx="5543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ние сохранять «холодную голову», не поддаваться сиюминутным настроениям, строгий самоконтроль – бесспорно, положительные качества, а их отсутствие или прямая противоположность – веский довод лишний раз задуматься над правильностью сделанного выбо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Рисунок 3" descr="400_F_15029620_5wyLwnequIBqOfJAcSp253rlvXCJ1mPw.jpg"/>
          <p:cNvPicPr/>
          <p:nvPr/>
        </p:nvPicPr>
        <p:blipFill>
          <a:blip r:embed="rId2"/>
          <a:stretch/>
        </p:blipFill>
        <p:spPr>
          <a:xfrm>
            <a:off x="5786280" y="2071800"/>
            <a:ext cx="26751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фера деятельност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7120" y="1357200"/>
            <a:ext cx="80438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ан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сударственные учреждения, занимающиеся экономическими проблемам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делы финансового планирования и распределения средств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ово-экономические департаменты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овые организации (налоговые инспекции, пенсионные фонды, страховые агентств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салтинговые комп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но-исследовательские институ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рофессиональная подготовк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валификацию экономиста можно получить во многих средних специальных и высших учебных заведениях по всей республи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187280" y="364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ицинские противопоказ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539640" y="458136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ими противопоказаниями для данной профессии могут быть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ные заболе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вной и сердечно-сосудистой сист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8" descr="tumblr_llzs44eRN11qawjv8.png"/>
          <p:cNvPicPr/>
          <p:nvPr/>
        </p:nvPicPr>
        <p:blipFill>
          <a:blip r:embed="rId2"/>
          <a:stretch/>
        </p:blipFill>
        <p:spPr>
          <a:xfrm>
            <a:off x="1357200" y="2747880"/>
            <a:ext cx="6500880" cy="411012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6" descr=""/>
          <p:cNvPicPr/>
          <p:nvPr/>
        </p:nvPicPr>
        <p:blipFill>
          <a:blip r:embed="rId3"/>
          <a:stretch/>
        </p:blipFill>
        <p:spPr>
          <a:xfrm>
            <a:off x="719280" y="755640"/>
            <a:ext cx="78390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4" descr="uchenik.jpg"/>
          <p:cNvPicPr/>
          <p:nvPr/>
        </p:nvPicPr>
        <p:blipFill>
          <a:blip r:embed="rId2"/>
          <a:stretch/>
        </p:blipFill>
        <p:spPr>
          <a:xfrm>
            <a:off x="5929200" y="1000080"/>
            <a:ext cx="3019680" cy="4786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28400" y="1000080"/>
            <a:ext cx="6072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фессия экономиста довольно популярна в наше время среди абитуриен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этом мало кто из поступающих точно себе представляет, на кого собирается учитьс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6760" y="1071720"/>
            <a:ext cx="8372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целом экономисты, если говорить кратко, это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специалисты по эффективной экономиче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валификация «экономист» является смежной для таких профессий ка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хгалтер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ркетолог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ист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недж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http://www.uwcsea.edu.sg/uploaded/images/Microsites/WriteSite/Issue6/teenreader.gif"/>
          <p:cNvPicPr/>
          <p:nvPr/>
        </p:nvPicPr>
        <p:blipFill>
          <a:blip r:embed="rId2"/>
          <a:stretch/>
        </p:blipFill>
        <p:spPr>
          <a:xfrm>
            <a:off x="5715000" y="3395520"/>
            <a:ext cx="2727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0040" y="7855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Экономист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специалист в области финансового планирования, исследования и управления финансово-хозяйственной деятель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3" descr="ekonomist_analitik-300x200.jpg"/>
          <p:cNvPicPr/>
          <p:nvPr/>
        </p:nvPicPr>
        <p:blipFill>
          <a:blip r:embed="rId2"/>
          <a:stretch/>
        </p:blipFill>
        <p:spPr>
          <a:xfrm>
            <a:off x="1643040" y="2643120"/>
            <a:ext cx="6000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3" descr="ekonomict22_01.jpg"/>
          <p:cNvPicPr/>
          <p:nvPr/>
        </p:nvPicPr>
        <p:blipFill>
          <a:blip r:embed="rId2"/>
          <a:stretch/>
        </p:blipFill>
        <p:spPr>
          <a:xfrm>
            <a:off x="571680" y="1071720"/>
            <a:ext cx="3585960" cy="5379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642920" y="1071720"/>
            <a:ext cx="4357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номист принимает участие в системе планирования бюджета организации и осуществляет контроль за его расходом, проводит аудит, а нередко и сам занимается бухгалтерским уче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logo2.gif"/>
          <p:cNvPicPr/>
          <p:nvPr/>
        </p:nvPicPr>
        <p:blipFill>
          <a:blip r:embed="rId2"/>
          <a:stretch/>
        </p:blipFill>
        <p:spPr>
          <a:xfrm>
            <a:off x="5929200" y="1428840"/>
            <a:ext cx="2872080" cy="4786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История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599840"/>
            <a:ext cx="532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ономист – профессия современности. Хотя само слово «экономика» было придумано в Древней Греции и означало «домоводство», то есть экономическому анализу подвергалось ведение домашнего хозяй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История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500120"/>
            <a:ext cx="747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а профессия возникла сотни лет назад, когда начали существовать основные экономические понятия: товар, обмен, деньг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Рисунок 4" descr="dubrovno_professiya_ekonomist_proforiyentaciya (1).jpg"/>
          <p:cNvPicPr/>
          <p:nvPr/>
        </p:nvPicPr>
        <p:blipFill>
          <a:blip r:embed="rId2"/>
          <a:stretch/>
        </p:blipFill>
        <p:spPr>
          <a:xfrm>
            <a:off x="1928880" y="3143160"/>
            <a:ext cx="54529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История професси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вым экономистом считается Аристотель, который строил теории насчет обмена товаров, их стоимости и полез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 прошедшие столетия функции экономиста заметно изменились и расширилис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Картинка 1 из 44594"/>
          <p:cNvPicPr/>
          <p:nvPr/>
        </p:nvPicPr>
        <p:blipFill>
          <a:blip r:embed="rId2"/>
          <a:stretch/>
        </p:blipFill>
        <p:spPr>
          <a:xfrm rot="180000">
            <a:off x="6357600" y="1285560"/>
            <a:ext cx="2305080" cy="31050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6946664-a-series-of-photos-about-an-office-clerk.jpg"/>
          <p:cNvPicPr/>
          <p:nvPr/>
        </p:nvPicPr>
        <p:blipFill>
          <a:blip r:embed="rId3"/>
          <a:stretch/>
        </p:blipFill>
        <p:spPr>
          <a:xfrm rot="21171600">
            <a:off x="5214960" y="3571560"/>
            <a:ext cx="21430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щая характеристика професс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85480" y="23320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ная задача экономиста – грамотное распределение денежных потоков компании с целью обеспечения рентабельности производственной дея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img286696_3-9_Mirovoy_mezhbankovskiy_valyutnyiy_ryinok_foreks.jpg"/>
          <p:cNvPicPr/>
          <p:nvPr/>
        </p:nvPicPr>
        <p:blipFill>
          <a:blip r:embed="rId2"/>
          <a:stretch/>
        </p:blipFill>
        <p:spPr>
          <a:xfrm>
            <a:off x="4714920" y="3571920"/>
            <a:ext cx="3714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8:11:44Z</dcterms:created>
  <dc:creator>Admin</dc:creator>
  <dc:description/>
  <dc:language>en-US</dc:language>
  <cp:lastModifiedBy>ученик</cp:lastModifiedBy>
  <dcterms:modified xsi:type="dcterms:W3CDTF">2012-10-25T10:19:12Z</dcterms:modified>
  <cp:revision>9</cp:revision>
  <dc:subject/>
  <dc:title>Слайд 1</dc:title>
</cp:coreProperties>
</file>