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3.jpeg" ContentType="image/jpeg"/>
  <Override PartName="/ppt/media/image23.png" ContentType="image/png"/>
  <Override PartName="/ppt/media/image7.png" ContentType="image/png"/>
  <Override PartName="/ppt/media/image1.jpeg" ContentType="image/jpeg"/>
  <Override PartName="/ppt/media/image11.jpeg" ContentType="image/jpeg"/>
  <Override PartName="/ppt/media/image19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0318-E26D-4CF4-97DD-284A35103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1DD3-BB0A-47B8-93F6-314DBE19B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61B5-7181-4AE2-8ADC-BCE31B08F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401B-5FDD-41E7-830C-F138F4206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C5FD4-1FA3-4D00-BDF1-638891F97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CC4D7-23C4-4D8D-8463-C6D26BDAD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E243C-F302-4A04-90DD-7B300AB7A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6CDB7-C96C-4488-AC83-959248467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F5B6A-12FC-4AF6-A7FA-B58A7E800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991BC-211B-464D-A259-54990168A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20C94-AB01-43BD-AE61-FCD9C665C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1B4C-7F27-4FE7-BE6B-65A124917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B6196-F79F-48DE-AB80-38D1068C8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84C6A-DD8E-4A14-BC0B-79EDC908A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220A7-FCF6-4D3C-9561-153D700A7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A5019-938E-4D2B-9A0B-6463AD93F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336CE-24D0-4566-9693-162C7BB20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FC8120-5014-47FF-9E04-7C66530FA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13FB7F-3360-4902-8980-D53232D4F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5BA233-CD87-4EEF-B11F-9D7842264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FF786F-911A-43F9-8AEB-EFBB9D4CC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73B2A8-F35F-4012-B04D-C0AFFF9C8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3CB5-E908-44F8-A3C5-0472BBDC4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A3D02D-641D-4B98-8CA7-DE6F6C33D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6FAFA1-E833-40C3-AF77-1959FA8FB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D634A8-CD9B-45C2-AF93-05311904E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24D0B2-293D-4FDF-AA9B-9EF860C3B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F1C6D3-3A42-4F94-AD4E-0268535CA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C6AA54-31AC-4223-8D65-715BE6B03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6D3486-BED4-45E5-85CC-3AE5CB3BE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03C6CE-F252-436C-9107-546C62389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1A2A0D-D138-4BE4-B196-4E6F8C751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12AFC8-788B-4F9C-BE4D-52417E96B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A25B-4737-473F-92E6-70DC32B3C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7799D4-AD5B-4C53-A1A1-44C947DFB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DFE994-BE38-4703-A200-71C100498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B0782F-6CDE-4FD9-98AC-2F6BBC788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A20BEE-2396-428F-842A-423FEF7E3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B7F61D-D167-436A-AA67-86AB856B9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86FA97-DF53-48E1-BE01-13AA06C80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D4774D-3964-409B-9C44-312220E69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FB0A87-4260-4511-8ABA-51DE7944E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F970DB-6E79-4D3D-A380-8D062C959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2985-0E48-4F08-B46F-5E5DD5628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BD5F-1192-47F3-B1D0-20CED72C9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AEA9-BCFC-43E1-8568-E4E2CA137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020F-F745-4DF5-ABAA-0D181F33E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F559-F69F-4F9D-A5F5-AF2B0EC76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EE80B-27D3-447A-A9B0-D4AD925AF85A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0C10A-2235-4A63-B5D2-E74110ABAE91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7A219-56D8-44F2-8665-30E4E0C6B93D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A8DAE-D785-4DD3-A78C-678BB2794474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Рисунок 4" descr="24614_2320.jpg"/>
          <p:cNvPicPr/>
          <p:nvPr/>
        </p:nvPicPr>
        <p:blipFill>
          <a:blip r:embed="rId2"/>
          <a:stretch/>
        </p:blipFill>
        <p:spPr>
          <a:xfrm>
            <a:off x="0" y="0"/>
            <a:ext cx="5929200" cy="6858000"/>
          </a:xfrm>
          <a:prstGeom prst="rect">
            <a:avLst/>
          </a:prstGeom>
          <a:ln w="0">
            <a:noFill/>
          </a:ln>
        </p:spPr>
      </p:pic>
      <p:pic>
        <p:nvPicPr>
          <p:cNvPr id="196" name="Прямоугольник 3" descr=""/>
          <p:cNvPicPr/>
          <p:nvPr/>
        </p:nvPicPr>
        <p:blipFill>
          <a:blip r:embed="rId3"/>
          <a:stretch/>
        </p:blipFill>
        <p:spPr>
          <a:xfrm>
            <a:off x="2657520" y="2712960"/>
            <a:ext cx="765648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Общая характеристика профессии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Экономист осуществляет сбор, обработку, упорядочение информации об экономических явлениях и процессах (для достижения наивысших результатов предприятий и организаций). Анализирует ход и результат экономической деятельности и оценку ее успешности, совершенствует процесс экономической деятельности, планирует деятельность предприятия, определяет системы оплаты труда и поощрений для всех категорий работников предприятия, анализирует причины перерасхода фонда заработной платы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Рисунок 3" descr="left_executive_img.jpg"/>
          <p:cNvPicPr/>
          <p:nvPr/>
        </p:nvPicPr>
        <p:blipFill>
          <a:blip r:embed="rId2"/>
          <a:stretch/>
        </p:blipFill>
        <p:spPr>
          <a:xfrm>
            <a:off x="1643040" y="2928960"/>
            <a:ext cx="5786640" cy="360216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Особенности профессии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571680" y="14284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Экономист является одним из самых значимых специалистов на предприятии. Ни одно предприятие не может вести свою деятельность без бизнес-план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Рисунок 3" descr="Index.jpg"/>
          <p:cNvPicPr/>
          <p:nvPr/>
        </p:nvPicPr>
        <p:blipFill>
          <a:blip r:embed="rId2"/>
          <a:stretch/>
        </p:blipFill>
        <p:spPr>
          <a:xfrm>
            <a:off x="6072120" y="1428840"/>
            <a:ext cx="2857680" cy="464328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Особенности профессии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6840" y="1934640"/>
            <a:ext cx="597204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собенностью этой профессии в современных реалиях есть то, что сейчас на рынке труда переизбыток экономистов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прос породил очень уж большое предложение, поэтому работодатели выбирают не вчерашних выпускников, а специалистов с опытом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Требования профессии к человеку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Главное качество любого экономиста – способность к логическому мышлению, которую иногда называют математическим складом ума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8" name="Рисунок 3" descr="infor1.jpg"/>
          <p:cNvPicPr/>
          <p:nvPr/>
        </p:nvPicPr>
        <p:blipFill>
          <a:blip r:embed="rId2"/>
          <a:stretch/>
        </p:blipFill>
        <p:spPr>
          <a:xfrm>
            <a:off x="2214720" y="3214800"/>
            <a:ext cx="4500360" cy="34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Рисунок 4" descr="rate.jpg"/>
          <p:cNvPicPr/>
          <p:nvPr/>
        </p:nvPicPr>
        <p:blipFill>
          <a:blip r:embed="rId2"/>
          <a:stretch/>
        </p:blipFill>
        <p:spPr>
          <a:xfrm>
            <a:off x="4189320" y="2492280"/>
            <a:ext cx="4954680" cy="343080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Требования профессии к человеку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0" y="1934640"/>
            <a:ext cx="47880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Больше шансов преуспеть в роли экономиста имеют люди с высокой организованностью, собранностью, внимательностью, аккуратностью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Большое значение имеет и общая эмоциональная устойчивость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Требования профессии к человеку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6840" y="1856880"/>
            <a:ext cx="554364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Умение сохранять «холодную голову», не поддаваться сиюминутным настроениям, строгий самоконтроль – бесспорно, положительные качества, а их отсутствие или прямая противоположность – веский довод лишний раз задуматься над правильностью сделанного выбор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4" name="Рисунок 3" descr="400_F_15029620_5wyLwnequIBqOfJAcSp253rlvXCJ1mPw.jpg"/>
          <p:cNvPicPr/>
          <p:nvPr/>
        </p:nvPicPr>
        <p:blipFill>
          <a:blip r:embed="rId2"/>
          <a:stretch/>
        </p:blipFill>
        <p:spPr>
          <a:xfrm>
            <a:off x="5786280" y="2071800"/>
            <a:ext cx="2675160" cy="40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Сфера деятельности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57120" y="1357200"/>
            <a:ext cx="804384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банки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государственные учреждения, занимающиеся экономическими проблемами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тделы финансового планирования и распределения средств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финансово-экономические департаменты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финансовые организации (налоговые инспекции, пенсионные фонды, страховые агентства)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онсалтинговые компании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аучно-исследовательские институты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Профессиональная подготовка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95280" y="1988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валификацию экономиста можно получить во многих средних специальных и высших учебных заведениях по всей республике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Прямоугольник 3"/>
          <p:cNvSpPr/>
          <p:nvPr/>
        </p:nvSpPr>
        <p:spPr>
          <a:xfrm>
            <a:off x="1187280" y="3645000"/>
            <a:ext cx="72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едицинские противопоказ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Прямоугольник 4"/>
          <p:cNvSpPr/>
          <p:nvPr/>
        </p:nvSpPr>
        <p:spPr>
          <a:xfrm>
            <a:off x="539640" y="4581360"/>
            <a:ext cx="8136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дицинскими противопоказаниями для данной профессии могут быть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раженные заболев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рвной и сердечно-сосудистой систе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Рисунок 8" descr="tumblr_llzs44eRN11qawjv8.png"/>
          <p:cNvPicPr/>
          <p:nvPr/>
        </p:nvPicPr>
        <p:blipFill>
          <a:blip r:embed="rId2"/>
          <a:stretch/>
        </p:blipFill>
        <p:spPr>
          <a:xfrm>
            <a:off x="1357200" y="2747880"/>
            <a:ext cx="6500880" cy="4110120"/>
          </a:xfrm>
          <a:prstGeom prst="rect">
            <a:avLst/>
          </a:prstGeom>
          <a:ln w="0">
            <a:noFill/>
          </a:ln>
        </p:spPr>
      </p:pic>
      <p:pic>
        <p:nvPicPr>
          <p:cNvPr id="242" name="Прямоугольник 6" descr=""/>
          <p:cNvPicPr/>
          <p:nvPr/>
        </p:nvPicPr>
        <p:blipFill>
          <a:blip r:embed="rId3"/>
          <a:stretch/>
        </p:blipFill>
        <p:spPr>
          <a:xfrm>
            <a:off x="719280" y="755640"/>
            <a:ext cx="7839000" cy="53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Рисунок 4" descr="uchenik.jpg"/>
          <p:cNvPicPr/>
          <p:nvPr/>
        </p:nvPicPr>
        <p:blipFill>
          <a:blip r:embed="rId2"/>
          <a:stretch/>
        </p:blipFill>
        <p:spPr>
          <a:xfrm>
            <a:off x="5929200" y="1000080"/>
            <a:ext cx="3019680" cy="478620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 txBox="1"/>
          <p:nvPr/>
        </p:nvSpPr>
        <p:spPr>
          <a:xfrm>
            <a:off x="428400" y="1000080"/>
            <a:ext cx="6072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рофессия экономиста довольно популярна в наше время среди абитуриентов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ри этом мало кто из поступающих точно себе представляет, на кого собирается учиться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356760" y="1071720"/>
            <a:ext cx="837252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 целом экономисты, если говорить кратко, это </a:t>
            </a:r>
            <a:r>
              <a:rPr b="1" lang="ru-RU" sz="2600" spc="-1" strike="noStrike">
                <a:solidFill>
                  <a:srgbClr val="ff0000"/>
                </a:solidFill>
                <a:latin typeface="Constantia"/>
              </a:rPr>
              <a:t>специалисты по эффективной экономической деятельности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валификация «экономист» является смежной для таких профессий как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бухгалтер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маркетолог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финансист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менеджер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0" name="Picture 2" descr="http://www.uwcsea.edu.sg/uploaded/images/Microsites/WriteSite/Issue6/teenreader.gif"/>
          <p:cNvPicPr/>
          <p:nvPr/>
        </p:nvPicPr>
        <p:blipFill>
          <a:blip r:embed="rId2"/>
          <a:stretch/>
        </p:blipFill>
        <p:spPr>
          <a:xfrm>
            <a:off x="5715000" y="3395520"/>
            <a:ext cx="2727360" cy="31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00040" y="785520"/>
            <a:ext cx="8229600" cy="40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Экономист 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–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это специалист в области финансового планирования, исследования и управления финансово-хозяйственной деятельностью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2" name="Рисунок 3" descr="ekonomist_analitik-300x200.jpg"/>
          <p:cNvPicPr/>
          <p:nvPr/>
        </p:nvPicPr>
        <p:blipFill>
          <a:blip r:embed="rId2"/>
          <a:stretch/>
        </p:blipFill>
        <p:spPr>
          <a:xfrm>
            <a:off x="1643040" y="2643120"/>
            <a:ext cx="600084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Рисунок 3" descr="ekonomict22_01.jpg"/>
          <p:cNvPicPr/>
          <p:nvPr/>
        </p:nvPicPr>
        <p:blipFill>
          <a:blip r:embed="rId2"/>
          <a:stretch/>
        </p:blipFill>
        <p:spPr>
          <a:xfrm>
            <a:off x="571680" y="1071720"/>
            <a:ext cx="3585960" cy="537984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 txBox="1"/>
          <p:nvPr/>
        </p:nvSpPr>
        <p:spPr>
          <a:xfrm>
            <a:off x="4642920" y="1071720"/>
            <a:ext cx="4357800" cy="56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Экономист принимает участие в системе планирования бюджета организации и осуществляет контроль за его расходом, проводит аудит, а нередко и сам занимается бухгалтерским учетом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Рисунок 3" descr="logo2.gif"/>
          <p:cNvPicPr/>
          <p:nvPr/>
        </p:nvPicPr>
        <p:blipFill>
          <a:blip r:embed="rId2"/>
          <a:stretch/>
        </p:blipFill>
        <p:spPr>
          <a:xfrm>
            <a:off x="5929200" y="1428840"/>
            <a:ext cx="2872080" cy="478620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История профессии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6840" y="1599840"/>
            <a:ext cx="532908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Экономист – профессия современности. Хотя само слово «экономика» было придумано в Древней Греции и означало «домоводство», то есть экономическому анализу подвергалось ведение домашнего хозяйства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28760" y="9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История профессии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571680" y="1500120"/>
            <a:ext cx="7472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Эта профессия возникла сотни лет назад, когда начали существовать основные экономические понятия: товар, обмен, деньги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Рисунок 4" descr="dubrovno_professiya_ekonomist_proforiyentaciya (1).jpg"/>
          <p:cNvPicPr/>
          <p:nvPr/>
        </p:nvPicPr>
        <p:blipFill>
          <a:blip r:embed="rId2"/>
          <a:stretch/>
        </p:blipFill>
        <p:spPr>
          <a:xfrm>
            <a:off x="1928880" y="3143160"/>
            <a:ext cx="5452920" cy="34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История профессии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6840" y="1600200"/>
            <a:ext cx="4971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ервым экономистом считается Аристотель, который строил теории насчет обмена товаров, их стоимости и полезност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За прошедшие столетия функции экономиста заметно изменились и расширились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3" name="Picture 2" descr="Картинка 1 из 44594"/>
          <p:cNvPicPr/>
          <p:nvPr/>
        </p:nvPicPr>
        <p:blipFill>
          <a:blip r:embed="rId2"/>
          <a:stretch/>
        </p:blipFill>
        <p:spPr>
          <a:xfrm rot="180000">
            <a:off x="6357600" y="1285560"/>
            <a:ext cx="2305080" cy="3105000"/>
          </a:xfrm>
          <a:prstGeom prst="rect">
            <a:avLst/>
          </a:prstGeom>
          <a:ln w="0">
            <a:noFill/>
          </a:ln>
        </p:spPr>
      </p:pic>
      <p:pic>
        <p:nvPicPr>
          <p:cNvPr id="214" name="Рисунок 4" descr="6946664-a-series-of-photos-about-an-office-clerk.jpg"/>
          <p:cNvPicPr/>
          <p:nvPr/>
        </p:nvPicPr>
        <p:blipFill>
          <a:blip r:embed="rId3"/>
          <a:stretch/>
        </p:blipFill>
        <p:spPr>
          <a:xfrm rot="21171600">
            <a:off x="5214960" y="3571560"/>
            <a:ext cx="2143080" cy="32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Общая характеристика профессии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285480" y="233208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сновная задача экономиста – грамотное распределение денежных потоков компании с целью обеспечения рентабельности производственной деятельност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7" name="Рисунок 3" descr="img286696_3-9_Mirovoy_mezhbankovskiy_valyutnyiy_ryinok_foreks.jpg"/>
          <p:cNvPicPr/>
          <p:nvPr/>
        </p:nvPicPr>
        <p:blipFill>
          <a:blip r:embed="rId2"/>
          <a:stretch/>
        </p:blipFill>
        <p:spPr>
          <a:xfrm>
            <a:off x="4714920" y="3571920"/>
            <a:ext cx="371484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7T18:11:44Z</dcterms:created>
  <dc:creator>Admin</dc:creator>
  <dc:description/>
  <dc:language>en-US</dc:language>
  <cp:lastModifiedBy>ученик</cp:lastModifiedBy>
  <dcterms:modified xsi:type="dcterms:W3CDTF">2012-10-25T10:19:12Z</dcterms:modified>
  <cp:revision>9</cp:revision>
  <dc:subject/>
  <dc:title>Слайд 1</dc:title>
</cp:coreProperties>
</file>