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E38F-933C-4B3A-AF26-045A6C081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C9FC-6B6C-4415-B574-D5431FB5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4B20-3FD5-4081-93D7-4336FE322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D3C8-A82B-4EB2-8122-2D84C3491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7EFF-C481-4079-A19E-3797BA12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97DA-9A43-46E8-8CEA-B2EAD4AC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7BB6-FB19-481B-9768-D54AC482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4B0F-ADA8-4A11-BD4B-03678006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E5AF-106C-4ECD-9B8A-3232DCDD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1E76-0374-42A2-89B3-3EB309DB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2DFE-2D69-42C5-96F9-45ECE0BB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4828-180B-4451-95E6-067D41B6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BB72-18D5-4928-9932-74C34D1C8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Arial Rounded MT Bold"/>
              </a:rPr>
              <a:t>С чего начинается Родина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7432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неклассное мероприят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в. Никитина Л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ндрианова Т.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Про каждую песню можно целую историю рассказать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начале был чуть другой вариант песни «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чего начинается Родина?» — боле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ростой и  расхожий.  Только в после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фразе песни, в самом конце бы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роведена  интонация вопроса 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С чего начинается Родина?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дин гениальный человек предложил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А давай-ка начнем песню с последней фразы»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И сразу песня получилас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 фильме «Щит и меч» ее пел Марк Бернес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Марк Наумович Берне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71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дился в городе  Неж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нитель лирических пес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 русский актёр ки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а пес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С Чего начин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дина?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рела в л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рнеса исполнител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стала одной 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учших пес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го репертуар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rcRect l="0" t="0" r="0" b="12152"/>
          <a:stretch/>
        </p:blipFill>
        <p:spPr>
          <a:xfrm>
            <a:off x="324000" y="1197000"/>
            <a:ext cx="41767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-171360"/>
            <a:ext cx="82296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 чего начинается Роди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60" y="404640"/>
            <a:ext cx="716436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а М. Матусовского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узыка В. Баснера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няет Марк Берне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чего начинается роди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картинки в твоём буква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хороших и верных товарищ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вущих в соседнем дв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может, она начина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той песни, что пела нам м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того, что в любых испытани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нас никому не отня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 чего начинается Роди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424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чего начинается роди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заветной скамьи у воро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той самой берёзки, что во по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 ветром склоняясь, растё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может, она начин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весенней запевки скворц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с этой дороги просёлочно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торой не видно конц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 чего начинается Роди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 чего начинается роди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 окошек, горящих вд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о старой отцовской будёнов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Что где-то в шкафу мы на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А может, она начин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о стука вагонных колё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И с клятвы, которую в ю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Ты ей в своём сердце принё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 чего начинается Роди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9280" y="1341360"/>
            <a:ext cx="82090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зыка Вениам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фимович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сн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а Михаи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ьвович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усов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116000" y="2924280"/>
            <a:ext cx="2687760" cy="3673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894280" y="1197000"/>
            <a:ext cx="2444760" cy="3384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У каждого есть своя Родин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атусовский Михаил Львович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родился 10 (23) июля 1915 в Луганске в рабочей семье. Детские годы прошли в городе, окружённом заводами, шахтами, железнодорожными мастерскими, узкоколейк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У каждого есть своя Родин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ениамин Ефимович Баснер род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 января 1925 года в Ярославле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емье сапожник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Матусовский Михаил Льво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 начале 1930-х приехал в Москву учиться в Литературном институ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 1939 году, окончив институт, поступил в аспирантуру, три года работая над диссертационным исследова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Но аспирантуру ему закончить не удалось – началась война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Матусовский Михаил Льво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Находясь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на фронте, получил телеграмму о присвоении ему степени кандидата филологических нау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Во фронтовых газетах систематически появлялись стихотворные фельетоны и частушки Матусовского, а главное - его пес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ениамин Ефимович Басн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 1933 году поступил в музыкальную школу, затем в музыкальное училище, а в 1949 году окончил Ленинградскую консерваторию по классу скрипки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0" b="222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ениамин Ефимович Басн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Его дарование проявилось в обла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амерно-инструментальной музы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имфонических жанров, сценическ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оизведений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Он родился в центре России, вс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жизнь впитывал русскую культур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згляды его формировались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русской литературе и философ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ениамин Ефимович Басн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«Я не был в Ленинграде в блокадные дни, но, попав в этот великий город в сорок четвертом, видел разрушенные кварталы, видел переживших блокаду ленинградцев — изможденных, но не сломленных, полных несокрушимой веры в Победу и в то, что их руками город поднимется из руин, станет еще краше. Ведь и писать музыку я начал именно в Ленинграде, наверное, все увиденное мной, общение тем, кто отстоял, возродил былую красоту нашей Северной Пальмиры, не прошло бесследно, всколыхнуло какие-то струны душ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7:27:12Z</dcterms:created>
  <dc:creator>Albion</dc:creator>
  <dc:description/>
  <dc:language>en-US</dc:language>
  <cp:lastModifiedBy>Albion</cp:lastModifiedBy>
  <dcterms:modified xsi:type="dcterms:W3CDTF">2010-03-13T19:36:29Z</dcterms:modified>
  <cp:revision>9</cp:revision>
  <dc:subject/>
  <dc:title>С чего начинается Родина?</dc:title>
</cp:coreProperties>
</file>