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F85-29D9-408C-958A-5B455116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155-C9D4-4F4B-8B8B-82BFCC3C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D24-7872-484A-A0BA-DF1174C8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086-CA67-4F87-9976-37BC16C0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AE7-CE47-485F-9975-A349717D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EB8-23FB-4396-A717-54F2C944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8C4-8654-4D2A-920E-562A95BF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B84-99D3-4BB0-9791-1FC9B68F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D54-12D4-44C9-905D-8E98A40E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314-1373-417B-8429-0F4B977D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0E8-E039-4FD5-A177-885863F0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A76-5F1F-410B-9F80-7CE0DF7B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E95A-8BF1-476F-9131-05F53B6DB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 Rounded MT Bold"/>
              </a:rPr>
              <a:t>С чего начинается Родин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еклассное мероприят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. Никитина Л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дрианова Т.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ро каждую песню можно целую историю рассказать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начале был чуть другой вариант песни «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чего начинается Родина?» —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стой и  расхожий.  Только в после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разе песни, в самом конце бы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ведена  интонация вопрос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 чего начинается Родина?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гениальный человек предложи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А давай-ка начнем песню с последней фразы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 сразу песня получила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 фильме «Щит и меч» ее пел Марк Берне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Марк Наумович Берн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лся в городе  Неж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нитель лирических пес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 русский актёр 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а пес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 Чего начин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на?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ела в 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неса исполнител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тала одной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учших пес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репертуар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0" t="0" r="0" b="12152"/>
          <a:stretch/>
        </p:blipFill>
        <p:spPr>
          <a:xfrm>
            <a:off x="324000" y="1197000"/>
            <a:ext cx="4176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82296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чего начинается Род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404640"/>
            <a:ext cx="7164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а М. Матусовског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ыка В. Баснер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няет Марк Берне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чего начинается 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ртинки в твоём букв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хороших и верных товари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ущих в соседнем дв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может, она начин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ой песни, что пела нам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ого, что в любых испытан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ас никому не отня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чего начинается Род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чего начинается 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заветной скамьи у вор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той самой берёзки, что во п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ветром склоняясь, растё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может, она начин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весенней запевки сквор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 этой дороги просёлочн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ой не видно ко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 чего начинается Род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 чего начинается 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 окошек, горящих в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 старой отцовской будёнов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то где-то в шкафу мы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 может, она начин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 стука вагонных колё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 с клятвы, которую в ю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ы ей в своём сердце принё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чего начинается Роди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8209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 Вениам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фимови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 Миха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ьвови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усо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2687760" cy="367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894280" y="1197000"/>
            <a:ext cx="2444760" cy="338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У каждого есть своя Родин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усовский Михаил Львович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родился 10 (23) июля 1915 в Луганске в рабочей семье. Детские годы прошли в городе, окружённом заводами, шахтами, железнодорожными мастерскими, узкоколей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У каждого есть своя Родин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ениамин Ефимович Баснер ро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 января 1925 года в Ярославле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мье сапожни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атусовский Михаил Льв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начале 1930-х приехал в Москву учиться в Литературном институ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1939 году, окончив институт, поступил в аспирантуру, три года работая над диссертационным исследов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о аспирантуру ему закончить не удалось – началась войн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атусовский Михаил Льв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ходясь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на фронте, получил телеграмму о присвоении ему степени кандидата филологических на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о фронтовых газетах систематически появлялись стихотворные фельетоны и частушки Матусовского, а главное - его пес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ниамин Ефимович Басн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1933 году поступил в музыкальную школу, затем в музыкальное училище, а в 1949 году окончил Ленинградскую консерваторию по классу скрипки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22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ниамин Ефимович Басн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го дарование проявилось в об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амерно-инструментальной музы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имфонических жанров, сцен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оизведений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н родился в центре России, вс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жизнь впитывал русскую культур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згляды его формировались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усской литературе и философ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ниамин Ефимович Басн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«Я не был в Ленинграде в блокадные дни, но, попав в этот великий город в сорок четвертом, видел разрушенные кварталы, видел переживших блокаду ленинградцев — изможденных, но не сломленных, полных несокрушимой веры в Победу и в то, что их руками город поднимется из руин, станет еще краше. Ведь и писать музыку я начал именно в Ленинграде, наверное, все увиденное мной, общение тем, кто отстоял, возродил былую красоту нашей Северной Пальмиры, не прошло бесследно, всколыхнуло какие-то струны душ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7:27:12Z</dcterms:created>
  <dc:creator>Albion</dc:creator>
  <dc:description/>
  <dc:language>en-US</dc:language>
  <cp:lastModifiedBy>Albion</cp:lastModifiedBy>
  <dcterms:modified xsi:type="dcterms:W3CDTF">2010-03-13T19:36:29Z</dcterms:modified>
  <cp:revision>9</cp:revision>
  <dc:subject/>
  <dc:title>С чего начинается Родина?</dc:title>
</cp:coreProperties>
</file>