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581-7CB3-41AC-9DA1-F557FB50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5FE-4444-4C85-89A7-C539DCE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FDE-C846-4381-ADE8-3B232BB3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008-41F5-44AB-81EF-11FB5BAE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9EA-AF33-4E89-A65B-96DBDD2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859-110A-4F80-9092-B1C5B220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995-05BA-4F39-AB06-F6C4A6B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268-A43F-4890-9A92-AABD016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2E8-55D7-4B8C-9926-9D910948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26E-8662-4797-8BEE-4F6DCBD7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0FD-D79E-4A26-B419-8AA15DD5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3BE-6FFC-4D39-BA4C-03CB21F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AC49-F98D-4E72-BD9E-65C02CFE9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одительское собрание на тем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воспитатель средней групп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БДОУ№4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Шершнева Н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1944720"/>
            <a:ext cx="8096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Компьютер: </a:t>
            </a:r>
            <a:r>
              <a:rPr b="0" lang="ru-RU" sz="4400" spc="-1" strike="noStrike">
                <a:solidFill>
                  <a:srgbClr val="00b050"/>
                </a:solidFill>
                <a:latin typeface="Bookman Old Style"/>
              </a:rPr>
              <a:t>«за» 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и </a:t>
            </a:r>
            <a:r>
              <a:rPr b="0" lang="ru-RU" sz="4400" spc="-1" strike="noStrike">
                <a:solidFill>
                  <a:srgbClr val="ff0000"/>
                </a:solidFill>
                <a:latin typeface="Bookman Old Style"/>
              </a:rPr>
              <a:t>«против»</a:t>
            </a: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760" y="2528640"/>
            <a:ext cx="37144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аленький ребенок – очень чувствительный организм, все физиологические системы которого, в том числе и необходимые для успешного взаимодействия с компьютером, развиваются в дошкольном и младшем школьном возраст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регламентированные занятия на компьютере на фоне постоянно увеличивающейся информационной нагрузки могут ускорить неблагоприятные изменения в самочувствии ребенка, повлиять на его психику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MzdiZDZiO.jpg"/>
          <p:cNvPicPr/>
          <p:nvPr/>
        </p:nvPicPr>
        <p:blipFill>
          <a:blip r:embed="rId1"/>
          <a:stretch/>
        </p:blipFill>
        <p:spPr>
          <a:xfrm>
            <a:off x="566640" y="3206880"/>
            <a:ext cx="454176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785880" y="1643040"/>
            <a:ext cx="7429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ще всего родителей беспокоит влияние компьютера на зрение и вред излучений, а также зависимость ребенка, погруженного в искусственный виртуальный мир, уводящий его от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ы решили купить ребенку компьютер, рекоменду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296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купайте для вашего ребенка компьютер и монитор хорошего качества, не экономьте на здоровье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положите компьютер на столе в углу комнаты, задней частью к стене, в хорошо освещенном месте, но так, чтобы на экране не было бл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ильно организуйте рабочее место ребенка. Подберите мебель, соответствующую его рос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лайте ежедневную влажную уборку в помещении, где используется компьютер. Проветривайте чаще комна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тирайте экран чистой тряпкой или губкой до и после работы на компьюте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ядом с компьютером поставьте кактусы: эти растения поглощают его вредные излуч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 тщательно отбирайте для детей компьютерные программы: они должны соответствовать возрасту ребенка как по содержанию, так и по качеству оформл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з ущерба для здоровья дошкольники могут работать за компьютером не более 15 минут, причем 3 раза в неделю, через д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каждого занятия проводите с ребенком упражнения для глаз о общеукрепляющие упраж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man Old Style"/>
              </a:rPr>
              <a:t>Сохраним ребенку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многих детей в связи с нарушением режима: злоупотреблением играми на компьютере, просмотром телепередач и т.д. наблюдается ухудшение зр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786200" y="285768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его регулярном выполнении может стать хорошей тренировкой и профилактикой для сохранения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857840" y="48578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е упражнения лучше проводить в игровой форме, с любимыми игрушками ребенка, передвигая их вправо-влево, вверх-вниз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9" descr="9.png"/>
          <p:cNvPicPr/>
          <p:nvPr/>
        </p:nvPicPr>
        <p:blipFill>
          <a:blip r:embed="rId1"/>
          <a:stretch/>
        </p:blipFill>
        <p:spPr>
          <a:xfrm>
            <a:off x="642960" y="264312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бщие сове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928800"/>
            <a:ext cx="84722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следует выполнять сидя на стуле, голова неподвижна, поза удобна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каждого упражнения предложите ребенку закрыть глаза и расслабить мышцы тела на 30-40 с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85840" y="257184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глазными яблоками вверх-вн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ленно поднять глаза вверх и медленно опустить вниз. Повтор 4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рг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закрыть и открыть глаза, сжимая и разжимая веки, т.е. морг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ижение глазными яблоками вправо-вле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ленно повернуть глаза вправо и затем так же медленно повернуть их влево. Повтор 4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ащение глаз по часовой стрелке – против часовой стрел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ащения глаз выполняются плавно, без рывков, сначала по часовой стрелке, затем против часовой стрелки. Повтор 3-4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Фиксация взгляда на кончике н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ев на кончик носа, зафиксировать взгляд в течении 10-20 сек не моргая, максимально расслабив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642960" y="22147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храним ребенку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                       правильную осан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86200" y="1999800"/>
            <a:ext cx="4114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считается правильной, если человек держит голову прямо и свободно, плечи находятся на одном уровне, слегка опущены назад, корпус выпрямлен, живот  подтянут, грудь слегка выступает вперед, колени выпрямле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osanka02.jpg"/>
          <p:cNvPicPr/>
          <p:nvPr/>
        </p:nvPicPr>
        <p:blipFill>
          <a:blip r:embed="rId1"/>
          <a:stretch/>
        </p:blipFill>
        <p:spPr>
          <a:xfrm>
            <a:off x="214200" y="2000160"/>
            <a:ext cx="46641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Организовывае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рабочее место ребе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14960" y="1643040"/>
            <a:ext cx="39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детей росто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5-130 см рекомендуемая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ола – 54 с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ула – 32 с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бязательно с твердой спинкой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ше 130 см рекомендуем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ола – 60 с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та стула – 36 с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тояние между ребенком и дисплеем не менее 50-70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чем дальше, тем лучше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енок должен сидеть на стуле, опираясь на 2/3 – 3/4 длины бед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о между корпусом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краем стола – не менее 5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Руслан\Рабочий стол\Урок правильная осанка\осанка рисунки\osanka.gif"/>
          <p:cNvPicPr/>
          <p:nvPr/>
        </p:nvPicPr>
        <p:blipFill>
          <a:blip r:embed="rId1"/>
          <a:stretch/>
        </p:blipFill>
        <p:spPr>
          <a:xfrm>
            <a:off x="353880" y="2139840"/>
            <a:ext cx="4437360" cy="4437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3008880" y="16430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581040" y="164304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237960" y="1463760"/>
            <a:ext cx="8564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2:23:56Z</dcterms:created>
  <dc:creator>admin</dc:creator>
  <dc:description/>
  <dc:language>en-US</dc:language>
  <cp:lastModifiedBy>admin</cp:lastModifiedBy>
  <dcterms:modified xsi:type="dcterms:W3CDTF">2012-10-25T18:22:06Z</dcterms:modified>
  <cp:revision>34</cp:revision>
  <dc:subject/>
  <dc:title>Родительское собрание на тему:</dc:title>
</cp:coreProperties>
</file>