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9D1-ED26-49B7-924D-E9DA0E2C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45C-FB30-4CBF-8266-712E11D1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F9C-7400-476A-9CF2-050C545A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D91-0AF6-4A4A-9AFF-7D052894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894-112E-4CA8-B472-34D2CA11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10B-4356-43EC-B8ED-D249B67B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951-91DA-4F41-8D12-CC292B3D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EAC-88EE-4F7E-A0C8-A1C71910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205-B27D-4F39-B967-A5B1DA0E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44F-D021-4300-91F6-0AC905E4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5DC-383B-4015-9351-26B6A8D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F1A-98FB-42CD-BC95-5CDA1EB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4B21-48A8-41F1-BC69-E21FE3A96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ы по технологии 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547640" y="1052640"/>
            <a:ext cx="25228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4716360" y="1052640"/>
            <a:ext cx="252252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154764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2843280" y="5445000"/>
            <a:ext cx="30002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йти все т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9"/>
          <p:cNvSpPr/>
          <p:nvPr/>
        </p:nvSpPr>
        <p:spPr>
          <a:xfrm>
            <a:off x="471636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0"/>
          <p:cNvSpPr/>
          <p:nvPr/>
        </p:nvSpPr>
        <p:spPr>
          <a:xfrm>
            <a:off x="154764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1"/>
          <p:cNvSpPr/>
          <p:nvPr/>
        </p:nvSpPr>
        <p:spPr>
          <a:xfrm>
            <a:off x="471636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2"/>
          <p:cNvSpPr/>
          <p:nvPr/>
        </p:nvSpPr>
        <p:spPr>
          <a:xfrm>
            <a:off x="154764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3"/>
          <p:cNvSpPr/>
          <p:nvPr/>
        </p:nvSpPr>
        <p:spPr>
          <a:xfrm>
            <a:off x="471636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4"/>
          <p:cNvSpPr/>
          <p:nvPr/>
        </p:nvSpPr>
        <p:spPr>
          <a:xfrm>
            <a:off x="154764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5"/>
          <p:cNvSpPr/>
          <p:nvPr/>
        </p:nvSpPr>
        <p:spPr>
          <a:xfrm>
            <a:off x="471636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ой слой древесины проводит соки, питающие дерев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бк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ердцев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ердцевинны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убя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им способом выполняется тангенциальный разрез ствола дере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перек оси ств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2730600" y="4286160"/>
            <a:ext cx="3425760" cy="1951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араллельно сердцевине с удалением на некоторое рас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доль оси ствола, через сердцев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ая из пород древесины не является хвойн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ос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их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оль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ед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ая из пород древесины имеет белый с красноватым оттенком цвет и слабо выраженную текстуру? Она твердая и вязкая, но быстро загни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755640" y="3789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бер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2730600" y="5078520"/>
            <a:ext cx="3425760" cy="1303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листве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6"/>
          <p:cNvSpPr/>
          <p:nvPr/>
        </p:nvSpPr>
        <p:spPr>
          <a:xfrm>
            <a:off x="4716360" y="3798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с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Какой из видов пиломатериалов называется бру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755640" y="2852640"/>
            <a:ext cx="345600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иломатериал толщиной до 100 мм и шириной более двойной толщ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2730600" y="4933800"/>
            <a:ext cx="342576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боковые части бревна, оставшиеся после его распил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716360" y="2852640"/>
            <a:ext cx="372744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иломатериал толщиной и шириной более 100 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Что такое торе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755640" y="328464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ирокая плоскость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2730600" y="4573440"/>
            <a:ext cx="3425760" cy="151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иния, образованная пересечением плоск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6"/>
          <p:cNvSpPr/>
          <p:nvPr/>
        </p:nvSpPr>
        <p:spPr>
          <a:xfrm>
            <a:off x="4716360" y="3294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перечная плоскость пило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Что такое шп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324000" y="2852640"/>
            <a:ext cx="388764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ессованные листы из пропаренной и измельченной до мельчайших волокон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1"/>
          <p:cNvSpPr/>
          <p:nvPr/>
        </p:nvSpPr>
        <p:spPr>
          <a:xfrm>
            <a:off x="2340000" y="4933800"/>
            <a:ext cx="417672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онкий слой древесины, полученный путем строгания или лу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2"/>
          <p:cNvSpPr/>
          <p:nvPr/>
        </p:nvSpPr>
        <p:spPr>
          <a:xfrm>
            <a:off x="4716360" y="2852640"/>
            <a:ext cx="403236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исты, полученные путем прессования опилок, стружки и древесной пы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)Для чего применяется лущильный стано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лучения ДВ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получения фан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для получения шп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получения пило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 Что такое фане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10"/>
          <p:cNvSpPr/>
          <p:nvPr/>
        </p:nvSpPr>
        <p:spPr>
          <a:xfrm>
            <a:off x="324000" y="2852640"/>
            <a:ext cx="388764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иломатериал толщиной менее 100 мм и шириной менее двойной дл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1"/>
          <p:cNvSpPr/>
          <p:nvPr/>
        </p:nvSpPr>
        <p:spPr>
          <a:xfrm>
            <a:off x="2195640" y="4933800"/>
            <a:ext cx="453708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иломатериал, полученный при продольном распиливании бревна попо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2"/>
          <p:cNvSpPr/>
          <p:nvPr/>
        </p:nvSpPr>
        <p:spPr>
          <a:xfrm>
            <a:off x="4716360" y="2852640"/>
            <a:ext cx="403236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иломатериал, состоящий из трех и более слоев лущенного шпо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чертеж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кругленный прямоугольник 10"/>
          <p:cNvSpPr/>
          <p:nvPr/>
        </p:nvSpPr>
        <p:spPr>
          <a:xfrm>
            <a:off x="324000" y="2421000"/>
            <a:ext cx="4032000" cy="24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графическое изображение, выполненное от руки с указанием размеров и соблюдением пропорций на гл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1"/>
          <p:cNvSpPr/>
          <p:nvPr/>
        </p:nvSpPr>
        <p:spPr>
          <a:xfrm>
            <a:off x="2195640" y="4933800"/>
            <a:ext cx="453708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ъемное изображение, выполненное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2"/>
          <p:cNvSpPr/>
          <p:nvPr/>
        </p:nvSpPr>
        <p:spPr>
          <a:xfrm>
            <a:off x="4572000" y="2421000"/>
            <a:ext cx="4176720" cy="24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графическое изображение, выполненное по правилам черчения с помощью чертежных инстру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: 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шибки: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метка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: 0 мин. 13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Укажите масштаб увелич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3"/>
          <p:cNvSpPr/>
          <p:nvPr/>
        </p:nvSpPr>
        <p:spPr>
          <a:xfrm>
            <a:off x="755640" y="321300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1: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4"/>
          <p:cNvSpPr/>
          <p:nvPr/>
        </p:nvSpPr>
        <p:spPr>
          <a:xfrm>
            <a:off x="2730600" y="4502160"/>
            <a:ext cx="3425760" cy="1303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2: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6"/>
          <p:cNvSpPr/>
          <p:nvPr/>
        </p:nvSpPr>
        <p:spPr>
          <a:xfrm>
            <a:off x="4716360" y="3222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1: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Какой линией обозначаются оси симметрии и центры отверсти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плошной толст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трихпунктирной линией с двумя точ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штрихпунктирной ли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трихов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Что означает прочитать чертеж, эскиз или технический рисун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468360" y="2781360"/>
            <a:ext cx="3743280" cy="1574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определить. какие линии использованы для выпол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"/>
          <p:cNvSpPr/>
          <p:nvPr/>
        </p:nvSpPr>
        <p:spPr>
          <a:xfrm>
            <a:off x="2730600" y="4502160"/>
            <a:ext cx="342576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пределить порядок изготовления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6"/>
          <p:cNvSpPr/>
          <p:nvPr/>
        </p:nvSpPr>
        <p:spPr>
          <a:xfrm>
            <a:off x="4716360" y="2781360"/>
            <a:ext cx="41036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пределить название, масштаб, количество видов, размер, форму и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Что указывается в технологической кар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Скругленный прямоугольник 3"/>
          <p:cNvSpPr/>
          <p:nvPr/>
        </p:nvSpPr>
        <p:spPr>
          <a:xfrm>
            <a:off x="179280" y="2205000"/>
            <a:ext cx="424836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следовательность операций, графическое изображение, применяемые инструменты и приспособ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"/>
          <p:cNvSpPr/>
          <p:nvPr/>
        </p:nvSpPr>
        <p:spPr>
          <a:xfrm>
            <a:off x="1763640" y="4789440"/>
            <a:ext cx="532944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часть производственного процесса по превращению заготовки в дет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6"/>
          <p:cNvSpPr/>
          <p:nvPr/>
        </p:nvSpPr>
        <p:spPr>
          <a:xfrm>
            <a:off x="4572000" y="2205000"/>
            <a:ext cx="424800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истема, определяющая порядок и сроки изготовления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Контур детали на чертежах выполняю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плошной тонк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плошной толстой основн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штриховой ли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трихпунктнрной лин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3. Графическое изображение деталей из древесины. Этапы планирования работы по изготовлению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)На чертежах и эскизах вид слева располага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права от глав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лева от глав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низу от главно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верху от главного ви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называется разметк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179280" y="2205000"/>
            <a:ext cx="424836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нанесение на заготовку линий и точек, указывающих места обрабо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4"/>
          <p:cNvSpPr/>
          <p:nvPr/>
        </p:nvSpPr>
        <p:spPr>
          <a:xfrm>
            <a:off x="1763640" y="4789440"/>
            <a:ext cx="5329440" cy="173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анесение на заготовку точек для проведения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"/>
          <p:cNvSpPr/>
          <p:nvPr/>
        </p:nvSpPr>
        <p:spPr>
          <a:xfrm>
            <a:off x="4572000" y="2205000"/>
            <a:ext cx="424800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анесение дополнительных, вспомогательных линий при изготовлении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ой инструмент используется для разметки и измерения углов 45 и 135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р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5"/>
          <p:cNvSpPr/>
          <p:nvPr/>
        </p:nvSpPr>
        <p:spPr>
          <a:xfrm>
            <a:off x="4716360" y="494172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ейс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а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Для чего применяется рейсмус?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для проведения линий и рисок, параллельных кром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загот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вычерчивания дуг окружности и перенесения разме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для измерения загот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для измерения углов по образцу и перенесения их на заготов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Какая кромка называется базов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3"/>
          <p:cNvSpPr/>
          <p:nvPr/>
        </p:nvSpPr>
        <p:spPr>
          <a:xfrm>
            <a:off x="179280" y="2781360"/>
            <a:ext cx="4248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меющая самую большую шир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4"/>
          <p:cNvSpPr/>
          <p:nvPr/>
        </p:nvSpPr>
        <p:spPr>
          <a:xfrm>
            <a:off x="1763640" y="5210280"/>
            <a:ext cx="5329440" cy="13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а которой установлена загот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6"/>
          <p:cNvSpPr/>
          <p:nvPr/>
        </p:nvSpPr>
        <p:spPr>
          <a:xfrm>
            <a:off x="4572000" y="2781360"/>
            <a:ext cx="424800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лужащая основой для дальнейшей разме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 называется профессия рабочего, занятого ручной обработкой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273060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ок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аспиловщ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)Что применяется для нанесения линий размето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фломас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арк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шариковая ру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4. Разметка заготовок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Какие из перечисленных инструментов применяются при разметке деталей из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ти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йсм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ер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лесарный 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пил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3"/>
          <p:cNvSpPr/>
          <p:nvPr/>
        </p:nvSpPr>
        <p:spPr>
          <a:xfrm>
            <a:off x="468360" y="2781360"/>
            <a:ext cx="359892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образование опилок в процессе работы пи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2124000" y="494172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работка заготовки по разм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6"/>
          <p:cNvSpPr/>
          <p:nvPr/>
        </p:nvSpPr>
        <p:spPr>
          <a:xfrm>
            <a:off x="4859280" y="278136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азрезание древесины на части при помощи п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акие пилы называют луч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Скругленный прямоугольник 3"/>
          <p:cNvSpPr/>
          <p:nvPr/>
        </p:nvSpPr>
        <p:spPr>
          <a:xfrm>
            <a:off x="468360" y="2781360"/>
            <a:ext cx="359892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ные пилы с натянутым полотн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4"/>
          <p:cNvSpPr/>
          <p:nvPr/>
        </p:nvSpPr>
        <p:spPr>
          <a:xfrm>
            <a:off x="2124000" y="494172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илы с жестким полот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6"/>
          <p:cNvSpPr/>
          <p:nvPr/>
        </p:nvSpPr>
        <p:spPr>
          <a:xfrm>
            <a:off x="4859280" y="278136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илы, имеющие форму лука с тетив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Какой вид ножовки используется для неглубоких пропилов и подгонки соединени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ирокая ножо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ожовка с обуш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лобз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урко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 называется приспособление для пиления под углом 45 и 90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рейсм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ту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еру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уп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ая ножовка должна применяться, если направление среза перпендикулярно волокна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кругленный прямоугольник 3"/>
          <p:cNvSpPr/>
          <p:nvPr/>
        </p:nvSpPr>
        <p:spPr>
          <a:xfrm>
            <a:off x="468360" y="3357720"/>
            <a:ext cx="359892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перечного пи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смешанного пи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6"/>
          <p:cNvSpPr/>
          <p:nvPr/>
        </p:nvSpPr>
        <p:spPr>
          <a:xfrm>
            <a:off x="4859280" y="3357720"/>
            <a:ext cx="3600360" cy="180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продольного пи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5. Пиление столярной ножов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Чем отличаются ножовки для продольного и поперечного пил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числом зубь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ормой зубь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толщиной полот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длиной полот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строг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ная операция срезания с поверхности заготовки тонких слоев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зделение заготовки на части с образование стру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ыравнивание поверхности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 называется рубанок для чернового строгания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ензу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шпи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фуга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ерхе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Чем оборудуется рабочее место для обработки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олярный верста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ре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загот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акокрасочные материа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Для выравнивания поверхности на больших участках применя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убанок с одинарным нож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уга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убанок с двойным нож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ерхе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Что не входит в устройство рубан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ружколома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о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ту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уч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 устанавливается лезвие шерхебе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о 3 мм над подошвой кол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0,3-0,5 мм над подошвой коло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о 5 мм над подошвой кол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Как необходимо положить рубанок на верст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 лоток лезвием вн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на крышку верстака лезвием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 лоток лезвием от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)Чем можно проконтролировать качество строга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линей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йсмус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тус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а гл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6. Строгание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) Ровные и гладкие поверхности дошли Из древесины получают с помощь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лучковой п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ерхеб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у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ож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Какой из инструментов не используется для сверл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олово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р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отвер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вер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Какое отверстие называется глух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ходящее через всю деталь насквоз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меющее овальное се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ыполненное на определенную глуб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Что не входит в устройство коловоро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п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укоятка захв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пат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укоятка вра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ое сверло не применяется для сверления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интов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оже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угл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робо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Что не применяется для закрепления заготовок на верста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оковой заж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о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поворотные паль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л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7. Сверление отверс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Для чего служит хвостовик свер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дрезания волокон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выведения т отверстия срезаемой стру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закрепления сверла в патр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Какие основные части имеет гвозд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Скругленный прямоугольник 3"/>
          <p:cNvSpPr/>
          <p:nvPr/>
        </p:nvSpPr>
        <p:spPr>
          <a:xfrm>
            <a:off x="395280" y="3141720"/>
            <a:ext cx="367200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головка, стрежень, остр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головка, стержень, лез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6"/>
          <p:cNvSpPr/>
          <p:nvPr/>
        </p:nvSpPr>
        <p:spPr>
          <a:xfrm>
            <a:off x="4859280" y="3141720"/>
            <a:ext cx="3745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ляпка, основание, остр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Какие по назначению бывают гвозд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троите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ящи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бума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забор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им правилом необходимо руководствоваться для определения длины гвозд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а гвоздя должна быть в 2-3 раза больше толщины прибиваемой дет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2124000" y="5302080"/>
            <a:ext cx="46800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ина гвоздя должна быть в 2-3 раза меньше толщины прибиваемых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ина гвоздя должна быть в 2 раза больше толщины соединяемых дета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ой инструмент применяется при забивании гвозд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мал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оло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ле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)Какие инструменты применяют для вытаскивания гвозд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ле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пра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8. Соединение деталей гвозд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Как забивать гвоздь, чтобы деталь не расколола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бить гвоздь на расстоянии не менее 4 диаметров от кромки и не менее 15 диаметров от тор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бить гвоздь на расстоянии 10 диаметров от кромки и 15 диаметров от то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забить гвоздь на расстоянии не менее 2 диаметров от кромки и не менее 10 диаметров от тор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Какие крепежные детали применяются для соединения изделий из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ин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пиль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шур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амор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такое шлиц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резь для отвер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интовая линия на стерж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стрие шуруп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С какой формой головки шурупы не применяютс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лукругл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олупотай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вадра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тай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Для чего используются выдвижные и поворотные паль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регулировки высоты верста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273060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упора заготовок при строг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опоры длинных заготовок при строг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Какое правило необходимо соблюдать при выборе длины туру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а должна быть в 2-3 раза больше толщины более тонкой соединяемой дета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уруп должен быть в 2 раза больше толщины ос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уруп должен проходить основную (более толстую) деталь насквоз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Как подготовить место для ввинчивания большого шуруп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Скругленный прямоугольник 3"/>
          <p:cNvSpPr/>
          <p:nvPr/>
        </p:nvSpPr>
        <p:spPr>
          <a:xfrm>
            <a:off x="395280" y="3141720"/>
            <a:ext cx="396072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а) сделать углубление шилом, просверлить</a:t>
            </a:r>
            <a:r>
              <a:rPr b="1" lang="ru-RU" sz="40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отверстие диаметром 1/2 от диаметра шуруп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росверлить сквозное отверстие в деталях диаметром 2/3 от диаметра шур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6"/>
          <p:cNvSpPr/>
          <p:nvPr/>
        </p:nvSpPr>
        <p:spPr>
          <a:xfrm>
            <a:off x="4643280" y="3141720"/>
            <a:ext cx="396108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)в тонкой детали сверлят отверстие диаметром больше диаметра шурупа, в толстой - глухое отверстие диаметром 4/5 от диаметра шуруп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Какой инструмент применяется для подготовки отверстия под ШУРУп  с потайной головк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ле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оловор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зенк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ер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Что такое кл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Скругленный прямоугольник 3"/>
          <p:cNvSpPr/>
          <p:nvPr/>
        </p:nvSpPr>
        <p:spPr>
          <a:xfrm>
            <a:off x="395280" y="2781360"/>
            <a:ext cx="396072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язкое вещество, которое при затвердевании образует прочную пленку, соединяющую поверх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створ синтетических веществ, применяемый для склеивания древес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6"/>
          <p:cNvSpPr/>
          <p:nvPr/>
        </p:nvSpPr>
        <p:spPr>
          <a:xfrm>
            <a:off x="4643280" y="2781360"/>
            <a:ext cx="396108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ленкообразующее вещество, при высыхании образующее твердую, прозрачную пл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)Какие природные клеи применяются для работы в мастерски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толяр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Б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азеинов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)В каком виде выпускается казеиновый кл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 виде зер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 тюби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в виде па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 жидком ви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9. Соединение деталей шурупами. Склеивание изделий из древес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Каким способом наносится клей на поверхность склеиваемых деталей из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альцами р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исто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щет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акой Инструмент используется для зачистки деталей из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ашпи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шерхеб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трубц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Более гладкой поверхность получается при зачистк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перек волок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доль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руговыми движ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 называется приспособление для закрепления заготовки при зачист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кругленный прямоугольник 3"/>
          <p:cNvSpPr/>
          <p:nvPr/>
        </p:nvSpPr>
        <p:spPr>
          <a:xfrm>
            <a:off x="395280" y="3645000"/>
            <a:ext cx="396072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лесарные тис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4"/>
          <p:cNvSpPr/>
          <p:nvPr/>
        </p:nvSpPr>
        <p:spPr>
          <a:xfrm>
            <a:off x="1835280" y="5302080"/>
            <a:ext cx="5257800" cy="131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ле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6"/>
          <p:cNvSpPr/>
          <p:nvPr/>
        </p:nvSpPr>
        <p:spPr>
          <a:xfrm>
            <a:off x="4643280" y="3645000"/>
            <a:ext cx="396108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ту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Для каких целей служит передний и задний зажи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закрепления заготов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273060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закрепления инстр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удобной фиксации чертежей и эски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Какие напильники применяются для зачист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ло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в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осоуго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ятиуго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10. Зачистка поверхности детали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жигание по древесин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95280" y="1483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)Какая часть не входит в устройство выжигательного аппара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Скругленный прямоугольник 3"/>
          <p:cNvSpPr/>
          <p:nvPr/>
        </p:nvSpPr>
        <p:spPr>
          <a:xfrm>
            <a:off x="611280" y="321300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орп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4"/>
          <p:cNvSpPr/>
          <p:nvPr/>
        </p:nvSpPr>
        <p:spPr>
          <a:xfrm>
            <a:off x="611280" y="4943520"/>
            <a:ext cx="3600360" cy="15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электрический шн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5"/>
          <p:cNvSpPr/>
          <p:nvPr/>
        </p:nvSpPr>
        <p:spPr>
          <a:xfrm>
            <a:off x="4643280" y="4941720"/>
            <a:ext cx="3816360" cy="151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укоя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6"/>
          <p:cNvSpPr/>
          <p:nvPr/>
        </p:nvSpPr>
        <p:spPr>
          <a:xfrm>
            <a:off x="4643280" y="3213000"/>
            <a:ext cx="3800520" cy="159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ер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. Оборудование рабочего места для ручной обработки древес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)В предмете «Технология» изучаю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468360" y="2637000"/>
            <a:ext cx="3887640" cy="1503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технологии производства автомоби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468360" y="4286160"/>
            <a:ext cx="3887640" cy="1590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технологии преобразования материалов, энергии,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4716360" y="4292640"/>
            <a:ext cx="395928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технологии создания самолетов и космических аппа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4716360" y="2637000"/>
            <a:ext cx="3888000" cy="1512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ехнологии создания медицинских инстру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ст 2. Древесина - природный конструкционный материал. Пиломатериалы и древесн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Как называется тонкий слой клеток, расположенный между корой и древесино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755640" y="3654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амб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785880" y="494352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боло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4716360" y="495000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яд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6"/>
          <p:cNvSpPr/>
          <p:nvPr/>
        </p:nvSpPr>
        <p:spPr>
          <a:xfrm>
            <a:off x="4716360" y="36640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ser</cp:lastModifiedBy>
  <dcterms:modified xsi:type="dcterms:W3CDTF">2011-03-12T07:52:32Z</dcterms:modified>
  <cp:revision>757</cp:revision>
  <dc:subject/>
  <dc:title>Слайд 1</dc:title>
</cp:coreProperties>
</file>