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8B22-DEEA-4D41-98EA-BE11EAAD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BA92-7190-4BC5-B8DC-73161BA6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F41D-7391-4E27-A315-4D87E461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7F9-501A-45D7-AC7B-5878E576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D59A-DE4D-4017-B900-2D6178A7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F42-DF1F-41AC-A90C-97A2ACB4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3478-B828-4929-A726-0528DA24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669-C74F-4B02-BB27-2C4AFCBF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50C0-5505-4D0F-8ED1-6106087A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26E-12D1-4644-B17C-8381AFB5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1BE-C079-4C23-9503-700E03E4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74EB-CAB3-472F-A3C6-FF69A965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EA57-C024-4048-A449-73FF536829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Тесты по технологии 6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Скругленный прямоугольник 3"/>
          <p:cNvSpPr/>
          <p:nvPr/>
        </p:nvSpPr>
        <p:spPr>
          <a:xfrm>
            <a:off x="1547640" y="1052640"/>
            <a:ext cx="252288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ст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/>
          <p:cNvSpPr/>
          <p:nvPr/>
        </p:nvSpPr>
        <p:spPr>
          <a:xfrm>
            <a:off x="4716360" y="1052640"/>
            <a:ext cx="252252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ст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6"/>
          <p:cNvSpPr/>
          <p:nvPr/>
        </p:nvSpPr>
        <p:spPr>
          <a:xfrm>
            <a:off x="1547640" y="184464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ст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7"/>
          <p:cNvSpPr/>
          <p:nvPr/>
        </p:nvSpPr>
        <p:spPr>
          <a:xfrm>
            <a:off x="2843280" y="5445000"/>
            <a:ext cx="300024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ойти все те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9"/>
          <p:cNvSpPr/>
          <p:nvPr/>
        </p:nvSpPr>
        <p:spPr>
          <a:xfrm>
            <a:off x="4716360" y="184464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ст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10"/>
          <p:cNvSpPr/>
          <p:nvPr/>
        </p:nvSpPr>
        <p:spPr>
          <a:xfrm>
            <a:off x="1547640" y="2637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ст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11"/>
          <p:cNvSpPr/>
          <p:nvPr/>
        </p:nvSpPr>
        <p:spPr>
          <a:xfrm>
            <a:off x="4716360" y="2637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ст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12"/>
          <p:cNvSpPr/>
          <p:nvPr/>
        </p:nvSpPr>
        <p:spPr>
          <a:xfrm>
            <a:off x="1547640" y="3429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ст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13"/>
          <p:cNvSpPr/>
          <p:nvPr/>
        </p:nvSpPr>
        <p:spPr>
          <a:xfrm>
            <a:off x="4716360" y="3429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ст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14"/>
          <p:cNvSpPr/>
          <p:nvPr/>
        </p:nvSpPr>
        <p:spPr>
          <a:xfrm>
            <a:off x="1547640" y="4221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ст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15"/>
          <p:cNvSpPr/>
          <p:nvPr/>
        </p:nvSpPr>
        <p:spPr>
          <a:xfrm>
            <a:off x="4716360" y="4221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ст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2. Пороки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557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) Что такое порок древесин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755640" y="2205000"/>
            <a:ext cx="3456000" cy="172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) отклонение от нормы в строении, внешнем виде и наличие поврежд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4"/>
          <p:cNvSpPr/>
          <p:nvPr/>
        </p:nvSpPr>
        <p:spPr>
          <a:xfrm>
            <a:off x="2700360" y="4149720"/>
            <a:ext cx="3425760" cy="1943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естественное стро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6"/>
          <p:cNvSpPr/>
          <p:nvPr/>
        </p:nvSpPr>
        <p:spPr>
          <a:xfrm>
            <a:off x="4716360" y="2205000"/>
            <a:ext cx="3727440" cy="172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изменения фор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2. Пороки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196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зываются механические повреждения древесины при заготовке, транспортировке и обработ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трещи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4"/>
          <p:cNvSpPr/>
          <p:nvPr/>
        </p:nvSpPr>
        <p:spPr>
          <a:xfrm>
            <a:off x="785880" y="428616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дефек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5"/>
          <p:cNvSpPr/>
          <p:nvPr/>
        </p:nvSpPr>
        <p:spPr>
          <a:xfrm>
            <a:off x="4716360" y="429264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свилеват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уч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2. Пороки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) Какие пороки древесины особенно распространен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овреждения при заготов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4"/>
          <p:cNvSpPr/>
          <p:nvPr/>
        </p:nvSpPr>
        <p:spPr>
          <a:xfrm>
            <a:off x="2730600" y="429264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грибковые пора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учки, трещи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2. Пороки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Как пороки влияют на качество изделий из древеси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нижают качество издел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4"/>
          <p:cNvSpPr/>
          <p:nvPr/>
        </p:nvSpPr>
        <p:spPr>
          <a:xfrm>
            <a:off x="2730600" y="429264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улучшают качество издел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не влияют на качество издел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2. Пороки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Из-за чего образуются трещи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кругленный прямоугольник 3"/>
          <p:cNvSpPr/>
          <p:nvPr/>
        </p:nvSpPr>
        <p:spPr>
          <a:xfrm>
            <a:off x="755640" y="2565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из-за большой влажности древеси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4"/>
          <p:cNvSpPr/>
          <p:nvPr/>
        </p:nvSpPr>
        <p:spPr>
          <a:xfrm>
            <a:off x="755640" y="400536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из-за сильных мороз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6"/>
          <p:cNvSpPr/>
          <p:nvPr/>
        </p:nvSpPr>
        <p:spPr>
          <a:xfrm>
            <a:off x="4716360" y="257328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из-за неправильной транспортиро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7"/>
          <p:cNvSpPr/>
          <p:nvPr/>
        </p:nvSpPr>
        <p:spPr>
          <a:xfrm>
            <a:off x="4716360" y="400536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вследствие нарушения процесса обрабо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3. Чертеж детали. Сборочный черт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Как называется графическое изображение изделия, выполненное с помощью чертежных инструментов по определенным правила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черте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эски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технический рисун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технологическая ка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3. Чертеж детали. Сборочный черт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Что называют рабочими чертежам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борочные чертеж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4"/>
          <p:cNvSpPr/>
          <p:nvPr/>
        </p:nvSpPr>
        <p:spPr>
          <a:xfrm>
            <a:off x="755640" y="443700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сборочный чертеж и чертежи дета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6"/>
          <p:cNvSpPr/>
          <p:nvPr/>
        </p:nvSpPr>
        <p:spPr>
          <a:xfrm>
            <a:off x="4716360" y="300528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чертежи дета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7"/>
          <p:cNvSpPr/>
          <p:nvPr/>
        </p:nvSpPr>
        <p:spPr>
          <a:xfrm>
            <a:off x="4716360" y="443700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чертежи, выполненные на рабочем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3. Чертеж детали. Сборочный черт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Какое изображение содержит сведения о форме, размерах и материале издел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рисун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технологическая кар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черте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сх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3. Чертеж детали. Сборочный черт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Как называется изображение изделия, состоящего из нескольких детале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черте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сборочный черте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технический рисун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эск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3. Чертеж детали. Сборочный черт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Как называются предельные размеры очертания предмет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ина и шир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ширина и высо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высота и дл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габаритные раз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но: 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шибки: 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метка: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10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5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3. Чертеж детали. Сборочный черт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Что можно определить по специфика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Скругленный прямоугольник 3"/>
          <p:cNvSpPr/>
          <p:nvPr/>
        </p:nvSpPr>
        <p:spPr>
          <a:xfrm>
            <a:off x="755640" y="2421000"/>
            <a:ext cx="3456000" cy="1719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название детали и материал, из которого она изготовле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4"/>
          <p:cNvSpPr/>
          <p:nvPr/>
        </p:nvSpPr>
        <p:spPr>
          <a:xfrm>
            <a:off x="2730600" y="4292640"/>
            <a:ext cx="342576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материал изделия и порядок его изгото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6"/>
          <p:cNvSpPr/>
          <p:nvPr/>
        </p:nvSpPr>
        <p:spPr>
          <a:xfrm>
            <a:off x="4716360" y="2421000"/>
            <a:ext cx="3727440" cy="172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масштаб детали и ее разме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4. Конструирование и моделирование издел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Что такое конструирова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Скругленный прямоугольник 3"/>
          <p:cNvSpPr/>
          <p:nvPr/>
        </p:nvSpPr>
        <p:spPr>
          <a:xfrm>
            <a:off x="755640" y="2421000"/>
            <a:ext cx="3456000" cy="1719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замыс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4"/>
          <p:cNvSpPr/>
          <p:nvPr/>
        </p:nvSpPr>
        <p:spPr>
          <a:xfrm>
            <a:off x="2730600" y="4292640"/>
            <a:ext cx="342576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технологичное, прочное, надежное, экономичное издел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6"/>
          <p:cNvSpPr/>
          <p:nvPr/>
        </p:nvSpPr>
        <p:spPr>
          <a:xfrm>
            <a:off x="4716360" y="2421000"/>
            <a:ext cx="3727440" cy="172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этап создания издел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4. Конструирование и моделирование издел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Что относится к основным принципам конструирова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Скругленный прямоугольник 3"/>
          <p:cNvSpPr/>
          <p:nvPr/>
        </p:nvSpPr>
        <p:spPr>
          <a:xfrm>
            <a:off x="755640" y="2708280"/>
            <a:ext cx="3456000" cy="1719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рочность, надежность, экономич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4"/>
          <p:cNvSpPr/>
          <p:nvPr/>
        </p:nvSpPr>
        <p:spPr>
          <a:xfrm>
            <a:off x="2730600" y="4579920"/>
            <a:ext cx="3425760" cy="201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форма, назначение, ц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6"/>
          <p:cNvSpPr/>
          <p:nvPr/>
        </p:nvSpPr>
        <p:spPr>
          <a:xfrm>
            <a:off x="4716360" y="2708280"/>
            <a:ext cx="3727440" cy="172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материал, размер, ве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4. Конструирование и моделирование издел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Что называется вариативность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Скругленный прямоугольник 3"/>
          <p:cNvSpPr/>
          <p:nvPr/>
        </p:nvSpPr>
        <p:spPr>
          <a:xfrm>
            <a:off x="755640" y="2421000"/>
            <a:ext cx="3456000" cy="1719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возможность изменения формы предм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4"/>
          <p:cNvSpPr/>
          <p:nvPr/>
        </p:nvSpPr>
        <p:spPr>
          <a:xfrm>
            <a:off x="2730600" y="4292640"/>
            <a:ext cx="342576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возможность различного применения из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6"/>
          <p:cNvSpPr/>
          <p:nvPr/>
        </p:nvSpPr>
        <p:spPr>
          <a:xfrm>
            <a:off x="4716360" y="2421000"/>
            <a:ext cx="3727440" cy="172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 многовариантность в конструиров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4. Конструирование и моделирование издел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Что такое моделирова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Скругленный прямоугольник 3"/>
          <p:cNvSpPr/>
          <p:nvPr/>
        </p:nvSpPr>
        <p:spPr>
          <a:xfrm>
            <a:off x="755640" y="2421000"/>
            <a:ext cx="3456000" cy="1719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роцесс испытания мод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4"/>
          <p:cNvSpPr/>
          <p:nvPr/>
        </p:nvSpPr>
        <p:spPr>
          <a:xfrm>
            <a:off x="2730600" y="4292640"/>
            <a:ext cx="342576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разработка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кругленный прямоугольник 6"/>
          <p:cNvSpPr/>
          <p:nvPr/>
        </p:nvSpPr>
        <p:spPr>
          <a:xfrm>
            <a:off x="4716360" y="2421000"/>
            <a:ext cx="3727440" cy="172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оздание мод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4. Конструирование и моделирование издел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С чего начинается конструирова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Скругленный прямоугольник 3"/>
          <p:cNvSpPr/>
          <p:nvPr/>
        </p:nvSpPr>
        <p:spPr>
          <a:xfrm>
            <a:off x="755640" y="2421000"/>
            <a:ext cx="3456000" cy="1719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 изготовления мод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4"/>
          <p:cNvSpPr/>
          <p:nvPr/>
        </p:nvSpPr>
        <p:spPr>
          <a:xfrm>
            <a:off x="2730600" y="4292640"/>
            <a:ext cx="342576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с выполнения чертежей из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6"/>
          <p:cNvSpPr/>
          <p:nvPr/>
        </p:nvSpPr>
        <p:spPr>
          <a:xfrm>
            <a:off x="4716360" y="2421000"/>
            <a:ext cx="3727440" cy="172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о зрительного представления издел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5. Ступенчатое соединение брус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Какой инструмент необходим для нанесения разметки соедине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угольник, рейсмус, линей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линейка, угольник, рейсмус, карандаш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линейка, угольн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карандаш, линей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5. Ступенчатое соединение брус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В какой строке правильно указаны виды соединений в половину толщины брус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Скругленный прямоугольник 3"/>
          <p:cNvSpPr/>
          <p:nvPr/>
        </p:nvSpPr>
        <p:spPr>
          <a:xfrm>
            <a:off x="755640" y="2708280"/>
            <a:ext cx="3456000" cy="1719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концевое, серединное, ящич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4"/>
          <p:cNvSpPr/>
          <p:nvPr/>
        </p:nvSpPr>
        <p:spPr>
          <a:xfrm>
            <a:off x="2730600" y="4579920"/>
            <a:ext cx="3425760" cy="201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по длине, под прямым углом посередине, под прямым углом на кон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6"/>
          <p:cNvSpPr/>
          <p:nvPr/>
        </p:nvSpPr>
        <p:spPr>
          <a:xfrm>
            <a:off x="4716360" y="2708280"/>
            <a:ext cx="3727440" cy="172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од углом, по дли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5. Ступенчатое соединение брус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Какой пилой запиливают соедин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Скругленный прямоугольник 3"/>
          <p:cNvSpPr/>
          <p:nvPr/>
        </p:nvSpPr>
        <p:spPr>
          <a:xfrm>
            <a:off x="755640" y="2708280"/>
            <a:ext cx="3456000" cy="1719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 крупными зубь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4"/>
          <p:cNvSpPr/>
          <p:nvPr/>
        </p:nvSpPr>
        <p:spPr>
          <a:xfrm>
            <a:off x="2730600" y="4579920"/>
            <a:ext cx="3425760" cy="201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с мелкими зубьями и малой развод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6"/>
          <p:cNvSpPr/>
          <p:nvPr/>
        </p:nvSpPr>
        <p:spPr>
          <a:xfrm>
            <a:off x="4716360" y="2708280"/>
            <a:ext cx="3727440" cy="172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о средними зубь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5. Ступенчатое соединение брус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Какой инструмент используют для подрезания поверхности соедине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 зуби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шлифовальную шкур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 стамес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напи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1. Заготовка и свойства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) Чем занимаются лесничеств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 охраняют и выращивают ле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4"/>
          <p:cNvSpPr/>
          <p:nvPr/>
        </p:nvSpPr>
        <p:spPr>
          <a:xfrm>
            <a:off x="785880" y="428616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обучают лес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5"/>
          <p:cNvSpPr/>
          <p:nvPr/>
        </p:nvSpPr>
        <p:spPr>
          <a:xfrm>
            <a:off x="4716360" y="428616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контролируют работы в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руководят рубкой ле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5. Ступенчатое соединение брус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 Что забивают в отверстия, просверленные в детали параллельно торна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 наг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шуруп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 гвозд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доло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6. Изготовление цилиндрических деталей ручным инструмен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Какой инструмент необходим для разметки цилиндрической дет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угольник, рейсмус, линей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линейка, угольник, рейсмус, карандаш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линейка, угольн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карандаш, линей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6. Изготовление цилиндрических деталей ручным инструмен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На сколько ширина бруска должна быть больше диаметра издел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на 5-7 м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4"/>
          <p:cNvSpPr/>
          <p:nvPr/>
        </p:nvSpPr>
        <p:spPr>
          <a:xfrm>
            <a:off x="273060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на 1-2 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на 10 м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6. Изготовление цилиндрических деталей ручным инструмен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Какой инструмент применяется для измерения диаметр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линей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рейсму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ронцирку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6. Изготовление цилиндрических деталей ручным инструмен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С помощью какого инструмента можно получить из квадрата восьмигранник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 помощью напиль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с помощью стамес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 помощью шлифовальной шкур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с помощью руба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6. Изготовление цилиндрических деталей ручным инструмен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Чем отличаются разметочный циркуль и кронциркул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иной ножек (у кронциркуля они длинне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4"/>
          <p:cNvSpPr/>
          <p:nvPr/>
        </p:nvSpPr>
        <p:spPr>
          <a:xfrm>
            <a:off x="273060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формой ножек (у кронциркуля они в форме дуг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остротой ноже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7. Устройство токарного станка по дерев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Какую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у приобретает заготовка в результате обработки Учение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форму тела вра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форму куб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форму приз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форму пирам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7. Устройство токарного станка по дерев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Для чего служит передняя баб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я передачи вращательного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вижения заготовке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4"/>
          <p:cNvSpPr/>
          <p:nvPr/>
        </p:nvSpPr>
        <p:spPr>
          <a:xfrm>
            <a:off x="2730600" y="4807080"/>
            <a:ext cx="3425760" cy="1430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для установки и крепления загот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ля закрепления заготовки и передачи ей вращательного дви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7. Устройство токарного станка по дерев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Для чего служит задняя бабка токарного стан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я поддержания и закрепления загото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4"/>
          <p:cNvSpPr/>
          <p:nvPr/>
        </p:nvSpPr>
        <p:spPr>
          <a:xfrm>
            <a:off x="2730600" y="4807080"/>
            <a:ext cx="3425760" cy="1430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ля поддержания загот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ля закрепления инструмен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7. Устройство токарного станка по дерев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Как называется рабочий вал передней бабки токарного стан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шпинд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ос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терже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в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1. Заготовка и свойства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) Каким способом из древесины можно получить картон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резани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4"/>
          <p:cNvSpPr/>
          <p:nvPr/>
        </p:nvSpPr>
        <p:spPr>
          <a:xfrm>
            <a:off x="785880" y="428616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термическим способ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5"/>
          <p:cNvSpPr/>
          <p:nvPr/>
        </p:nvSpPr>
        <p:spPr>
          <a:xfrm>
            <a:off x="4716360" y="429264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получить картон из древесины невозмо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химическим способ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7. Устройство токарного станка по дерев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Опорой для чего служит подручник с держателе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я контрольного инструмен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4"/>
          <p:cNvSpPr/>
          <p:nvPr/>
        </p:nvSpPr>
        <p:spPr>
          <a:xfrm>
            <a:off x="2730600" y="4807080"/>
            <a:ext cx="3425760" cy="1430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режущего инстру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измерительного инструмен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7. Устройство токарного станка по дерев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Что на токарном станке закрепляется с применением приспособле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заготовка на задней баб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заготовка на правой стороне передней ба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заготовка на стани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рез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7. Устройство токарного станка по дерев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)В какой строке правильно перечислены приспособления к токарному станку по древесин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атрон, планшайб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4"/>
          <p:cNvSpPr/>
          <p:nvPr/>
        </p:nvSpPr>
        <p:spPr>
          <a:xfrm>
            <a:off x="2730600" y="4807080"/>
            <a:ext cx="3425760" cy="1430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патрон, трезуб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трезубец, планшайба, пат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8. Технология точения древесины на токарном ста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Для чего применяется полукруглая стамес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Скругленный прямоугольник 3"/>
          <p:cNvSpPr/>
          <p:nvPr/>
        </p:nvSpPr>
        <p:spPr>
          <a:xfrm>
            <a:off x="755640" y="2276640"/>
            <a:ext cx="345600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я первоначальной грубой обточки  и приточки  криволинейных поверехностей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4"/>
          <p:cNvSpPr/>
          <p:nvPr/>
        </p:nvSpPr>
        <p:spPr>
          <a:xfrm>
            <a:off x="2730600" y="4807080"/>
            <a:ext cx="3425760" cy="2050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ля обработки де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6"/>
          <p:cNvSpPr/>
          <p:nvPr/>
        </p:nvSpPr>
        <p:spPr>
          <a:xfrm>
            <a:off x="4716360" y="2349360"/>
            <a:ext cx="3727440" cy="230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ля первоначальной грубой обточки загото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8. Технология точения древесины на токарном ста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На какие этапы делится точение древесины по качеств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черновое и чистов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черновое и окончатель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ачественное и некачествен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чистовое и предварите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8. Технология точения древесины на токарном ста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Как подводят резец к вращающейся дет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быстр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Скругленный прямоугольник 4"/>
          <p:cNvSpPr/>
          <p:nvPr/>
        </p:nvSpPr>
        <p:spPr>
          <a:xfrm>
            <a:off x="2730600" y="4807080"/>
            <a:ext cx="3425760" cy="1430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резец подводят к остановившейся де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медлен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8. Технология точения древесины на токарном ста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Для чего на торцах заготовки-бруска проводят диагон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я деления торца на четыре ч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4"/>
          <p:cNvSpPr/>
          <p:nvPr/>
        </p:nvSpPr>
        <p:spPr>
          <a:xfrm>
            <a:off x="2730600" y="4807080"/>
            <a:ext cx="3425760" cy="1430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ля построения центра окру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ля нахождения геометрического цент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8. Технология точения древесины на токарном ста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Как проверить, надежно ли закреплена заготовка и не ударится ли она о подручник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делать рукой несколько оборотов загото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кругленный прямоугольник 4"/>
          <p:cNvSpPr/>
          <p:nvPr/>
        </p:nvSpPr>
        <p:spPr>
          <a:xfrm>
            <a:off x="2730600" y="4807080"/>
            <a:ext cx="3425760" cy="16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измерить расстояние между заготовкой и подручни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окачать заготовку ру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8. Технология точения древесины на токарном ста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Чем крепится заготовка в планшайб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гвоздями через отверст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юбель-гвоздями через отверст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шурупами через отверст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болтами или вин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9. Заточка инструмен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Как проверить качество заточки инструмент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ровести пальцем вдоль лез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4"/>
          <p:cNvSpPr/>
          <p:nvPr/>
        </p:nvSpPr>
        <p:spPr>
          <a:xfrm>
            <a:off x="2730600" y="4807080"/>
            <a:ext cx="3425760" cy="16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осмотреть или выполнить срез по бума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ровести пальцем поперек лез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1. Заготовка и свойства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) Какие лесоматериалы получают при распиловке хлыс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бревно, кря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2730600" y="429264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бревно, кряж, пол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хлыст, брев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9. Заточка инструмен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В какой строке дана правильная последовательность заточки инструмент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заточка на наждачном круге, доводка, прав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Скругленный прямоугольник 4"/>
          <p:cNvSpPr/>
          <p:nvPr/>
        </p:nvSpPr>
        <p:spPr>
          <a:xfrm>
            <a:off x="2730600" y="4807080"/>
            <a:ext cx="3425760" cy="16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заточка на наждачном круге, правка, довод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оводка, заточка на наждачном круге, прав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9. Заточка инструмен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Что называется передней поверхностью лезв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оверхность, по которой сходит срезаемая струж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кругленный прямоугольник 4"/>
          <p:cNvSpPr/>
          <p:nvPr/>
        </p:nvSpPr>
        <p:spPr>
          <a:xfrm>
            <a:off x="2730600" y="4807080"/>
            <a:ext cx="3425760" cy="16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кромка лез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оверхность, обращенная к обрабатываемой заготов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9. Заточка инструмен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Что используется для доводки и правки режущего инструмент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брус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4"/>
          <p:cNvSpPr/>
          <p:nvPr/>
        </p:nvSpPr>
        <p:spPr>
          <a:xfrm>
            <a:off x="2730600" y="4807080"/>
            <a:ext cx="3425760" cy="16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рей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осел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9. Заточка инструмен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Какую форму имеет лезв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рямоуголь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кругленный прямоугольник 4"/>
          <p:cNvSpPr/>
          <p:nvPr/>
        </p:nvSpPr>
        <p:spPr>
          <a:xfrm>
            <a:off x="2730600" y="4807080"/>
            <a:ext cx="3425760" cy="16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полук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л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0. Составные части маш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Механизмы передачи движения могут состоя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из шпинд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кругленный прямоугольник 4"/>
          <p:cNvSpPr/>
          <p:nvPr/>
        </p:nvSpPr>
        <p:spPr>
          <a:xfrm>
            <a:off x="2730600" y="4807080"/>
            <a:ext cx="3425760" cy="16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зубчатых, ременных и реечных мех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исполнительного механиз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0. Составные части маш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Машина состои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из трех составных ча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тысячи составных ча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яти составных ча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двух главных ча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0. Составные части маш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Из каких основных частей состоит машин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из двигателя, передаточного и исполнительного механизм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Скругленный прямоугольник 4"/>
          <p:cNvSpPr/>
          <p:nvPr/>
        </p:nvSpPr>
        <p:spPr>
          <a:xfrm>
            <a:off x="2411280" y="4807080"/>
            <a:ext cx="4032360" cy="16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механизма передачи или преобразования движения и корпуса.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вигателя, рабочего органа и корпусп;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0. Составные части маш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Какой передаточный механизм используется в велосипед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зубчатая переда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4"/>
          <p:cNvSpPr/>
          <p:nvPr/>
        </p:nvSpPr>
        <p:spPr>
          <a:xfrm>
            <a:off x="2411280" y="4807080"/>
            <a:ext cx="4032360" cy="16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ременная переда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цепная переда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0. Составные части маш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Из каких частей состоит зубчатая передач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из звеньев замкнутой шарнирной цеп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4"/>
          <p:cNvSpPr/>
          <p:nvPr/>
        </p:nvSpPr>
        <p:spPr>
          <a:xfrm>
            <a:off x="2411280" y="4807080"/>
            <a:ext cx="4032360" cy="16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вух колес-вездочек и шарнирной цеп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вух колес-звездоче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0. Составные части маш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Из каких частей состоит ременная передач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из двух шкивов и рем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из клиновидного ремня и в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из двух шкив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из двух зубчатых ко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1. Заготовка и свойства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Как называется природный рисунок на обработанной поверхности древеси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ердцевинные лу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2730600" y="429264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текс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рисун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0. Составные части маш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)Какие виды работ выполняют транспортные машин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еремещение груз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обработка 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еревозка грузов и люд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контроль за работой тран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0. Составные части маш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)Что является передаточным механизмом в сверлильном стан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ременная переда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зубчатая переда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реечная переда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цепная переда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0. Составные части маш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)Чем отличаются друг от друга технологические машин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вигательным механизм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Скругленный прямоугольник 4"/>
          <p:cNvSpPr/>
          <p:nvPr/>
        </p:nvSpPr>
        <p:spPr>
          <a:xfrm>
            <a:off x="2411280" y="4807080"/>
            <a:ext cx="4032360" cy="16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исполнительным механизм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ередаточным механизм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0. Составные части маш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)Каким может быть соединение колеса с вал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шпоночн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болтов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анавочн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шилеч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1. Заготовка и свойства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Какие способы сушки используются для высушивания древеси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естественная суш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2771640" y="4292640"/>
            <a:ext cx="3426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сушка над нагревательным прибо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искусственная суш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1. Заготовка и свойства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6682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зывается наиболее толстая часть бревн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штаб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55640" y="429264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чура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4716360" y="429264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верш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ом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1. Заготовка и свойства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) Что называется лесоматериал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кругленный прямоугольник 3"/>
          <p:cNvSpPr/>
          <p:nvPr/>
        </p:nvSpPr>
        <p:spPr>
          <a:xfrm>
            <a:off x="755640" y="2205000"/>
            <a:ext cx="3456000" cy="1935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) все материалы из древесины, сохранившие ее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 природ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стоя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4"/>
          <p:cNvSpPr/>
          <p:nvPr/>
        </p:nvSpPr>
        <p:spPr>
          <a:xfrm>
            <a:off x="2771640" y="4292640"/>
            <a:ext cx="3426120" cy="22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)все материалы из древес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6"/>
          <p:cNvSpPr/>
          <p:nvPr/>
        </p:nvSpPr>
        <p:spPr>
          <a:xfrm>
            <a:off x="4716360" y="2205000"/>
            <a:ext cx="3727440" cy="194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б)все материалы, полученные из лесной древес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Customer</cp:lastModifiedBy>
  <dcterms:modified xsi:type="dcterms:W3CDTF">2011-03-18T13:18:51Z</dcterms:modified>
  <cp:revision>743</cp:revision>
  <dc:subject/>
  <dc:title>Слайд 1</dc:title>
</cp:coreProperties>
</file>