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522-8987-4AD4-B514-68ED3697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21A-CB15-4F7F-B44B-DB42E68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0B9-D0B8-4016-B4E7-CF1F6C53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D99-F680-4DBA-90DA-09FE8C51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1A7-89DE-4E19-88B0-CFD7FF50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9CB-77DA-4135-977B-527EF86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3CF-41A5-4859-A3A6-6A7A9BE9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3A4-5404-4DB9-89F5-0C2F74DC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7B5-A4FB-4345-B606-E71B6635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54C-FEBC-4AD8-A5C3-1C646A70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106-DE9B-4CF8-A988-5076225E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796-937E-4675-AB09-8645084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A2F-9FC5-493D-B8AD-F48E1E419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ы по технологии 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547640" y="1052640"/>
            <a:ext cx="25228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4716360" y="1052640"/>
            <a:ext cx="252252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54764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2843280" y="5445000"/>
            <a:ext cx="30002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йти все 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9"/>
          <p:cNvSpPr/>
          <p:nvPr/>
        </p:nvSpPr>
        <p:spPr>
          <a:xfrm>
            <a:off x="4716360" y="184464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10"/>
          <p:cNvSpPr/>
          <p:nvPr/>
        </p:nvSpPr>
        <p:spPr>
          <a:xfrm>
            <a:off x="154764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1"/>
          <p:cNvSpPr/>
          <p:nvPr/>
        </p:nvSpPr>
        <p:spPr>
          <a:xfrm>
            <a:off x="4716360" y="2637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2"/>
          <p:cNvSpPr/>
          <p:nvPr/>
        </p:nvSpPr>
        <p:spPr>
          <a:xfrm>
            <a:off x="154764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4716360" y="3429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4"/>
          <p:cNvSpPr/>
          <p:nvPr/>
        </p:nvSpPr>
        <p:spPr>
          <a:xfrm>
            <a:off x="154764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5"/>
          <p:cNvSpPr/>
          <p:nvPr/>
        </p:nvSpPr>
        <p:spPr>
          <a:xfrm>
            <a:off x="4716360" y="422100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ст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Что такое порок древеси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755640" y="2205000"/>
            <a:ext cx="345600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отклонение от нормы в строении, внешнем виде и наличие повр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700360" y="4149720"/>
            <a:ext cx="3425760" cy="194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естествен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4716360" y="2205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менения фор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6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ются механические повреждения древесины при заготовке, транспортировке и обработ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трещ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деф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вилеват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у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 Какие пороки древесины особенно распростране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вреждения при загот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грибковые по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учки, трещ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Как пороки влияют на качество изделий из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нижают качество изде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улучшают качество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е влияют на качество изде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2. Пороки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Из-за чего образуются трещ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755640" y="2565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-за большой влажности древеси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755640" y="40053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з-за сильных моро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6"/>
          <p:cNvSpPr/>
          <p:nvPr/>
        </p:nvSpPr>
        <p:spPr>
          <a:xfrm>
            <a:off x="4716360" y="25732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-за неправильной транспортир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4716360" y="400536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вследствие нарушения процесса об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Как называется графическое изображение изделия, выполненное с помощью чертежных инструментов по определенным правил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эск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ехнический 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технологическая к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Что называют рабочими чертеж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борочные чертеж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755640" y="443700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борочный чертеж и чертежи дета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6"/>
          <p:cNvSpPr/>
          <p:nvPr/>
        </p:nvSpPr>
        <p:spPr>
          <a:xfrm>
            <a:off x="4716360" y="300528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чертежи дета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4716360" y="443700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чертежи, выполненные на рабоче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Какое изображение содержит сведения о форме, размерах и материале издел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технологическая к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сх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 называется изображение изделия, состоящего из нескольких детал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сборочный черт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ехнический 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эск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Как называются предельные размеры очертания предм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а и шир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ирина и выс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высота и д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габаритные раз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: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шибки: 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ка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0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3. Чертеж детали. Сборочный черте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Что можно определить по специфик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название детали и материал, из которого она изготовл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атериал изделия и порядок его изгото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асштаб детали и ее разм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Что такое констру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мы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ехнологичное, прочное, надежное, экономичное изде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этап создания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Что относится к основным принципам конструиров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755640" y="270828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чность, надежность, экономи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"/>
          <p:cNvSpPr/>
          <p:nvPr/>
        </p:nvSpPr>
        <p:spPr>
          <a:xfrm>
            <a:off x="2730600" y="4579920"/>
            <a:ext cx="3425760" cy="201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орма, назначение, ц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6"/>
          <p:cNvSpPr/>
          <p:nvPr/>
        </p:nvSpPr>
        <p:spPr>
          <a:xfrm>
            <a:off x="4716360" y="270828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атериал, размер, в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Что называется вариативность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возможность изменения формы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возможность различного применения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многовариантность в конструиров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Что такое модел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цесс испытания мод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азработка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оздание мод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4. Конструирование и моделирование издел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С чего начинается констру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кругленный прямоугольник 3"/>
          <p:cNvSpPr/>
          <p:nvPr/>
        </p:nvSpPr>
        <p:spPr>
          <a:xfrm>
            <a:off x="755640" y="242100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 изготовления мод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4"/>
          <p:cNvSpPr/>
          <p:nvPr/>
        </p:nvSpPr>
        <p:spPr>
          <a:xfrm>
            <a:off x="2730600" y="4292640"/>
            <a:ext cx="3425760" cy="201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 выполнения чертежей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4716360" y="242100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о зрительного представления издел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ой инструмент необходим для нанесения разметки соедин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гольник, рейсмус, линей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инейка, угольник, рейсмус, карандаш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инейка, 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арандаш, лин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 какой строке правильно указаны виды соединений в половину толщины брус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Скругленный прямоугольник 3"/>
          <p:cNvSpPr/>
          <p:nvPr/>
        </p:nvSpPr>
        <p:spPr>
          <a:xfrm>
            <a:off x="755640" y="270828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концевое, серединное, ящи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4"/>
          <p:cNvSpPr/>
          <p:nvPr/>
        </p:nvSpPr>
        <p:spPr>
          <a:xfrm>
            <a:off x="2730600" y="4579920"/>
            <a:ext cx="3425760" cy="201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о длине, под прямым углом посередине, под прямым углом на ко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6"/>
          <p:cNvSpPr/>
          <p:nvPr/>
        </p:nvSpPr>
        <p:spPr>
          <a:xfrm>
            <a:off x="4716360" y="270828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д углом, по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Какой пилой запиливают соедин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3"/>
          <p:cNvSpPr/>
          <p:nvPr/>
        </p:nvSpPr>
        <p:spPr>
          <a:xfrm>
            <a:off x="755640" y="2708280"/>
            <a:ext cx="3456000" cy="171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 крупными зубь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4"/>
          <p:cNvSpPr/>
          <p:nvPr/>
        </p:nvSpPr>
        <p:spPr>
          <a:xfrm>
            <a:off x="2730600" y="4579920"/>
            <a:ext cx="3425760" cy="201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 мелкими зубьями и малой разво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6"/>
          <p:cNvSpPr/>
          <p:nvPr/>
        </p:nvSpPr>
        <p:spPr>
          <a:xfrm>
            <a:off x="4716360" y="2708280"/>
            <a:ext cx="3727440" cy="172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о средними зубь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ой инструмент используют для подрезания поверхности соедин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зуб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лифовальную шкур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стамес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напи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Чем занимаются лесничест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охраняют и выращивают ле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учают лес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4716360" y="428616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онтролируют работы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уководят рубкой ле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5. Ступенчатое соединение брус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Что забивают в отверстия, просверленные в детали параллельно торн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 наг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шуру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 гвоз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доло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ой инструмент необходим для разметки цилиндрической дет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угольник, рейсмус, линей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линейка, угольник, рейсмус, карандаш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линейка, уголь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арандаш, лин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На сколько ширина бруска должна быть больше диаметра издел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на 5-7 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273060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на 1-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на 10 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кой инструмент применяется для измерения диамет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линей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рейсму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ронцирку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С помощью какого инструмента можно получить из квадрата восьмигранни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 помощью напи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 помощью стамес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 помощью шлифовальной шкур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с помощью ру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6. Изготовление цилиндрических деталей ручным инстру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Чем отличаются разметочный циркуль и кронцирку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иной ножек (у кронциркуля они длинне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"/>
          <p:cNvSpPr/>
          <p:nvPr/>
        </p:nvSpPr>
        <p:spPr>
          <a:xfrm>
            <a:off x="273060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формой ножек (у кронциркуля они в форме дуг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стротой нож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Какую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у приобретает заготовка в результате обработки Учени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форму тела вра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форму ку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форму приз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форму пирам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Для чего служит передняя баб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ередачи вращательного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вижения заготовке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для установки и крепления загот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закрепления заготовки и передачи ей вращательного дви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Для чего служит задняя бабка токарного стан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оддержания и закрепления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поддержания загот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закрепления инстру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 называется рабочий вал передней бабки токарного стан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пинд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о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стерж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Каким способом из древесины можно получить карто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ез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785880" y="428616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ермическим спосо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получить картон из древесины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химическим спосо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Опорой для чего служит подручник с держател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контрольного инстру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жущего инстр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мерительного инстру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Что на токарном станке закрепляется с применением приспособле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готовка на задней баб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готовка на правой стороне передней ба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заготовка на стан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ре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7. Устройство токарного станка по дере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В какой строке правильно перечислены приспособления к токарному станку по древеси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атрон, планшай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патрон, трезуб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трезубец, планшайба, пат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Для чего применяется полукруглая стамес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Скругленный прямоугольник 3"/>
          <p:cNvSpPr/>
          <p:nvPr/>
        </p:nvSpPr>
        <p:spPr>
          <a:xfrm>
            <a:off x="755640" y="2276640"/>
            <a:ext cx="3456000" cy="23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первоначальной грубой обточки  и приточки  криволинейных поверехносте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730600" y="4807080"/>
            <a:ext cx="3425760" cy="205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обработки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4716360" y="2349360"/>
            <a:ext cx="3727440" cy="230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первоначальной грубой обточки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На какие этапы делится точение древесины по качеств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черновое и чистов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черновое и окончатель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ачественное и некачествен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чистовое и предвар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Как подводят резец к вращающейся дет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ыстр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резец подводят к остановившейся дет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медлен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Для чего на торцах заготовки-бруска проводят диаго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ля деления торца на четыре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4"/>
          <p:cNvSpPr/>
          <p:nvPr/>
        </p:nvSpPr>
        <p:spPr>
          <a:xfrm>
            <a:off x="2730600" y="4807080"/>
            <a:ext cx="3425760" cy="143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ля построения центр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ля нахождения геометрического цен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Как проверить, надежно ли закреплена заготовка и не ударится ли она о подручни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делать рукой несколько оборотов загот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змерить расстояние между заготовкой и подручн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качать заготовку ру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8. Технология точения древесины на токарном ста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Чем крепится заготовка в планшайб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гвоздями через отверс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юбель-гвоздями через отверс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шурупами через отверст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болтами или ви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Как проверить качество заточки инстру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овести пальцем вдоль лез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смотреть или выполнить срез по бума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ровести пальцем поперек лез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 Какие лесоматериалы получают при распиловке хлы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ревно, кря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бревно, кряж, по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хлыст, брев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В какой строке дана правильная последовательность заточки инстру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аточка на наждачном круге, доводка, пра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аточка на наждачном круге, правка, дово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оводка, заточка на наждачном круге, прав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Что называется передней поверхностью лезв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оверхность, по которой сходит срезаемая струж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кромка лез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оверхность, обращенная к обрабатываемой заготов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Что используется для доводки и правки режущего инстру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брус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рей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осел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9. Заточка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Какую форму имеет лезв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рямоуг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полук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Механизмы передачи движения могут состоя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шпин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2730600" y="4807080"/>
            <a:ext cx="34257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зубчатых, ременных и реечных мех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сполнительного механиз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Машина состои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трех составных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ысячи составных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яти составных ча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двух главных ч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Из каких основных частей состоит маши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двигателя, передаточного и исполнительного мех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механизма передачи или преобразования движения и корпуса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вигателя, рабочего органа и корпусп;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Какой передаточный механизм используется в велосипе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зубчат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ременная пере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цепн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Из каких частей состоит зубчатая передач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звеньев замкнутой шарнирной цеп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двух колес-вездочек и шарнир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двух колес-звезд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Из каких частей состоит ременная передач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из двух шкивов и рем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з клиновидного ремня и в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з двух шкив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из двух зубчатых ко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Как называется природный рисунок на обработанной поверхности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сердцевинные лу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273060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текс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исун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Какие виды работ выполняют транспортные маши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перемещение груз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обработка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еревозка грузов и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контроль за работой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Что является передаточным механизмом в сверлильном стан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ременн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зубчат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реечная пере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цепная переда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360" y="1628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)Чем отличаются друг от друга технологические машин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Скругленный прямоугольник 3"/>
          <p:cNvSpPr/>
          <p:nvPr/>
        </p:nvSpPr>
        <p:spPr>
          <a:xfrm>
            <a:off x="755640" y="3068640"/>
            <a:ext cx="345600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двигательным механиз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4"/>
          <p:cNvSpPr/>
          <p:nvPr/>
        </p:nvSpPr>
        <p:spPr>
          <a:xfrm>
            <a:off x="2411280" y="4807080"/>
            <a:ext cx="4032360" cy="1646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исполнительным механ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6"/>
          <p:cNvSpPr/>
          <p:nvPr/>
        </p:nvSpPr>
        <p:spPr>
          <a:xfrm>
            <a:off x="4716360" y="3068640"/>
            <a:ext cx="372744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передаточным механиз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ст 10. Составные части ма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)Каким может быть соединение колеса с вал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Скругленный прямоугольник 3"/>
          <p:cNvSpPr/>
          <p:nvPr/>
        </p:nvSpPr>
        <p:spPr>
          <a:xfrm>
            <a:off x="755640" y="336708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поноч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4"/>
          <p:cNvSpPr/>
          <p:nvPr/>
        </p:nvSpPr>
        <p:spPr>
          <a:xfrm>
            <a:off x="755640" y="4807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болтов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6"/>
          <p:cNvSpPr/>
          <p:nvPr/>
        </p:nvSpPr>
        <p:spPr>
          <a:xfrm>
            <a:off x="4716360" y="337500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анавоч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7"/>
          <p:cNvSpPr/>
          <p:nvPr/>
        </p:nvSpPr>
        <p:spPr>
          <a:xfrm>
            <a:off x="4716360" y="4807080"/>
            <a:ext cx="37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шиле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Какие способы сушки используются для высушивания древеси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естественная суш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2771640" y="4292640"/>
            <a:ext cx="342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сушка над нагревательным приб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искусственная суш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6682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наиболее толстая часть брев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755640" y="2997360"/>
            <a:ext cx="345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а)штаб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29264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) чура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716360" y="4292640"/>
            <a:ext cx="378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) ве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4716360" y="3006720"/>
            <a:ext cx="372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)ком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ст 1. Заготовка и свойства древес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Что называется лесоматериало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755640" y="2205000"/>
            <a:ext cx="3456000" cy="1935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) все материалы из древесины, сохранившие ее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природ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стоя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2771640" y="4292640"/>
            <a:ext cx="3426120" cy="22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)все материалы из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4716360" y="2205000"/>
            <a:ext cx="3727440" cy="194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)все материалы, полученные из лесной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Customer</cp:lastModifiedBy>
  <dcterms:modified xsi:type="dcterms:W3CDTF">2011-03-18T13:18:51Z</dcterms:modified>
  <cp:revision>743</cp:revision>
  <dc:subject/>
  <dc:title>Слайд 1</dc:title>
</cp:coreProperties>
</file>