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92C1-EBD0-40C7-BBF1-F5B50A29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43A-1993-43EE-AFF8-DDB8998E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4DF-EC5E-4296-B641-343278EA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C0D0-492D-4CAD-B81C-90C4DB4F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B9E3-0AD3-4D8F-AAA0-A4226C86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C1CC-77B6-4AA0-BBC9-B78E15B8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845B-2EF2-4701-8BD0-B4E46A3A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2553-3E79-4E61-A703-2CDDC655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27E1-652F-44C4-8127-F119D2F7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2742-D503-43C4-B72E-4EB63746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1E7E-4ACE-4391-A246-63405C97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3331-DDDF-4989-9E53-724FF472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842D-0842-4863-8166-6EBA7A22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F1D0-8BB4-491B-8B31-0A1503D9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2331-1334-4D44-AD06-B3A972DE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DCC7-8982-49D1-81BF-F5EE6A13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4E3D-B6B1-4BB6-8379-9C5DB269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9AE4-50C2-4614-A217-8F95E61A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7E3-027E-4222-9A09-4993C1A2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74B0-97F1-49EF-860C-B5D2FD68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DE7-8C3F-45A0-88D7-C76B7F4A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3B0-F92A-46DE-9364-F3A26755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B4C9-FB40-46C2-AB9B-B8632F9A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225E-9DD3-4161-99B4-46567F5F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6766-FC2D-4CB0-8F44-CD031FDB1B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6607-EB72-439B-9B42-F464329E823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Великая Отечественная Войн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еликая Отечественная Вой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87640" y="1904760"/>
            <a:ext cx="405756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2 июня 1941 года в 4 часа утра  фашистская Германия без объявления войны вероломно напала на Советский Сою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4" descr="олб"/>
          <p:cNvPicPr/>
          <p:nvPr/>
        </p:nvPicPr>
        <p:blipFill>
          <a:blip r:embed="rId1"/>
          <a:stretch/>
        </p:blipFill>
        <p:spPr>
          <a:xfrm>
            <a:off x="15840" y="1844640"/>
            <a:ext cx="46418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еликая Отечественная Вой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мецкие войска почти в два раза превышали силы нашей армии. С первого дня войны весь народ поднялся на борьбу с враг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ми"/>
          <p:cNvPicPr/>
          <p:nvPr/>
        </p:nvPicPr>
        <p:blipFill>
          <a:blip r:embed="rId1"/>
          <a:stretch/>
        </p:blipFill>
        <p:spPr>
          <a:xfrm>
            <a:off x="5484960" y="2133720"/>
            <a:ext cx="36590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еликая Отечественная Вой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ного горя пришлось пережить нашему народу. Немецкие захватчики не щадили ни стариков, ни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па"/>
          <p:cNvPicPr/>
          <p:nvPr/>
        </p:nvPicPr>
        <p:blipFill>
          <a:blip r:embed="rId1"/>
          <a:stretch/>
        </p:blipFill>
        <p:spPr>
          <a:xfrm>
            <a:off x="0" y="1916280"/>
            <a:ext cx="48592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еликая Отечественная Вой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итлер связывал успех в войне с захватом Москвы, но нашим войскам во главе с генералом Г.К. Жуковым удалось разгромить немцев под Москвой. Это было первым крупным поражением Германии. Но впереди ещё были долгие годы вой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лод"/>
          <p:cNvPicPr/>
          <p:nvPr/>
        </p:nvPicPr>
        <p:blipFill>
          <a:blip r:embed="rId1"/>
          <a:stretch/>
        </p:blipFill>
        <p:spPr>
          <a:xfrm>
            <a:off x="5364000" y="1916280"/>
            <a:ext cx="3780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еликая Отечественная Вой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июле 1943 года после разгрома немецких войск под Сталинградом началось освобождение страны от немецких захватч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9" descr="дло"/>
          <p:cNvPicPr/>
          <p:nvPr/>
        </p:nvPicPr>
        <p:blipFill>
          <a:blip r:embed="rId1"/>
          <a:stretch/>
        </p:blipFill>
        <p:spPr>
          <a:xfrm>
            <a:off x="0" y="1844640"/>
            <a:ext cx="41702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еликая Отечественная Вой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преле 1945 года советские войска начали своё последнее наступление- на Берлин! 8 мая 1945 года Германия безоговорочно капитулировала. 24 июня 1945 года на Красной площади в ознаменование победы состоялся парад. Знамёна поверженных фашистских войск были брошены под ноги солдат- побе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6" descr="паэ"/>
          <p:cNvPicPr/>
          <p:nvPr/>
        </p:nvPicPr>
        <p:blipFill>
          <a:blip r:embed="rId1"/>
          <a:stretch/>
        </p:blipFill>
        <p:spPr>
          <a:xfrm>
            <a:off x="4932360" y="2133720"/>
            <a:ext cx="42116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еликая Отечественная Вой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Поклонной горе сооружён величественный мемориал Победы в Великой Отечественной войне 1941-1945 годов. Это вечный памятник тем, кто в жестокой схватке с врагом отстоял свободу и независимость нашей Род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7" descr="пв"/>
          <p:cNvPicPr/>
          <p:nvPr/>
        </p:nvPicPr>
        <p:blipFill>
          <a:blip r:embed="rId1"/>
          <a:stretch/>
        </p:blipFill>
        <p:spPr>
          <a:xfrm>
            <a:off x="250920" y="2349360"/>
            <a:ext cx="48592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еликая Отечественная Вой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: Чунарёв Даниил Дмитриеви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8:58:34Z</dcterms:created>
  <dc:creator>AMD</dc:creator>
  <dc:description/>
  <dc:language>en-US</dc:language>
  <cp:lastModifiedBy>User</cp:lastModifiedBy>
  <dcterms:modified xsi:type="dcterms:W3CDTF">2012-10-23T15:59:03Z</dcterms:modified>
  <cp:revision>7</cp:revision>
  <dc:subject/>
  <dc:title>Великая Отечественная Война</dc:title>
</cp:coreProperties>
</file>