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6DB-F664-4F80-B8CE-E38D7440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E65-406E-481F-8D0F-98FB7DEF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579-7A0B-479A-84B6-97E703D2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F59-F446-4ECA-A5B3-356B5B0A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B3DA-A511-4097-BF33-7BC143E7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D6B8-5638-45D5-AF86-38074773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1555-B42E-4205-8418-CBBDC530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4AD-88BD-4D8B-941C-58D30AC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6B0D-4AC7-4320-8CD8-68D3DF2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CF7-9292-4D1E-81B7-23C311D5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3C04-3CD1-4354-8CF3-78398F1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79D-C144-4177-AB37-CB2DDB28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3FC-3D48-4ADF-AB5E-ED4CA8D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DA4-7207-403B-BC04-F3C0A071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3442-4E22-4C17-B01E-3435B85C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141-AAF6-4A97-9A9C-D031FC62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EFEA-2E40-4B2C-8A60-4F6C5F38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09C-2630-49B2-95CB-EABA615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80D-F5DC-4DDA-AA94-297A8B0B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7DF-EB9E-40D4-B8F7-0871FC8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142-B6E6-423A-B1CE-4DB0DB34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737-E03C-4174-859D-4DE3162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B66-B356-45FA-A38C-1F418B9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FA1-0407-417E-9CC1-75A2425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E00-C214-48F3-AEDA-8293705B13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49F-96AB-4142-A563-5B2520C325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7640" y="1904760"/>
            <a:ext cx="40575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2 июня 1941 года в 4 часа утра  фашистская Германия без объявления войны вероломно напала на Советский Сою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4" descr="олб"/>
          <p:cNvPicPr/>
          <p:nvPr/>
        </p:nvPicPr>
        <p:blipFill>
          <a:blip r:embed="rId1"/>
          <a:stretch/>
        </p:blipFill>
        <p:spPr>
          <a:xfrm>
            <a:off x="15840" y="1844640"/>
            <a:ext cx="464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ие войска почти в два раза превышали силы нашей армии. С первого дня войны весь народ поднялся на борьбу с вра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ми"/>
          <p:cNvPicPr/>
          <p:nvPr/>
        </p:nvPicPr>
        <p:blipFill>
          <a:blip r:embed="rId1"/>
          <a:stretch/>
        </p:blipFill>
        <p:spPr>
          <a:xfrm>
            <a:off x="5484960" y="2133720"/>
            <a:ext cx="3659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 горя пришлось пережить нашему народу. Немецкие захватчики не щадили ни стариков, ни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па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тлер связывал успех в войне с захватом Москвы, но нашим войскам во главе с генералом Г.К. Жуковым удалось разгромить немцев под Москвой. Это было первым крупным поражением Германии. Но впереди ещё были долгие годы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лод"/>
          <p:cNvPicPr/>
          <p:nvPr/>
        </p:nvPicPr>
        <p:blipFill>
          <a:blip r:embed="rId1"/>
          <a:stretch/>
        </p:blipFill>
        <p:spPr>
          <a:xfrm>
            <a:off x="5364000" y="1916280"/>
            <a:ext cx="378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юле 1943 года после разгрома немецких войск под Сталинградом началось освобождение страны от немецких захват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дло"/>
          <p:cNvPicPr/>
          <p:nvPr/>
        </p:nvPicPr>
        <p:blipFill>
          <a:blip r:embed="rId1"/>
          <a:stretch/>
        </p:blipFill>
        <p:spPr>
          <a:xfrm>
            <a:off x="0" y="1844640"/>
            <a:ext cx="41702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преле 1945 года советские войска начали своё последнее наступление- на Берлин! 8 мая 1945 года Германия безоговорочно капитулировала. 24 июня 1945 года на Красной площади в ознаменование победы состоялся парад. Знамёна поверженных фашистских войск были брошены под ноги солдат- побе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паэ"/>
          <p:cNvPicPr/>
          <p:nvPr/>
        </p:nvPicPr>
        <p:blipFill>
          <a:blip r:embed="rId1"/>
          <a:stretch/>
        </p:blipFill>
        <p:spPr>
          <a:xfrm>
            <a:off x="4932360" y="2133720"/>
            <a:ext cx="4211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оклонной горе сооружён величественный мемориал Победы в Великой Отечественной войне 1941-1945 годов. Это вечный памятник тем, кто в жестокой схватке с врагом отстоял свободу и независимость нашей Род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пв"/>
          <p:cNvPicPr/>
          <p:nvPr/>
        </p:nvPicPr>
        <p:blipFill>
          <a:blip r:embed="rId1"/>
          <a:stretch/>
        </p:blipFill>
        <p:spPr>
          <a:xfrm>
            <a:off x="250920" y="2349360"/>
            <a:ext cx="4859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еликая Отечественная Вой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: Чунарёв Даниил Дмитрие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8:58:34Z</dcterms:created>
  <dc:creator>AMD</dc:creator>
  <dc:description/>
  <dc:language>en-US</dc:language>
  <cp:lastModifiedBy>User</cp:lastModifiedBy>
  <dcterms:modified xsi:type="dcterms:W3CDTF">2012-10-23T15:59:03Z</dcterms:modified>
  <cp:revision>7</cp:revision>
  <dc:subject/>
  <dc:title>Великая Отечественная Война</dc:title>
</cp:coreProperties>
</file>