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C47-EFBF-49A4-BB02-A5C5A1A0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65A-B25C-4A0D-887C-A22CFD07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EA3-F03E-4EA4-ACE9-CA487CD6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496-F192-4B2A-9FB7-AFE06D16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5CC-BA6B-42D3-AF9B-48068CE4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311-28E4-42E3-910C-BCB89B4C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299-DC42-44CD-8FE3-CA1C8FFF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E58-F7C5-408F-951E-028A62EA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4C3-B2BE-4EBB-B8B2-D20B7923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E1B-E86A-480A-8F59-BA650CF9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775-D9F4-43AF-9776-44F0FF6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236-F2CE-484C-8B46-5AECADB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E11D-372D-4C0D-B989-DAE9A5BF2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Первый раз !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В первый класс!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4000" y="4941720"/>
            <a:ext cx="92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ова Г.Н.- учитель начальных классов, зам.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8 г.Туап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ЗАВУЧ\Рабочий стол\учителя фото\P3200433.JPG"/>
          <p:cNvPicPr/>
          <p:nvPr/>
        </p:nvPicPr>
        <p:blipFill>
          <a:blip r:embed="rId1"/>
          <a:stretch/>
        </p:blipFill>
        <p:spPr>
          <a:xfrm>
            <a:off x="1763640" y="1197000"/>
            <a:ext cx="5819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ЗАВУЧ\Рабочий стол\фото Г\P3130373.JPG"/>
          <p:cNvPicPr/>
          <p:nvPr/>
        </p:nvPicPr>
        <p:blipFill>
          <a:blip r:embed="rId2"/>
          <a:stretch/>
        </p:blipFill>
        <p:spPr>
          <a:xfrm>
            <a:off x="1476360" y="981000"/>
            <a:ext cx="6748560" cy="486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00"/>
                </a:solidFill>
                <a:latin typeface="Calibri"/>
              </a:rPr>
              <a:t>Переходим во второй…….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f0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ЗАВУЧ\Рабочий стол\фото Г\P3130385.JPG"/>
          <p:cNvPicPr/>
          <p:nvPr/>
        </p:nvPicPr>
        <p:blipFill>
          <a:blip r:embed="rId1"/>
          <a:stretch/>
        </p:blipFill>
        <p:spPr>
          <a:xfrm>
            <a:off x="2124000" y="1268280"/>
            <a:ext cx="5329440" cy="4077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ЗАВУЧ\Рабочий стол\фото Г\P3130361.JPG"/>
          <p:cNvPicPr/>
          <p:nvPr/>
        </p:nvPicPr>
        <p:blipFill>
          <a:blip r:embed="rId2"/>
          <a:stretch/>
        </p:blipFill>
        <p:spPr>
          <a:xfrm>
            <a:off x="1258920" y="836640"/>
            <a:ext cx="6200640" cy="4365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684360" y="40464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Здравствуй, третий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класс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ЗАВУЧ\Рабочий стол\фото Г\P3140394.JPG"/>
          <p:cNvPicPr/>
          <p:nvPr/>
        </p:nvPicPr>
        <p:blipFill>
          <a:blip r:embed="rId1"/>
          <a:stretch/>
        </p:blipFill>
        <p:spPr>
          <a:xfrm>
            <a:off x="1908000" y="1628640"/>
            <a:ext cx="4778640" cy="3367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Вот и стали мы на год взрослей…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f0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ЗАВУЧ\Рабочий стол\фото Г\P3130353.JPG"/>
          <p:cNvPicPr/>
          <p:nvPr/>
        </p:nvPicPr>
        <p:blipFill>
          <a:blip r:embed="rId1"/>
          <a:stretch/>
        </p:blipFill>
        <p:spPr>
          <a:xfrm>
            <a:off x="1403280" y="692280"/>
            <a:ext cx="5643720" cy="4221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08:08:59Z</dcterms:created>
  <dc:creator>Завуч</dc:creator>
  <dc:description/>
  <dc:language>en-US</dc:language>
  <cp:lastModifiedBy>Наталья</cp:lastModifiedBy>
  <dcterms:modified xsi:type="dcterms:W3CDTF">2012-10-25T14:33:05Z</dcterms:modified>
  <cp:revision>45</cp:revision>
  <dc:subject/>
  <dc:title>Первый раз ! В первый класс!</dc:title>
</cp:coreProperties>
</file>