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95AD-3FBD-416B-A277-797FE96C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80AE-9531-4BB0-9E85-9CD90E9C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2400-DDE2-42EC-B929-A8F4CE41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3E17-CB80-4D73-BA1D-66DB1FEE0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6994-A1C2-47AA-90C6-DD6B91EC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4DFA-A8F1-443A-983D-1C98B675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C2E7-6159-4390-B47E-42535B35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17AB-6A4E-426E-8289-587DB82F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1E27-60F8-4048-A26F-47BD93E1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766C-8AD2-4C6C-A6CD-391245DB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28D6-2674-4D89-8E28-DEE9B9BB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E6CC-7263-4202-B68C-E9D00F1A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B384-5F55-4820-B9F2-2CFE4959CF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35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Первый раз !</a:t>
            </a:r>
            <a:br>
              <a:rPr sz="8800"/>
            </a:b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В первый класс!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24000" y="4941720"/>
            <a:ext cx="924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нчарова Г.Н.- учитель начальных классов, зам. директора по 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СОШ № 8 г.Туап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ЗАВУЧ\Рабочий стол\учителя фото\P3200433.JPG"/>
          <p:cNvPicPr/>
          <p:nvPr/>
        </p:nvPicPr>
        <p:blipFill>
          <a:blip r:embed="rId1"/>
          <a:stretch/>
        </p:blipFill>
        <p:spPr>
          <a:xfrm>
            <a:off x="1763640" y="1197000"/>
            <a:ext cx="58197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ЗАВУЧ\Рабочий стол\фото Г\P3130373.JPG"/>
          <p:cNvPicPr/>
          <p:nvPr/>
        </p:nvPicPr>
        <p:blipFill>
          <a:blip r:embed="rId2"/>
          <a:stretch/>
        </p:blipFill>
        <p:spPr>
          <a:xfrm>
            <a:off x="1476360" y="981000"/>
            <a:ext cx="6748560" cy="4869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000000"/>
                </a:solidFill>
                <a:latin typeface="Calibri"/>
              </a:rPr>
              <a:t>Переходим во второй…….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f0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ЗАВУЧ\Рабочий стол\фото Г\P3130385.JPG"/>
          <p:cNvPicPr/>
          <p:nvPr/>
        </p:nvPicPr>
        <p:blipFill>
          <a:blip r:embed="rId1"/>
          <a:stretch/>
        </p:blipFill>
        <p:spPr>
          <a:xfrm>
            <a:off x="2124000" y="1268280"/>
            <a:ext cx="5329440" cy="4077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Documents and Settings\ЗАВУЧ\Рабочий стол\фото Г\P3130361.JPG"/>
          <p:cNvPicPr/>
          <p:nvPr/>
        </p:nvPicPr>
        <p:blipFill>
          <a:blip r:embed="rId2"/>
          <a:stretch/>
        </p:blipFill>
        <p:spPr>
          <a:xfrm>
            <a:off x="1258920" y="836640"/>
            <a:ext cx="6200640" cy="4365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f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6"/>
          <p:cNvSpPr/>
          <p:nvPr/>
        </p:nvSpPr>
        <p:spPr>
          <a:xfrm>
            <a:off x="684360" y="404640"/>
            <a:ext cx="82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Здравствуй, третий</a:t>
            </a: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 класс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ЗАВУЧ\Рабочий стол\фото Г\P3140394.JPG"/>
          <p:cNvPicPr/>
          <p:nvPr/>
        </p:nvPicPr>
        <p:blipFill>
          <a:blip r:embed="rId1"/>
          <a:stretch/>
        </p:blipFill>
        <p:spPr>
          <a:xfrm>
            <a:off x="1908000" y="1628640"/>
            <a:ext cx="4778640" cy="3367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Bookman Old Style"/>
              </a:rPr>
              <a:t>Вот и стали мы на год взрослей…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f0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ЗАВУЧ\Рабочий стол\фото Г\P3130353.JPG"/>
          <p:cNvPicPr/>
          <p:nvPr/>
        </p:nvPicPr>
        <p:blipFill>
          <a:blip r:embed="rId1"/>
          <a:stretch/>
        </p:blipFill>
        <p:spPr>
          <a:xfrm>
            <a:off x="1403280" y="692280"/>
            <a:ext cx="5643720" cy="4221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6T08:08:59Z</dcterms:created>
  <dc:creator>Завуч</dc:creator>
  <dc:description/>
  <dc:language>en-US</dc:language>
  <cp:lastModifiedBy>Наталья</cp:lastModifiedBy>
  <dcterms:modified xsi:type="dcterms:W3CDTF">2012-10-25T14:33:05Z</dcterms:modified>
  <cp:revision>45</cp:revision>
  <dc:subject/>
  <dc:title>Первый раз ! В первый класс!</dc:title>
</cp:coreProperties>
</file>