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DD6-E5B4-4BF4-B953-CC27671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EC8-6143-4524-AAD6-083CDC38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60A-BDB8-4AD7-B297-A2613EFA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748-864A-48FF-9DBA-312B37DD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F51-0651-4852-8FF0-4338E18B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077-86C3-47DA-BF8E-F0F3E32A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4E6-BAC8-4CD6-BE55-609A4D15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5FD-DE25-46BB-B3E1-37B061A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FF4-6FA6-4B65-82E6-7E98F0D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398-E726-4F88-8D47-DDBAC67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698-AACC-4AE0-B9A7-3C61EC3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599-C1FD-439C-8CC8-DF3EF78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FA70-C0A9-4E6D-91B6-B614BDB67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, здравствуй, Камелик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полнила: ученица 10 а класса Щирова Тать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к реки Каме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1\Рабочий стол\Внеклассная Внеклассная работа\фото речки\Изображение 010.jpg"/>
          <p:cNvPicPr/>
          <p:nvPr/>
        </p:nvPicPr>
        <p:blipFill>
          <a:blip r:embed="rId1"/>
          <a:stretch/>
        </p:blipFill>
        <p:spPr>
          <a:xfrm>
            <a:off x="1889280" y="2058840"/>
            <a:ext cx="53654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бединая вер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1\Рабочий стол\Внеклассная Внеклассная работа\фото речки\Изображение.jpg"/>
          <p:cNvPicPr/>
          <p:nvPr/>
        </p:nvPicPr>
        <p:blipFill>
          <a:blip r:embed="rId1"/>
          <a:stretch/>
        </p:blipFill>
        <p:spPr>
          <a:xfrm>
            <a:off x="1792440" y="2058840"/>
            <a:ext cx="5559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а в объятьях ос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1\Рабочий стол\Внеклассная Внеклассная работа\фото речки\S500109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храни мою красот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1\Рабочий стол\Внеклассная Внеклассная работа\фото речки\S500068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весты - подру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1\Мои документы\Док 1\Мои документы\Мои рисунки\S500007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говори прощай, а до свидания,,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1\Рабочий стол\Внеклассная Внеклассная работа\фото речки\S50008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9:52:48Z</dcterms:created>
  <dc:creator>Щирова</dc:creator>
  <dc:description/>
  <dc:language>en-US</dc:language>
  <cp:lastModifiedBy>Щирова</cp:lastModifiedBy>
  <dcterms:modified xsi:type="dcterms:W3CDTF">2011-02-28T10:08:43Z</dcterms:modified>
  <cp:revision>2</cp:revision>
  <dc:subject/>
  <dc:title>Мой  край родной…..</dc:title>
</cp:coreProperties>
</file>