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8E3-160F-410A-A1BC-2B2D6953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36F-7D2C-44CC-9A61-B9A53E8F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EC6-6867-460E-8333-3551F959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8ED-DA70-41D0-A73D-114CEFA0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D16-0CB1-4AEC-81CC-B9BEF205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9B4-57F5-4DF1-9C8A-25E86670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5CC-60E9-47B6-ADAD-38994C52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BB8-013F-4614-82AE-5D35E68B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A57-85E7-477B-A52A-7E8350BD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FF9-A2BC-4C0C-9906-2F2DA853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7C4-0568-44AC-8485-B45DB08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F20-D397-42CD-A176-697D720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3D20-4D5D-456E-9E20-1DF43215D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равствуй, здравствуй, Камелик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ыполнила: ученица 10 а класса Щирова Татья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к реки Каме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1\Рабочий стол\Внеклассная Внеклассная работа\фото речки\Изображение 010.jpg"/>
          <p:cNvPicPr/>
          <p:nvPr/>
        </p:nvPicPr>
        <p:blipFill>
          <a:blip r:embed="rId1"/>
          <a:stretch/>
        </p:blipFill>
        <p:spPr>
          <a:xfrm>
            <a:off x="1889280" y="2058840"/>
            <a:ext cx="53654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бединая вер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1\Рабочий стол\Внеклассная Внеклассная работа\фото речки\Изображение.jpg"/>
          <p:cNvPicPr/>
          <p:nvPr/>
        </p:nvPicPr>
        <p:blipFill>
          <a:blip r:embed="rId1"/>
          <a:stretch/>
        </p:blipFill>
        <p:spPr>
          <a:xfrm>
            <a:off x="1792440" y="2058840"/>
            <a:ext cx="55591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а в объятьях ос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1\Рабочий стол\Внеклассная Внеклассная работа\фото речки\S500109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храни мою красот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1\Рабочий стол\Внеклассная Внеклассная работа\фото речки\S500068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весты - подруж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1\Мои документы\Док 1\Мои документы\Мои рисунки\S500007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говори прощай, а до свидания,,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1\Рабочий стол\Внеклассная Внеклассная работа\фото речки\S500089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9:52:48Z</dcterms:created>
  <dc:creator>Щирова</dc:creator>
  <dc:description/>
  <dc:language>en-US</dc:language>
  <cp:lastModifiedBy>Щирова</cp:lastModifiedBy>
  <dcterms:modified xsi:type="dcterms:W3CDTF">2011-02-28T10:08:43Z</dcterms:modified>
  <cp:revision>2</cp:revision>
  <dc:subject/>
  <dc:title>Мой  край родной…..</dc:title>
</cp:coreProperties>
</file>