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gif" ContentType="image/gif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27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28.gif" ContentType="image/gif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32A-0407-4A0F-9E74-37AED4FF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2AF-8726-41A0-B012-F6292214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F7B-0BDB-40F6-911C-F416C942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084-14F3-4C7B-9F96-41ECBD85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548A-18AD-4A50-A976-E2981493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273A-90C1-48BF-ADE7-324FF64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9C4-2E25-4848-8DED-AC03DB11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294B-974E-4FE7-908D-41DB9BCC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79E5-5D77-4BCE-8B0D-030A04B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91EC-8B29-4F37-9FE4-57E6144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A70D-2EFF-4B3D-BF96-97DAC7C1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21A-3B29-4088-B722-EF22B342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3764-A510-4B50-B2A2-E0AD29B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FFB4-FA8C-42DC-9639-8A8D936B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DC2F-AB87-4730-99AA-BC4EFE2D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A0ED-E056-45F6-82BC-6C9751DD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268-4C68-42D1-88E6-8CE080B6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2BC-CED9-48F2-A6B7-1FB5D8E1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119-4250-41BE-96F4-23F760CA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BEA-12EE-457B-98E0-1097CDA0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D32-1DA2-4434-9656-194FC6E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AF2-698E-4041-A874-C5A1480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701-9CE9-4A4C-BCC1-CD158A1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398-6F91-44E7-85E6-9E51EC14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b9ff"/>
            </a:gs>
            <a:gs pos="50000">
              <a:srgbClr val="ffffa7"/>
            </a:gs>
            <a:gs pos="100000">
              <a:srgbClr val="89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2618-123D-4598-A2EF-DE1A4A8A354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b9ff"/>
            </a:gs>
            <a:gs pos="50000">
              <a:srgbClr val="ffffa7"/>
            </a:gs>
            <a:gs pos="100000">
              <a:srgbClr val="89b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25D1-66CB-430F-B66A-09177A7508F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kazles.ru/azbuka/0019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12.nnm.ru/2/e/5/c/5/47df5890b3f347980166e708924_prev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13.nnm.ru/f/2/1/2/6/2aaaf594f0764d238c990a466e0_prev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80.tgl.ru/sp/pic/Image/Tvorchestvo/C_Documents_and_Settings_teach_Moi_dokumenti_Moi_risunki_Vernisazh_Raketa_resized_sp_cms_315x448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sonkovo-news.ru/images/stroitel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rambler.ru/pic_cache?url=http%3A//www.florissimaltd.ru/catalog/1-7/121/&amp;bi=http%3A//www.florissimaltd.ru/imgupl/pos121-2.jpg&amp;i=http%3A//media3.picsearch.com/is%3FK30Os7GKHVyqCfq0OR99R26zSMK1DlbSnSsM_-yHbCQ&amp;w=107&amp;h=128&amp;f=49&amp;q=&#1088;&#1086;&#1079;&#1099;&amp;p=12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ogolife.ru/wp-content/uploads/zaborchik1.jpg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yazik.jpg" TargetMode="External"/><Relationship Id="rId2" Type="http://schemas.openxmlformats.org/officeDocument/2006/relationships/hyperlink" Target="http://www.logolife.ru/wp-content/uploads/yazik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lopatochka.jpg" TargetMode="External"/><Relationship Id="rId2" Type="http://schemas.openxmlformats.org/officeDocument/2006/relationships/hyperlink" Target="http://www.logolife.ru/wp-content/uploads/lopatochk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trybochka.jpg" TargetMode="External"/><Relationship Id="rId2" Type="http://schemas.openxmlformats.org/officeDocument/2006/relationships/hyperlink" Target="http://www.logolife.ru/wp-content/uploads/trybochka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golife.ru/wp-content/uploads/obliz_gubki.jpg" TargetMode="External"/><Relationship Id="rId2" Type="http://schemas.openxmlformats.org/officeDocument/2006/relationships/hyperlink" Target="http://www.logolife.ru/wp-content/uploads/obliz_gubki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7"/>
          <p:cNvSpPr/>
          <p:nvPr/>
        </p:nvSpPr>
        <p:spPr>
          <a:xfrm>
            <a:off x="228600" y="533520"/>
            <a:ext cx="8534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Georgia"/>
              </a:rPr>
              <a:t>      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Логопедическое занятие               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                    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на тему:    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«Звуки </a:t>
            </a:r>
            <a:r>
              <a:rPr b="0" lang="en-US" sz="4400" spc="-1" strike="noStrike">
                <a:solidFill>
                  <a:srgbClr val="000099"/>
                </a:solidFill>
                <a:latin typeface="Georgia"/>
              </a:rPr>
              <a:t>[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р</a:t>
            </a:r>
            <a:r>
              <a:rPr b="0" lang="en-US" sz="4400" spc="-1" strike="noStrike">
                <a:solidFill>
                  <a:srgbClr val="000099"/>
                </a:solidFill>
                <a:latin typeface="Georgia"/>
              </a:rPr>
              <a:t>]-[ 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р,</a:t>
            </a:r>
            <a:r>
              <a:rPr b="0" lang="en-US" sz="4400" spc="-1" strike="noStrike">
                <a:solidFill>
                  <a:srgbClr val="000099"/>
                </a:solidFill>
                <a:latin typeface="Georgia"/>
              </a:rPr>
              <a:t>]</a:t>
            </a: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, буква р»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143000" y="5090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втор: Трофимова Лариса Александровн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еподаватель уроков логопедии ГБОУ «Плоскошская  специальная коррекционная школа-интернат  для детей с ограниченными возможностями в развитии»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362320" y="1063440"/>
            <a:ext cx="4695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Гармош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На гармошке чтоб сыграть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Нужно челюсть опускать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Язычок не отрываем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чень здорово играем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457200" y="2467440"/>
            <a:ext cx="830592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12600" bIns="12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роизнеси звук «Р» длительно на одном выдохе: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             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р – р – р – р –р - р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085480"/>
            <a:ext cx="464832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" rIns="14400" tIns="12600" bIns="12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Рассмотри букву «Р», нарисуй ее в воздухе каждым пальцем поочередно, сначала одной, затем другой и двумя руками одновременно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Picture 6" descr="Р-Рыб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60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371600" y="1792800"/>
            <a:ext cx="55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роговори слоги и слова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 – ра - ра       ро – ро - р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у – ру - ру              ры – ры - ры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402120" y="1035000"/>
            <a:ext cx="664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Запомни и повтори слоги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 – ро – ру – ры      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о – ру – ры – ра     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 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ы – ра – ро – ру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060920" y="1140120"/>
            <a:ext cx="696060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12600" bIns="12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овтори слова, выделяя звук Р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к        рот             руль           рыба           роз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ов        рота            Русь           рык            Ром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ыть      рана          рука            робот          Рая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Картинка 1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066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3758760" y="4800600"/>
            <a:ext cx="48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8f8f8"/>
                </a:solidFill>
                <a:latin typeface="Arial"/>
              </a:rPr>
              <a:t>Как рычит тигр?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5029200" y="5562720"/>
            <a:ext cx="367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(</a:t>
            </a:r>
            <a:r>
              <a:rPr b="1" lang="ru-RU" sz="4800" spc="-1" strike="noStrike">
                <a:solidFill>
                  <a:srgbClr val="f8f8f8"/>
                </a:solidFill>
                <a:latin typeface="Arial"/>
              </a:rPr>
              <a:t>Р – Р – Р !</a:t>
            </a: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Картинка 55 из 635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43080"/>
            <a:ext cx="8305920" cy="6103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380880" y="22860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Как рычат тигрята?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rot="10800000">
            <a:off x="1447920" y="4191120"/>
            <a:ext cx="4495680" cy="1295280"/>
          </a:xfrm>
          <a:prstGeom prst="cloudCallout">
            <a:avLst>
              <a:gd name="adj1" fmla="val -34787"/>
              <a:gd name="adj2" fmla="val 73449"/>
            </a:avLst>
          </a:prstGeom>
          <a:solidFill>
            <a:srgbClr val="c9d5ce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Рь-рь-рь!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380880" y="5335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Назови, что изображено на  картинках.                                 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  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 какого звука начинаются слова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0" name="Picture 9" descr="Картинка 49 из 3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590920"/>
            <a:ext cx="2514600" cy="3579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Картинка 1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3276720"/>
            <a:ext cx="2163600" cy="2842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21000" y="-9340920"/>
            <a:ext cx="101916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 "/>
          <p:cNvPicPr/>
          <p:nvPr/>
        </p:nvPicPr>
        <p:blipFill>
          <a:blip r:embed="rId7"/>
          <a:stretch/>
        </p:blipFill>
        <p:spPr>
          <a:xfrm>
            <a:off x="4221000" y="-9340920"/>
            <a:ext cx="101916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Роза SprTiara Тиара"/>
          <p:cNvPicPr/>
          <p:nvPr/>
        </p:nvPicPr>
        <p:blipFill>
          <a:blip r:embed="rId8"/>
          <a:stretch/>
        </p:blipFill>
        <p:spPr>
          <a:xfrm>
            <a:off x="609480" y="3276720"/>
            <a:ext cx="2286000" cy="28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447920" y="4111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азови картинки и скажи, есть ли в названиях звук «Р», и где он спрятался:  в середине, в конце, или в начале слова?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6" name="Picture 6" descr="расческа"/>
          <p:cNvPicPr/>
          <p:nvPr/>
        </p:nvPicPr>
        <p:blipFill>
          <a:blip r:embed="rId1"/>
          <a:stretch/>
        </p:blipFill>
        <p:spPr>
          <a:xfrm>
            <a:off x="1523880" y="1905120"/>
            <a:ext cx="1643040" cy="2162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орова"/>
          <p:cNvPicPr/>
          <p:nvPr/>
        </p:nvPicPr>
        <p:blipFill>
          <a:blip r:embed="rId2"/>
          <a:stretch/>
        </p:blipFill>
        <p:spPr>
          <a:xfrm>
            <a:off x="3886200" y="2057400"/>
            <a:ext cx="2019240" cy="155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забор"/>
          <p:cNvPicPr/>
          <p:nvPr/>
        </p:nvPicPr>
        <p:blipFill>
          <a:blip r:embed="rId3"/>
          <a:stretch/>
        </p:blipFill>
        <p:spPr>
          <a:xfrm>
            <a:off x="6553080" y="2057400"/>
            <a:ext cx="1809720" cy="1592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шар"/>
          <p:cNvPicPr/>
          <p:nvPr/>
        </p:nvPicPr>
        <p:blipFill>
          <a:blip r:embed="rId4"/>
          <a:stretch/>
        </p:blipFill>
        <p:spPr>
          <a:xfrm>
            <a:off x="1523880" y="4267080"/>
            <a:ext cx="1752840" cy="1694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каша"/>
          <p:cNvPicPr/>
          <p:nvPr/>
        </p:nvPicPr>
        <p:blipFill>
          <a:blip r:embed="rId5"/>
          <a:stretch/>
        </p:blipFill>
        <p:spPr>
          <a:xfrm>
            <a:off x="4038480" y="417528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труба"/>
          <p:cNvPicPr/>
          <p:nvPr/>
        </p:nvPicPr>
        <p:blipFill>
          <a:blip r:embed="rId6"/>
          <a:stretch/>
        </p:blipFill>
        <p:spPr>
          <a:xfrm>
            <a:off x="6477120" y="4186080"/>
            <a:ext cx="20574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логопедические упражнения улыбочка"/>
          <p:cNvPicPr/>
          <p:nvPr/>
        </p:nvPicPr>
        <p:blipFill>
          <a:blip r:embed="rId1"/>
          <a:srcRect l="0" t="0" r="0" b="21429"/>
          <a:stretch/>
        </p:blipFill>
        <p:spPr>
          <a:xfrm>
            <a:off x="5257800" y="990720"/>
            <a:ext cx="286848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578880" y="53244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Логопедические упражнения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04920" y="213156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Улыбоч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Удерживать сильно растянутые губы в улыбке. Зубы не вид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753800" y="4800600"/>
            <a:ext cx="372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Широка Нева – рек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улыбка широк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Зубки все мои видны-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т краев и до дес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57200" y="22860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рочитай и найд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лишнее слово в каждом столбик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1320" y="1714680"/>
            <a:ext cx="228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Ручк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карандаш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парт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краски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709800" y="1700280"/>
            <a:ext cx="20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помидор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инегрет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огурец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укроп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660720" y="1700280"/>
            <a:ext cx="212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персик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абрикос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иноград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морковь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835280" y="4221000"/>
            <a:ext cx="196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оробей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ворон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Arial"/>
              </a:rPr>
              <a:t>сорока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649120" y="4869000"/>
            <a:ext cx="238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чему  ты выбрал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именно это слово?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5364000" y="4437000"/>
            <a:ext cx="3095640" cy="1440000"/>
          </a:xfrm>
          <a:prstGeom prst="wedgeRectCallout">
            <a:avLst>
              <a:gd name="adj1" fmla="val -43745"/>
              <a:gd name="adj2" fmla="val 63009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чему ты выбрал именно это слово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755640" y="2997360"/>
            <a:ext cx="1440000" cy="43164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708360" y="2349360"/>
            <a:ext cx="201600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6732720" y="3500280"/>
            <a:ext cx="194292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1908000" y="4941720"/>
            <a:ext cx="1295640" cy="43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755640" y="457200"/>
            <a:ext cx="7778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Закончи слова, добавляя слоги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36920" y="1268280"/>
            <a:ext cx="3115800" cy="1191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…, го…, ко…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, …дуга, …кет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015880" y="2565360"/>
            <a:ext cx="3155400" cy="11912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eorgia"/>
              </a:rPr>
              <a:t>РЫ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Georgia"/>
              </a:rPr>
              <a:t>Ша…, боб…, кома…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ffc000"/>
                </a:solidFill>
                <a:latin typeface="Georgia"/>
              </a:rPr>
              <a:t>ба, …нок, …сь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50240" y="3860640"/>
            <a:ext cx="289656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РО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Georgia"/>
              </a:rPr>
              <a:t>Ут…, мет…, вед…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f8f8f8"/>
                </a:solidFill>
                <a:latin typeface="Georgia"/>
              </a:rPr>
              <a:t>га, …ща, …дин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792760" y="5157720"/>
            <a:ext cx="2500200" cy="11912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РУ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Кенгу…, …к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…</a:t>
            </a: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чей, …башк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17"/>
          <p:cNvSpPr/>
          <p:nvPr/>
        </p:nvSpPr>
        <p:spPr>
          <a:xfrm rot="20534400">
            <a:off x="2340000" y="4220640"/>
            <a:ext cx="1368360" cy="10810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Arc 18"/>
          <p:cNvSpPr/>
          <p:nvPr/>
        </p:nvSpPr>
        <p:spPr>
          <a:xfrm flipH="1">
            <a:off x="2555280" y="4437000"/>
            <a:ext cx="431640" cy="36036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Arc 20"/>
          <p:cNvSpPr/>
          <p:nvPr/>
        </p:nvSpPr>
        <p:spPr>
          <a:xfrm>
            <a:off x="3492360" y="4365720"/>
            <a:ext cx="358920" cy="360360"/>
          </a:xfrm>
          <a:custGeom>
            <a:avLst/>
            <a:gdLst>
              <a:gd name="textAreaLeft" fmla="*/ 0 w 358920"/>
              <a:gd name="textAreaRight" fmla="*/ 359280 w 358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AutoShape 21"/>
          <p:cNvSpPr/>
          <p:nvPr/>
        </p:nvSpPr>
        <p:spPr>
          <a:xfrm rot="5400000">
            <a:off x="3023280" y="4688640"/>
            <a:ext cx="431640" cy="360360"/>
          </a:xfrm>
          <a:prstGeom prst="lightningBolt">
            <a:avLst/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6732720" y="4005360"/>
            <a:ext cx="1871640" cy="1368360"/>
          </a:xfrm>
          <a:prstGeom prst="ellipse">
            <a:avLst/>
          </a:prstGeom>
          <a:solidFill>
            <a:srgbClr val="dc390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Arc 24"/>
          <p:cNvSpPr/>
          <p:nvPr/>
        </p:nvSpPr>
        <p:spPr>
          <a:xfrm rot="18852000">
            <a:off x="7777080" y="3968640"/>
            <a:ext cx="503280" cy="576360"/>
          </a:xfrm>
          <a:custGeom>
            <a:avLst/>
            <a:gdLst>
              <a:gd name="textAreaLeft" fmla="*/ 0 w 503280"/>
              <a:gd name="textAreaRight" fmla="*/ 503640 w 503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Arc 25"/>
          <p:cNvSpPr/>
          <p:nvPr/>
        </p:nvSpPr>
        <p:spPr>
          <a:xfrm>
            <a:off x="7093080" y="414972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Oval 26"/>
          <p:cNvSpPr/>
          <p:nvPr/>
        </p:nvSpPr>
        <p:spPr>
          <a:xfrm rot="4191600">
            <a:off x="4637880" y="3795120"/>
            <a:ext cx="914400" cy="1909440"/>
          </a:xfrm>
          <a:prstGeom prst="ellipse">
            <a:avLst/>
          </a:prstGeom>
          <a:solidFill>
            <a:srgbClr val="e1b601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Arc 27"/>
          <p:cNvSpPr/>
          <p:nvPr/>
        </p:nvSpPr>
        <p:spPr>
          <a:xfrm>
            <a:off x="7236000" y="4292640"/>
            <a:ext cx="863280" cy="393840"/>
          </a:xfrm>
          <a:custGeom>
            <a:avLst/>
            <a:gdLst>
              <a:gd name="textAreaLeft" fmla="*/ 0 w 863280"/>
              <a:gd name="textAreaRight" fmla="*/ 863640 w 8632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fill="none" w="43200" h="29431">
                <a:moveTo>
                  <a:pt x="1469" y="29430"/>
                </a:moveTo>
                <a:cubicBezTo>
                  <a:pt x="498" y="26934"/>
                  <a:pt x="0" y="242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9431">
                <a:moveTo>
                  <a:pt x="1469" y="29430"/>
                </a:moveTo>
                <a:cubicBezTo>
                  <a:pt x="498" y="26934"/>
                  <a:pt x="0" y="242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Arc 29"/>
          <p:cNvSpPr/>
          <p:nvPr/>
        </p:nvSpPr>
        <p:spPr>
          <a:xfrm flipV="1">
            <a:off x="7524720" y="414900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fill="none" w="43200" h="43200">
                <a:moveTo>
                  <a:pt x="259" y="24936"/>
                </a:moveTo>
                <a:cubicBezTo>
                  <a:pt x="86" y="23833"/>
                  <a:pt x="0" y="2271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11822" y="-22336"/>
                  <a:pt x="3264" y="-28904"/>
                  <a:pt x="735" y="27187"/>
                </a:cubicBezTo>
              </a:path>
              <a:path stroke="0" w="43200" h="43200">
                <a:moveTo>
                  <a:pt x="259" y="24936"/>
                </a:moveTo>
                <a:cubicBezTo>
                  <a:pt x="86" y="23833"/>
                  <a:pt x="0" y="2271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11822" y="-22336"/>
                  <a:pt x="3264" y="-28904"/>
                  <a:pt x="735" y="27187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AutoShape 30"/>
          <p:cNvSpPr/>
          <p:nvPr/>
        </p:nvSpPr>
        <p:spPr>
          <a:xfrm>
            <a:off x="6948360" y="4292640"/>
            <a:ext cx="7164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390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Arc 32"/>
          <p:cNvSpPr/>
          <p:nvPr/>
        </p:nvSpPr>
        <p:spPr>
          <a:xfrm rot="18040200">
            <a:off x="5113080" y="40395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e1b601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Arc 34"/>
          <p:cNvSpPr/>
          <p:nvPr/>
        </p:nvSpPr>
        <p:spPr>
          <a:xfrm>
            <a:off x="4932360" y="450864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Arc 35"/>
          <p:cNvSpPr/>
          <p:nvPr/>
        </p:nvSpPr>
        <p:spPr>
          <a:xfrm flipV="1">
            <a:off x="1476360" y="5703840"/>
            <a:ext cx="431640" cy="7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7920"/>
              <a:gd name="textAreaBottom" fmla="*/ 8640 h 7920"/>
            </a:gdLst>
            <a:ahLst/>
            <a:rect l="textAreaLeft" t="textAreaTop" r="textAreaRight" b="textAreaBottom"/>
            <a:pathLst>
              <a:path fill="none" w="21600" h="1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</a:path>
              <a:path stroke="0" w="21600" h="160">
                <a:moveTo>
                  <a:pt x="21599" y="-1"/>
                </a:moveTo>
                <a:cubicBezTo>
                  <a:pt x="21599" y="53"/>
                  <a:pt x="21600" y="106"/>
                  <a:pt x="21600" y="160"/>
                </a:cubicBezTo>
                <a:lnTo>
                  <a:pt x="0" y="16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Arc 36"/>
          <p:cNvSpPr/>
          <p:nvPr/>
        </p:nvSpPr>
        <p:spPr>
          <a:xfrm>
            <a:off x="5364000" y="4437000"/>
            <a:ext cx="71640" cy="73080"/>
          </a:xfrm>
          <a:custGeom>
            <a:avLst/>
            <a:gdLst>
              <a:gd name="textAreaLeft" fmla="*/ 0 w 71640"/>
              <a:gd name="textAreaRight" fmla="*/ 72000 w 7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Arc 37"/>
          <p:cNvSpPr/>
          <p:nvPr/>
        </p:nvSpPr>
        <p:spPr>
          <a:xfrm flipV="1">
            <a:off x="4643280" y="5083920"/>
            <a:ext cx="73080" cy="71640"/>
          </a:xfrm>
          <a:custGeom>
            <a:avLst/>
            <a:gdLst>
              <a:gd name="textAreaLeft" fmla="*/ 0 w 73080"/>
              <a:gd name="textAreaRight" fmla="*/ 73440 w 7308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Arc 38"/>
          <p:cNvSpPr/>
          <p:nvPr/>
        </p:nvSpPr>
        <p:spPr>
          <a:xfrm flipH="1">
            <a:off x="4572000" y="4724280"/>
            <a:ext cx="71280" cy="144720"/>
          </a:xfrm>
          <a:custGeom>
            <a:avLst/>
            <a:gdLst>
              <a:gd name="textAreaLeft" fmla="*/ 360 w 71280"/>
              <a:gd name="textAreaRight" fmla="*/ 72000 w 712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Arc 39"/>
          <p:cNvSpPr/>
          <p:nvPr/>
        </p:nvSpPr>
        <p:spPr>
          <a:xfrm>
            <a:off x="5364000" y="4724280"/>
            <a:ext cx="73080" cy="71640"/>
          </a:xfrm>
          <a:custGeom>
            <a:avLst/>
            <a:gdLst>
              <a:gd name="textAreaLeft" fmla="*/ 0 w 73080"/>
              <a:gd name="textAreaRight" fmla="*/ 73440 w 730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Arc 46"/>
          <p:cNvSpPr/>
          <p:nvPr/>
        </p:nvSpPr>
        <p:spPr>
          <a:xfrm>
            <a:off x="1258920" y="4292640"/>
            <a:ext cx="433440" cy="504720"/>
          </a:xfrm>
          <a:custGeom>
            <a:avLst/>
            <a:gdLst>
              <a:gd name="textAreaLeft" fmla="*/ 0 w 433440"/>
              <a:gd name="textAreaRight" fmla="*/ 433800 w 433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Arc 49"/>
          <p:cNvSpPr/>
          <p:nvPr/>
        </p:nvSpPr>
        <p:spPr>
          <a:xfrm flipV="1">
            <a:off x="900000" y="4220280"/>
            <a:ext cx="216000" cy="71640"/>
          </a:xfrm>
          <a:custGeom>
            <a:avLst/>
            <a:gdLst>
              <a:gd name="textAreaLeft" fmla="*/ 0 w 216000"/>
              <a:gd name="textAreaRight" fmla="*/ 216360 w 21600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7596360" y="3860640"/>
            <a:ext cx="712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Arc 54"/>
          <p:cNvSpPr/>
          <p:nvPr/>
        </p:nvSpPr>
        <p:spPr>
          <a:xfrm flipV="1">
            <a:off x="900000" y="4508640"/>
            <a:ext cx="142920" cy="72720"/>
          </a:xfrm>
          <a:custGeom>
            <a:avLst/>
            <a:gdLst>
              <a:gd name="textAreaLeft" fmla="*/ 0 w 142920"/>
              <a:gd name="textAreaRight" fmla="*/ 143280 w 1429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Arc 55"/>
          <p:cNvSpPr/>
          <p:nvPr/>
        </p:nvSpPr>
        <p:spPr>
          <a:xfrm flipH="1">
            <a:off x="899280" y="4724280"/>
            <a:ext cx="71640" cy="144720"/>
          </a:xfrm>
          <a:custGeom>
            <a:avLst/>
            <a:gdLst>
              <a:gd name="textAreaLeft" fmla="*/ -360 w 71640"/>
              <a:gd name="textAreaRight" fmla="*/ 71640 w 71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Arc 56"/>
          <p:cNvSpPr/>
          <p:nvPr/>
        </p:nvSpPr>
        <p:spPr>
          <a:xfrm flipV="1">
            <a:off x="611280" y="501336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2" name="Arc 57"/>
          <p:cNvSpPr/>
          <p:nvPr/>
        </p:nvSpPr>
        <p:spPr>
          <a:xfrm flipV="1">
            <a:off x="684360" y="4941720"/>
            <a:ext cx="71280" cy="216000"/>
          </a:xfrm>
          <a:custGeom>
            <a:avLst/>
            <a:gdLst>
              <a:gd name="textAreaLeft" fmla="*/ 0 w 71280"/>
              <a:gd name="textAreaRight" fmla="*/ 71640 w 71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Arc 58"/>
          <p:cNvSpPr/>
          <p:nvPr/>
        </p:nvSpPr>
        <p:spPr>
          <a:xfrm flipV="1">
            <a:off x="468360" y="5157000"/>
            <a:ext cx="142920" cy="71640"/>
          </a:xfrm>
          <a:custGeom>
            <a:avLst/>
            <a:gdLst>
              <a:gd name="textAreaLeft" fmla="*/ 0 w 142920"/>
              <a:gd name="textAreaRight" fmla="*/ 143280 w 1429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Text Box 61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ссмотри и назови картинки                            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Прямоугольник 35"/>
          <p:cNvSpPr/>
          <p:nvPr/>
        </p:nvSpPr>
        <p:spPr>
          <a:xfrm>
            <a:off x="380880" y="137160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0e7c"/>
                </a:solidFill>
                <a:latin typeface="Georgia"/>
              </a:rPr>
              <a:t>Скажи, какой звук встречается в   названии всех этих предметов?                               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0e7c"/>
                </a:solidFill>
                <a:latin typeface="Georgia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Найди лишнюю картинку.          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Объясни, почему она лишняя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6" name="Picture 38" descr="Картинка 17 из 64000"/>
          <p:cNvPicPr/>
          <p:nvPr/>
        </p:nvPicPr>
        <p:blipFill>
          <a:blip r:embed="rId1"/>
          <a:stretch/>
        </p:blipFill>
        <p:spPr>
          <a:xfrm>
            <a:off x="533520" y="3886200"/>
            <a:ext cx="12524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6" dur="10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7" dur="100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500040" y="0"/>
            <a:ext cx="84297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тигр               чирика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сверчок         крас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ворона           рыч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ручей             карка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виноград        журч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маляр             стрекоч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0099"/>
                </a:solidFill>
                <a:latin typeface="Georgia"/>
              </a:rPr>
              <a:t>воробей          зре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1835280" y="1700280"/>
            <a:ext cx="1800000" cy="15127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286000" y="2362320"/>
            <a:ext cx="1297080" cy="28810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2268360" y="3357720"/>
            <a:ext cx="1295640" cy="7189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2133720" y="4038480"/>
            <a:ext cx="1584360" cy="86364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2666880" y="4800600"/>
            <a:ext cx="1008360" cy="14400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V="1">
            <a:off x="1981080" y="2286000"/>
            <a:ext cx="1368720" cy="31687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V="1">
            <a:off x="2362320" y="1600200"/>
            <a:ext cx="936360" cy="47512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рочитай, подумай и подбери к словам из правого столбика подходящие по смыслу слова из левого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357120" y="228600"/>
            <a:ext cx="8177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оедини слоги так, чтобы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лучились сло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1187280" y="1557360"/>
            <a:ext cx="151164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f8f8"/>
                </a:solidFill>
                <a:latin typeface="Arial"/>
              </a:rPr>
              <a:t>ра</a:t>
            </a:r>
            <a:endParaRPr b="0" lang="en-US" sz="6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4932360" y="148428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о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395280" y="314172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г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059280" y="256536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т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6588000" y="249228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ре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755640" y="494172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ро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3059280" y="429264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п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5076720" y="3789360"/>
            <a:ext cx="1511280" cy="1224000"/>
          </a:xfrm>
          <a:prstGeom prst="cube">
            <a:avLst>
              <a:gd name="adj" fmla="val 25000"/>
            </a:avLst>
          </a:prstGeom>
          <a:solidFill>
            <a:srgbClr val="e6fa2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952880" y="5105520"/>
            <a:ext cx="3657600" cy="1296720"/>
          </a:xfrm>
          <a:prstGeom prst="wedgeRectCallout">
            <a:avLst>
              <a:gd name="adj1" fmla="val -43226"/>
              <a:gd name="adj2" fmla="val 64074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Рано, нора, река, нога, рога, тара, пара, репа, карета, регат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684360" y="189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рочитай и назови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905120" y="76212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Вместо многоточий вставляй слово,                                             обозначающее предмет на картинке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57200" y="1981080"/>
            <a:ext cx="585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99"/>
                </a:solidFill>
                <a:latin typeface="Georgia"/>
              </a:rPr>
              <a:t>Кира и Шура отправились с мамой на прогулку. Мама купила детям воздушные … . У Киры розовый …, а у Шуры … оранжевый. На розовом … нарисована рыбка, а на оранжевом – грибок. Какие чудесные у ребята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29" name="Группа 24"/>
          <p:cNvGrpSpPr/>
          <p:nvPr/>
        </p:nvGrpSpPr>
        <p:grpSpPr>
          <a:xfrm>
            <a:off x="6215040" y="2143080"/>
            <a:ext cx="2950560" cy="4464000"/>
            <a:chOff x="6215040" y="2143080"/>
            <a:chExt cx="2950560" cy="4464000"/>
          </a:xfrm>
        </p:grpSpPr>
        <p:sp>
          <p:nvSpPr>
            <p:cNvPr id="230" name="Oval 8"/>
            <p:cNvSpPr/>
            <p:nvPr/>
          </p:nvSpPr>
          <p:spPr>
            <a:xfrm>
              <a:off x="6215040" y="2143080"/>
              <a:ext cx="1225440" cy="1728720"/>
            </a:xfrm>
            <a:prstGeom prst="ellipse">
              <a:avLst/>
            </a:prstGeom>
            <a:solidFill>
              <a:srgbClr val="ef07e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1" name="Oval 9"/>
            <p:cNvSpPr/>
            <p:nvPr/>
          </p:nvSpPr>
          <p:spPr>
            <a:xfrm rot="1291200">
              <a:off x="7727760" y="2358360"/>
              <a:ext cx="1079280" cy="21589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8304120" y="2717640"/>
              <a:ext cx="7128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AutoShape 11"/>
            <p:cNvSpPr/>
            <p:nvPr/>
          </p:nvSpPr>
          <p:spPr>
            <a:xfrm>
              <a:off x="6430680" y="2285640"/>
              <a:ext cx="21564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f07e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AutoShape 12"/>
            <p:cNvSpPr/>
            <p:nvPr/>
          </p:nvSpPr>
          <p:spPr>
            <a:xfrm>
              <a:off x="7728120" y="4375080"/>
              <a:ext cx="71280" cy="28872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5" name="AutoShape 13"/>
            <p:cNvSpPr/>
            <p:nvPr/>
          </p:nvSpPr>
          <p:spPr>
            <a:xfrm>
              <a:off x="6648480" y="3870360"/>
              <a:ext cx="142560" cy="288720"/>
            </a:xfrm>
            <a:prstGeom prst="triangle">
              <a:avLst>
                <a:gd name="adj" fmla="val 50000"/>
              </a:avLst>
            </a:prstGeom>
            <a:solidFill>
              <a:srgbClr val="ef07e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6719760" y="3870360"/>
              <a:ext cx="1008000" cy="15969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635" h="1006">
                  <a:moveTo>
                    <a:pt x="0" y="0"/>
                  </a:moveTo>
                  <a:cubicBezTo>
                    <a:pt x="105" y="450"/>
                    <a:pt x="211" y="900"/>
                    <a:pt x="317" y="953"/>
                  </a:cubicBezTo>
                  <a:cubicBezTo>
                    <a:pt x="423" y="1006"/>
                    <a:pt x="582" y="424"/>
                    <a:pt x="635" y="318"/>
                  </a:cubicBezTo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6648480" y="5299200"/>
              <a:ext cx="585720" cy="5871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369" h="370">
                  <a:moveTo>
                    <a:pt x="362" y="53"/>
                  </a:moveTo>
                  <a:cubicBezTo>
                    <a:pt x="355" y="0"/>
                    <a:pt x="90" y="0"/>
                    <a:pt x="45" y="53"/>
                  </a:cubicBezTo>
                  <a:cubicBezTo>
                    <a:pt x="0" y="106"/>
                    <a:pt x="45" y="370"/>
                    <a:pt x="90" y="370"/>
                  </a:cubicBezTo>
                  <a:cubicBezTo>
                    <a:pt x="135" y="370"/>
                    <a:pt x="369" y="106"/>
                    <a:pt x="362" y="53"/>
                  </a:cubicBez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7211880" y="5310360"/>
              <a:ext cx="528480" cy="8524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33" h="537">
                  <a:moveTo>
                    <a:pt x="7" y="91"/>
                  </a:moveTo>
                  <a:cubicBezTo>
                    <a:pt x="3" y="276"/>
                    <a:pt x="0" y="461"/>
                    <a:pt x="53" y="499"/>
                  </a:cubicBezTo>
                  <a:cubicBezTo>
                    <a:pt x="106" y="537"/>
                    <a:pt x="333" y="401"/>
                    <a:pt x="325" y="318"/>
                  </a:cubicBezTo>
                  <a:cubicBezTo>
                    <a:pt x="317" y="235"/>
                    <a:pt x="60" y="45"/>
                    <a:pt x="7" y="0"/>
                  </a:cubicBezTo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6648480" y="5273640"/>
              <a:ext cx="671400" cy="13334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23" h="840">
                  <a:moveTo>
                    <a:pt x="0" y="704"/>
                  </a:moveTo>
                  <a:cubicBezTo>
                    <a:pt x="196" y="352"/>
                    <a:pt x="393" y="0"/>
                    <a:pt x="408" y="23"/>
                  </a:cubicBezTo>
                  <a:cubicBezTo>
                    <a:pt x="423" y="46"/>
                    <a:pt x="256" y="443"/>
                    <a:pt x="90" y="840"/>
                  </a:cubicBezTo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232840" y="3222360"/>
              <a:ext cx="215640" cy="43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1" name="Oval 20"/>
            <p:cNvSpPr/>
            <p:nvPr/>
          </p:nvSpPr>
          <p:spPr>
            <a:xfrm>
              <a:off x="8088480" y="3006720"/>
              <a:ext cx="503280" cy="288720"/>
            </a:xfrm>
            <a:prstGeom prst="ellipse">
              <a:avLst/>
            </a:prstGeom>
            <a:solidFill>
              <a:srgbClr val="6f3333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2" name="Oval 22"/>
            <p:cNvSpPr/>
            <p:nvPr/>
          </p:nvSpPr>
          <p:spPr>
            <a:xfrm>
              <a:off x="6359400" y="2933640"/>
              <a:ext cx="718920" cy="36036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3" name="Arc 23"/>
            <p:cNvSpPr/>
            <p:nvPr/>
          </p:nvSpPr>
          <p:spPr>
            <a:xfrm>
              <a:off x="6502320" y="3004920"/>
              <a:ext cx="72720" cy="215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AutoShape 24"/>
            <p:cNvSpPr/>
            <p:nvPr/>
          </p:nvSpPr>
          <p:spPr>
            <a:xfrm>
              <a:off x="6575400" y="2862000"/>
              <a:ext cx="503280" cy="7128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5" name="AutoShape 26"/>
            <p:cNvSpPr/>
            <p:nvPr/>
          </p:nvSpPr>
          <p:spPr>
            <a:xfrm>
              <a:off x="7078680" y="2933640"/>
              <a:ext cx="215640" cy="215640"/>
            </a:xfrm>
            <a:prstGeom prst="rtTriangle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6" name="Arc 27"/>
            <p:cNvSpPr/>
            <p:nvPr/>
          </p:nvSpPr>
          <p:spPr>
            <a:xfrm flipV="1">
              <a:off x="6359400" y="3078000"/>
              <a:ext cx="142560" cy="71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1143000" y="453600"/>
            <a:ext cx="682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гра «Отгадай загадку, доскажи словечко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Сегодня всё ликует!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В руках у детворы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т радости танцуют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Воздушные …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806480" y="5638680"/>
            <a:ext cx="60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Ры  –  ры  -  ры  -  у мальчиков шары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9" name="Picture 7" descr="Картинка 37 из 64000"/>
          <p:cNvPicPr/>
          <p:nvPr/>
        </p:nvPicPr>
        <p:blipFill>
          <a:blip r:embed="rId1"/>
          <a:stretch/>
        </p:blipFill>
        <p:spPr>
          <a:xfrm>
            <a:off x="5105520" y="1523880"/>
            <a:ext cx="2778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286000" y="4648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р – ор - ор -  созрел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красный помидо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016720" y="531000"/>
            <a:ext cx="45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расный, детки, но не мак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 огороде - не бурак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очный лакомый синьор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Угадали?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2" name="Picture 10" descr="Картинка 32 из 64000"/>
          <p:cNvPicPr/>
          <p:nvPr/>
        </p:nvPicPr>
        <p:blipFill>
          <a:blip r:embed="rId1"/>
          <a:stretch/>
        </p:blipFill>
        <p:spPr>
          <a:xfrm>
            <a:off x="4038480" y="1981080"/>
            <a:ext cx="2748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518560" y="563868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 – ра - ра – на улице жар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4" name="Picture 6" descr="Картинка 7 из 64000"/>
          <p:cNvPicPr/>
          <p:nvPr/>
        </p:nvPicPr>
        <p:blipFill>
          <a:blip r:embed="rId1"/>
          <a:stretch/>
        </p:blipFill>
        <p:spPr>
          <a:xfrm>
            <a:off x="2971800" y="2895480"/>
            <a:ext cx="2766960" cy="20764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1688040" y="606960"/>
            <a:ext cx="564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 утра мы бегаем по полю…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абегались, конечно, вволю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 тому же, наш футбольный мяч,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друг стал, как Колобок, горяч.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Уже – двенадцать, в тень пора,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На солнце страшная … (ЖАРА)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619560" y="297072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Georgia"/>
              </a:rPr>
              <a:t>Тридцать три вагона в ряд тараторят, тарахтят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16520" y="190404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Усядемся на пригорке и расскажем скороговорк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416960" y="434232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Перепелка перепелят прятала от ребят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606040" y="60012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</a:rPr>
              <a:t>Скороговорк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zaborchik1"/>
          <p:cNvPicPr/>
          <p:nvPr/>
        </p:nvPicPr>
        <p:blipFill>
          <a:blip r:embed="rId1"/>
          <a:srcRect l="0" t="0" r="0" b="20792"/>
          <a:stretch/>
        </p:blipFill>
        <p:spPr>
          <a:xfrm>
            <a:off x="5410080" y="533520"/>
            <a:ext cx="308628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609480" y="1207440"/>
            <a:ext cx="441972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Заборчик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Улыбнуться (зубы видны). Удерживать губы в таком положени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2"/>
              </a:rPr>
              <a:t>  </a:t>
            </a: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952880" y="48006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Широка Нева – рек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И улыбка широк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Зубки все мои видны-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т краев и до десны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1116000"/>
            <a:ext cx="5297400" cy="3602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F:\Копилка картинок\Анимашки\Девочки и мальчики\Человечки\357.gif"/>
          <p:cNvPicPr/>
          <p:nvPr/>
        </p:nvPicPr>
        <p:blipFill>
          <a:blip r:embed="rId2"/>
          <a:stretch/>
        </p:blipFill>
        <p:spPr>
          <a:xfrm>
            <a:off x="5545080" y="514440"/>
            <a:ext cx="2455920" cy="192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F:\Копилка картинок\Анимашки\Девочки и мальчики\Человечки\236.gif"/>
          <p:cNvPicPr/>
          <p:nvPr/>
        </p:nvPicPr>
        <p:blipFill>
          <a:blip r:embed="rId3"/>
          <a:stretch/>
        </p:blipFill>
        <p:spPr>
          <a:xfrm>
            <a:off x="6858000" y="2895480"/>
            <a:ext cx="1600200" cy="19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F:\Копилка картинок\Анимашки\Девочки и мальчики\Человечки\251.gif"/>
          <p:cNvPicPr/>
          <p:nvPr/>
        </p:nvPicPr>
        <p:blipFill>
          <a:blip r:embed="rId4"/>
          <a:stretch/>
        </p:blipFill>
        <p:spPr>
          <a:xfrm>
            <a:off x="4648320" y="4648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57200" y="1038600"/>
            <a:ext cx="579132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Накажем непослушный язычок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Приоткрыть рот, положить язык на нижнюю губу и, пошлепывая его губами, произносить «па-па-па, па-па-па»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9" name="Picture 5" descr="логопедические занятия непослушный язык">
            <a:hlinkClick r:id="rId2"/>
          </p:cNvPr>
          <p:cNvPicPr/>
          <p:nvPr/>
        </p:nvPicPr>
        <p:blipFill>
          <a:blip r:embed="rId3"/>
          <a:srcRect l="-12641" t="0" r="0" b="15596"/>
          <a:stretch/>
        </p:blipFill>
        <p:spPr>
          <a:xfrm>
            <a:off x="5791320" y="1066680"/>
            <a:ext cx="2949480" cy="3810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517640" y="4800600"/>
            <a:ext cx="416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А теперь уж не зубами 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Я пошлепаю губами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У быка губа тупа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а-па-па,па-па-па.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066680" y="582840"/>
            <a:ext cx="47595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Лопаточ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Положить широкий расслабленный язык на нижнюю губу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  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2" name="Picture 5" descr="артикуляционная гимнастика упражнение лопаточка">
            <a:hlinkClick r:id="rId2"/>
          </p:cNvPr>
          <p:cNvPicPr/>
          <p:nvPr/>
        </p:nvPicPr>
        <p:blipFill>
          <a:blip r:embed="rId3"/>
          <a:srcRect l="0" t="0" r="0" b="10935"/>
          <a:stretch/>
        </p:blipFill>
        <p:spPr>
          <a:xfrm>
            <a:off x="5410080" y="685800"/>
            <a:ext cx="310536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857120" y="5029200"/>
            <a:ext cx="38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оперек улыбки лег 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Отдыхает язычок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762120" y="962640"/>
            <a:ext cx="510516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Трубочка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Открыть рот, высунуть широкий язык и загнуть его боковые края вверх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0" lang="ru-RU" sz="2400" spc="-1" strike="noStrike">
                <a:solidFill>
                  <a:srgbClr val="800000"/>
                </a:solidFill>
                <a:latin typeface="Georgia"/>
              </a:rPr>
              <a:t>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5" name="Picture 5" descr="логопедические занятия упражнение трубочка">
            <a:hlinkClick r:id="rId2"/>
          </p:cNvPr>
          <p:cNvPicPr/>
          <p:nvPr/>
        </p:nvPicPr>
        <p:blipFill>
          <a:blip r:embed="rId3"/>
          <a:srcRect l="0" t="0" r="0" b="20005"/>
          <a:stretch/>
        </p:blipFill>
        <p:spPr>
          <a:xfrm>
            <a:off x="5715000" y="533520"/>
            <a:ext cx="29671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214600" y="480060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Я слегка прикрою рот,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Губы – «хоботом вперед,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Далеко я их тяну,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Как при долгом звуке: у-у-у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762120" y="-115560"/>
            <a:ext cx="426708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Оближем губки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от открыть.            Медленно, не отрывая языка, облизать сначала верхнюю, затем нижнюю губу по кругу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ffff"/>
                </a:solidFill>
                <a:uFillTx/>
                <a:latin typeface="Georgia"/>
                <a:hlinkClick r:id="rId1"/>
              </a:rPr>
              <a:t>  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                            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8" name="Picture 5" descr="логопедические занятия упражнение оближем губки">
            <a:hlinkClick r:id="rId2"/>
          </p:cNvPr>
          <p:cNvPicPr/>
          <p:nvPr/>
        </p:nvPicPr>
        <p:blipFill>
          <a:blip r:embed="rId3"/>
          <a:srcRect l="0" t="0" r="0" b="15646"/>
          <a:stretch/>
        </p:blipFill>
        <p:spPr>
          <a:xfrm>
            <a:off x="5486400" y="685800"/>
            <a:ext cx="300024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4800600" y="46483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Как будто варенье лежит на губе 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Слижу его «чашечкой» в ротик себе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2"/>
          <p:cNvSpPr/>
          <p:nvPr/>
        </p:nvSpPr>
        <p:spPr>
          <a:xfrm>
            <a:off x="533520" y="468000"/>
            <a:ext cx="321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Почистим зубки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«Почистить» кончиком языка нижние зубы с внутренней стороны (слева – направо, сверху вниз). Нижняя челюсть неподвижн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1" name="Picture 14" descr="pochistim_zubki"/>
          <p:cNvPicPr/>
          <p:nvPr/>
        </p:nvPicPr>
        <p:blipFill>
          <a:blip r:embed="rId1"/>
          <a:srcRect l="0" t="0" r="0" b="17911"/>
          <a:stretch/>
        </p:blipFill>
        <p:spPr>
          <a:xfrm>
            <a:off x="4987800" y="838080"/>
            <a:ext cx="307980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4011840" y="548640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Ходит «горка» влево вправо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Чистит зубки очень браво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3520" y="-707040"/>
            <a:ext cx="3539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«Часики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Georgia"/>
              </a:rPr>
              <a:t>Растянуть губы в улыбку. Рот приоткрыть. Кончиком узкого языка попеременно дотрагиваться до уголков рт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4" name="Picture 6" descr="chasiki"/>
          <p:cNvPicPr/>
          <p:nvPr/>
        </p:nvPicPr>
        <p:blipFill>
          <a:blip r:embed="rId1"/>
          <a:srcRect l="0" t="0" r="0" b="19999"/>
          <a:stretch/>
        </p:blipFill>
        <p:spPr>
          <a:xfrm>
            <a:off x="5386320" y="533520"/>
            <a:ext cx="3181320" cy="4419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5410080" y="48769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Влево – вправо кончик ходит,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Будто места не находит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Valued Acer Customer</cp:lastModifiedBy>
  <dcterms:modified xsi:type="dcterms:W3CDTF">2012-02-14T18:18:2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