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9.gif" ContentType="image/gif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jpeg" ContentType="image/jpeg"/>
  <Override PartName="/ppt/media/image27.gif" ContentType="image/gif"/>
  <Override PartName="/ppt/media/image17.png" ContentType="image/png"/>
  <Override PartName="/ppt/media/image16.png" ContentType="image/png"/>
  <Override PartName="/ppt/media/image15.jpeg" ContentType="image/jpeg"/>
  <Override PartName="/ppt/media/image28.gif" ContentType="image/gif"/>
  <Override PartName="/ppt/media/image14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BC8E-B08F-4258-9C25-97A7B4C0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0AE8-CF71-4B5A-BDEF-5364F625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5417-141C-403C-9736-8B09439D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67E3-76FD-421E-B8B9-D28088D6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7028-B191-4F3B-B3EA-3B336ACB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3D47-7F92-4C15-B008-425B6647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E54E-4690-4813-9E04-B65A09F6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7138-EBA4-41E3-9542-1A906FC1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BD92-D76E-4D95-9652-1D8D07C4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5DFF-1630-4A1C-9562-85ECDD54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2EF8-385F-4C8C-A869-470E3FF6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F717-E23F-4993-A85B-EEB3B917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2813-1CB3-42EC-8A38-4BC8B8B7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B277-C855-4D7D-B97E-0AFCD07E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0EF8-3FD0-4F49-9600-1B83CA0C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4865-F5FE-4A33-A13D-FBA994A7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8EDC-1A92-40B8-BF8E-62268912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708B-CB55-4AD4-A4B0-F1898736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C556-4208-4280-B7C9-952F4985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EA8C-1846-463F-900A-585B4E44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5A02-2690-4005-B694-98156DAB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5A7E-5535-41C1-A899-35888A07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6B1C-6DFC-4514-9687-B05BDC5A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7A3C-DFE6-4F23-960D-D8D4B487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b9ff"/>
            </a:gs>
            <a:gs pos="50000">
              <a:srgbClr val="ffffa7"/>
            </a:gs>
            <a:gs pos="100000">
              <a:srgbClr val="89b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2A41-640A-4443-BA7F-C78E7F4F5661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b9ff"/>
            </a:gs>
            <a:gs pos="50000">
              <a:srgbClr val="ffffa7"/>
            </a:gs>
            <a:gs pos="100000">
              <a:srgbClr val="89b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9D6B-8A4B-44A5-860D-311E8DFB296D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kazles.ru/azbuka/0019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g12.nnm.ru/2/e/5/c/5/47df5890b3f347980166e708924_prev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g13.nnm.ru/f/2/1/2/6/2aaaf594f0764d238c990a466e0_prev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chool80.tgl.ru/sp/pic/Image/Tvorchestvo/C_Documents_and_Settings_teach_Moi_dokumenti_Moi_risunki_Vernisazh_Raketa_resized_sp_cms_315x448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sonkovo-news.ru/images/stroitel.jp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rambler.ru/pic_cache?url=http%3A//www.florissimaltd.ru/catalog/1-7/121/&amp;bi=http%3A//www.florissimaltd.ru/imgupl/pos121-2.jpg&amp;i=http%3A//media3.picsearch.com/is%3FK30Os7GKHVyqCfq0OR99R26zSMK1DlbSnSsM_-yHbCQ&amp;w=107&amp;h=128&amp;f=49&amp;q=&#1088;&#1086;&#1079;&#1099;&amp;p=12" TargetMode="External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logolife.ru/wp-content/uploads/zaborchik1.jpg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ogolife.ru/wp-content/uploads/yazik.jpg" TargetMode="External"/><Relationship Id="rId2" Type="http://schemas.openxmlformats.org/officeDocument/2006/relationships/hyperlink" Target="http://www.logolife.ru/wp-content/uploads/yazik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ogolife.ru/wp-content/uploads/lopatochka.jpg" TargetMode="External"/><Relationship Id="rId2" Type="http://schemas.openxmlformats.org/officeDocument/2006/relationships/hyperlink" Target="http://www.logolife.ru/wp-content/uploads/lopatochka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ogolife.ru/wp-content/uploads/trybochka.jpg" TargetMode="External"/><Relationship Id="rId2" Type="http://schemas.openxmlformats.org/officeDocument/2006/relationships/hyperlink" Target="http://www.logolife.ru/wp-content/uploads/trybochka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ogolife.ru/wp-content/uploads/obliz_gubki.jpg" TargetMode="External"/><Relationship Id="rId2" Type="http://schemas.openxmlformats.org/officeDocument/2006/relationships/hyperlink" Target="http://www.logolife.ru/wp-content/uploads/obliz_gubki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7"/>
          <p:cNvSpPr/>
          <p:nvPr/>
        </p:nvSpPr>
        <p:spPr>
          <a:xfrm>
            <a:off x="228600" y="533520"/>
            <a:ext cx="85345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Georgia"/>
              </a:rPr>
              <a:t>       </a:t>
            </a:r>
            <a:r>
              <a:rPr b="0" lang="ru-RU" sz="4400" spc="-1" strike="noStrike">
                <a:solidFill>
                  <a:srgbClr val="000099"/>
                </a:solidFill>
                <a:latin typeface="Georgia"/>
              </a:rPr>
              <a:t>Логопедическое занятие                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eorgia"/>
              </a:rPr>
              <a:t>                      </a:t>
            </a:r>
            <a:r>
              <a:rPr b="0" lang="ru-RU" sz="4400" spc="-1" strike="noStrike">
                <a:solidFill>
                  <a:srgbClr val="000099"/>
                </a:solidFill>
                <a:latin typeface="Georgia"/>
              </a:rPr>
              <a:t>на тему:     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eorgia"/>
              </a:rPr>
              <a:t>   </a:t>
            </a:r>
            <a:r>
              <a:rPr b="0" lang="ru-RU" sz="4400" spc="-1" strike="noStrike">
                <a:solidFill>
                  <a:srgbClr val="000099"/>
                </a:solidFill>
                <a:latin typeface="Georgia"/>
              </a:rPr>
              <a:t>«Звуки </a:t>
            </a:r>
            <a:r>
              <a:rPr b="0" lang="en-US" sz="4400" spc="-1" strike="noStrike">
                <a:solidFill>
                  <a:srgbClr val="000099"/>
                </a:solidFill>
                <a:latin typeface="Georgia"/>
              </a:rPr>
              <a:t>[</a:t>
            </a:r>
            <a:r>
              <a:rPr b="0" lang="ru-RU" sz="4400" spc="-1" strike="noStrike">
                <a:solidFill>
                  <a:srgbClr val="000099"/>
                </a:solidFill>
                <a:latin typeface="Georgia"/>
              </a:rPr>
              <a:t>р</a:t>
            </a:r>
            <a:r>
              <a:rPr b="0" lang="en-US" sz="4400" spc="-1" strike="noStrike">
                <a:solidFill>
                  <a:srgbClr val="000099"/>
                </a:solidFill>
                <a:latin typeface="Georgia"/>
              </a:rPr>
              <a:t>]-[ </a:t>
            </a:r>
            <a:r>
              <a:rPr b="0" lang="ru-RU" sz="4400" spc="-1" strike="noStrike">
                <a:solidFill>
                  <a:srgbClr val="000099"/>
                </a:solidFill>
                <a:latin typeface="Georgia"/>
              </a:rPr>
              <a:t>р,</a:t>
            </a:r>
            <a:r>
              <a:rPr b="0" lang="en-US" sz="4400" spc="-1" strike="noStrike">
                <a:solidFill>
                  <a:srgbClr val="000099"/>
                </a:solidFill>
                <a:latin typeface="Georgia"/>
              </a:rPr>
              <a:t>]</a:t>
            </a:r>
            <a:r>
              <a:rPr b="0" lang="ru-RU" sz="4400" spc="-1" strike="noStrike">
                <a:solidFill>
                  <a:srgbClr val="000099"/>
                </a:solidFill>
                <a:latin typeface="Georgia"/>
              </a:rPr>
              <a:t>, буква р»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143000" y="5090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Автор: Трофимова Лариса Александровна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еподаватель уроков логопедии ГБОУ «Плоскошская  специальная коррекционная школа-интернат  для детей с ограниченными возможностями в развитии»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2362320" y="1063440"/>
            <a:ext cx="4695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«Гармошка»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На гармошке чтоб сыграть,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Нужно челюсть опускать,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Язычок не отрываем,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Очень здорово играем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457200" y="2467440"/>
            <a:ext cx="8305920" cy="11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" rIns="14400" tIns="12600" bIns="12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Произнеси звук «Р» длительно на одном выдохе: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                  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     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р – р – р – р –р - р.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457200" y="2085480"/>
            <a:ext cx="4648320" cy="22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" rIns="14400" tIns="12600" bIns="12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Рассмотри букву «Р», нарисуй ее в воздухе каждым пальцем поочередно, сначала одной, затем другой и двумя руками одновременно.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9" name="Picture 6" descr="Р-Рыбк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828800"/>
            <a:ext cx="360036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1371600" y="1792800"/>
            <a:ext cx="556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Проговори слоги и слова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Ра – ра - ра       ро – ро - ро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Ру – ру - ру              ры – ры - ры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402120" y="1035000"/>
            <a:ext cx="664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        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Запомни и повтори слоги</a:t>
            </a:r>
            <a:r>
              <a:rPr b="0" lang="ru-RU" sz="2400" spc="-1" strike="noStrike">
                <a:solidFill>
                  <a:srgbClr val="800000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                                  </a:t>
            </a: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ра – ро – ру – ры      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                    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                                  </a:t>
            </a: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ро – ру – ры – ра     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                                  </a:t>
            </a: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ры – ра – ро – ру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1060920" y="1140120"/>
            <a:ext cx="6960600" cy="33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12600" bIns="12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Повтори слова, выделяя звук Р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Рак        рот             руль           рыба           роза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Ров        рота            Русь           рык            Рома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Рыть      рана          рука            робот          Рая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6" descr="Картинка 12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80880"/>
            <a:ext cx="8305920" cy="6066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7"/>
          <p:cNvSpPr/>
          <p:nvPr/>
        </p:nvSpPr>
        <p:spPr>
          <a:xfrm>
            <a:off x="3758760" y="4800600"/>
            <a:ext cx="48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8f8f8"/>
                </a:solidFill>
                <a:latin typeface="Arial"/>
              </a:rPr>
              <a:t>Как рычит тигр?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5029200" y="5562720"/>
            <a:ext cx="367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"/>
              </a:rPr>
              <a:t>(</a:t>
            </a:r>
            <a:r>
              <a:rPr b="1" lang="ru-RU" sz="4800" spc="-1" strike="noStrike">
                <a:solidFill>
                  <a:srgbClr val="f8f8f8"/>
                </a:solidFill>
                <a:latin typeface="Arial"/>
              </a:rPr>
              <a:t>Р – Р – Р !</a:t>
            </a:r>
            <a:r>
              <a:rPr b="1" lang="en-US" sz="4800" spc="-1" strike="noStrike">
                <a:solidFill>
                  <a:srgbClr val="f8f8f8"/>
                </a:solidFill>
                <a:latin typeface="Arial"/>
              </a:rPr>
              <a:t>)</a:t>
            </a:r>
            <a:r>
              <a:rPr b="0" lang="ru-RU" sz="4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6" descr="Картинка 55 из 6356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43080"/>
            <a:ext cx="8305920" cy="61038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380880" y="22860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Как рычат тигрята?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 rot="10800000">
            <a:off x="1447920" y="4191120"/>
            <a:ext cx="4495680" cy="1295280"/>
          </a:xfrm>
          <a:prstGeom prst="cloudCallout">
            <a:avLst>
              <a:gd name="adj1" fmla="val -34787"/>
              <a:gd name="adj2" fmla="val 73449"/>
            </a:avLst>
          </a:prstGeom>
          <a:solidFill>
            <a:srgbClr val="c9d5ce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Рь-рь-рь!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1"/>
          <p:cNvSpPr/>
          <p:nvPr/>
        </p:nvSpPr>
        <p:spPr>
          <a:xfrm>
            <a:off x="380880" y="53352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Назови, что изображено на  картинках.                                  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          </a:t>
            </a: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С какого звука начинаются слова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0" name="Picture 9" descr="Картинка 49 из 30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2590920"/>
            <a:ext cx="2514600" cy="3579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Картинка 10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3276720"/>
            <a:ext cx="2163600" cy="2842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 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21000" y="-9340920"/>
            <a:ext cx="1019160" cy="1219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 "/>
          <p:cNvPicPr/>
          <p:nvPr/>
        </p:nvPicPr>
        <p:blipFill>
          <a:blip r:embed="rId7"/>
          <a:stretch/>
        </p:blipFill>
        <p:spPr>
          <a:xfrm>
            <a:off x="4221000" y="-9340920"/>
            <a:ext cx="1019160" cy="1219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Роза SprTiara Тиара"/>
          <p:cNvPicPr/>
          <p:nvPr/>
        </p:nvPicPr>
        <p:blipFill>
          <a:blip r:embed="rId8"/>
          <a:stretch/>
        </p:blipFill>
        <p:spPr>
          <a:xfrm>
            <a:off x="609480" y="3276720"/>
            <a:ext cx="2286000" cy="288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1447920" y="4111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Назови картинки и скажи, есть ли в названиях звук «Р», и где он спрятался:  в середине, в конце, или в начале слова?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6" name="Picture 6" descr="расческа"/>
          <p:cNvPicPr/>
          <p:nvPr/>
        </p:nvPicPr>
        <p:blipFill>
          <a:blip r:embed="rId1"/>
          <a:stretch/>
        </p:blipFill>
        <p:spPr>
          <a:xfrm>
            <a:off x="1523880" y="1905120"/>
            <a:ext cx="1643040" cy="2162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корова"/>
          <p:cNvPicPr/>
          <p:nvPr/>
        </p:nvPicPr>
        <p:blipFill>
          <a:blip r:embed="rId2"/>
          <a:stretch/>
        </p:blipFill>
        <p:spPr>
          <a:xfrm>
            <a:off x="3886200" y="2057400"/>
            <a:ext cx="2019240" cy="1558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забор"/>
          <p:cNvPicPr/>
          <p:nvPr/>
        </p:nvPicPr>
        <p:blipFill>
          <a:blip r:embed="rId3"/>
          <a:stretch/>
        </p:blipFill>
        <p:spPr>
          <a:xfrm>
            <a:off x="6553080" y="2057400"/>
            <a:ext cx="1809720" cy="1592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шар"/>
          <p:cNvPicPr/>
          <p:nvPr/>
        </p:nvPicPr>
        <p:blipFill>
          <a:blip r:embed="rId4"/>
          <a:stretch/>
        </p:blipFill>
        <p:spPr>
          <a:xfrm>
            <a:off x="1523880" y="4267080"/>
            <a:ext cx="1752840" cy="1694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каша"/>
          <p:cNvPicPr/>
          <p:nvPr/>
        </p:nvPicPr>
        <p:blipFill>
          <a:blip r:embed="rId5"/>
          <a:stretch/>
        </p:blipFill>
        <p:spPr>
          <a:xfrm>
            <a:off x="4038480" y="4175280"/>
            <a:ext cx="1905120" cy="1841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труба"/>
          <p:cNvPicPr/>
          <p:nvPr/>
        </p:nvPicPr>
        <p:blipFill>
          <a:blip r:embed="rId6"/>
          <a:stretch/>
        </p:blipFill>
        <p:spPr>
          <a:xfrm>
            <a:off x="6477120" y="4186080"/>
            <a:ext cx="20574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логопедические упражнения улыбочка"/>
          <p:cNvPicPr/>
          <p:nvPr/>
        </p:nvPicPr>
        <p:blipFill>
          <a:blip r:embed="rId1"/>
          <a:srcRect l="0" t="0" r="0" b="21429"/>
          <a:stretch/>
        </p:blipFill>
        <p:spPr>
          <a:xfrm>
            <a:off x="5257800" y="990720"/>
            <a:ext cx="2868480" cy="38862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578880" y="532440"/>
            <a:ext cx="50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Логопедические упражнения</a:t>
            </a:r>
            <a:r>
              <a:rPr b="1" lang="ru-RU" sz="2400" spc="-1" strike="noStrike">
                <a:solidFill>
                  <a:srgbClr val="f8f8f8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304920" y="2131560"/>
            <a:ext cx="487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«Улыбочка»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Удерживать сильно растянутые губы в улыбке. Зубы не видны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753800" y="4800600"/>
            <a:ext cx="372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Широка Нева – река,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И улыбка широка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Зубки все мои видны-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От краев и до десны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457200" y="228600"/>
            <a:ext cx="82296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Прочитай и найди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лишнее слово в каждом столбике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1320" y="1714680"/>
            <a:ext cx="228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Arial"/>
              </a:rPr>
              <a:t>Ручка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Arial"/>
              </a:rPr>
              <a:t>карандаш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Arial"/>
              </a:rPr>
              <a:t>парта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Arial"/>
              </a:rPr>
              <a:t>краски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709800" y="1700280"/>
            <a:ext cx="207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Arial"/>
              </a:rPr>
              <a:t>помидор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Arial"/>
              </a:rPr>
              <a:t>винегрет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Arial"/>
              </a:rPr>
              <a:t>огурец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Arial"/>
              </a:rPr>
              <a:t>укроп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6660720" y="1700280"/>
            <a:ext cx="2128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Arial"/>
              </a:rPr>
              <a:t>персик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Arial"/>
              </a:rPr>
              <a:t>абрикос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Arial"/>
              </a:rPr>
              <a:t>виноград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Arial"/>
              </a:rPr>
              <a:t>морковь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835280" y="4221000"/>
            <a:ext cx="1960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Arial"/>
              </a:rPr>
              <a:t>воробей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Arial"/>
              </a:rPr>
              <a:t>рысь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Arial"/>
              </a:rPr>
              <a:t>ворона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Arial"/>
              </a:rPr>
              <a:t>сорока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5649120" y="4869000"/>
            <a:ext cx="238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чему  ты выбрал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именно это слово?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8" name="AutoShape 12"/>
          <p:cNvSpPr/>
          <p:nvPr/>
        </p:nvSpPr>
        <p:spPr>
          <a:xfrm>
            <a:off x="5364000" y="4437000"/>
            <a:ext cx="3095640" cy="1440000"/>
          </a:xfrm>
          <a:prstGeom prst="wedgeRectCallout">
            <a:avLst>
              <a:gd name="adj1" fmla="val -43745"/>
              <a:gd name="adj2" fmla="val 63009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чему ты выбрал именно это слово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755640" y="2997360"/>
            <a:ext cx="1440000" cy="431640"/>
          </a:xfrm>
          <a:prstGeom prst="rec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3708360" y="2349360"/>
            <a:ext cx="201600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6732720" y="3500280"/>
            <a:ext cx="1942920" cy="505080"/>
          </a:xfrm>
          <a:prstGeom prst="rec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2" name="Rectangle 22"/>
          <p:cNvSpPr/>
          <p:nvPr/>
        </p:nvSpPr>
        <p:spPr>
          <a:xfrm>
            <a:off x="1908000" y="4941720"/>
            <a:ext cx="1295640" cy="432000"/>
          </a:xfrm>
          <a:prstGeom prst="rec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755640" y="457200"/>
            <a:ext cx="77788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Закончи слова, добавляя слоги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736920" y="1268280"/>
            <a:ext cx="3115800" cy="11912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А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о…, го…, ко…,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, …дуга, …кета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015880" y="2565360"/>
            <a:ext cx="3155400" cy="11912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Georgia"/>
              </a:rPr>
              <a:t>РЫ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Georgia"/>
              </a:rPr>
              <a:t>Ша…, боб…, кома…,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Georgia"/>
              </a:rPr>
              <a:t>…</a:t>
            </a:r>
            <a:r>
              <a:rPr b="0" lang="ru-RU" sz="2400" spc="-1" strike="noStrike">
                <a:solidFill>
                  <a:srgbClr val="ffc000"/>
                </a:solidFill>
                <a:latin typeface="Georgia"/>
              </a:rPr>
              <a:t>ба, …нок, …сь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750240" y="3860640"/>
            <a:ext cx="2896560" cy="1191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Georgia"/>
              </a:rPr>
              <a:t>РО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Georgia"/>
              </a:rPr>
              <a:t>Ут…, мет…, вед…,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Georgia"/>
              </a:rPr>
              <a:t>…</a:t>
            </a:r>
            <a:r>
              <a:rPr b="0" lang="ru-RU" sz="2400" spc="-1" strike="noStrike">
                <a:solidFill>
                  <a:srgbClr val="f8f8f8"/>
                </a:solidFill>
                <a:latin typeface="Georgia"/>
              </a:rPr>
              <a:t>га, …ща, …дина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5792760" y="5157720"/>
            <a:ext cx="2500200" cy="119124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РУ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Georgia"/>
              </a:rPr>
              <a:t>Кенгу…, …ка,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Georgia"/>
              </a:rPr>
              <a:t>…</a:t>
            </a:r>
            <a:r>
              <a:rPr b="0" lang="ru-RU" sz="2400" spc="-1" strike="noStrike">
                <a:solidFill>
                  <a:srgbClr val="c00000"/>
                </a:solidFill>
                <a:latin typeface="Georgia"/>
              </a:rPr>
              <a:t>чей, …башка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Oval 17"/>
          <p:cNvSpPr/>
          <p:nvPr/>
        </p:nvSpPr>
        <p:spPr>
          <a:xfrm rot="20534400">
            <a:off x="2340000" y="4220640"/>
            <a:ext cx="1368360" cy="10810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9" name="Arc 18"/>
          <p:cNvSpPr/>
          <p:nvPr/>
        </p:nvSpPr>
        <p:spPr>
          <a:xfrm flipH="1">
            <a:off x="2555280" y="4437000"/>
            <a:ext cx="431640" cy="36036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0" name="Arc 20"/>
          <p:cNvSpPr/>
          <p:nvPr/>
        </p:nvSpPr>
        <p:spPr>
          <a:xfrm>
            <a:off x="3492360" y="4365720"/>
            <a:ext cx="358920" cy="360360"/>
          </a:xfrm>
          <a:custGeom>
            <a:avLst/>
            <a:gdLst>
              <a:gd name="textAreaLeft" fmla="*/ 0 w 358920"/>
              <a:gd name="textAreaRight" fmla="*/ 359280 w 3589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1" name="AutoShape 21"/>
          <p:cNvSpPr/>
          <p:nvPr/>
        </p:nvSpPr>
        <p:spPr>
          <a:xfrm rot="5400000">
            <a:off x="3023280" y="4688640"/>
            <a:ext cx="431640" cy="360360"/>
          </a:xfrm>
          <a:prstGeom prst="lightningBolt">
            <a:avLst/>
          </a:prstGeom>
          <a:solidFill>
            <a:srgbClr val="9933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2" name="Oval 22"/>
          <p:cNvSpPr/>
          <p:nvPr/>
        </p:nvSpPr>
        <p:spPr>
          <a:xfrm>
            <a:off x="6732720" y="4005360"/>
            <a:ext cx="1871640" cy="1368360"/>
          </a:xfrm>
          <a:prstGeom prst="ellipse">
            <a:avLst/>
          </a:prstGeom>
          <a:solidFill>
            <a:srgbClr val="dc390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3" name="Arc 24"/>
          <p:cNvSpPr/>
          <p:nvPr/>
        </p:nvSpPr>
        <p:spPr>
          <a:xfrm rot="18852000">
            <a:off x="7777080" y="3968640"/>
            <a:ext cx="503280" cy="576360"/>
          </a:xfrm>
          <a:custGeom>
            <a:avLst/>
            <a:gdLst>
              <a:gd name="textAreaLeft" fmla="*/ 0 w 503280"/>
              <a:gd name="textAreaRight" fmla="*/ 503640 w 503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4" name="Arc 25"/>
          <p:cNvSpPr/>
          <p:nvPr/>
        </p:nvSpPr>
        <p:spPr>
          <a:xfrm>
            <a:off x="7093080" y="4149720"/>
            <a:ext cx="503280" cy="216000"/>
          </a:xfrm>
          <a:custGeom>
            <a:avLst/>
            <a:gdLst>
              <a:gd name="textAreaLeft" fmla="*/ 0 w 503280"/>
              <a:gd name="textAreaRight" fmla="*/ 503640 w 503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5" name="Oval 26"/>
          <p:cNvSpPr/>
          <p:nvPr/>
        </p:nvSpPr>
        <p:spPr>
          <a:xfrm rot="4191600">
            <a:off x="4637880" y="3795120"/>
            <a:ext cx="914400" cy="1909440"/>
          </a:xfrm>
          <a:prstGeom prst="ellipse">
            <a:avLst/>
          </a:prstGeom>
          <a:solidFill>
            <a:srgbClr val="e1b601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6" name="Arc 27"/>
          <p:cNvSpPr/>
          <p:nvPr/>
        </p:nvSpPr>
        <p:spPr>
          <a:xfrm>
            <a:off x="7236000" y="4292640"/>
            <a:ext cx="863280" cy="393840"/>
          </a:xfrm>
          <a:custGeom>
            <a:avLst/>
            <a:gdLst>
              <a:gd name="textAreaLeft" fmla="*/ 0 w 863280"/>
              <a:gd name="textAreaRight" fmla="*/ 863640 w 86328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fill="none" w="43200" h="29431">
                <a:moveTo>
                  <a:pt x="1469" y="29430"/>
                </a:moveTo>
                <a:cubicBezTo>
                  <a:pt x="498" y="26934"/>
                  <a:pt x="0" y="2427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9431">
                <a:moveTo>
                  <a:pt x="1469" y="29430"/>
                </a:moveTo>
                <a:cubicBezTo>
                  <a:pt x="498" y="26934"/>
                  <a:pt x="0" y="2427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7" name="Arc 29"/>
          <p:cNvSpPr/>
          <p:nvPr/>
        </p:nvSpPr>
        <p:spPr>
          <a:xfrm flipV="1">
            <a:off x="7524720" y="4149000"/>
            <a:ext cx="360360" cy="144360"/>
          </a:xfrm>
          <a:custGeom>
            <a:avLst/>
            <a:gdLst>
              <a:gd name="textAreaLeft" fmla="*/ 0 w 360360"/>
              <a:gd name="textAreaRight" fmla="*/ 360720 w 36036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fill="none" w="43200" h="43200">
                <a:moveTo>
                  <a:pt x="259" y="24936"/>
                </a:moveTo>
                <a:cubicBezTo>
                  <a:pt x="86" y="23833"/>
                  <a:pt x="0" y="2271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-32007"/>
                  <a:pt x="-32007" y="-22336"/>
                  <a:pt x="21600" y="-22336"/>
                </a:cubicBezTo>
                <a:cubicBezTo>
                  <a:pt x="11822" y="-22336"/>
                  <a:pt x="3264" y="-28904"/>
                  <a:pt x="735" y="27187"/>
                </a:cubicBezTo>
              </a:path>
              <a:path stroke="0" w="43200" h="43200">
                <a:moveTo>
                  <a:pt x="259" y="24936"/>
                </a:moveTo>
                <a:cubicBezTo>
                  <a:pt x="86" y="23833"/>
                  <a:pt x="0" y="2271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-32007"/>
                  <a:pt x="-32007" y="-22336"/>
                  <a:pt x="21600" y="-22336"/>
                </a:cubicBezTo>
                <a:cubicBezTo>
                  <a:pt x="11822" y="-22336"/>
                  <a:pt x="3264" y="-28904"/>
                  <a:pt x="735" y="27187"/>
                </a:cubicBezTo>
                <a:lnTo>
                  <a:pt x="2160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8" name="AutoShape 30"/>
          <p:cNvSpPr/>
          <p:nvPr/>
        </p:nvSpPr>
        <p:spPr>
          <a:xfrm>
            <a:off x="6948360" y="4292640"/>
            <a:ext cx="7164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c390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9" name="Arc 32"/>
          <p:cNvSpPr/>
          <p:nvPr/>
        </p:nvSpPr>
        <p:spPr>
          <a:xfrm rot="18040200">
            <a:off x="5113080" y="4039560"/>
            <a:ext cx="358920" cy="432000"/>
          </a:xfrm>
          <a:custGeom>
            <a:avLst/>
            <a:gdLst>
              <a:gd name="textAreaLeft" fmla="*/ 0 w 358920"/>
              <a:gd name="textAreaRight" fmla="*/ 359280 w 3589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e1b601"/>
          </a:solidFill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0" name="Arc 34"/>
          <p:cNvSpPr/>
          <p:nvPr/>
        </p:nvSpPr>
        <p:spPr>
          <a:xfrm>
            <a:off x="4932360" y="4508640"/>
            <a:ext cx="73080" cy="71280"/>
          </a:xfrm>
          <a:custGeom>
            <a:avLst/>
            <a:gdLst>
              <a:gd name="textAreaLeft" fmla="*/ 0 w 73080"/>
              <a:gd name="textAreaRight" fmla="*/ 73440 w 7308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1" name="Arc 35"/>
          <p:cNvSpPr/>
          <p:nvPr/>
        </p:nvSpPr>
        <p:spPr>
          <a:xfrm flipV="1">
            <a:off x="1476360" y="5703840"/>
            <a:ext cx="431640" cy="7920"/>
          </a:xfrm>
          <a:custGeom>
            <a:avLst/>
            <a:gdLst>
              <a:gd name="textAreaLeft" fmla="*/ 0 w 431640"/>
              <a:gd name="textAreaRight" fmla="*/ 432000 w 431640"/>
              <a:gd name="textAreaTop" fmla="*/ 360 h 7920"/>
              <a:gd name="textAreaBottom" fmla="*/ 8640 h 7920"/>
            </a:gdLst>
            <a:ahLst/>
            <a:rect l="textAreaLeft" t="textAreaTop" r="textAreaRight" b="textAreaBottom"/>
            <a:pathLst>
              <a:path fill="none" w="21600" h="160">
                <a:moveTo>
                  <a:pt x="21599" y="-1"/>
                </a:moveTo>
                <a:cubicBezTo>
                  <a:pt x="21599" y="53"/>
                  <a:pt x="21600" y="106"/>
                  <a:pt x="21600" y="160"/>
                </a:cubicBezTo>
              </a:path>
              <a:path stroke="0" w="21600" h="160">
                <a:moveTo>
                  <a:pt x="21599" y="-1"/>
                </a:moveTo>
                <a:cubicBezTo>
                  <a:pt x="21599" y="53"/>
                  <a:pt x="21600" y="106"/>
                  <a:pt x="21600" y="160"/>
                </a:cubicBezTo>
                <a:lnTo>
                  <a:pt x="0" y="16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2" name="Arc 36"/>
          <p:cNvSpPr/>
          <p:nvPr/>
        </p:nvSpPr>
        <p:spPr>
          <a:xfrm>
            <a:off x="5364000" y="4437000"/>
            <a:ext cx="71640" cy="73080"/>
          </a:xfrm>
          <a:custGeom>
            <a:avLst/>
            <a:gdLst>
              <a:gd name="textAreaLeft" fmla="*/ 0 w 71640"/>
              <a:gd name="textAreaRight" fmla="*/ 72000 w 71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3" name="Arc 37"/>
          <p:cNvSpPr/>
          <p:nvPr/>
        </p:nvSpPr>
        <p:spPr>
          <a:xfrm flipV="1">
            <a:off x="4643280" y="5083920"/>
            <a:ext cx="73080" cy="71640"/>
          </a:xfrm>
          <a:custGeom>
            <a:avLst/>
            <a:gdLst>
              <a:gd name="textAreaLeft" fmla="*/ 0 w 73080"/>
              <a:gd name="textAreaRight" fmla="*/ 73440 w 7308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4" name="Arc 38"/>
          <p:cNvSpPr/>
          <p:nvPr/>
        </p:nvSpPr>
        <p:spPr>
          <a:xfrm flipH="1">
            <a:off x="4572000" y="4724280"/>
            <a:ext cx="71280" cy="144720"/>
          </a:xfrm>
          <a:custGeom>
            <a:avLst/>
            <a:gdLst>
              <a:gd name="textAreaLeft" fmla="*/ 360 w 71280"/>
              <a:gd name="textAreaRight" fmla="*/ 72000 w 7128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5" name="Arc 39"/>
          <p:cNvSpPr/>
          <p:nvPr/>
        </p:nvSpPr>
        <p:spPr>
          <a:xfrm>
            <a:off x="5364000" y="4724280"/>
            <a:ext cx="73080" cy="71640"/>
          </a:xfrm>
          <a:custGeom>
            <a:avLst/>
            <a:gdLst>
              <a:gd name="textAreaLeft" fmla="*/ 0 w 73080"/>
              <a:gd name="textAreaRight" fmla="*/ 73440 w 7308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6" name="Arc 46"/>
          <p:cNvSpPr/>
          <p:nvPr/>
        </p:nvSpPr>
        <p:spPr>
          <a:xfrm>
            <a:off x="1258920" y="4292640"/>
            <a:ext cx="433440" cy="504720"/>
          </a:xfrm>
          <a:custGeom>
            <a:avLst/>
            <a:gdLst>
              <a:gd name="textAreaLeft" fmla="*/ 0 w 433440"/>
              <a:gd name="textAreaRight" fmla="*/ 433800 w 433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7" name="Arc 49"/>
          <p:cNvSpPr/>
          <p:nvPr/>
        </p:nvSpPr>
        <p:spPr>
          <a:xfrm flipV="1">
            <a:off x="900000" y="4220280"/>
            <a:ext cx="216000" cy="71640"/>
          </a:xfrm>
          <a:custGeom>
            <a:avLst/>
            <a:gdLst>
              <a:gd name="textAreaLeft" fmla="*/ 0 w 216000"/>
              <a:gd name="textAreaRight" fmla="*/ 216360 w 21600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8" name="AutoShape 50"/>
          <p:cNvSpPr/>
          <p:nvPr/>
        </p:nvSpPr>
        <p:spPr>
          <a:xfrm>
            <a:off x="7596360" y="3860640"/>
            <a:ext cx="7128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9" name="Arc 54"/>
          <p:cNvSpPr/>
          <p:nvPr/>
        </p:nvSpPr>
        <p:spPr>
          <a:xfrm flipV="1">
            <a:off x="900000" y="4508640"/>
            <a:ext cx="142920" cy="72720"/>
          </a:xfrm>
          <a:custGeom>
            <a:avLst/>
            <a:gdLst>
              <a:gd name="textAreaLeft" fmla="*/ 0 w 142920"/>
              <a:gd name="textAreaRight" fmla="*/ 143280 w 142920"/>
              <a:gd name="textAreaTop" fmla="*/ 360 h 72720"/>
              <a:gd name="textAreaBottom" fmla="*/ 73440 h 72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0" name="Arc 55"/>
          <p:cNvSpPr/>
          <p:nvPr/>
        </p:nvSpPr>
        <p:spPr>
          <a:xfrm flipH="1">
            <a:off x="899280" y="4724280"/>
            <a:ext cx="71640" cy="144720"/>
          </a:xfrm>
          <a:custGeom>
            <a:avLst/>
            <a:gdLst>
              <a:gd name="textAreaLeft" fmla="*/ -360 w 71640"/>
              <a:gd name="textAreaRight" fmla="*/ 71640 w 716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1" name="Arc 56"/>
          <p:cNvSpPr/>
          <p:nvPr/>
        </p:nvSpPr>
        <p:spPr>
          <a:xfrm flipV="1">
            <a:off x="611280" y="5013360"/>
            <a:ext cx="73080" cy="71280"/>
          </a:xfrm>
          <a:custGeom>
            <a:avLst/>
            <a:gdLst>
              <a:gd name="textAreaLeft" fmla="*/ 0 w 73080"/>
              <a:gd name="textAreaRight" fmla="*/ 73440 w 73080"/>
              <a:gd name="textAreaTop" fmla="*/ 360 h 71280"/>
              <a:gd name="textAreaBottom" fmla="*/ 72000 h 71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2" name="Arc 57"/>
          <p:cNvSpPr/>
          <p:nvPr/>
        </p:nvSpPr>
        <p:spPr>
          <a:xfrm flipV="1">
            <a:off x="684360" y="4941720"/>
            <a:ext cx="71280" cy="216000"/>
          </a:xfrm>
          <a:custGeom>
            <a:avLst/>
            <a:gdLst>
              <a:gd name="textAreaLeft" fmla="*/ 0 w 71280"/>
              <a:gd name="textAreaRight" fmla="*/ 71640 w 7128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3" name="Arc 58"/>
          <p:cNvSpPr/>
          <p:nvPr/>
        </p:nvSpPr>
        <p:spPr>
          <a:xfrm flipV="1">
            <a:off x="468360" y="5157000"/>
            <a:ext cx="142920" cy="71640"/>
          </a:xfrm>
          <a:custGeom>
            <a:avLst/>
            <a:gdLst>
              <a:gd name="textAreaLeft" fmla="*/ 0 w 142920"/>
              <a:gd name="textAreaRight" fmla="*/ 143280 w 14292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4" name="Text Box 61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Рассмотри и назови картинки                             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5" name="Прямоугольник 35"/>
          <p:cNvSpPr/>
          <p:nvPr/>
        </p:nvSpPr>
        <p:spPr>
          <a:xfrm>
            <a:off x="380880" y="137160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50e7c"/>
                </a:solidFill>
                <a:latin typeface="Georgia"/>
              </a:rPr>
              <a:t>Скажи, какой звук встречается в   названии всех этих предметов?                                                               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50e7c"/>
                </a:solidFill>
                <a:latin typeface="Georgia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Georgia"/>
              </a:rPr>
              <a:t>Найди лишнюю картинку.                                          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Объясни, почему она лишняя?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06" name="Picture 38" descr="Картинка 17 из 64000"/>
          <p:cNvPicPr/>
          <p:nvPr/>
        </p:nvPicPr>
        <p:blipFill>
          <a:blip r:embed="rId1"/>
          <a:stretch/>
        </p:blipFill>
        <p:spPr>
          <a:xfrm>
            <a:off x="533520" y="3886200"/>
            <a:ext cx="125244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100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96" dur="100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7" dur="100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500040" y="0"/>
            <a:ext cx="842976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0099"/>
                </a:solidFill>
                <a:latin typeface="Georgia"/>
              </a:rPr>
              <a:t>тигр               чирикает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0099"/>
                </a:solidFill>
                <a:latin typeface="Georgia"/>
              </a:rPr>
              <a:t>сверчок         красит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0099"/>
                </a:solidFill>
                <a:latin typeface="Georgia"/>
              </a:rPr>
              <a:t>ворона           рычит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0099"/>
                </a:solidFill>
                <a:latin typeface="Georgia"/>
              </a:rPr>
              <a:t>ручей             каркает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0099"/>
                </a:solidFill>
                <a:latin typeface="Georgia"/>
              </a:rPr>
              <a:t>виноград        журчит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0099"/>
                </a:solidFill>
                <a:latin typeface="Georgia"/>
              </a:rPr>
              <a:t>маляр             стрекочет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0099"/>
                </a:solidFill>
                <a:latin typeface="Georgia"/>
              </a:rPr>
              <a:t>воробей          зреет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1835280" y="1700280"/>
            <a:ext cx="1800000" cy="151272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286000" y="2362320"/>
            <a:ext cx="1297080" cy="288108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2268360" y="3357720"/>
            <a:ext cx="1295640" cy="71892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2133720" y="4038480"/>
            <a:ext cx="1584360" cy="86364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2666880" y="4800600"/>
            <a:ext cx="1008360" cy="144000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3" name="Line 11"/>
          <p:cNvSpPr/>
          <p:nvPr/>
        </p:nvSpPr>
        <p:spPr>
          <a:xfrm flipV="1">
            <a:off x="1981080" y="2286000"/>
            <a:ext cx="1368720" cy="316872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 flipV="1">
            <a:off x="2362320" y="1600200"/>
            <a:ext cx="936360" cy="475128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5" name="Прямоугольник 10"/>
          <p:cNvSpPr/>
          <p:nvPr/>
        </p:nvSpPr>
        <p:spPr>
          <a:xfrm>
            <a:off x="609480" y="3049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Прочитай, подумай и подбери к словам из правого столбика подходящие по смыслу слова из левого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357120" y="228600"/>
            <a:ext cx="8177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           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Соедини слоги так, чтобы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получились слов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1187280" y="1557360"/>
            <a:ext cx="1511640" cy="1224000"/>
          </a:xfrm>
          <a:prstGeom prst="cube">
            <a:avLst>
              <a:gd name="adj" fmla="val 25000"/>
            </a:avLst>
          </a:prstGeom>
          <a:solidFill>
            <a:srgbClr val="e6fa2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8f8f8"/>
                </a:solidFill>
                <a:latin typeface="Arial"/>
              </a:rPr>
              <a:t>ра</a:t>
            </a:r>
            <a:endParaRPr b="0" lang="en-US" sz="6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4932360" y="1484280"/>
            <a:ext cx="1511280" cy="1224000"/>
          </a:xfrm>
          <a:prstGeom prst="cube">
            <a:avLst>
              <a:gd name="adj" fmla="val 25000"/>
            </a:avLst>
          </a:prstGeom>
          <a:solidFill>
            <a:srgbClr val="e6fa2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f8f8"/>
                </a:solidFill>
                <a:latin typeface="Arial"/>
              </a:rPr>
              <a:t>но</a:t>
            </a:r>
            <a:endParaRPr b="0" lang="en-US" sz="6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395280" y="3141720"/>
            <a:ext cx="1511280" cy="1224000"/>
          </a:xfrm>
          <a:prstGeom prst="cube">
            <a:avLst>
              <a:gd name="adj" fmla="val 25000"/>
            </a:avLst>
          </a:prstGeom>
          <a:solidFill>
            <a:srgbClr val="e6fa2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f8f8"/>
                </a:solidFill>
                <a:latin typeface="Arial"/>
              </a:rPr>
              <a:t>га</a:t>
            </a:r>
            <a:endParaRPr b="0" lang="en-US" sz="6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0" name="AutoShape 10"/>
          <p:cNvSpPr/>
          <p:nvPr/>
        </p:nvSpPr>
        <p:spPr>
          <a:xfrm>
            <a:off x="3059280" y="2565360"/>
            <a:ext cx="1511280" cy="1224000"/>
          </a:xfrm>
          <a:prstGeom prst="cube">
            <a:avLst>
              <a:gd name="adj" fmla="val 25000"/>
            </a:avLst>
          </a:prstGeom>
          <a:solidFill>
            <a:srgbClr val="e6fa2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f8f8"/>
                </a:solidFill>
                <a:latin typeface="Arial"/>
              </a:rPr>
              <a:t>та</a:t>
            </a:r>
            <a:endParaRPr b="0" lang="en-US" sz="6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1" name="AutoShape 11"/>
          <p:cNvSpPr/>
          <p:nvPr/>
        </p:nvSpPr>
        <p:spPr>
          <a:xfrm>
            <a:off x="6588000" y="2492280"/>
            <a:ext cx="1511280" cy="1224000"/>
          </a:xfrm>
          <a:prstGeom prst="cube">
            <a:avLst>
              <a:gd name="adj" fmla="val 25000"/>
            </a:avLst>
          </a:prstGeom>
          <a:solidFill>
            <a:srgbClr val="e6fa2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f8f8"/>
                </a:solidFill>
                <a:latin typeface="Arial"/>
              </a:rPr>
              <a:t>ре</a:t>
            </a:r>
            <a:endParaRPr b="0" lang="en-US" sz="6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2" name="AutoShape 12"/>
          <p:cNvSpPr/>
          <p:nvPr/>
        </p:nvSpPr>
        <p:spPr>
          <a:xfrm>
            <a:off x="755640" y="4941720"/>
            <a:ext cx="1511280" cy="1224000"/>
          </a:xfrm>
          <a:prstGeom prst="cube">
            <a:avLst>
              <a:gd name="adj" fmla="val 25000"/>
            </a:avLst>
          </a:prstGeom>
          <a:solidFill>
            <a:srgbClr val="e6fa2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f8f8"/>
                </a:solidFill>
                <a:latin typeface="Arial"/>
              </a:rPr>
              <a:t>ро</a:t>
            </a:r>
            <a:endParaRPr b="0" lang="en-US" sz="6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3" name="AutoShape 13"/>
          <p:cNvSpPr/>
          <p:nvPr/>
        </p:nvSpPr>
        <p:spPr>
          <a:xfrm>
            <a:off x="3059280" y="4292640"/>
            <a:ext cx="1511280" cy="1224000"/>
          </a:xfrm>
          <a:prstGeom prst="cube">
            <a:avLst>
              <a:gd name="adj" fmla="val 25000"/>
            </a:avLst>
          </a:prstGeom>
          <a:solidFill>
            <a:srgbClr val="e6fa2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f8f8"/>
                </a:solidFill>
                <a:latin typeface="Arial"/>
              </a:rPr>
              <a:t>па</a:t>
            </a:r>
            <a:endParaRPr b="0" lang="en-US" sz="6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4" name="AutoShape 14"/>
          <p:cNvSpPr/>
          <p:nvPr/>
        </p:nvSpPr>
        <p:spPr>
          <a:xfrm>
            <a:off x="5076720" y="3789360"/>
            <a:ext cx="1511280" cy="1224000"/>
          </a:xfrm>
          <a:prstGeom prst="cube">
            <a:avLst>
              <a:gd name="adj" fmla="val 25000"/>
            </a:avLst>
          </a:prstGeom>
          <a:solidFill>
            <a:srgbClr val="e6fa2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f8f8"/>
                </a:solidFill>
                <a:latin typeface="Arial"/>
              </a:rPr>
              <a:t>ка</a:t>
            </a:r>
            <a:endParaRPr b="0" lang="en-US" sz="6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5" name="AutoShape 15"/>
          <p:cNvSpPr/>
          <p:nvPr/>
        </p:nvSpPr>
        <p:spPr>
          <a:xfrm>
            <a:off x="4952880" y="5105520"/>
            <a:ext cx="3657600" cy="1296720"/>
          </a:xfrm>
          <a:prstGeom prst="wedgeRectCallout">
            <a:avLst>
              <a:gd name="adj1" fmla="val -43226"/>
              <a:gd name="adj2" fmla="val 64074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Georgia"/>
              </a:rPr>
              <a:t>                                         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Georgia"/>
              </a:rPr>
              <a:t>Рано, нора, река, нога, рога, тара, пара, репа, карета, регата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684360" y="189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           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Прочитай и назови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905120" y="762120"/>
            <a:ext cx="628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Georgia"/>
              </a:rPr>
              <a:t>Вместо многоточий вставляй слово,                                             обозначающее предмет на картинке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457200" y="1981080"/>
            <a:ext cx="5857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0099"/>
                </a:solidFill>
                <a:latin typeface="Georgia"/>
              </a:rPr>
              <a:t>Кира и Шура отправились с мамой на прогулку. Мама купила детям воздушные … . У Киры розовый …, а у Шуры … оранжевый. На розовом … нарисована рыбка, а на оранжевом – грибок. Какие чудесные у ребята!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29" name="Группа 24"/>
          <p:cNvGrpSpPr/>
          <p:nvPr/>
        </p:nvGrpSpPr>
        <p:grpSpPr>
          <a:xfrm>
            <a:off x="6215040" y="2143080"/>
            <a:ext cx="2950560" cy="4464000"/>
            <a:chOff x="6215040" y="2143080"/>
            <a:chExt cx="2950560" cy="4464000"/>
          </a:xfrm>
        </p:grpSpPr>
        <p:sp>
          <p:nvSpPr>
            <p:cNvPr id="230" name="Oval 8"/>
            <p:cNvSpPr/>
            <p:nvPr/>
          </p:nvSpPr>
          <p:spPr>
            <a:xfrm>
              <a:off x="6215040" y="2143080"/>
              <a:ext cx="1225440" cy="1728720"/>
            </a:xfrm>
            <a:prstGeom prst="ellipse">
              <a:avLst/>
            </a:prstGeom>
            <a:solidFill>
              <a:srgbClr val="ef07e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1" name="Oval 9"/>
            <p:cNvSpPr/>
            <p:nvPr/>
          </p:nvSpPr>
          <p:spPr>
            <a:xfrm rot="1291200">
              <a:off x="7727760" y="2358360"/>
              <a:ext cx="1079280" cy="21589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2" name="AutoShape 10"/>
            <p:cNvSpPr/>
            <p:nvPr/>
          </p:nvSpPr>
          <p:spPr>
            <a:xfrm>
              <a:off x="8304120" y="2717640"/>
              <a:ext cx="7128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3" name="AutoShape 11"/>
            <p:cNvSpPr/>
            <p:nvPr/>
          </p:nvSpPr>
          <p:spPr>
            <a:xfrm>
              <a:off x="6430680" y="2285640"/>
              <a:ext cx="215640" cy="43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f07e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4" name="AutoShape 12"/>
            <p:cNvSpPr/>
            <p:nvPr/>
          </p:nvSpPr>
          <p:spPr>
            <a:xfrm>
              <a:off x="7728120" y="4375080"/>
              <a:ext cx="71280" cy="288720"/>
            </a:xfrm>
            <a:prstGeom prst="triangle">
              <a:avLst>
                <a:gd name="adj" fmla="val 50000"/>
              </a:avLst>
            </a:prstGeom>
            <a:solidFill>
              <a:srgbClr val="ff9966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5" name="AutoShape 13"/>
            <p:cNvSpPr/>
            <p:nvPr/>
          </p:nvSpPr>
          <p:spPr>
            <a:xfrm>
              <a:off x="6648480" y="3870360"/>
              <a:ext cx="142560" cy="288720"/>
            </a:xfrm>
            <a:prstGeom prst="triangle">
              <a:avLst>
                <a:gd name="adj" fmla="val 50000"/>
              </a:avLst>
            </a:prstGeom>
            <a:solidFill>
              <a:srgbClr val="ef07e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6" name="Freeform 14"/>
            <p:cNvSpPr/>
            <p:nvPr/>
          </p:nvSpPr>
          <p:spPr>
            <a:xfrm>
              <a:off x="6719760" y="3870360"/>
              <a:ext cx="1008000" cy="159696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1596960"/>
                <a:gd name="textAreaBottom" fmla="*/ 1597320 h 1596960"/>
              </a:gdLst>
              <a:ahLst/>
              <a:rect l="textAreaLeft" t="textAreaTop" r="textAreaRight" b="textAreaBottom"/>
              <a:pathLst>
                <a:path w="635" h="1006">
                  <a:moveTo>
                    <a:pt x="0" y="0"/>
                  </a:moveTo>
                  <a:cubicBezTo>
                    <a:pt x="105" y="450"/>
                    <a:pt x="211" y="900"/>
                    <a:pt x="317" y="953"/>
                  </a:cubicBezTo>
                  <a:cubicBezTo>
                    <a:pt x="423" y="1006"/>
                    <a:pt x="582" y="424"/>
                    <a:pt x="635" y="318"/>
                  </a:cubicBezTo>
                </a:path>
              </a:pathLst>
            </a:custGeom>
            <a:noFill/>
            <a:ln w="936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7" name="Freeform 15"/>
            <p:cNvSpPr/>
            <p:nvPr/>
          </p:nvSpPr>
          <p:spPr>
            <a:xfrm>
              <a:off x="6648480" y="5299200"/>
              <a:ext cx="585720" cy="587160"/>
            </a:xfrm>
            <a:custGeom>
              <a:avLst/>
              <a:gdLst>
                <a:gd name="textAreaLeft" fmla="*/ 0 w 585720"/>
                <a:gd name="textAreaRight" fmla="*/ 585720 w 58572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369" h="370">
                  <a:moveTo>
                    <a:pt x="362" y="53"/>
                  </a:moveTo>
                  <a:cubicBezTo>
                    <a:pt x="355" y="0"/>
                    <a:pt x="90" y="0"/>
                    <a:pt x="45" y="53"/>
                  </a:cubicBezTo>
                  <a:cubicBezTo>
                    <a:pt x="0" y="106"/>
                    <a:pt x="45" y="370"/>
                    <a:pt x="90" y="370"/>
                  </a:cubicBezTo>
                  <a:cubicBezTo>
                    <a:pt x="135" y="370"/>
                    <a:pt x="369" y="106"/>
                    <a:pt x="362" y="53"/>
                  </a:cubicBez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7211880" y="5310360"/>
              <a:ext cx="528480" cy="85248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333" h="537">
                  <a:moveTo>
                    <a:pt x="7" y="91"/>
                  </a:moveTo>
                  <a:cubicBezTo>
                    <a:pt x="3" y="276"/>
                    <a:pt x="0" y="461"/>
                    <a:pt x="53" y="499"/>
                  </a:cubicBezTo>
                  <a:cubicBezTo>
                    <a:pt x="106" y="537"/>
                    <a:pt x="333" y="401"/>
                    <a:pt x="325" y="318"/>
                  </a:cubicBezTo>
                  <a:cubicBezTo>
                    <a:pt x="317" y="235"/>
                    <a:pt x="60" y="45"/>
                    <a:pt x="7" y="0"/>
                  </a:cubicBezTo>
                </a:path>
              </a:pathLst>
            </a:custGeom>
            <a:noFill/>
            <a:ln w="936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9" name="Freeform 17"/>
            <p:cNvSpPr/>
            <p:nvPr/>
          </p:nvSpPr>
          <p:spPr>
            <a:xfrm>
              <a:off x="6648480" y="5273640"/>
              <a:ext cx="671400" cy="133344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423" h="840">
                  <a:moveTo>
                    <a:pt x="0" y="704"/>
                  </a:moveTo>
                  <a:cubicBezTo>
                    <a:pt x="196" y="352"/>
                    <a:pt x="393" y="0"/>
                    <a:pt x="408" y="23"/>
                  </a:cubicBezTo>
                  <a:cubicBezTo>
                    <a:pt x="423" y="46"/>
                    <a:pt x="256" y="443"/>
                    <a:pt x="90" y="840"/>
                  </a:cubicBezTo>
                </a:path>
              </a:pathLst>
            </a:custGeom>
            <a:noFill/>
            <a:ln w="936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0" name="Oval 18"/>
            <p:cNvSpPr/>
            <p:nvPr/>
          </p:nvSpPr>
          <p:spPr>
            <a:xfrm>
              <a:off x="8232840" y="3222360"/>
              <a:ext cx="215640" cy="43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1" name="Oval 20"/>
            <p:cNvSpPr/>
            <p:nvPr/>
          </p:nvSpPr>
          <p:spPr>
            <a:xfrm>
              <a:off x="8088480" y="3006720"/>
              <a:ext cx="503280" cy="288720"/>
            </a:xfrm>
            <a:prstGeom prst="ellipse">
              <a:avLst/>
            </a:prstGeom>
            <a:solidFill>
              <a:srgbClr val="6f3333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2" name="Oval 22"/>
            <p:cNvSpPr/>
            <p:nvPr/>
          </p:nvSpPr>
          <p:spPr>
            <a:xfrm>
              <a:off x="6359400" y="2933640"/>
              <a:ext cx="718920" cy="36036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3" name="Arc 23"/>
            <p:cNvSpPr/>
            <p:nvPr/>
          </p:nvSpPr>
          <p:spPr>
            <a:xfrm>
              <a:off x="6502320" y="3004920"/>
              <a:ext cx="72720" cy="2156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4" name="AutoShape 24"/>
            <p:cNvSpPr/>
            <p:nvPr/>
          </p:nvSpPr>
          <p:spPr>
            <a:xfrm>
              <a:off x="6575400" y="2862000"/>
              <a:ext cx="503280" cy="71280"/>
            </a:xfrm>
            <a:prstGeom prst="triangle">
              <a:avLst>
                <a:gd name="adj" fmla="val 50000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5" name="AutoShape 26"/>
            <p:cNvSpPr/>
            <p:nvPr/>
          </p:nvSpPr>
          <p:spPr>
            <a:xfrm>
              <a:off x="7078680" y="2933640"/>
              <a:ext cx="215640" cy="215640"/>
            </a:xfrm>
            <a:prstGeom prst="rtTriangle">
              <a:avLst/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6" name="Arc 27"/>
            <p:cNvSpPr/>
            <p:nvPr/>
          </p:nvSpPr>
          <p:spPr>
            <a:xfrm flipV="1">
              <a:off x="6359400" y="3078000"/>
              <a:ext cx="142560" cy="71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360 h 71280"/>
                <a:gd name="textAreaBottom" fmla="*/ 72000 h 7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1143000" y="453600"/>
            <a:ext cx="6829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Игра «Отгадай загадку, доскажи словечко»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Сегодня всё ликует!</a:t>
            </a:r>
            <a:br>
              <a:rPr sz="2400"/>
            </a:b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В руках у детворы</a:t>
            </a:r>
            <a:br>
              <a:rPr sz="2400"/>
            </a:b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От радости танцуют</a:t>
            </a:r>
            <a:br>
              <a:rPr sz="2400"/>
            </a:b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Воздушные …</a:t>
            </a:r>
            <a:br>
              <a:rPr sz="2400"/>
            </a:b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1806480" y="5638680"/>
            <a:ext cx="60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Ры  –  ры  -  ры  -  у мальчиков шары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49" name="Picture 7" descr="Картинка 37 из 64000"/>
          <p:cNvPicPr/>
          <p:nvPr/>
        </p:nvPicPr>
        <p:blipFill>
          <a:blip r:embed="rId1"/>
          <a:stretch/>
        </p:blipFill>
        <p:spPr>
          <a:xfrm>
            <a:off x="5105520" y="1523880"/>
            <a:ext cx="2778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2286000" y="46483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Ор – ор - ор -  созрел 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    </a:t>
            </a: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красный помидор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2016720" y="531000"/>
            <a:ext cx="458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Красный, детки, но не мак.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В огороде - не бурак.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Сочный лакомый синьор.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Угадали?</a:t>
            </a:r>
            <a:br>
              <a:rPr sz="2400"/>
            </a:b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52" name="Picture 10" descr="Картинка 32 из 64000"/>
          <p:cNvPicPr/>
          <p:nvPr/>
        </p:nvPicPr>
        <p:blipFill>
          <a:blip r:embed="rId1"/>
          <a:stretch/>
        </p:blipFill>
        <p:spPr>
          <a:xfrm>
            <a:off x="4038480" y="1981080"/>
            <a:ext cx="274824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2518560" y="5638680"/>
            <a:ext cx="45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Ра – ра - ра – на улице жара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54" name="Picture 6" descr="Картинка 7 из 64000"/>
          <p:cNvPicPr/>
          <p:nvPr/>
        </p:nvPicPr>
        <p:blipFill>
          <a:blip r:embed="rId1"/>
          <a:stretch/>
        </p:blipFill>
        <p:spPr>
          <a:xfrm>
            <a:off x="2971800" y="2895480"/>
            <a:ext cx="2766960" cy="20764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7"/>
          <p:cNvSpPr/>
          <p:nvPr/>
        </p:nvSpPr>
        <p:spPr>
          <a:xfrm>
            <a:off x="1688040" y="606960"/>
            <a:ext cx="564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С утра мы бегаем по полю…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Набегались, конечно, вволю.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К тому же, наш футбольный мяч,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Вдруг стал, как Колобок, горяч.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Уже – двенадцать, в тень пора,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На солнце страшная … (ЖАРА).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"/>
          <p:cNvSpPr/>
          <p:nvPr/>
        </p:nvSpPr>
        <p:spPr>
          <a:xfrm>
            <a:off x="619560" y="2970720"/>
            <a:ext cx="79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Georgia"/>
              </a:rPr>
              <a:t>Тридцать три вагона в ряд тараторят, тарахтят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16520" y="1904040"/>
            <a:ext cx="83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Усядемся на пригорке и расскажем скороговорки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1416960" y="4342320"/>
            <a:ext cx="66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Перепелка перепелят прятала от ребят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2606040" y="600120"/>
            <a:ext cx="28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Скороговорки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zaborchik1"/>
          <p:cNvPicPr/>
          <p:nvPr/>
        </p:nvPicPr>
        <p:blipFill>
          <a:blip r:embed="rId1"/>
          <a:srcRect l="0" t="0" r="0" b="20792"/>
          <a:stretch/>
        </p:blipFill>
        <p:spPr>
          <a:xfrm>
            <a:off x="5410080" y="533520"/>
            <a:ext cx="3086280" cy="41907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609480" y="1207440"/>
            <a:ext cx="4419720" cy="26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«Заборчик»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Улыбнуться (зубы видны). Удерживать губы в таком положении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ffff"/>
                </a:solidFill>
                <a:uFillTx/>
                <a:latin typeface="Georgia"/>
                <a:hlinkClick r:id="rId2"/>
              </a:rPr>
              <a:t>  </a:t>
            </a: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                          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4952880" y="480060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Широка Нева – река,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И улыбка широка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Зубки все мои видны-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От краев и до десны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Прямоугольник 3" descr=""/>
          <p:cNvPicPr/>
          <p:nvPr/>
        </p:nvPicPr>
        <p:blipFill>
          <a:blip r:embed="rId1"/>
          <a:stretch/>
        </p:blipFill>
        <p:spPr>
          <a:xfrm>
            <a:off x="42840" y="1116000"/>
            <a:ext cx="5297400" cy="36021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F:\Копилка картинок\Анимашки\Девочки и мальчики\Человечки\357.gif"/>
          <p:cNvPicPr/>
          <p:nvPr/>
        </p:nvPicPr>
        <p:blipFill>
          <a:blip r:embed="rId2"/>
          <a:stretch/>
        </p:blipFill>
        <p:spPr>
          <a:xfrm>
            <a:off x="5545080" y="514440"/>
            <a:ext cx="2455920" cy="192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F:\Копилка картинок\Анимашки\Девочки и мальчики\Человечки\236.gif"/>
          <p:cNvPicPr/>
          <p:nvPr/>
        </p:nvPicPr>
        <p:blipFill>
          <a:blip r:embed="rId3"/>
          <a:stretch/>
        </p:blipFill>
        <p:spPr>
          <a:xfrm>
            <a:off x="6858000" y="2895480"/>
            <a:ext cx="1600200" cy="1968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9" descr="F:\Копилка картинок\Анимашки\Девочки и мальчики\Человечки\251.gif"/>
          <p:cNvPicPr/>
          <p:nvPr/>
        </p:nvPicPr>
        <p:blipFill>
          <a:blip r:embed="rId4"/>
          <a:stretch/>
        </p:blipFill>
        <p:spPr>
          <a:xfrm>
            <a:off x="4648320" y="46483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457200" y="1038600"/>
            <a:ext cx="5791320" cy="33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«Накажем непослушный язычок»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Приоткрыть рот, положить язык на нижнюю губу и, пошлепывая его губами, произносить «па-па-па, па-па-па»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ffff"/>
                </a:solidFill>
                <a:uFillTx/>
                <a:latin typeface="Georgia"/>
                <a:hlinkClick r:id="rId1"/>
              </a:rPr>
              <a:t>  </a:t>
            </a: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                          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9" name="Picture 5" descr="логопедические занятия непослушный язык">
            <a:hlinkClick r:id="rId2"/>
          </p:cNvPr>
          <p:cNvPicPr/>
          <p:nvPr/>
        </p:nvPicPr>
        <p:blipFill>
          <a:blip r:embed="rId3"/>
          <a:srcRect l="-12641" t="0" r="0" b="15596"/>
          <a:stretch/>
        </p:blipFill>
        <p:spPr>
          <a:xfrm>
            <a:off x="5791320" y="1066680"/>
            <a:ext cx="2949480" cy="38102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4517640" y="4800600"/>
            <a:ext cx="416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А теперь уж не зубами –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Я пошлепаю губами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«У быка губа тупа,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Па-па-па,па-па-па.»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1066680" y="582840"/>
            <a:ext cx="4759560" cy="37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«Лопаточка»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Положить широкий расслабленный язык на нижнюю губу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ffff"/>
                </a:solidFill>
                <a:uFillTx/>
                <a:latin typeface="Georgia"/>
                <a:hlinkClick r:id="rId1"/>
              </a:rPr>
              <a:t>  </a:t>
            </a: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                            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2" name="Picture 5" descr="артикуляционная гимнастика упражнение лопаточка">
            <a:hlinkClick r:id="rId2"/>
          </p:cNvPr>
          <p:cNvPicPr/>
          <p:nvPr/>
        </p:nvPicPr>
        <p:blipFill>
          <a:blip r:embed="rId3"/>
          <a:srcRect l="0" t="0" r="0" b="10935"/>
          <a:stretch/>
        </p:blipFill>
        <p:spPr>
          <a:xfrm>
            <a:off x="5410080" y="685800"/>
            <a:ext cx="310536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857120" y="5029200"/>
            <a:ext cx="380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Поперек улыбки лег –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Отдыхает язычок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762120" y="962640"/>
            <a:ext cx="5105160" cy="33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  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«Трубочка»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Открыть рот, высунуть широкий язык и загнуть его боковые края вверх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ffff"/>
                </a:solidFill>
                <a:uFillTx/>
                <a:latin typeface="Georgia"/>
                <a:hlinkClick r:id="rId1"/>
              </a:rPr>
              <a:t>  </a:t>
            </a:r>
            <a:r>
              <a:rPr b="0" lang="ru-RU" sz="2400" spc="-1" strike="noStrike">
                <a:solidFill>
                  <a:srgbClr val="800000"/>
                </a:solidFill>
                <a:latin typeface="Georgia"/>
              </a:rPr>
              <a:t>                         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5" name="Picture 5" descr="логопедические занятия упражнение трубочка">
            <a:hlinkClick r:id="rId2"/>
          </p:cNvPr>
          <p:cNvPicPr/>
          <p:nvPr/>
        </p:nvPicPr>
        <p:blipFill>
          <a:blip r:embed="rId3"/>
          <a:srcRect l="0" t="0" r="0" b="20005"/>
          <a:stretch/>
        </p:blipFill>
        <p:spPr>
          <a:xfrm>
            <a:off x="5715000" y="533520"/>
            <a:ext cx="296712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5214600" y="480060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Georgia"/>
              </a:rPr>
              <a:t>Я слегка прикрою рот,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Georgia"/>
              </a:rPr>
              <a:t>Губы – «хоботом вперед,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Georgia"/>
              </a:rPr>
              <a:t>Далеко я их тяну,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Georgia"/>
              </a:rPr>
              <a:t>Как при долгом звуке: у-у-у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762120" y="-115560"/>
            <a:ext cx="4267080" cy="51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«Оближем губки»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Рот открыть.            Медленно, не отрывая языка, облизать сначала верхнюю, затем нижнюю губу по кругу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ffff"/>
                </a:solidFill>
                <a:uFillTx/>
                <a:latin typeface="Georgia"/>
                <a:hlinkClick r:id="rId1"/>
              </a:rPr>
              <a:t>  </a:t>
            </a:r>
            <a:r>
              <a:rPr b="1" lang="ru-RU" sz="2400" spc="-1" strike="noStrike">
                <a:solidFill>
                  <a:srgbClr val="f8f8f8"/>
                </a:solidFill>
                <a:latin typeface="Georgia"/>
              </a:rPr>
              <a:t>                            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8" name="Picture 5" descr="логопедические занятия упражнение оближем губки">
            <a:hlinkClick r:id="rId2"/>
          </p:cNvPr>
          <p:cNvPicPr/>
          <p:nvPr/>
        </p:nvPicPr>
        <p:blipFill>
          <a:blip r:embed="rId3"/>
          <a:srcRect l="0" t="0" r="0" b="15646"/>
          <a:stretch/>
        </p:blipFill>
        <p:spPr>
          <a:xfrm>
            <a:off x="5486400" y="685800"/>
            <a:ext cx="3000240" cy="40384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4800600" y="464832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Как будто варенье лежит на губе –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Слижу его «чашечкой» в ротик себе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2"/>
          <p:cNvSpPr/>
          <p:nvPr/>
        </p:nvSpPr>
        <p:spPr>
          <a:xfrm>
            <a:off x="533520" y="468000"/>
            <a:ext cx="3219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«Почистим зубки»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«Почистить» кончиком языка нижние зубы с внутренней стороны (слева – направо, сверху вниз). Нижняя челюсть неподвижна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1" name="Picture 14" descr="pochistim_zubki"/>
          <p:cNvPicPr/>
          <p:nvPr/>
        </p:nvPicPr>
        <p:blipFill>
          <a:blip r:embed="rId1"/>
          <a:srcRect l="0" t="0" r="0" b="17911"/>
          <a:stretch/>
        </p:blipFill>
        <p:spPr>
          <a:xfrm>
            <a:off x="4987800" y="838080"/>
            <a:ext cx="3079800" cy="41911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5"/>
          <p:cNvSpPr/>
          <p:nvPr/>
        </p:nvSpPr>
        <p:spPr>
          <a:xfrm>
            <a:off x="4011840" y="5486400"/>
            <a:ext cx="48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Ходит «горка» влево вправо,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Чистит зубки очень браво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533520" y="-707040"/>
            <a:ext cx="3539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«Часики»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Растянуть губы в улыбку. Рот приоткрыть. Кончиком узкого языка попеременно дотрагиваться до уголков рта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4" name="Picture 6" descr="chasiki"/>
          <p:cNvPicPr/>
          <p:nvPr/>
        </p:nvPicPr>
        <p:blipFill>
          <a:blip r:embed="rId1"/>
          <a:srcRect l="0" t="0" r="0" b="19999"/>
          <a:stretch/>
        </p:blipFill>
        <p:spPr>
          <a:xfrm>
            <a:off x="5386320" y="533520"/>
            <a:ext cx="3181320" cy="44193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5410080" y="487692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Влево – вправо кончик ходит,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Будто места не находит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P</dc:creator>
  <dc:description/>
  <dc:language>en-US</dc:language>
  <cp:lastModifiedBy>Valued Acer Customer</cp:lastModifiedBy>
  <dcterms:modified xsi:type="dcterms:W3CDTF">2012-02-14T18:18:23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