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7.jpeg" ContentType="image/jpeg"/>
  <Override PartName="/ppt/media/image18.png" ContentType="image/png"/>
  <Override PartName="/ppt/media/image19.jpeg" ContentType="image/jpeg"/>
  <Override PartName="/ppt/media/image1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jpeg" ContentType="image/jpeg"/>
  <Override PartName="/ppt/media/image8.jpeg" ContentType="image/jpeg"/>
  <Override PartName="/ppt/media/image6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2AC2-3957-4271-806F-08C5DDA3E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D803-E4A7-4310-955C-B6BF428D2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E9D9-66A4-4D03-82AC-DB0FB5E99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765C-5333-411A-9A7E-651BB8E98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9889B-B313-45E2-92A5-87516BC7C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8C130-4D62-4436-A29E-8666803D0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753A6-9D0F-4294-9F90-8831E27C2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011E5-7101-4349-A20F-A67B78527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53EA8-D41B-43F8-89CD-12C4E5652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F2AF7-C527-44F7-B1CB-E73CDF30F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5BBE6-B956-4243-A195-6042814B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BF97-29A1-437A-8D5C-228B236D2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3BAC7-2B5B-4150-9D33-EB4AF119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640F3-4337-46A7-B951-0F6BA3C9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121A1-251B-4092-9D53-C1DC817E5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5A2C4-B231-4DA7-8BE6-079FF08E9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07650-4144-45CF-90B5-E015A3307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51E8A-6232-4466-AB47-2CC2ABE15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E1AD8-93CE-415E-93D6-D2E9679E2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EB44D-9299-4CF3-BCD4-745F738DF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7E781-F292-48DA-B1DF-2AE99D17A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C5A1B-13C8-4078-9CD6-B337A05E0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9725-B07F-4C36-ABF5-04A67872A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FFC46-A18E-43A7-A096-D54175876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B03D4-C1D7-4D63-A2CC-1190285D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5476D-8259-4630-AB52-0DF54805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C70E7-DF34-4E75-A0F3-C97166C3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761DD-08C5-45BE-840A-3C1E0E50B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74D59-8E9F-41FC-87E0-209DF4039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B3A68-DF0E-41B3-A8B3-BEB80837A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90914-05C2-4716-BD8F-EE4DED046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1E6CC-7767-453F-87E9-4852D775D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AEEF4-FF11-4A68-B22A-A2851A3A8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B2A1-0DC3-410B-B32E-3D6000BA5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4DB6C-FDDC-4756-B87A-2913FA342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7B433-D401-416B-8190-4B4A25A0D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EC814-9B3F-43CC-8BC7-E1A04F64F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48344-7B43-43A0-8474-94EBD9D8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A0B92-6843-4FBD-A0E5-EC8F4057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391F0-700C-4045-8F01-C1DFEB67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4C4E5-5DAA-40C7-ABD8-5D967235A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6093F-F41F-4514-BB42-F10D1B3CF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40FEF-8A51-4AAB-95BA-8C400A0A2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774FD-9692-4973-B12C-F2A73C239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E291-1035-4AED-9905-5C491F093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794B6-75F6-4BF9-9A4F-49920B6E3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DE1E9-DC92-48D0-9B44-1207844F3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6750F-DB08-4EEC-94FF-F9EDDA414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40A74-6F8A-4231-8F3B-DEFD9A03C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10238-5C91-4893-B061-78B806FA8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BE754-5FC6-4BA9-A301-2E465CBA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675FC5-F645-4275-BE88-C4406CD7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BE0C6-19E3-429B-9B83-D1308876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24BE4-4C3F-4D42-855C-39660E347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6E6E1-3C98-42E9-9E0B-BA3A5EC20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F4BE-B962-4684-9EC6-03D10E515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4BE89-FF2F-4FE3-BA65-B9CE257FC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DC80E-9CB1-4966-BB79-4DDBF2A5B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E1F46-744F-46A3-99AA-353BA88C6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85067E-987D-42D9-8CC7-37DDBABDF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FCBD0-385E-4765-932A-636672218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065EB-0F2E-4DAC-8CAE-F8E91C8C5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D55AA-11B3-403C-BB60-D0AACE276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DDD10-5BF6-4CCF-AE92-266C52BF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EB52B9-BE0A-47E7-A2EF-BD57D8B1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D07958-3A38-447C-BED3-283F92B1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815A-5EEE-45C3-A321-A55529AC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2E14B-FA74-44D1-B57A-AD229E749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66766A-1DB2-4095-99A1-330CBEBC3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1E5ED-9E0E-4364-BE27-D6BFD252B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F7E627-96D5-4461-AE16-BA33C0B58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9AE0A-4FFE-423A-8446-C41CE84F1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917440-59E6-4967-877C-3016EC1A6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F2F212-84C4-4300-8647-E177AB5F5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6300F-A2EE-4259-96DA-79D757701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32DF1-D634-45A8-83EF-65D822D00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51A095-4265-467D-88F2-E772A1A2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52AF-8EA6-417A-AEAA-CEF02B13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6C4D9-90A3-431E-B8BA-27AFA653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01132-3803-4A23-8BA3-8EF22B42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180059-9410-4931-B60D-DA9CA3151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62EAE9-7452-46C8-AAE6-13ADF78EB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2EB21F-F893-4669-866E-8930C0F96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CFFF-4687-4CBC-8C98-5F388CC9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cfdf8">
              <a:alpha val="33000"/>
            </a:srgbClr>
          </a:solidFill>
          <a:ln cap="rnd" w="3240">
            <a:solidFill>
              <a:srgbClr val="ccce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bfceb"/>
            </a:solidFill>
            <a:miter/>
          </a:ln>
          <a:effectLst>
            <a:outerShdw dist="12600" dir="5400000" blurRad="0" rotWithShape="0">
              <a:srgbClr val="aeafa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d52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c0bea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1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0b19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19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AA95F-1053-447A-AD03-EBA5C35B4B50}" type="slidenum">
              <a:rPr b="0" lang="en-US" sz="1200" spc="-1" strike="noStrike">
                <a:solidFill>
                  <a:srgbClr val="b0b19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1726a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cfdf8">
              <a:alpha val="33000"/>
            </a:srgbClr>
          </a:solidFill>
          <a:ln cap="rnd" w="3240">
            <a:solidFill>
              <a:srgbClr val="ccce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bfceb"/>
            </a:solidFill>
            <a:miter/>
          </a:ln>
          <a:effectLst>
            <a:outerShdw dist="12600" dir="5400000" blurRad="0" rotWithShape="0">
              <a:srgbClr val="aeafa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1726a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648f67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d52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c0bea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1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0b19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19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147A2-88F7-42BE-9C77-C0164F733D27}" type="slidenum">
              <a:rPr b="0" lang="en-US" sz="1200" spc="-1" strike="noStrike">
                <a:solidFill>
                  <a:srgbClr val="b0b19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1726a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648f67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d52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c0bea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1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0b19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19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ACCB6-3DEC-4123-B11E-9903334B0A38}" type="slidenum">
              <a:rPr b="0" lang="en-US" sz="1200" spc="-1" strike="noStrike">
                <a:solidFill>
                  <a:srgbClr val="b0b19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d52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c0bea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1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0b19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19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73BCE-5A87-4DF0-97D5-DAF5CCDA21B6}" type="slidenum">
              <a:rPr b="0" lang="en-US" sz="1200" spc="-1" strike="noStrike">
                <a:solidFill>
                  <a:srgbClr val="b0b19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1726a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d52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c0bea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1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0b19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19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00B0E-E98F-409E-B3AD-FE170D19F8E7}" type="slidenum">
              <a:rPr b="0" lang="en-US" sz="1200" spc="-1" strike="noStrike">
                <a:solidFill>
                  <a:srgbClr val="b0b19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d52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c0bea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1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0b19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19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BC111-C0BF-40EB-80AE-B9E041E2B0D9}" type="slidenum">
              <a:rPr b="0" lang="en-US" sz="1200" spc="-1" strike="noStrike">
                <a:solidFill>
                  <a:srgbClr val="b0b19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5e7ce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aebde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d52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c0bea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1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0b19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0b19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D350-0B89-43CF-9643-A9C5A0CA5059}" type="slidenum">
              <a:rPr b="0" lang="en-US" sz="1200" spc="-1" strike="noStrike">
                <a:solidFill>
                  <a:srgbClr val="b0b19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71360" y="1571400"/>
            <a:ext cx="7786440" cy="17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696d52"/>
                </a:solidFill>
                <a:latin typeface="Corbel"/>
              </a:rPr>
              <a:t>Античные Олимпийские игры</a:t>
            </a:r>
            <a:br>
              <a:rPr sz="4300"/>
            </a:b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999800" y="4785840"/>
            <a:ext cx="68360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6a6a6"/>
                </a:solidFill>
                <a:latin typeface="Corbel"/>
              </a:rPr>
              <a:t>Елисеев</a:t>
            </a:r>
            <a:r>
              <a:rPr b="0" lang="en-US" sz="2600" spc="-1" strike="noStrike">
                <a:solidFill>
                  <a:srgbClr val="a6a6a6"/>
                </a:solidFill>
                <a:latin typeface="Arial"/>
              </a:rPr>
              <a:t>а</a:t>
            </a:r>
            <a:r>
              <a:rPr b="0" lang="en-US" sz="2600" spc="-1" strike="noStrike">
                <a:solidFill>
                  <a:srgbClr val="a6a6a6"/>
                </a:solidFill>
                <a:latin typeface="Corbel"/>
              </a:rPr>
              <a:t> Витали</a:t>
            </a:r>
            <a:r>
              <a:rPr b="0" lang="en-US" sz="2600" spc="-1" strike="noStrike">
                <a:solidFill>
                  <a:srgbClr val="a6a6a6"/>
                </a:solidFill>
                <a:latin typeface="Arial"/>
              </a:rPr>
              <a:t>я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6a6a6"/>
                </a:solidFill>
                <a:latin typeface="Arial"/>
              </a:rPr>
              <a:t>Ученица 9 А класса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6a6a6"/>
                </a:solidFill>
                <a:latin typeface="Arial"/>
              </a:rPr>
              <a:t>ГБОУ СОШ №121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3643200" y="0"/>
            <a:ext cx="55008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сновополагающим принципом состязаний была честность участников. Перед началом соревнований они давали клятву соблюдать правила. Элланодики имели право лишить чемпиона титула, если он победил мошенническим путем, провинившийся атлет подвергался также штрафу и телесному наказанию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3700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d52"/>
                </a:solidFill>
                <a:latin typeface="Corbel"/>
              </a:rPr>
              <a:t>Интересные факты</a:t>
            </a: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Некоторые из дисциплин античных Олимпийских игр, заметно отличаются от своих нынешних аналогов. Греческие атлеты прыгали в длину не с разбега, а с места – к тому же с камнями в руках. В конце прыжка спортсмен отбрасывал камни резко назад: считалось, что это позволяет ему прыгнуть дальше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Метание копья и диска производилось с небольшого возвышения. Атлет должен был поразить специальную мишень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2" descr=""/>
          <p:cNvPicPr/>
          <p:nvPr/>
        </p:nvPicPr>
        <p:blipFill>
          <a:blip r:embed="rId3"/>
          <a:stretch/>
        </p:blipFill>
        <p:spPr>
          <a:xfrm>
            <a:off x="0" y="1000080"/>
            <a:ext cx="917892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1434600" y="642600"/>
            <a:ext cx="7494840" cy="56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В борьбе и боксе не было деления участников по весовым категориям, а поединок продолжался до тех пор, пока один из соперников не признавал себя побежденным или оказывался не в состоянии продолжать схватку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Были весьма своеобразные разновидности и у беговых дисциплин: бег в полном вооружении (т.е. в шлеме, со щитом и оружием), бег герольдов и трубачей, попеременный бег и гонка на колеснице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3" descr=""/>
          <p:cNvPicPr/>
          <p:nvPr/>
        </p:nvPicPr>
        <p:blipFill>
          <a:blip r:embed="rId2"/>
          <a:stretch/>
        </p:blipFill>
        <p:spPr>
          <a:xfrm>
            <a:off x="1357200" y="0"/>
            <a:ext cx="62866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456840" y="1214280"/>
            <a:ext cx="818676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Победитель Олимпийских игр получал вместе с оливковым венком (эта традиция пошла с 752 до н.э.) и пурпурными лентами всеобщее признание. Он становился одним из самых уважаемых людей в своем городе (для жителей которого победа земляка на Олимпиаде тоже была огромной честью), его нередко освобождали от государственных повинностей, давали прочие привилеги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"/>
          <p:cNvPicPr/>
          <p:nvPr/>
        </p:nvPicPr>
        <p:blipFill>
          <a:blip r:embed="rId2"/>
          <a:stretch/>
        </p:blipFill>
        <p:spPr>
          <a:xfrm>
            <a:off x="0" y="1428840"/>
            <a:ext cx="914400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А в 394 н.э. Олимпийские игры были запрещены – как «пережиток язычества» – римским императором Феодосием I, насильственно насаждавшим христианство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857320" y="2214720"/>
            <a:ext cx="357156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96d52"/>
                </a:solidFill>
                <a:latin typeface="Corbel"/>
              </a:rPr>
              <a:t>Конец.</a:t>
            </a:r>
            <a:endParaRPr b="0" lang="en-US" sz="8800" spc="-1" strike="noStrike">
              <a:solidFill>
                <a:srgbClr val="696d52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928800" y="356760"/>
            <a:ext cx="757224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Проводились с 776 до н.э. по 394 н.э. раз в четыре года (всего было проведено 293 Олимпиады) в Олимпии, считавшейся у греков священным местом. От Олимпии произошло и название Игр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2"/>
          <a:stretch/>
        </p:blipFill>
        <p:spPr>
          <a:xfrm>
            <a:off x="2627280" y="3357720"/>
            <a:ext cx="388476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Существует немало легенд о зарождении Олимпийских игр. Все они связаны с древнегреческими богами и героями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Самая известная легенда гласит, как царь Элиды Ифит, видя, что его народ устал от войн, отправился в Дельфы, где жрица передала ему повеление богов: устроить угодные им общегреческие атлетические празднества. После чего Ифит, спартанский законодатель Ликург и афинский законодатель и реформатор Клиосфен установили порядок проведения таких игр и заключили священный союз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Согласно другому мифу, сын Зевса Геракл привез в Олимпию священную оливковую ветвь и учредил игры в ознаменование победы Зевса над Кроном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5" descr=""/>
          <p:cNvPicPr/>
          <p:nvPr/>
        </p:nvPicPr>
        <p:blipFill>
          <a:blip r:embed="rId3"/>
          <a:stretch/>
        </p:blipFill>
        <p:spPr>
          <a:xfrm>
            <a:off x="2500200" y="0"/>
            <a:ext cx="4572000" cy="31194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7" descr=""/>
          <p:cNvPicPr/>
          <p:nvPr/>
        </p:nvPicPr>
        <p:blipFill>
          <a:blip r:embed="rId4"/>
          <a:stretch/>
        </p:blipFill>
        <p:spPr>
          <a:xfrm>
            <a:off x="0" y="0"/>
            <a:ext cx="2500200" cy="414324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6" descr=""/>
          <p:cNvPicPr/>
          <p:nvPr/>
        </p:nvPicPr>
        <p:blipFill>
          <a:blip r:embed="rId5"/>
          <a:stretch/>
        </p:blipFill>
        <p:spPr>
          <a:xfrm>
            <a:off x="2500200" y="3071880"/>
            <a:ext cx="6643800" cy="37861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" descr=""/>
          <p:cNvPicPr/>
          <p:nvPr/>
        </p:nvPicPr>
        <p:blipFill>
          <a:blip r:embed="rId6"/>
          <a:stretch/>
        </p:blipFill>
        <p:spPr>
          <a:xfrm>
            <a:off x="0" y="3857760"/>
            <a:ext cx="3284640" cy="300024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4" descr=""/>
          <p:cNvPicPr/>
          <p:nvPr/>
        </p:nvPicPr>
        <p:blipFill>
          <a:blip r:embed="rId7"/>
          <a:stretch/>
        </p:blipFill>
        <p:spPr>
          <a:xfrm>
            <a:off x="7008840" y="0"/>
            <a:ext cx="213516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1434600" y="1214280"/>
            <a:ext cx="74948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К участию в Олимпийских играх допускались все свободнорожденные греческие граждане (согласно некоторым источникам, мужчины, умевшие говорить по-гречески). Рабы и варвары, т.е. лица негреческого происхождения, участвовать в Олимпийских играх не могл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" descr=""/>
          <p:cNvPicPr/>
          <p:nvPr/>
        </p:nvPicPr>
        <p:blipFill>
          <a:blip r:embed="rId3"/>
          <a:stretch/>
        </p:blipFill>
        <p:spPr>
          <a:xfrm>
            <a:off x="0" y="857160"/>
            <a:ext cx="909144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1434960" y="1071720"/>
            <a:ext cx="7709040" cy="51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 время Олимпийских игр в Древней Греции прекращались войны и заключалось перемирие – экехерия, а представители враждующих полисов проводили в Олимпии мирные переговоры с целью уладить конфликты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d52"/>
              </a:solidFill>
              <a:latin typeface="Corbe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3" descr=""/>
          <p:cNvPicPr/>
          <p:nvPr/>
        </p:nvPicPr>
        <p:blipFill>
          <a:blip r:embed="rId3"/>
          <a:stretch/>
        </p:blipFill>
        <p:spPr>
          <a:xfrm>
            <a:off x="1363680" y="0"/>
            <a:ext cx="7780320" cy="314316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2" descr=""/>
          <p:cNvPicPr/>
          <p:nvPr/>
        </p:nvPicPr>
        <p:blipFill>
          <a:blip r:embed="rId4"/>
          <a:stretch/>
        </p:blipFill>
        <p:spPr>
          <a:xfrm>
            <a:off x="0" y="3357720"/>
            <a:ext cx="5840280" cy="30715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4" descr=""/>
          <p:cNvPicPr/>
          <p:nvPr/>
        </p:nvPicPr>
        <p:blipFill>
          <a:blip r:embed="rId5"/>
          <a:stretch/>
        </p:blipFill>
        <p:spPr>
          <a:xfrm>
            <a:off x="4381560" y="3143160"/>
            <a:ext cx="47624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1042560" y="549000"/>
            <a:ext cx="7891560" cy="56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В программу древних Олимпийских игр входили следующие виды - бег на 1,2 и 24 стадии; борьба; пятиборье (пентатлон); кулачные поединки; гонки на колесницах, запряженных двумя и четырьмя лошадьми; панкратион, бег в военном снаряжении, скачк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18:26:34Z</dcterms:created>
  <dc:creator>Компьютер</dc:creator>
  <dc:description/>
  <dc:language>en-US</dc:language>
  <cp:lastModifiedBy>Violetta</cp:lastModifiedBy>
  <dcterms:modified xsi:type="dcterms:W3CDTF">2012-10-26T15:52:32Z</dcterms:modified>
  <cp:revision>12</cp:revision>
  <dc:subject/>
  <dc:title>Античные Олимпийские игры </dc:title>
</cp:coreProperties>
</file>