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E37-94C5-4297-8615-6BDFEA15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9DE-3355-4CF9-8B9B-BE4C7234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B68-4410-4831-9220-EF70F6B5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CA9-A405-47B0-B9DB-667F392C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38E4-1A73-4A53-86AF-A40B5D7C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D9E7-852E-41CD-9C85-CD73225D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AE9A-9582-413D-B883-26C44092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2FEA-93D3-4787-A8D5-83BDDC1C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4722-262E-412A-A076-4FE61A25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FFB2-F6B0-44B5-A358-B4B1705B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44CB-64E5-4505-AB60-0C1A2AF2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FE2-F965-490D-A4FC-9023A06D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917B-2B42-4470-ADE1-7B363BB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08DC-C18E-4657-9D47-9D426892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8DA0-4A4A-441B-AD33-23A2A42B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D290-A21F-49B9-8A9C-7297AB6C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FC90-67F3-412F-A09D-8D944E5A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905A-4536-4812-A556-F6874715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1C996-90ED-442E-8030-5502C835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88E6-DEBD-4F1D-B52A-1B7BA620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3AD7-B286-4EE7-9476-3EE01930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D0CF-6F91-43E4-992A-0663D84C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65E-3B91-4F76-A04B-3CEEE5AC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9245A-3D4F-4E51-9DFF-905E83CF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F301C-8ABF-4150-90B5-A135236F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2E05-A423-481F-8C1D-01182087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D23F-0CB9-44C7-B878-9E023BC4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FEEF-1508-4877-95C1-8908D715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DC00-34BE-4A7E-93F0-EB40F8D5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CAF1-3D20-4CFC-8489-566834E6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9BA0E-D05D-4A42-9886-7ECEE794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C6F81-D29B-49BE-BBD8-45A986B4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B531-484F-4C27-9DDF-3A0E2C54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26F-FD3B-42D1-9D0F-0529DA37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C744-221B-4288-9389-BAD5148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218B-6A7D-4B19-998D-4D66ABE5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02EE0-F924-4330-A866-BAFD70B0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B177-FEFD-4ECD-9FED-9E71CCCC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9689-DAF1-4404-9F26-A1DEF30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4E03-761A-4723-A783-75236B70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D684C-D203-4869-BC9F-F153BBFE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1C0F-A931-481C-A7B2-64255063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56D1-1013-4C2A-86D1-7AE68510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6EB4-5F1E-48B6-956E-78F8841A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575-BE4E-45DF-9A42-8365B55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5AFD-3D01-46E2-A05D-CEDAF334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C8C5C-387C-4A62-A008-5B8C39E8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3BCCD-A36F-4045-962E-1543901B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8498C-218D-4C45-AC61-CED82590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48E3-E251-4834-968C-E8145730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1BB23-994A-4D8B-935F-2DC9CA56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5AD2D-8A05-4241-A745-9C744356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14114-8D14-4277-9664-7096F6CD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38A92-96C2-4514-8DA3-4169FC6D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F6D5-5AFB-4488-BE73-C5F2E783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C2A-3C20-45BF-A32B-602237CB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729CC-3DFC-45EF-BF7F-4631950B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2CB8E-AF95-4267-94D1-A31A1076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3665B-6965-4E76-836E-B9D5E370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BE9A9-42F9-41C1-95BE-90C78B35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C7AAC-64CD-4512-9B30-90189CCA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142A5-42B4-4220-B99A-99BFBF81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9D99F-454A-40B2-8245-B59E3247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D83BD-B3EF-44AB-8C63-2FC43CD7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8A7E4-B17E-4F95-8F03-2DE82B27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4EF51-7B35-4FA1-BB05-A3210C49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628-D943-4B3A-9414-CE584C91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9D383-9CD0-49A7-98C3-99C9117B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0F6F-81AA-4738-ADF5-151AB239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78C33-A5F7-4E5B-A34C-F1FB5B8C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68316-4235-42CE-B628-86BED3E4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406A7-8932-43EF-BCE1-5B6C3FC6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8A1F5-A32F-4FBF-9813-D477C236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C2741-9BC1-4F30-AB29-1EEBD730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65AD2-4807-4FBD-BCD7-D53CF436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E046E-220C-4DAA-AC94-227771C6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FA7BB-C996-4C3F-86BC-E8C35105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B4C-43EB-4495-822E-B09E766D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15D5A-AE92-4CE1-97AF-932B9F0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7CDE5-06DC-46C8-B1F2-DC52E172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CA27C-49EB-4A24-9C9D-F0FF6803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6332A-0D21-40F8-8AA7-982A10F0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29524-7C99-41B9-AEB1-7BE9645E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3FC-C41D-47C1-8705-FB608A44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cfdf8">
              <a:alpha val="33000"/>
            </a:srgbClr>
          </a:solidFill>
          <a:ln cap="rnd" w="3240">
            <a:solidFill>
              <a:srgbClr val="ccce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ceb"/>
            </a:solidFill>
            <a:miter/>
          </a:ln>
          <a:effectLst>
            <a:outerShdw dist="12600" dir="5400000" blurRad="0" rotWithShape="0">
              <a:srgbClr val="aeafa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6F85-532E-43AC-9E0D-FDD5239F9FE4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cfdf8">
              <a:alpha val="33000"/>
            </a:srgbClr>
          </a:solidFill>
          <a:ln cap="rnd" w="3240">
            <a:solidFill>
              <a:srgbClr val="ccce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ceb"/>
            </a:solidFill>
            <a:miter/>
          </a:ln>
          <a:effectLst>
            <a:outerShdw dist="12600" dir="5400000" blurRad="0" rotWithShape="0">
              <a:srgbClr val="aeafa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48f6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BFD5-71B3-437E-BB63-F2E668BF0AB2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48f6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0F6B-D5D2-4F7E-B1DB-BD16F36D6FE2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9B71-A98F-49EC-B2BC-C360DBEB273E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0A87-9B41-4EC4-BDC3-0C7994974481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55AD-7EB9-4597-AD9C-788EEA5CD57E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5e7ce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aebde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8D51-EFA7-4722-B5AA-75BAFA845199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1571400"/>
            <a:ext cx="778644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96d52"/>
                </a:solidFill>
                <a:latin typeface="Corbel"/>
              </a:rPr>
              <a:t>Античные Олимпийские игры</a:t>
            </a:r>
            <a:br>
              <a:rPr sz="4300"/>
            </a:b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999800" y="4785840"/>
            <a:ext cx="6836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Corbel"/>
              </a:rPr>
              <a:t>Елисеев</a:t>
            </a:r>
            <a:r>
              <a:rPr b="0" lang="en-US" sz="2600" spc="-1" strike="noStrike">
                <a:solidFill>
                  <a:srgbClr val="a6a6a6"/>
                </a:solidFill>
                <a:latin typeface="Arial"/>
              </a:rPr>
              <a:t>а</a:t>
            </a:r>
            <a:r>
              <a:rPr b="0" lang="en-US" sz="2600" spc="-1" strike="noStrike">
                <a:solidFill>
                  <a:srgbClr val="a6a6a6"/>
                </a:solidFill>
                <a:latin typeface="Corbel"/>
              </a:rPr>
              <a:t> Витали</a:t>
            </a:r>
            <a:r>
              <a:rPr b="0" lang="en-US" sz="2600" spc="-1" strike="noStrike">
                <a:solidFill>
                  <a:srgbClr val="a6a6a6"/>
                </a:solidFill>
                <a:latin typeface="Arial"/>
              </a:rPr>
              <a:t>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</a:rPr>
              <a:t>Ученица 9 А класс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</a:rPr>
              <a:t>ГБОУ СОШ №121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643200" y="0"/>
            <a:ext cx="5500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ополагающим принципом состязаний была честность участников. Перед началом соревнований они давали клятву соблюдать правила. Элланодики имели право лишить чемпиона титула, если он победил мошенническим путем, провинившийся атлет подвергался также штрафу и телесному наказани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70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Интересные факты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Некоторые из дисциплин античных Олимпийских игр, заметно отличаются от своих нынешних аналогов. Греческие атлеты прыгали в длину не с разбега, а с места – к тому же с камнями в руках. В конце прыжка спортсмен отбрасывал камни резко назад: считалось, что это позволяет ему прыгнуть дальше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Метание копья и диска производилось с небольшого возвышения. Атлет должен был поразить специальную мишен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3"/>
          <a:stretch/>
        </p:blipFill>
        <p:spPr>
          <a:xfrm>
            <a:off x="0" y="1000080"/>
            <a:ext cx="9178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434600" y="642600"/>
            <a:ext cx="749484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В борьбе и боксе не было деления участников по весовым категориям, а поединок продолжался до тех пор, пока один из соперников не признавал себя побежденным или оказывался не в состоянии продолжать схватку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Были весьма своеобразные разновидности и у беговых дисциплин: бег в полном вооружении (т.е. в шлеме, со щитом и оружием), бег герольдов и трубачей, попеременный бег и гонка на колеснице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1357200" y="0"/>
            <a:ext cx="62866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6840" y="1214280"/>
            <a:ext cx="81867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бедитель Олимпийских игр получал вместе с оливковым венком (эта традиция пошла с 752 до н.э.) и пурпурными лентами всеобщее признание. Он становился одним из самых уважаемых людей в своем городе (для жителей которого победа земляка на Олимпиаде тоже была огромной честью), его нередко освобождали от государственных повинностей, давали прочие привилег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А в 394 н.э. Олимпийские игры были запрещены – как «пережиток язычества» – римским императором Феодосием I, насильственно насаждавшим христианство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7320" y="2214720"/>
            <a:ext cx="35715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96d52"/>
                </a:solidFill>
                <a:latin typeface="Corbel"/>
              </a:rPr>
              <a:t>Конец.</a:t>
            </a:r>
            <a:endParaRPr b="0" lang="en-US" sz="8800" spc="-1" strike="noStrike">
              <a:solidFill>
                <a:srgbClr val="696d52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928800" y="356760"/>
            <a:ext cx="75722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роводились с 776 до н.э. по 394 н.э. раз в четыре года (всего было проведено 293 Олимпиады) в Олимпии, считавшейся у греков священным местом. От Олимпии произошло и название Иг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2627280" y="3357720"/>
            <a:ext cx="38847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уществует немало легенд о зарождении Олимпийских игр. Все они связаны с древнегреческими богами и героям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ая известная легенда гласит, как царь Элиды Ифит, видя, что его народ устал от войн, отправился в Дельфы, где жрица передала ему повеление богов: устроить угодные им общегреческие атлетические празднества. После чего Ифит, спартанский законодатель Ликург и афинский законодатель и реформатор Клиосфен установили порядок проведения таких игр и заключили священный союз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огласно другому мифу, сын Зевса Геракл привез в Олимпию священную оливковую ветвь и учредил игры в ознаменование победы Зевса над Кроном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3"/>
          <a:stretch/>
        </p:blipFill>
        <p:spPr>
          <a:xfrm>
            <a:off x="2500200" y="0"/>
            <a:ext cx="4572000" cy="3119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2500200" cy="4143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5"/>
          <a:stretch/>
        </p:blipFill>
        <p:spPr>
          <a:xfrm>
            <a:off x="2500200" y="3071880"/>
            <a:ext cx="6643800" cy="3786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6"/>
          <a:stretch/>
        </p:blipFill>
        <p:spPr>
          <a:xfrm>
            <a:off x="0" y="3857760"/>
            <a:ext cx="3284640" cy="3000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7"/>
          <a:stretch/>
        </p:blipFill>
        <p:spPr>
          <a:xfrm>
            <a:off x="7008840" y="0"/>
            <a:ext cx="21351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600" y="1214280"/>
            <a:ext cx="74948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К участию в Олимпийских играх допускались все свободнорожденные греческие граждане (согласно некоторым источникам, мужчины, умевшие говорить по-гречески). Рабы и варвары, т.е. лица негреческого происхождения, участвовать в Олимпийских играх не мог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3"/>
          <a:stretch/>
        </p:blipFill>
        <p:spPr>
          <a:xfrm>
            <a:off x="0" y="857160"/>
            <a:ext cx="90914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434960" y="1071720"/>
            <a:ext cx="7709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время Олимпийских игр в Древней Греции прекращались войны и заключалось перемирие – экехерия, а представители враждующих полисов проводили в Олимпии мирные переговоры с целью уладить конфлик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3"/>
          <a:stretch/>
        </p:blipFill>
        <p:spPr>
          <a:xfrm>
            <a:off x="1363680" y="0"/>
            <a:ext cx="7780320" cy="3143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4"/>
          <a:stretch/>
        </p:blipFill>
        <p:spPr>
          <a:xfrm>
            <a:off x="0" y="3357720"/>
            <a:ext cx="5840280" cy="3071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5"/>
          <a:stretch/>
        </p:blipFill>
        <p:spPr>
          <a:xfrm>
            <a:off x="4381560" y="3143160"/>
            <a:ext cx="4762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042560" y="549000"/>
            <a:ext cx="789156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 программу древних Олимпийских игр входили следующие виды - бег на 1,2 и 24 стадии; борьба; пятиборье (пентатлон); кулачные поединки; гонки на колесницах, запряженных двумя и четырьмя лошадьми; панкратион, бег в военном снаряжении, скач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8:26:34Z</dcterms:created>
  <dc:creator>Компьютер</dc:creator>
  <dc:description/>
  <dc:language>en-US</dc:language>
  <cp:lastModifiedBy>Violetta</cp:lastModifiedBy>
  <dcterms:modified xsi:type="dcterms:W3CDTF">2012-10-26T15:52:32Z</dcterms:modified>
  <cp:revision>12</cp:revision>
  <dc:subject/>
  <dc:title>Античные Олимпийские игры </dc:title>
</cp:coreProperties>
</file>