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201-0480-4ABC-8F4A-3E7A87D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70B-EC34-4FE8-8D61-487287F2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955-1C04-4626-807D-8793ECF2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EEE-051A-476A-A403-3EE9819D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669-69AA-46F9-8C82-AF99B155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038-F201-429D-9B27-814F2F8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B0E-D5B8-400C-B794-105F7D5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65A-0307-40A5-BAD0-5678562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981-9391-4AF1-AB09-7EF3DA86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4EC-7C70-4BCD-B3C7-DC682186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A3A-5873-46C1-92CC-822AE0A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066-A767-4F25-A03A-CC24121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B948-C2B8-4964-A939-15C220E14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нические контакты восточных славян в период рас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397160"/>
          <a:ext cx="8642160" cy="301752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ы и племенные группы, контактировавшие  со славя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их конта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но-угры: чудь, меря, весь, мурома, мещера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ая ассими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ы: жемайты, аукштайты, латгалы, ливы и др предки латышей и эстон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е вытеснение этих племен с занимаемых ими первоначальных террито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анские племена: скифы, сар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ассими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8:12:53Z</dcterms:created>
  <dc:creator>1</dc:creator>
  <dc:description/>
  <dc:language>en-US</dc:language>
  <cp:lastModifiedBy>1</cp:lastModifiedBy>
  <dcterms:modified xsi:type="dcterms:W3CDTF">2012-10-18T08:24:30Z</dcterms:modified>
  <cp:revision>2</cp:revision>
  <dc:subject/>
  <dc:title>Этнические контакты восточных славян в период расселения</dc:title>
</cp:coreProperties>
</file>