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2413-078A-470F-B415-6E5A1EBA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8F39-A787-4DF0-B8CE-FE1913A5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B53F-767A-470D-8E47-1FFA7FB2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EA78-CD59-4024-830C-7D8C999E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E3C5-0C8D-4C9B-BBA8-D6C03025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CECF-CB7B-478A-9951-1EBCF06A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AE20-7EE3-44CB-AE62-B792910A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9033-44B3-4D59-A3CC-2E1A301E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9EF6-7462-4B93-8A93-57118322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76F9-E51E-4E7B-8F09-F1AB96B5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7B8-6D67-41EE-9CDD-936C5C6D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AB7-9D75-4A31-B714-816C9417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073D-83A5-46E1-8441-E44EB0B66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5582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нические контакты восточных славян в период рас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397160"/>
          <a:ext cx="8642160" cy="301752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оды и племенные группы, контактировавшие  со славян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их конта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но-угры: чудь, меря, весь, мурома, мещера и 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ая ассимиля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ты: жемайты, аукштайты, латгалы, ливы и др предки латышей и эстонц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е вытеснение этих племен с занимаемых ими первоначальных террито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анские племена: скифы, сарм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ая ассимиля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08:12:53Z</dcterms:created>
  <dc:creator>1</dc:creator>
  <dc:description/>
  <dc:language>en-US</dc:language>
  <cp:lastModifiedBy>1</cp:lastModifiedBy>
  <dcterms:modified xsi:type="dcterms:W3CDTF">2012-10-18T08:24:30Z</dcterms:modified>
  <cp:revision>2</cp:revision>
  <dc:subject/>
  <dc:title>Этнические контакты восточных славян в период расселения</dc:title>
</cp:coreProperties>
</file>