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111-C6BB-41D2-8D2F-29BA2D9B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EF5-3195-463E-9BE6-F8FA427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9D0-AE00-4603-956D-661810B0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CD6-B314-487D-B85E-260FDC6C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FDA-9C13-4E3E-A950-2F993D9D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E96E-6695-42DA-BDED-DDA275A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4AB-06BC-41BE-9A42-683A496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97B-8A39-4377-8ED6-9648218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3A24-6E02-449E-A645-0C0AE54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F7B4-7C75-4EA8-8A4C-5EE4057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8B79-3B2B-4E70-849B-3C129542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97A-F538-473A-A135-1550A54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2795-CE58-4AC4-A37A-BD893705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AD1-4E97-44B7-93AE-FD3E989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E3D6-A4D1-46A2-B005-043516A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CF07-1806-4DEF-9369-8FBCD113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CC5-DB0F-4021-9D54-02E208A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2EB-3450-4AE9-B7D7-27323F5F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07B-F252-4CFD-A4C1-CB7C662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3AB-7FCE-4E20-A254-8C02392A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C86-25BB-4FE3-8230-0102737A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B1F-EFDD-48F9-AA91-42D73B9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7C0-DD87-4F4B-B5A1-7B661CE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743-D43E-4058-86A5-84B492D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361F-034E-4784-8B1A-D59910BFA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3019-38E4-48D0-92EC-67A9B2051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Чайковский_Времена года_Октябрь.mp3" descr=""/>
          <p:cNvPicPr/>
          <p:nvPr/>
        </p:nvPicPr>
        <p:blipFill>
          <a:blip r:embed="rId1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99"/>
                </a:solidFill>
                <a:latin typeface="Monotype Corsiva"/>
              </a:rPr>
              <a:t>В разные времена и в разных странах художники воспевали материнство, используя свойственные эпохе образы и средства художественной выразительност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Ф"/>
          <p:cNvPicPr/>
          <p:nvPr/>
        </p:nvPicPr>
        <p:blipFill>
          <a:blip r:embed="rId1"/>
          <a:stretch/>
        </p:blipFill>
        <p:spPr>
          <a:xfrm>
            <a:off x="2268360" y="0"/>
            <a:ext cx="45594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Девушка зимой"/>
          <p:cNvPicPr/>
          <p:nvPr/>
        </p:nvPicPr>
        <p:blipFill>
          <a:blip r:embed="rId1"/>
          <a:srcRect l="0" t="1409" r="3928" b="3201"/>
          <a:stretch/>
        </p:blipFill>
        <p:spPr>
          <a:xfrm>
            <a:off x="1763640" y="17640"/>
            <a:ext cx="5451480" cy="684036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Чайковский_Времена года_Октябрь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Чайковский_Времена года_Октябр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Чайковский_Времена года_Октябрь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Untitled4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6:13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