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C77-CA2A-4912-9F76-C3544621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287-67FB-4319-9D80-2AA0EA3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EF5-96B7-4FF2-971D-4C284B0E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A94-AAF0-49CD-B04F-23C310C8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2BE-2E14-4B0C-9E68-E244527C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54B7-E051-4AFA-8BDA-1FF9A872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EDBB-064B-4A96-A182-A180BB51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92BD-961F-4E95-8C58-D79FB580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FB4-6FB3-4F61-B4CB-C1B2D45C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E540-BA58-47D0-B9DB-2A5860F1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8D7D-7130-4675-A076-D5E6589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8D8-DA95-4C39-9057-D4477D98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6FC3-6B68-483A-9676-FA079A5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F8B1-5A63-4122-BDBB-CF70EF0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37B-972F-411E-8AB5-F4565367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2F6C-525E-4BAE-AA14-B7391F08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B43-BAD0-43A2-A802-74ED9D6E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92B-9358-4FB4-8CAB-0B1FEECA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73A-7018-4010-8B56-3ED6C1D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1DA-F821-4CD9-B16A-561937C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4E6-16CF-4BE0-A90A-49ED405C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323-FCED-448E-9703-D7C545F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3D5-EDB0-4923-BC65-8BA7784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9A8-AA60-4DA4-A557-8567B2A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85E-CFAE-436A-B245-AEBDE977A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68B-D75E-449E-8CD4-36B2513CA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Чайковский_Времена года_Октябрь.mp3" descr=""/>
          <p:cNvPicPr/>
          <p:nvPr/>
        </p:nvPicPr>
        <p:blipFill>
          <a:blip r:embed="rId1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Monotype Corsiva"/>
              </a:rPr>
              <a:t>В разные времена и в разных странах художники воспевали материнство, используя свойственные эпохе образы и средства художественной выразительност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Ф"/>
          <p:cNvPicPr/>
          <p:nvPr/>
        </p:nvPicPr>
        <p:blipFill>
          <a:blip r:embed="rId1"/>
          <a:stretch/>
        </p:blipFill>
        <p:spPr>
          <a:xfrm>
            <a:off x="2268360" y="0"/>
            <a:ext cx="45594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Девушка зимой"/>
          <p:cNvPicPr/>
          <p:nvPr/>
        </p:nvPicPr>
        <p:blipFill>
          <a:blip r:embed="rId1"/>
          <a:srcRect l="0" t="1409" r="3928" b="3201"/>
          <a:stretch/>
        </p:blipFill>
        <p:spPr>
          <a:xfrm>
            <a:off x="1763640" y="17640"/>
            <a:ext cx="5451480" cy="684036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Чайковский_Времена года_Октябрь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Чайковский_Времена года_Октябр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Чайковский_Времена года_Октябр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Untitled4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6:13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