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BCB-66A5-40BA-AA91-F8575FAD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077-E1A0-4B51-A1D5-6AF5CDCD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A47-5862-4933-A991-0A31507B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5B6-93C1-45FE-8DFC-E1273D73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542-1645-4DAE-AE02-C73D2003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6CD-4C60-4D8A-9E9D-710050E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1F0-54EA-4709-B960-C9B66751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80C-1A33-4985-9587-00EA521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CBC-1503-4D8E-BD44-E2A42C1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930-76C5-453F-A128-999758B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2EB-126D-4CC1-A826-58AE4BC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4F1-8DDB-440B-8A19-7A51B61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FCA-66E8-402A-993E-AC7729649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714240" y="-361800"/>
            <a:ext cx="7858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Заклеили клеем проч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И ко мне прислали срочн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Я его не пожалею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Получу и вмиг расклею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tu114_8"/>
          <p:cNvPicPr/>
          <p:nvPr/>
        </p:nvPicPr>
        <p:blipFill>
          <a:blip r:embed="rId1"/>
          <a:stretch/>
        </p:blipFill>
        <p:spPr>
          <a:xfrm>
            <a:off x="1143000" y="571680"/>
            <a:ext cx="707220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1"/>
          <p:cNvGrpSpPr/>
          <p:nvPr/>
        </p:nvGrpSpPr>
        <p:grpSpPr>
          <a:xfrm>
            <a:off x="7000920" y="2500200"/>
            <a:ext cx="1923840" cy="2857680"/>
            <a:chOff x="7000920" y="2500200"/>
            <a:chExt cx="1923840" cy="2857680"/>
          </a:xfrm>
        </p:grpSpPr>
        <p:sp>
          <p:nvSpPr>
            <p:cNvPr id="78" name="Rectangle 7"/>
            <p:cNvSpPr/>
            <p:nvPr/>
          </p:nvSpPr>
          <p:spPr>
            <a:xfrm>
              <a:off x="7000920" y="2621520"/>
              <a:ext cx="1923840" cy="2736360"/>
            </a:xfrm>
            <a:prstGeom prst="rect">
              <a:avLst/>
            </a:prstGeom>
            <a:gradFill rotWithShape="0">
              <a:gsLst>
                <a:gs pos="0">
                  <a:srgbClr val="00376e"/>
                </a:gs>
                <a:gs pos="50000">
                  <a:srgbClr val="0077ee"/>
                </a:gs>
                <a:gs pos="100000">
                  <a:srgbClr val="00376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>
              <a:off x="7266240" y="3229560"/>
              <a:ext cx="1393200" cy="1821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7266240" y="2986560"/>
              <a:ext cx="1393200" cy="486360"/>
            </a:xfrm>
            <a:custGeom>
              <a:avLst/>
              <a:gdLst>
                <a:gd name="textAreaLeft" fmla="*/ 0 w 1393200"/>
                <a:gd name="textAreaRight" fmla="*/ 1393560 w 1393200"/>
                <a:gd name="textAreaTop" fmla="*/ 0 h 486360"/>
                <a:gd name="textAreaBottom" fmla="*/ 173520 h 48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7ee"/>
                </a:gs>
                <a:gs pos="50000">
                  <a:srgbClr val="00376e"/>
                </a:gs>
                <a:gs pos="100000">
                  <a:srgbClr val="0077e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7199640" y="5054040"/>
              <a:ext cx="1459440" cy="60480"/>
            </a:xfrm>
            <a:prstGeom prst="rect">
              <a:avLst/>
            </a:prstGeom>
            <a:gradFill rotWithShape="0">
              <a:gsLst>
                <a:gs pos="0">
                  <a:srgbClr val="2f2fff"/>
                </a:gs>
                <a:gs pos="100000">
                  <a:srgbClr val="2d96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7531560" y="4324320"/>
              <a:ext cx="862560" cy="243000"/>
            </a:xfrm>
            <a:prstGeom prst="rect">
              <a:avLst/>
            </a:prstGeom>
            <a:gradFill rotWithShape="0">
              <a:gsLst>
                <a:gs pos="0">
                  <a:srgbClr val="000099">
                    <a:alpha val="58039"/>
                  </a:srgbClr>
                </a:gs>
                <a:gs pos="100000">
                  <a:srgbClr val="0000ff">
                    <a:alpha val="82352"/>
                  </a:srgbClr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2d96ff"/>
                  </a:solidFill>
                  <a:latin typeface="Calibri"/>
                </a:rPr>
                <a:t>55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7597800" y="4689000"/>
              <a:ext cx="663480" cy="243000"/>
            </a:xfrm>
            <a:prstGeom prst="rect">
              <a:avLst/>
            </a:prstGeom>
            <a:gradFill rotWithShape="0">
              <a:gsLst>
                <a:gs pos="0">
                  <a:srgbClr val="2d96ff">
                    <a:alpha val="58039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7466040" y="3473280"/>
              <a:ext cx="1060200" cy="303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3500000" blurRad="0" rotWithShape="0">
                <a:srgbClr val="2d9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</a:rPr>
                <a:t>ПОЧ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4"/>
            <p:cNvSpPr/>
            <p:nvPr/>
          </p:nvSpPr>
          <p:spPr>
            <a:xfrm>
              <a:off x="7000920" y="2500200"/>
              <a:ext cx="1923840" cy="24300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243000"/>
                <a:gd name="textAreaBottom" fmla="*/ 867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7ee"/>
                </a:gs>
                <a:gs pos="50000">
                  <a:srgbClr val="00376e"/>
                </a:gs>
                <a:gs pos="100000">
                  <a:srgbClr val="0077e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5"/>
            <p:cNvSpPr/>
            <p:nvPr/>
          </p:nvSpPr>
          <p:spPr>
            <a:xfrm>
              <a:off x="7266240" y="3716280"/>
              <a:ext cx="1459440" cy="4255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6" descr="bottom_logo"/>
            <p:cNvPicPr/>
            <p:nvPr/>
          </p:nvPicPr>
          <p:blipFill>
            <a:blip r:embed="rId1"/>
            <a:stretch/>
          </p:blipFill>
          <p:spPr>
            <a:xfrm>
              <a:off x="7332480" y="3777120"/>
              <a:ext cx="1459440" cy="37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2" descr="C:\Documents and Settings\Loner\Рабочий стол\Русский язык\история почты\poch2.jpg"/>
          <p:cNvPicPr/>
          <p:nvPr/>
        </p:nvPicPr>
        <p:blipFill>
          <a:blip r:embed="rId2"/>
          <a:stretch/>
        </p:blipFill>
        <p:spPr>
          <a:xfrm>
            <a:off x="243000" y="2214720"/>
            <a:ext cx="655776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7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Romanus"/>
              </a:rPr>
              <a:t>Почтовые ящ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Loner\Рабочий стол\Русский язык\история почты\Почтальон Российской империи.jpg"/>
          <p:cNvPicPr/>
          <p:nvPr/>
        </p:nvPicPr>
        <p:blipFill>
          <a:blip r:embed="rId1"/>
          <a:stretch/>
        </p:blipFill>
        <p:spPr>
          <a:xfrm>
            <a:off x="2714760" y="1785960"/>
            <a:ext cx="3614760" cy="492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7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Romanus"/>
              </a:rPr>
              <a:t>Почтальон Российской импер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ПИСЬ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9"/>
          <p:cNvGrpSpPr/>
          <p:nvPr/>
        </p:nvGrpSpPr>
        <p:grpSpPr>
          <a:xfrm>
            <a:off x="0" y="1414080"/>
            <a:ext cx="2857680" cy="2300760"/>
            <a:chOff x="0" y="1414080"/>
            <a:chExt cx="2857680" cy="2300760"/>
          </a:xfrm>
        </p:grpSpPr>
        <p:sp>
          <p:nvSpPr>
            <p:cNvPr id="94" name="Стрелка вниз 3"/>
            <p:cNvSpPr/>
            <p:nvPr/>
          </p:nvSpPr>
          <p:spPr>
            <a:xfrm rot="3646800">
              <a:off x="2044800" y="1347480"/>
              <a:ext cx="469800" cy="1060560"/>
            </a:xfrm>
            <a:prstGeom prst="downArrow">
              <a:avLst>
                <a:gd name="adj1" fmla="val 50000"/>
                <a:gd name="adj2" fmla="val 71466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5" descr="b3e3a5bb6b45"/>
            <p:cNvPicPr/>
            <p:nvPr/>
          </p:nvPicPr>
          <p:blipFill>
            <a:blip r:embed="rId1"/>
            <a:stretch/>
          </p:blipFill>
          <p:spPr>
            <a:xfrm>
              <a:off x="0" y="1937160"/>
              <a:ext cx="2857680" cy="17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Прямоугольник 7"/>
            <p:cNvSpPr/>
            <p:nvPr/>
          </p:nvSpPr>
          <p:spPr>
            <a:xfrm>
              <a:off x="0" y="2201760"/>
              <a:ext cx="2619720" cy="14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Поздравл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Поздравляю от всей души, от всего сердца, сердечно, горячо. Разрешите поздрав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0"/>
          <p:cNvGrpSpPr/>
          <p:nvPr/>
        </p:nvGrpSpPr>
        <p:grpSpPr>
          <a:xfrm>
            <a:off x="1643040" y="2000160"/>
            <a:ext cx="2786040" cy="4461120"/>
            <a:chOff x="1643040" y="2000160"/>
            <a:chExt cx="2786040" cy="4461120"/>
          </a:xfrm>
        </p:grpSpPr>
        <p:sp>
          <p:nvSpPr>
            <p:cNvPr id="98" name="Стрелка вниз 4"/>
            <p:cNvSpPr/>
            <p:nvPr/>
          </p:nvSpPr>
          <p:spPr>
            <a:xfrm>
              <a:off x="2928960" y="2000160"/>
              <a:ext cx="642960" cy="2513160"/>
            </a:xfrm>
            <a:prstGeom prst="downArrow">
              <a:avLst>
                <a:gd name="adj1" fmla="val 50000"/>
                <a:gd name="adj2" fmla="val 41838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" descr="b3e3a5bb6b45"/>
            <p:cNvPicPr/>
            <p:nvPr/>
          </p:nvPicPr>
          <p:blipFill>
            <a:blip r:embed="rId2"/>
            <a:stretch/>
          </p:blipFill>
          <p:spPr>
            <a:xfrm>
              <a:off x="1643040" y="4389120"/>
              <a:ext cx="278604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8"/>
            <p:cNvSpPr/>
            <p:nvPr/>
          </p:nvSpPr>
          <p:spPr>
            <a:xfrm>
              <a:off x="1714320" y="5072040"/>
              <a:ext cx="2571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Информац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Хотелось бы рассказать…                   Был интересный случай …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10"/>
          <p:cNvGrpSpPr/>
          <p:nvPr/>
        </p:nvGrpSpPr>
        <p:grpSpPr>
          <a:xfrm>
            <a:off x="6072120" y="714240"/>
            <a:ext cx="2786040" cy="2714760"/>
            <a:chOff x="6072120" y="714240"/>
            <a:chExt cx="2786040" cy="2714760"/>
          </a:xfrm>
        </p:grpSpPr>
        <p:sp>
          <p:nvSpPr>
            <p:cNvPr id="102" name="Стрелка вниз 11"/>
            <p:cNvSpPr/>
            <p:nvPr/>
          </p:nvSpPr>
          <p:spPr>
            <a:xfrm rot="18889800">
              <a:off x="6811560" y="803160"/>
              <a:ext cx="642960" cy="941400"/>
            </a:xfrm>
            <a:prstGeom prst="downArrow">
              <a:avLst>
                <a:gd name="adj1" fmla="val 50000"/>
                <a:gd name="adj2" fmla="val 59739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5" descr="b3e3a5bb6b45"/>
            <p:cNvPicPr/>
            <p:nvPr/>
          </p:nvPicPr>
          <p:blipFill>
            <a:blip r:embed="rId3"/>
            <a:stretch/>
          </p:blipFill>
          <p:spPr>
            <a:xfrm>
              <a:off x="6072120" y="1356120"/>
              <a:ext cx="2786040" cy="20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13"/>
            <p:cNvSpPr/>
            <p:nvPr/>
          </p:nvSpPr>
          <p:spPr>
            <a:xfrm>
              <a:off x="6143400" y="1825560"/>
              <a:ext cx="26434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Благодарность</a:t>
              </a:r>
              <a:r>
                <a:rPr b="0" i="1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Благодарю от всей души, от всего сердца, сердечно, горячо. Разрешите поблагодарить..  Спасиб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10"/>
          <p:cNvGrpSpPr/>
          <p:nvPr/>
        </p:nvGrpSpPr>
        <p:grpSpPr>
          <a:xfrm>
            <a:off x="4572000" y="2000160"/>
            <a:ext cx="2786040" cy="4461120"/>
            <a:chOff x="4572000" y="2000160"/>
            <a:chExt cx="2786040" cy="4461120"/>
          </a:xfrm>
        </p:grpSpPr>
        <p:sp>
          <p:nvSpPr>
            <p:cNvPr id="106" name="Стрелка вниз 15"/>
            <p:cNvSpPr/>
            <p:nvPr/>
          </p:nvSpPr>
          <p:spPr>
            <a:xfrm>
              <a:off x="5143320" y="2000160"/>
              <a:ext cx="642960" cy="2584800"/>
            </a:xfrm>
            <a:prstGeom prst="downArrow">
              <a:avLst>
                <a:gd name="adj1" fmla="val 50000"/>
                <a:gd name="adj2" fmla="val 41839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" descr="b3e3a5bb6b45"/>
            <p:cNvPicPr/>
            <p:nvPr/>
          </p:nvPicPr>
          <p:blipFill>
            <a:blip r:embed="rId4"/>
            <a:stretch/>
          </p:blipFill>
          <p:spPr>
            <a:xfrm>
              <a:off x="4572000" y="4286160"/>
              <a:ext cx="278604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Прямоугольник 17"/>
            <p:cNvSpPr/>
            <p:nvPr/>
          </p:nvSpPr>
          <p:spPr>
            <a:xfrm>
              <a:off x="4643280" y="4643640"/>
              <a:ext cx="26434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Просьба</a:t>
              </a:r>
              <a:r>
                <a:rPr b="0" i="1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Разрешите обратиться с просьбо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Не откажите в просьб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47520"/>
          <a:ext cx="9144000" cy="73836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ствуй, …. ! Привет, …. ! Дорогой …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571680"/>
          <a:ext cx="9144000" cy="228600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ности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Благодарю за письмо. Спасибо что написал мне. Я был рад получить от тебя известие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адресату (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поживаешь? Что у тебя нового? Как дела?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ик на полученное письмо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Я был очень обрадован тем, что …. Меня очень огорчило, что …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2786040"/>
          <a:ext cx="9144000" cy="228600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я (новости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Хочу рассказать тебе… У меня…. Недавно мы … Был интересный случай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ьб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Очень прошу тебя… Мне бы хотелось …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жела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Хотелось бы пожелать … Разреши мне поздравить тебя с …. И пожелать …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Передавай привет …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5072040"/>
          <a:ext cx="9144000" cy="192096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ща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До свидания …. До скорой встречи… Жду встречи … Надеюсь на скорое письмо … С нетерпением жду ответа …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. Подпис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2"/>
          <p:cNvSpPr/>
          <p:nvPr/>
        </p:nvSpPr>
        <p:spPr>
          <a:xfrm>
            <a:off x="357120" y="1928880"/>
            <a:ext cx="8215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за работ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2"/>
          <p:cNvSpPr/>
          <p:nvPr/>
        </p:nvSpPr>
        <p:spPr>
          <a:xfrm>
            <a:off x="0" y="428760"/>
            <a:ext cx="9144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Тема урока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ПИСЬМО ДРУГ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ПИСЬ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Группа 9"/>
          <p:cNvGrpSpPr/>
          <p:nvPr/>
        </p:nvGrpSpPr>
        <p:grpSpPr>
          <a:xfrm>
            <a:off x="428760" y="1428840"/>
            <a:ext cx="3714480" cy="4707000"/>
            <a:chOff x="428760" y="1428840"/>
            <a:chExt cx="3714480" cy="4707000"/>
          </a:xfrm>
        </p:grpSpPr>
        <p:sp>
          <p:nvSpPr>
            <p:cNvPr id="46" name="Стрелка вниз 3"/>
            <p:cNvSpPr/>
            <p:nvPr/>
          </p:nvSpPr>
          <p:spPr>
            <a:xfrm rot="1928400">
              <a:off x="2124000" y="1526760"/>
              <a:ext cx="801360" cy="150012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5" descr="b3e3a5bb6b45"/>
            <p:cNvPicPr/>
            <p:nvPr/>
          </p:nvPicPr>
          <p:blipFill>
            <a:blip r:embed="rId1"/>
            <a:stretch/>
          </p:blipFill>
          <p:spPr>
            <a:xfrm>
              <a:off x="428760" y="2833560"/>
              <a:ext cx="3714480" cy="33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Прямоугольник 7"/>
            <p:cNvSpPr/>
            <p:nvPr/>
          </p:nvSpPr>
          <p:spPr>
            <a:xfrm>
              <a:off x="714240" y="4000680"/>
              <a:ext cx="3071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Делов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(официальные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Группа 10"/>
          <p:cNvGrpSpPr/>
          <p:nvPr/>
        </p:nvGrpSpPr>
        <p:grpSpPr>
          <a:xfrm>
            <a:off x="4857840" y="1428840"/>
            <a:ext cx="3714840" cy="4714920"/>
            <a:chOff x="4857840" y="1428840"/>
            <a:chExt cx="3714840" cy="4714920"/>
          </a:xfrm>
        </p:grpSpPr>
        <p:sp>
          <p:nvSpPr>
            <p:cNvPr id="50" name="Стрелка вниз 4"/>
            <p:cNvSpPr/>
            <p:nvPr/>
          </p:nvSpPr>
          <p:spPr>
            <a:xfrm rot="20106600">
              <a:off x="5776920" y="1539360"/>
              <a:ext cx="857160" cy="150012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5" descr="b3e3a5bb6b45"/>
            <p:cNvPicPr/>
            <p:nvPr/>
          </p:nvPicPr>
          <p:blipFill>
            <a:blip r:embed="rId2"/>
            <a:stretch/>
          </p:blipFill>
          <p:spPr>
            <a:xfrm>
              <a:off x="4857840" y="2841840"/>
              <a:ext cx="3714840" cy="33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Прямоугольник 8"/>
            <p:cNvSpPr/>
            <p:nvPr/>
          </p:nvSpPr>
          <p:spPr>
            <a:xfrm>
              <a:off x="5214960" y="3929040"/>
              <a:ext cx="3071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Не делов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(личные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80880" y="533520"/>
            <a:ext cx="8077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04920" y="6094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age002"/>
          <p:cNvPicPr/>
          <p:nvPr/>
        </p:nvPicPr>
        <p:blipFill>
          <a:blip r:embed="rId1"/>
          <a:stretch/>
        </p:blipFill>
        <p:spPr>
          <a:xfrm>
            <a:off x="3276720" y="2057400"/>
            <a:ext cx="28526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006"/>
          <p:cNvPicPr/>
          <p:nvPr/>
        </p:nvPicPr>
        <p:blipFill>
          <a:blip r:embed="rId2"/>
          <a:stretch/>
        </p:blipFill>
        <p:spPr>
          <a:xfrm>
            <a:off x="3352680" y="4267080"/>
            <a:ext cx="26766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image005"/>
          <p:cNvPicPr/>
          <p:nvPr/>
        </p:nvPicPr>
        <p:blipFill>
          <a:blip r:embed="rId3"/>
          <a:stretch/>
        </p:blipFill>
        <p:spPr>
          <a:xfrm>
            <a:off x="304920" y="1752480"/>
            <a:ext cx="283824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image004"/>
          <p:cNvPicPr/>
          <p:nvPr/>
        </p:nvPicPr>
        <p:blipFill>
          <a:blip r:embed="rId4"/>
          <a:stretch/>
        </p:blipFill>
        <p:spPr>
          <a:xfrm>
            <a:off x="609480" y="3886200"/>
            <a:ext cx="2075040" cy="259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7772400" y="358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69343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mage003"/>
          <p:cNvPicPr/>
          <p:nvPr/>
        </p:nvPicPr>
        <p:blipFill>
          <a:blip r:embed="rId5"/>
          <a:stretch/>
        </p:blipFill>
        <p:spPr>
          <a:xfrm>
            <a:off x="6553080" y="4038480"/>
            <a:ext cx="201636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image001"/>
          <p:cNvPicPr/>
          <p:nvPr/>
        </p:nvPicPr>
        <p:blipFill>
          <a:blip r:embed="rId6"/>
          <a:stretch/>
        </p:blipFill>
        <p:spPr>
          <a:xfrm>
            <a:off x="6324480" y="1752480"/>
            <a:ext cx="2514600" cy="2000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7"/>
          <p:cNvSpPr/>
          <p:nvPr/>
        </p:nvSpPr>
        <p:spPr>
          <a:xfrm>
            <a:off x="0" y="-71280"/>
            <a:ext cx="914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Музей папиру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64.jpg"/>
          <p:cNvPicPr/>
          <p:nvPr/>
        </p:nvPicPr>
        <p:blipFill>
          <a:blip r:embed="rId1"/>
          <a:srcRect l="4223" t="7328" r="30047" b="25383"/>
          <a:stretch/>
        </p:blipFill>
        <p:spPr>
          <a:xfrm>
            <a:off x="285840" y="285840"/>
            <a:ext cx="83581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Группа 1"/>
          <p:cNvGrpSpPr/>
          <p:nvPr/>
        </p:nvGrpSpPr>
        <p:grpSpPr>
          <a:xfrm>
            <a:off x="71280" y="214200"/>
            <a:ext cx="9144000" cy="6572520"/>
            <a:chOff x="71280" y="214200"/>
            <a:chExt cx="9144000" cy="6572520"/>
          </a:xfrm>
        </p:grpSpPr>
        <p:pic>
          <p:nvPicPr>
            <p:cNvPr id="66" name="Picture 5" descr="1195794004"/>
            <p:cNvPicPr/>
            <p:nvPr/>
          </p:nvPicPr>
          <p:blipFill>
            <a:blip r:embed="rId1"/>
            <a:stretch/>
          </p:blipFill>
          <p:spPr>
            <a:xfrm>
              <a:off x="2714400" y="2428920"/>
              <a:ext cx="3306600" cy="39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9"/>
            <p:cNvSpPr/>
            <p:nvPr/>
          </p:nvSpPr>
          <p:spPr>
            <a:xfrm>
              <a:off x="6494040" y="631440"/>
              <a:ext cx="130608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71280" y="214200"/>
              <a:ext cx="914400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8"/>
            <p:cNvSpPr/>
            <p:nvPr/>
          </p:nvSpPr>
          <p:spPr>
            <a:xfrm>
              <a:off x="942120" y="1048680"/>
              <a:ext cx="380988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9"/>
            <p:cNvSpPr/>
            <p:nvPr/>
          </p:nvSpPr>
          <p:spPr>
            <a:xfrm>
              <a:off x="642600" y="785520"/>
              <a:ext cx="8164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ольшой вклад в развитие русской поч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нёс государственный деяте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000000"/>
                  </a:solidFill>
                  <a:latin typeface="a_Romanus"/>
                </a:rPr>
                <a:t>А.Л.Ордын-Нащёкин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Рисунок 9" descr="YAmskaya-gonba--ic1978_4921.jpg"/>
          <p:cNvPicPr/>
          <p:nvPr/>
        </p:nvPicPr>
        <p:blipFill>
          <a:blip r:embed="rId2"/>
          <a:srcRect l="3974" t="6738" r="26992" b="5697"/>
          <a:stretch/>
        </p:blipFill>
        <p:spPr>
          <a:xfrm>
            <a:off x="428760" y="68400"/>
            <a:ext cx="75722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ps0026.preview.jpg"/>
          <p:cNvPicPr/>
          <p:nvPr/>
        </p:nvPicPr>
        <p:blipFill>
          <a:blip r:embed="rId1"/>
          <a:srcRect l="4920" t="3261" r="2463" b="9691"/>
          <a:stretch/>
        </p:blipFill>
        <p:spPr>
          <a:xfrm>
            <a:off x="428760" y="428760"/>
            <a:ext cx="807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post-11688249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первая почтовая  марка рос империи 10 декабря 1857"/>
          <p:cNvPicPr/>
          <p:nvPr/>
        </p:nvPicPr>
        <p:blipFill>
          <a:blip r:embed="rId1"/>
          <a:stretch/>
        </p:blipFill>
        <p:spPr>
          <a:xfrm>
            <a:off x="142920" y="1590840"/>
            <a:ext cx="378612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7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Romanus"/>
              </a:rPr>
              <a:t>Первая почтовая марка в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3753000" y="5572080"/>
            <a:ext cx="57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10 декабря 185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10-26T16:29:00Z</dcterms:modified>
  <cp:revision>44</cp:revision>
  <dc:subject/>
  <dc:title>Слайд 1</dc:title>
</cp:coreProperties>
</file>