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0B6-E869-4350-9364-67DBEA06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42C-37E2-4109-BA76-D9BCE63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343-8F62-4C17-A67E-E8FD31F2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2BE-73B2-4A89-AEA8-61D206C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CBC4-A25D-4BD4-B251-829ACBD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131-4499-4EA7-8BC9-7D7A958C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CDE8-417E-44DB-B23E-A9FF4F3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F68C-43F6-4FA3-BFDD-9F1A278C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98E-9DA6-46C8-8C89-38927C4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9556-C8E4-498E-BE4E-4238241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040F-C148-4A01-9DD1-BAA92EF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B05-3160-4070-8FB0-BCA1113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714-DBDE-447A-B4B3-2A2048E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66B2-9C6E-465F-88C7-425FAEE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CAE-111F-4C32-9B7B-AD8FCC74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BB0-613D-4C4D-BE0C-584B728C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8268-A7EF-4E4E-87D3-D49DBE1D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2C7-8A81-4383-9D4E-7CCB90F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092-074C-4B0C-9BE4-B85EDAE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7CB-8961-4BF6-A043-03C55185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E81-355B-46C5-9874-C4B269B9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72E-219F-4C3E-ACA6-C3CB4A9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005-5B55-4105-B850-EEB6A54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35D-A19C-46DD-9B1B-526C972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955C-2C5A-4290-8896-C0D162529A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D16F-4188-41E6-AC8B-8F3415D0BD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Богородице Дево радуйся_Притч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ntitled-2 copy"/>
          <p:cNvPicPr/>
          <p:nvPr/>
        </p:nvPicPr>
        <p:blipFill>
          <a:blip r:embed="rId2"/>
          <a:srcRect l="7505" t="3333" r="833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Иверская Мироточивая Икона Б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БМ_Иерусалимск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08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