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B97-AEF5-4A1C-840A-A0F7AA2A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2E7-B808-4F72-9F67-662AF70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023-FCC0-47DC-AED7-E0F7A326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68D-5458-49E7-A6F2-AAB89E9F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EBD9-7F93-4625-8C6E-9708974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757F-2984-45AE-872F-3FA05AD5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2A25-CA70-4068-8CF7-AC2AEB62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E060-1897-48D5-BC2E-06DAAFF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2B1-D1E2-4137-8404-1FBACE8F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C6CA-9E93-46A1-B4B9-5CF5790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6486-5A82-409D-9B60-1A14B96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E15-74CC-4DE0-9C72-365BD80B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172D-CD39-4335-8D06-B662664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C525-81AD-451F-8808-D4E563D5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AB7B-09E7-41FA-B394-5C338DC1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A08-4944-417B-9D46-71E9E16B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278-0CAF-4B00-8350-DA79C10A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20F-8F79-4DDC-B1AC-2D434EB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691-9FDD-4C48-A256-E0A2FE05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386-0197-4284-BDB1-167BC2C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4CB-BECD-42F6-B5A6-FD8BAB9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7F5-A380-46A8-B5B1-995D3EF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3A7-8BA2-47A5-82A8-786AC08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AF2-F59D-47D3-BF1C-9C579191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6CD-D21C-4352-BA8F-44E38F088F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E3E-16E3-4EBB-BA31-4771E566C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Богородице Дево радуйся_Притч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ntitled-2 copy"/>
          <p:cNvPicPr/>
          <p:nvPr/>
        </p:nvPicPr>
        <p:blipFill>
          <a:blip r:embed="rId2"/>
          <a:srcRect l="7505" t="3333" r="833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Иверская Мироточивая Икона Б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БМ_Иерусалимска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advTm="10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08:3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