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A81-9166-4A77-B005-E246A595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B4E-17F6-444F-8E70-C266B32F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FDF-685D-4E16-8F59-F1012D00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047-8995-4949-95E1-EB4E936B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118-4546-44F3-8D90-806613E4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C2A-18B1-46C7-A252-3C3DD6F4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9BC-1896-4002-8E27-0B80A6FB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F56-6138-485C-B5C9-2FC45202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2E1-A0B6-4F6D-B19F-FAC80C9B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F1C-F667-4C25-AEBA-E3BC680E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986-19FA-4566-AA76-085982B8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236-FBF4-4934-BDDC-B0C7AD08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CC75-50A6-43B8-A0D6-8C99B15FD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 Ива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836640"/>
            <a:ext cx="2376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соедин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рославль, Рос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город Вели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836640"/>
            <a:ext cx="2592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«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гре» 1480 б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нч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квидирована зави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ть от О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3640" y="836640"/>
            <a:ext cx="24494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ется дворя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олчение. Двор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ают помест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492280"/>
            <a:ext cx="2376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ады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ы ме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ло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2492280"/>
            <a:ext cx="2376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т фо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ализов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па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076640"/>
            <a:ext cx="424980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рьбе с феодальными верх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ого духовенства, стремивш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ть ключевую роль в полити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ь возвышает группу молод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городских священников во главе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ором Курицыным. Как выяснило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воззрения этих великокняж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еже были еретическими (ер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довствующих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4149720"/>
            <a:ext cx="417672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формление идеологии Росси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а. Подчерк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емственность от Византии (прин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рб с изображением двуглавого ор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ной Ивана с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зантийская прин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фья Пале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2637000"/>
            <a:ext cx="1800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00000" y="31417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71280" y="2133720"/>
            <a:ext cx="1008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435640" y="2133360"/>
            <a:ext cx="936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328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4000" y="357336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7:10:09Z</dcterms:created>
  <dc:creator>1</dc:creator>
  <dc:description/>
  <dc:language>en-US</dc:language>
  <cp:lastModifiedBy>1</cp:lastModifiedBy>
  <dcterms:modified xsi:type="dcterms:W3CDTF">2012-10-21T07:26:47Z</dcterms:modified>
  <cp:revision>2</cp:revision>
  <dc:subject/>
  <dc:title>Основные направления деятельности Ивана III</dc:title>
</cp:coreProperties>
</file>