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1FF-89F9-47C3-A659-25D648E3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8B0-5546-4591-9832-47211124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E4F-1261-408E-8C08-65DC5F69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4D5-4434-43B9-A1C8-D01C74D6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2DF-7584-4955-8439-B2723E07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59C-52A4-43E0-B484-3785397E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88D-0D46-478F-A6EC-FA2E3D33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0E1-A703-41ED-AF64-89520E2B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E1E-9BC9-4E4B-B669-613F6CD6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FD2-ADB5-41D0-BC0C-88499997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007-F840-4258-98DF-66BB0F6F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A92-8C8A-4B2C-A4C6-2B0A4AD6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DF9A-7AF7-4020-BC80-0B249B5EE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 Ива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836640"/>
            <a:ext cx="2376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соедин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рославль, Рост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город Вели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8000" y="83664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«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гре» 1480 бы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нча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квидирована зави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ть от О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43640" y="836640"/>
            <a:ext cx="24494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ется дворян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олчение. Двор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ают помест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492280"/>
            <a:ext cx="2376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лады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ы мес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лов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2492280"/>
            <a:ext cx="2376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т форм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ализов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п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076640"/>
            <a:ext cx="424980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рьбе с феодальными верх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ого духовенства, стремившим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ть ключевую роль в полити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ь возвышает группу молод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городских священников во главе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ором Курицыным. Как выяснило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воззрения этих великокняж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еже были еретическими (ер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идовствующих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16360" y="4149720"/>
            <a:ext cx="4176720" cy="24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формление идеологии Россий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а. Подчерк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емственность от Византии (прин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рб с изображением двуглавого ор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ной Ивана с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зантийская прин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фья Палео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263700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00000" y="3141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1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771280" y="2133720"/>
            <a:ext cx="1008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435640" y="2133360"/>
            <a:ext cx="936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64328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4000" y="357336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7:10:09Z</dcterms:created>
  <dc:creator>1</dc:creator>
  <dc:description/>
  <dc:language>en-US</dc:language>
  <cp:lastModifiedBy>1</cp:lastModifiedBy>
  <dcterms:modified xsi:type="dcterms:W3CDTF">2012-10-21T07:26:47Z</dcterms:modified>
  <cp:revision>2</cp:revision>
  <dc:subject/>
  <dc:title>Основные направления деятельности Ивана III</dc:title>
</cp:coreProperties>
</file>