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11.jpeg" ContentType="image/jpeg"/>
  <Override PartName="/ppt/media/image20.gif" ContentType="image/gif"/>
  <Override PartName="/ppt/media/image19.png" ContentType="image/png"/>
  <Override PartName="/ppt/media/image1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9EC-81F1-4A02-A848-E229DBF7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47F-0957-4B70-935D-08AEDC10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6A5-7C00-46FB-8396-E20BC0B8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DE0-B75A-4587-9B00-417BFD9F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2845-CF31-4DAA-8F0E-A27C69A7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8FB-4ED6-4303-B129-81A9C2ED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C7BB-3933-4AD4-88D3-9EF4C1F3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2C5D-E3AB-4DED-AB9C-308D31DF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8C51-6CC6-491D-8679-723D2C9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74EF-E4E1-4F73-BF07-1C87A505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8FB3-8CB7-405C-80F4-54CEE956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259-D12F-4053-9D9F-91AC2B9E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BE43-09D9-481C-9128-FBCCAD36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88DF-7679-4D69-9121-DB48B55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3BED-C0AE-4231-9C24-79B03350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2908-9595-4734-BF3A-B8865AEB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E265-742B-4198-B9B6-B8717F47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16D2-215B-445C-8328-4B019163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819D-4F0D-442E-AEBB-66E18B7D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DBE9-6DC5-4AA8-A790-3BD8F0E3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27FF-9C9C-4E8C-8037-ECA175BC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082F-6AD1-48F2-B317-D7E4F319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3D4-FEED-4809-96B5-8B9372F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0A99C-8145-4946-9DBD-022F7B02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1F67-F5CC-4151-AF37-28842924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F7E8-143F-41C9-95B2-E4474A0C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FEF9-5C8F-4EC7-BE2C-14A8EF8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D141-B627-4A84-9B99-270B8FBE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9CA1-C319-4403-B0E3-6F34B93B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96AD-6606-43DB-9959-B5C95EFC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227-E0DB-4079-96C5-A86DCB40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544-9213-4E45-BEBD-AE49866E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06D-78FA-49AD-A291-5943B5BE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584-4F73-416E-9A3E-F4F70370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4D8-3109-4635-BA6D-391A5A0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571-0DF7-45C2-8B11-8CB19591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E263-5AFE-4277-AC7D-4842CDB9254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0CB-1D9C-41CF-965C-FF2BB97BB3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846D-EDD4-4053-B19B-0E54B41D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.foto.radikal.ru/0703/53195c49564e.jp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Подготовка к промежуточной аттестаци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26920" y="404640"/>
            <a:ext cx="2381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там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76720" y="476280"/>
            <a:ext cx="4724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:меню обучающегос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419640" y="981000"/>
            <a:ext cx="44956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оровье школьн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676520"/>
            <a:ext cx="266400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2060640"/>
            <a:ext cx="533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Z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773360"/>
            <a:ext cx="17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Нужен для памяти, влияет на иммунные силы организ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141720"/>
            <a:ext cx="273528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34290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213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321300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Необходим для нормального функционирования нервной сис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1773360"/>
            <a:ext cx="252072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1413000"/>
            <a:ext cx="2484360" cy="936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3213000"/>
            <a:ext cx="2663640" cy="100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5013360"/>
            <a:ext cx="302580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04000" y="1700280"/>
            <a:ext cx="12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35280" y="1916280"/>
            <a:ext cx="4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940360" y="5229360"/>
            <a:ext cx="50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1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27640" y="3429000"/>
            <a:ext cx="4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1844640"/>
            <a:ext cx="180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Способствует росту, оптимизирует мыслительную актив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1484280"/>
            <a:ext cx="21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Важен для нормального умственного развития и мыслительн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328464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Улучшает память, снижает головную боль при мигр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1672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Благоприятно влияет на обучение, помогает освоить нужную информа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Минеральные соли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61672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0" y="0"/>
          <a:ext cx="182520" cy="4397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3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1800" y="43970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Как работать головой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Чем больше времени ребёнок беспрерывно зубрит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тем он меньше запомина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начительная часть успеха на экзаменах - это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орошая память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помин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3124080"/>
          <a:ext cx="8839080" cy="3514680"/>
        </p:xfrm>
        <a:graphic>
          <a:graphicData uri="http://schemas.openxmlformats.org/drawingml/2006/table">
            <a:tbl>
              <a:tblPr/>
              <a:tblGrid>
                <a:gridCol w="3886200"/>
                <a:gridCol w="4952880"/>
              </a:tblGrid>
              <a:tr h="38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епроизвольно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зг, как губ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питывает информацию и отправляет ее в подсознани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оизвольное: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мысловое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логическо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важно хорошо понимать то, что нужно запомнить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ханическ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формулы, правила нужно зубрить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ак зубрить сложные правил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  Прочитать несколько раз формулировку прави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  Перечитав правило ещё раз через несколько минут воспроизвести его по памя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   На следующий день попробовать сразу воспроизвести правило, уже никуда не заглядывая. Если с первого раза не получится, то перечитать материал ещё несколько раз, а потом повторить несколько раз по памя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934320" y="5638680"/>
            <a:ext cx="196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Советы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бучающимс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нимательно ознакомься с вопросами и заданиями билет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редели для себя те понятия, которые тебе совершенно незнако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чинать учить надо с того, что явно пропущено и неусвоено в процессе учё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бери необходимую для подготовки литературу (учебники, пособия, блок-таблицы с конспект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язательно готовься письменно: пиши конспекты или развёрнутые планы ответов по каждому билету, решай  задач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стесняйся задавать вопросы учителю на консультац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ди репетицию экзаме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9372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последний день учить ничего не стоит. Лучше просмотреть глазами блок и отдельные вопросы, в отношении которых у вас имеются сомнения. «Сфотографированные глазами» страницы помогут вспомнить необходимый материал на экзам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 вечеру надо отвлечься от мыслей об экзамене. Подготовься к тому, что утром тебе придётся уйти из дома рано. Поэтому с вечера собери всё, что может понадобиться: ручку, карандаш, линейку и т.д. Одежда должна быть удобной, привычной, соответствовать погоде и случа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 экзамен лучше прийти немного пораньше (за 5-10 минут), захватив с собой конспекты (блок), чтобы в коридоре можно было повтори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 экзамене надо максимально сосредоточиться на содержании вопроса или задания, составить план ответа. Соберись, подумай, сосредоточься. Письменно составь план ответа в любой форме: таблицы, схемы. Запиши все примеры к правила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вечай на вопрос полным ответом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начала повтори часть вопроса, потом используй «мостик» (что, чтобы, поэтому, потому что, так как), а затем дай сам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твет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Так главные слова ответа чаще всего попадают в конец предлож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алее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ъясняй, доказыва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ед выводом используй «мостик» (вот почему, вот и, поэтому, значи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елай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вод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води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имер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543800" y="5105520"/>
            <a:ext cx="1328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равила подготовки к экзамен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Готовиться к экзамену нужно постепенно. Для этого за несколько месяцев нужно подобрать материал для подготовки к ответу на каждый экзаменационный вопрос и составить план,: в какой день сколько вопросов нужно выучить. Этот план обязательно нужно записать и следить за его выполнением. За соблюдение плана можно себя чем-нибудь побалова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и подготовке каждого ответа нужно составить себе примерный план, выделив основные смысловые фрагменты. Учить желательно днем, а повторять – перед сном и утром: информация переходит в память на длительное хранение в то время, когда человек спит. Хорошо, если есть возможность повторить вслух, например, рассказать выученное родителям. Или, по крайней мере, пересказать самому себе, не подглядывая в учебник. Это заметно улучшит качество запомин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период подготовки к экзаменам важно хорошо питаться и высыпаться, иначе можно заработать множество трудно излечимых заболеван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 последнее. Говорят, что легче запомнить материал за тем рабочим столом, на котором есть желтые и фиолетовые предметы. Попробуйт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жел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Многие преодолеваю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спытания успешно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деюсь, что и ва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будет по сила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справиться с эти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спытанием в жизни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186680" y="1600200"/>
            <a:ext cx="1957320" cy="2033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7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9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Я умён, но ум мой ещё никогда ни на чём не был основательно испытан…</a:t>
            </a:r>
            <a:br>
              <a:rPr sz="3600"/>
            </a:b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Лев Николаевич Толстой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Ни пуха, ни пер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4" descr="H:\картинки\HandsetManager\ToolData\VIDEO_TEXTICON\Item_2\icon031.png"/>
          <p:cNvPicPr/>
          <p:nvPr/>
        </p:nvPicPr>
        <p:blipFill>
          <a:blip r:embed="rId2"/>
          <a:stretch/>
        </p:blipFill>
        <p:spPr>
          <a:xfrm>
            <a:off x="7143840" y="152280"/>
            <a:ext cx="2000160" cy="1625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Устная промежуточная аттестация – это</a:t>
            </a:r>
            <a:br>
              <a:rPr sz="3200"/>
            </a:b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особая пора испытаний, в которых проверяются </a:t>
            </a: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не только знания</a:t>
            </a: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 обучающегося, но и </a:t>
            </a: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его личностные особенности</a:t>
            </a: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, такие, как</a:t>
            </a:r>
            <a:br>
              <a:rPr sz="3200"/>
            </a:b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выдержка, </a:t>
            </a:r>
            <a:br>
              <a:rPr sz="3200"/>
            </a:b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         настойчивость, </a:t>
            </a:r>
            <a:br>
              <a:rPr sz="3200"/>
            </a:b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               умение организовать себя,</a:t>
            </a:r>
            <a:br>
              <a:rPr sz="3200"/>
            </a:b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                     целеустремлённость,</a:t>
            </a:r>
            <a:br>
              <a:rPr sz="3200"/>
            </a:b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                           коммуникативные способности.</a:t>
            </a:r>
            <a:br>
              <a:rPr sz="3200"/>
            </a:b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Успешное прохождение этих испытаний нельзя связывать </a:t>
            </a:r>
            <a:r>
              <a:rPr b="0" i="1" lang="en-US" sz="2800" spc="-1" strike="noStrike" u="sng">
                <a:solidFill>
                  <a:srgbClr val="b9efee"/>
                </a:solidFill>
                <a:uFillTx/>
                <a:latin typeface="Garamond"/>
              </a:rPr>
              <a:t>только</a:t>
            </a: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 с наличием учебников, пособий, репетиторов. Нужно суметь </a:t>
            </a:r>
            <a:r>
              <a:rPr b="0" i="1" lang="en-US" sz="2800" spc="-1" strike="noStrike" u="sng">
                <a:solidFill>
                  <a:srgbClr val="b9efee"/>
                </a:solidFill>
                <a:uFillTx/>
                <a:latin typeface="Garamond"/>
              </a:rPr>
              <a:t>мобилизовать</a:t>
            </a: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 в себе все личностные качества, необходимые для успеха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Промежуточная аттестация – 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это испытание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и для обучающихся, и для их семей.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сихологи считают, что родители могут помочь своему ребёнку пережить этот  период, если будут его поддержива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20175000">
            <a:off x="4648320" y="4724280"/>
            <a:ext cx="23749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1111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Советы родителям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ообще неплохо вместе с ребёнком составить распорядок дня на время подготовки к экзаменам. Исходные данные так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,5-2 часа  на выполнение текущего домашнего зада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часов – на сон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часа на прогул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 оставшееся время нужно распределить на подготовку по всем тем предметам, по которым будет сдаваться аттестация. Перерывы для гимнастических упражнений(для шеи и спины) просто необходимы. Почаще надо менять вид деятельности: математика, русский, чтение учебни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нужно забывать и подкармливать мозг: фрукты, овощи, соки, витамины, поливитаминные комплексы с аминокисло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тимальный распорядок дня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3780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2209680" y="1219320"/>
          <a:ext cx="6477120" cy="137160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Во время подготовки к экзаменам очень нужен здоровый сон. Поэтому важно не переутомляться и соблюдать режим дня. А утро лучше начинать с заряд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209680" y="2895480"/>
          <a:ext cx="6400800" cy="83808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Для умственной активности важно правильное питание. Не следует забывать и о поливитамин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1533600" cy="86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1247760" cy="933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45136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сихологи считают, что нужно делать перерывы в занятиях, иначе зубрежка будет неэффектив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09480" y="5791320"/>
            <a:ext cx="75276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905120" y="5791320"/>
          <a:ext cx="6781680" cy="100476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росидев два часа за книгами, нужно хотя бы 20 минут погулять на улице, размяться или погонять мяч. Мозгу нужен кислород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В молоке – сила и здоровье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6056280" cy="4724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V="1" rot="10800000">
            <a:off x="379080" y="5790960"/>
            <a:ext cx="7621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лочные продукты-источники полноценного белка-аминокислоты, необходимые для нормальной работы головного 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7010640" cy="47246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638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 flipV="1" rot="10800000">
            <a:off x="758520" y="-1080"/>
            <a:ext cx="80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Витамины способствуют росту и правильному развитию детей, повышают  их  выносливость  и сопротивляемость организма различным заболева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10-25T15:31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