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11.jpeg" ContentType="image/jpeg"/>
  <Override PartName="/ppt/media/image20.gif" ContentType="image/gif"/>
  <Override PartName="/ppt/media/image19.png" ContentType="image/png"/>
  <Override PartName="/ppt/media/image1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7B32-5AB6-4700-AF85-3564682A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5E93-6FDF-41F1-A8D6-FB644627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5E0-2A36-47C7-8093-8C7C6F3E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F42-5FB0-429F-8D38-CFFE61C1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DFE9-081E-4FC9-9645-203AB60F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B88E-9577-4367-849B-F8A4EDE2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D103-5A83-49A5-A8B3-7747F332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7A88-6FD8-4537-BE97-B10B194F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433D-C2E5-4AA1-8D12-CC63FEC4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35AC-13BA-4CE4-8D3D-B068B26F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BBF2-9AB5-43A4-BDC4-70F62515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1DC-E2F1-4388-BE20-94B31046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E8FE-5DCF-4623-9A41-B19A34BB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5EB4-731D-4188-B7C6-C2C548ED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7E66-196A-4846-B4CA-0C7C853C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5B12-0C25-4DF8-9BD3-61CAAF4D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5F0C-7D84-42A5-BF5F-64017C49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40B0A-1BA5-4673-AEBF-1CD82620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8B1C1-E4DA-4135-8CD3-F30CF46D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305B-E238-4D4D-AC7E-21C2289D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2A457-AED1-4EBB-B64D-948DA5E4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A0973-EA71-411F-9C14-6D08D72B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A9F-3112-4669-94EA-065DC931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C2484-901D-482E-AC30-71F0C173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2B7ED-5DC6-4D3F-B617-841C0BC3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0F144-A602-45C8-8AF1-E18421CD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A90DB-12B5-4B5F-9B5B-D1C2E415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08A8-B8F5-4DB8-91E1-1284A6BC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A168F-E902-4E18-A079-594932A8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182F-9EC1-42DB-94A2-DDA3C800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7DB-33AF-4272-8EE0-B0AB404C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DD8-A316-4860-9CCA-F26694C7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69A-88CD-4FE8-B030-874956A3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CCCB-C8EB-4125-98BB-A732C98B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B3E-7600-4A59-8F13-B46619A8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1AF-6176-4055-9B43-72DD7FE7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6DDF-8634-4CC8-A367-A6D183927BE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A513-6320-4F6E-91C6-EE1679E3211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FCC7-0F97-4741-8898-D9978D470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.foto.radikal.ru/0703/53195c49564e.jp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Подготовка к промежуточной аттестации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26920" y="404640"/>
            <a:ext cx="2381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тами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76720" y="476280"/>
            <a:ext cx="4724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:меню обучающегося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419640" y="981000"/>
            <a:ext cx="44956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доровье школьни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676520"/>
            <a:ext cx="2664000" cy="1224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9640" y="2060640"/>
            <a:ext cx="533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Z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1773360"/>
            <a:ext cx="172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Нужен для памяти, влияет на иммунные силы организ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3141720"/>
            <a:ext cx="2735280" cy="1224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5280" y="3429000"/>
            <a:ext cx="5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321300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58920" y="3213000"/>
            <a:ext cx="151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Необходим для нормального функционирования нервной сист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1773360"/>
            <a:ext cx="2520720" cy="1224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59640" y="1413000"/>
            <a:ext cx="2484360" cy="936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3213000"/>
            <a:ext cx="2663640" cy="1008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5013360"/>
            <a:ext cx="302580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04000" y="1700280"/>
            <a:ext cx="123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35280" y="1916280"/>
            <a:ext cx="4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B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940360" y="5229360"/>
            <a:ext cx="50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B1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227640" y="3429000"/>
            <a:ext cx="4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B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1844640"/>
            <a:ext cx="180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Способствует росту, оптимизирует мыслительную актив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1484280"/>
            <a:ext cx="21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Важен для нормального умственного развития и мыслительной дея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32720" y="328464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Улучшает память, снижает головную боль при мигре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16720" y="501336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Благоприятно влияет на обучение, помогает освоить нужную информац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9efee"/>
                </a:solidFill>
                <a:latin typeface="Garamond"/>
              </a:rPr>
              <a:t>Минеральные соли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5616720" cy="460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"/>
          <p:cNvGraphicFramePr/>
          <p:nvPr/>
        </p:nvGraphicFramePr>
        <p:xfrm>
          <a:off x="0" y="0"/>
          <a:ext cx="182520" cy="43974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39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1800" y="43970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Как работать головой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Чем больше времени ребёнок беспрерывно зубрит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тем он меньше запомина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Значительная часть успеха на экзаменах - это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хорошая память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Запомина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4920" y="3124080"/>
          <a:ext cx="8839080" cy="3514680"/>
        </p:xfrm>
        <a:graphic>
          <a:graphicData uri="http://schemas.openxmlformats.org/drawingml/2006/table">
            <a:tbl>
              <a:tblPr/>
              <a:tblGrid>
                <a:gridCol w="3886200"/>
                <a:gridCol w="4952880"/>
              </a:tblGrid>
              <a:tr h="38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непроизвольное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зг, как губ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питывает информацию и отправляет ее в подсознани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произвольное: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мысловое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логическое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важно хорошо понимать то, что нужно запомнить)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ханическ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формулы, правила нужно зубрить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      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Как зубрить сложные правил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   Прочитать несколько раз формулировку прави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   Перечитав правило ещё раз через несколько минут воспроизвести его по памя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   На следующий день попробовать сразу воспроизвести правило, уже никуда не заглядывая. Если с первого раза не получится, то перечитать материал ещё несколько раз, а потом повторить несколько раз по памя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934320" y="5638680"/>
            <a:ext cx="1962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Советы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обучающимс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нимательно ознакомься с вопросами и заданиями билет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редели для себя те понятия, которые тебе совершенно незнако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чинать учить надо с того, что явно пропущено и неусвоено в процессе учёб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бери необходимую для подготовки литературу (учебники, пособия, блок-таблицы с конспект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язательно готовься письменно: пиши конспекты или развёрнутые планы ответов по каждому билету, решай  задач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 стесняйся задавать вопросы учителю на консультация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ди репетицию экзаме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228600"/>
            <a:ext cx="9372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последний день учить ничего не стоит. Лучше просмотреть глазами блок и отдельные вопросы, в отношении которых у вас имеются сомнения. «Сфотографированные глазами» страницы помогут вспомнить необходимый материал на экзамен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 вечеру надо отвлечься от мыслей об экзамене. Подготовься к тому, что утром тебе придётся уйти из дома рано. Поэтому с вечера собери всё, что может понадобиться: ручку, карандаш, линейку и т.д. Одежда должна быть удобной, привычной, соответствовать погоде и случа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 экзамен лучше прийти немного пораньше (за 5-10 минут), захватив с собой конспекты (блок), чтобы в коридоре можно было повтори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 экзамене надо максимально сосредоточиться на содержании вопроса или задания, составить план ответа. Соберись, подумай, сосредоточься. Письменно составь план ответа в любой форме: таблицы, схемы. Запиши все примеры к правила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твечай на вопрос полным ответом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начала повтори часть вопроса, потом используй «мостик» (что, чтобы, поэтому, потому что, так как), а затем дай сам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твет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Так главные слова ответа чаще всего попадают в конец предложен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Далее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бъясняй, доказыва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еред выводом используй «мостик» (вот почему, вот и, поэтому, значит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Делай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ыводы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води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римеры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543800" y="5105520"/>
            <a:ext cx="1328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Правила подготовки к экзамен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Готовиться к экзамену нужно постепенно. Для этого за несколько месяцев нужно подобрать материал для подготовки к ответу на каждый экзаменационный вопрос и составить план,: в какой день сколько вопросов нужно выучить. Этот план обязательно нужно записать и следить за его выполнением. За соблюдение плана можно себя чем-нибудь побаловат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и подготовке каждого ответа нужно составить себе примерный план, выделив основные смысловые фрагменты. Учить желательно днем, а повторять – перед сном и утром: информация переходит в память на длительное хранение в то время, когда человек спит. Хорошо, если есть возможность повторить вслух, например, рассказать выученное родителям. Или, по крайней мере, пересказать самому себе, не подглядывая в учебник. Это заметно улучшит качество запомина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период подготовки к экзаменам важно хорошо питаться и высыпаться, иначе можно заработать множество трудно излечимых заболевани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 последнее. Говорят, что легче запомнить материал за тем рабочим столом, на котором есть желтые и фиолетовые предметы. Попробуйт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жела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Многие преодолеваю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спытания успешно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деюсь, что и ва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будет по сила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справиться с эти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спытанием в жизни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186680" y="1600200"/>
            <a:ext cx="1957320" cy="2033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57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59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…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Я умён, но ум мой ещё никогда ни на чём не был основательно испытан…</a:t>
            </a:r>
            <a:br>
              <a:rPr sz="3600"/>
            </a:b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Лев Николаевич Толстой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33523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Ни пуха, ни пер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5" name="Picture 4" descr="H:\картинки\HandsetManager\ToolData\VIDEO_TEXTICON\Item_2\icon031.png"/>
          <p:cNvPicPr/>
          <p:nvPr/>
        </p:nvPicPr>
        <p:blipFill>
          <a:blip r:embed="rId2"/>
          <a:stretch/>
        </p:blipFill>
        <p:spPr>
          <a:xfrm>
            <a:off x="7143840" y="152280"/>
            <a:ext cx="2000160" cy="16257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143000" y="2743200"/>
            <a:ext cx="2408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80880"/>
            <a:ext cx="91440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Устная промежуточная аттестация – это</a:t>
            </a:r>
            <a:br>
              <a:rPr sz="3200"/>
            </a:b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особая пора испытаний, в которых проверяются </a:t>
            </a:r>
            <a:r>
              <a:rPr b="0" i="1" lang="en-US" sz="3200" spc="-1" strike="noStrike">
                <a:solidFill>
                  <a:srgbClr val="b9efee"/>
                </a:solidFill>
                <a:latin typeface="Garamond"/>
              </a:rPr>
              <a:t>не только знания</a:t>
            </a: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 обучающегося, но и </a:t>
            </a:r>
            <a:r>
              <a:rPr b="0" i="1" lang="en-US" sz="3200" spc="-1" strike="noStrike">
                <a:solidFill>
                  <a:srgbClr val="b9efee"/>
                </a:solidFill>
                <a:latin typeface="Garamond"/>
              </a:rPr>
              <a:t>его личностные особенности</a:t>
            </a: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, такие, как</a:t>
            </a:r>
            <a:br>
              <a:rPr sz="3200"/>
            </a:b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b9efee"/>
                </a:solidFill>
                <a:latin typeface="Garamond"/>
              </a:rPr>
              <a:t>выдержка, </a:t>
            </a:r>
            <a:br>
              <a:rPr sz="3200"/>
            </a:br>
            <a:r>
              <a:rPr b="0" i="1" lang="en-US" sz="3200" spc="-1" strike="noStrike">
                <a:solidFill>
                  <a:srgbClr val="b9efee"/>
                </a:solidFill>
                <a:latin typeface="Garamond"/>
              </a:rPr>
              <a:t>         настойчивость, </a:t>
            </a:r>
            <a:br>
              <a:rPr sz="3200"/>
            </a:br>
            <a:r>
              <a:rPr b="0" i="1" lang="en-US" sz="3200" spc="-1" strike="noStrike">
                <a:solidFill>
                  <a:srgbClr val="b9efee"/>
                </a:solidFill>
                <a:latin typeface="Garamond"/>
              </a:rPr>
              <a:t>               умение организовать себя,</a:t>
            </a:r>
            <a:br>
              <a:rPr sz="3200"/>
            </a:br>
            <a:r>
              <a:rPr b="0" i="1" lang="en-US" sz="3200" spc="-1" strike="noStrike">
                <a:solidFill>
                  <a:srgbClr val="b9efee"/>
                </a:solidFill>
                <a:latin typeface="Garamond"/>
              </a:rPr>
              <a:t>                     целеустремлённость,</a:t>
            </a:r>
            <a:br>
              <a:rPr sz="3200"/>
            </a:br>
            <a:r>
              <a:rPr b="0" i="1" lang="en-US" sz="3200" spc="-1" strike="noStrike">
                <a:solidFill>
                  <a:srgbClr val="b9efee"/>
                </a:solidFill>
                <a:latin typeface="Garamond"/>
              </a:rPr>
              <a:t>                           коммуникативные способности.</a:t>
            </a:r>
            <a:br>
              <a:rPr sz="3200"/>
            </a:br>
            <a:r>
              <a:rPr b="0" i="1" lang="en-US" sz="2800" spc="-1" strike="noStrike">
                <a:solidFill>
                  <a:srgbClr val="b9efee"/>
                </a:solidFill>
                <a:latin typeface="Garamond"/>
              </a:rPr>
              <a:t>Успешное прохождение этих испытаний нельзя связывать </a:t>
            </a:r>
            <a:r>
              <a:rPr b="0" i="1" lang="en-US" sz="2800" spc="-1" strike="noStrike" u="sng">
                <a:solidFill>
                  <a:srgbClr val="b9efee"/>
                </a:solidFill>
                <a:uFillTx/>
                <a:latin typeface="Garamond"/>
              </a:rPr>
              <a:t>только</a:t>
            </a:r>
            <a:r>
              <a:rPr b="0" i="1" lang="en-US" sz="2800" spc="-1" strike="noStrike">
                <a:solidFill>
                  <a:srgbClr val="b9efee"/>
                </a:solidFill>
                <a:latin typeface="Garamond"/>
              </a:rPr>
              <a:t> с наличием учебников, пособий, репетиторов. Нужно суметь </a:t>
            </a:r>
            <a:r>
              <a:rPr b="0" i="1" lang="en-US" sz="2800" spc="-1" strike="noStrike" u="sng">
                <a:solidFill>
                  <a:srgbClr val="b9efee"/>
                </a:solidFill>
                <a:uFillTx/>
                <a:latin typeface="Garamond"/>
              </a:rPr>
              <a:t>мобилизовать</a:t>
            </a:r>
            <a:r>
              <a:rPr b="0" i="1" lang="en-US" sz="2800" spc="-1" strike="noStrike">
                <a:solidFill>
                  <a:srgbClr val="b9efee"/>
                </a:solidFill>
                <a:latin typeface="Garamond"/>
              </a:rPr>
              <a:t> в себе все личностные качества, необходимые для успеха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Промежуточная аттестация – </a:t>
            </a: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это испытание</a:t>
            </a: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 и для обучающихся, и для их семей.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сихологи считают, что родители могут помочь своему ребёнку пережить этот  период, если будут его поддержива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 rot="20175000">
            <a:off x="4648320" y="4724280"/>
            <a:ext cx="2374920" cy="1440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1111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Советы родителям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ообще неплохо вместе с ребёнком составить распорядок дня на время подготовки к экзаменам. Исходные данные таки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,5-2 часа  на выполнение текущего домашнего задания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часов – на сон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часа на прогулк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 оставшееся время нужно распределить на подготовку по всем тем предметам, по которым будет сдаваться аттестация. Перерывы для гимнастических упражнений(для шеи и спины) просто необходимы. Почаще надо менять вид деятельности: математика, русский, чтение учебни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нужно забывать и подкармливать мозг: фрукты, овощи, соки, витамины, поливитаминные комплексы с аминокисло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Оптимальный распорядок дня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137808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2209680" y="1219320"/>
          <a:ext cx="6477120" cy="137160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Во время подготовки к экзаменам очень нужен здоровый сон. Поэтому важно не переутомляться и соблюдать режим дня. А утро лучше начинать с заряд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209680" y="2895480"/>
          <a:ext cx="6400800" cy="838080"/>
        </p:xfrm>
        <a:graphic>
          <a:graphicData uri="http://schemas.openxmlformats.org/drawingml/2006/table">
            <a:tbl>
              <a:tblPr/>
              <a:tblGrid>
                <a:gridCol w="6400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Для умственной активности важно правильное питание. Не следует забывать и о поливитамина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80880" y="2895480"/>
            <a:ext cx="1533600" cy="866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1247760" cy="933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057400" y="451368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сихологи считают, что нужно делать перерывы в занятиях, иначе зубрежка будет неэффектив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09480" y="5791320"/>
            <a:ext cx="752760" cy="71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1905120" y="5791320"/>
          <a:ext cx="6781680" cy="100476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Просидев два часа за книгами, нужно хотя бы 20 минут погулять на улице, размяться или погонять мяч. Мозгу нужен кислород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В молоке – сила и здоровье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523880" y="914400"/>
            <a:ext cx="6056280" cy="4724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V="1" rot="10800000">
            <a:off x="379080" y="5790960"/>
            <a:ext cx="7621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олочные продукты-источники полноценного белка-аминокислоты, необходимые для нормальной работы головного 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7010640" cy="47246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5638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"/>
          <p:cNvSpPr/>
          <p:nvPr/>
        </p:nvSpPr>
        <p:spPr>
          <a:xfrm flipV="1" rot="10800000">
            <a:off x="758520" y="-1080"/>
            <a:ext cx="800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Витамины способствуют росту и правильному развитию детей, повышают  их  выносливость  и сопротивляемость организма различным заболевани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2-10-25T15:31:3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