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9BA-1476-4416-8B9B-B355CE27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73F-7B02-49B0-9797-BEB6AA10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ACC70-ADAA-48A6-898B-81C85417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DFC96-132A-43CC-A1EA-4189D0AD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ED3B-8993-4D82-A622-A66F3D6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20F9-41BC-4A5A-B309-30FF9EB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DA852-DAFD-4293-9EAA-406E4C9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4BEC9-114F-42C2-8275-90C940B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4D5F7-C292-4E7A-9AF5-810DC9AA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D4E4E-E739-47FC-9D2B-F857C510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E15A1-17D6-4404-9749-EAA14269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6DFB4-0AAB-4F49-9A8B-124CD39E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450-04BD-4C5E-A8DF-2D5461EF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1A562-B363-4F42-BCA5-573A661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81AB5-C4EF-401C-9521-6063CCA9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CF1CE-70B6-4467-BD41-4FB44D4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36B9E-78C6-4A34-9A1C-85279C2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D5BF5-5925-42A4-BD74-C2A2B6E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CED0D-51D3-4EFB-9D16-D24C87E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79725-4EF4-4C97-900E-BA13033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A441A-75EB-4B31-B148-FDC5C8B2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91587-F24D-4951-BCE3-70CAE4C7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7E68E-A9D8-48BB-9C9D-54943B46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1B2-C951-488C-9AF7-627D23BE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EBEB1-D00E-4E35-BC07-5780F5EF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CB85E-27DA-46A4-A181-CD349045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0D6E4-8C8A-4183-8384-15472B72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B5206-22FB-4940-87F3-F839E24A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06F1D-E54C-48EE-A790-C7E59900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550CB-3446-4E80-9058-D61A6503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EAC4E-797F-4F88-B790-BEB0193D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93274-5EF4-448F-964B-D1829C6B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CA350-97DF-4E5E-9D96-3605BE2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0FC7F-95F3-41A8-AB48-5FE167F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B2AC-BF82-4546-B86A-FF18A7AB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394A8-9B1B-44B2-9203-21A62615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8E0C-148B-4348-8615-69DF48D3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2EB5E-F211-41FB-AE82-26922E71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F54BC-E499-41D8-8B61-AF44DA91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D8DE1-CEFF-4B30-B073-0AB74068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0683-8E30-4098-8F12-8A64D984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60ADD-FF4D-445D-978E-59D7D98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508BA-3CCD-44BE-A313-EB5144B3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9AD46-BAE1-43FC-9AE0-32BBC776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6CF3-6252-43CF-A5A7-C6DD1161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F4DC-8CCB-45B6-B757-989BEB46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E792F-40F4-437A-9BB3-6198D69F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CEB85-43E5-4F58-B3FC-CC45D62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72547-064F-4A7C-9491-8A0E3E56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A71DD-BC80-4682-8403-AF4394FD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1859A-DC3A-4928-BDF9-8F2ABF8D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36E-F978-4333-833E-AC1C575C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55DD-5EAE-4EDC-8D2B-7FBAD23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AEC-957F-4DE2-919C-D6FA8CE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513-E0E4-48A0-BFF3-8DDE4D7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9DD6-8E62-4549-987B-F00C1DF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E61-3775-40D2-807B-506BA41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095D-D3CB-4D9D-A967-A9A813A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56C-E22D-465C-89FC-8098A8A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BC3E-FC16-4F5F-946F-5ADF58B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D0B8-5024-4BC6-9F13-7313CF1D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15F-1CE7-4FDF-A096-DBC56C9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6C96-6D35-42A5-A175-048ADAB5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E030-48DA-4C4B-B21D-C33B5BFE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AA53-7960-4F8F-921C-08842526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B33F-D128-4A4E-ADA2-B01B963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B189-9CD9-4080-A910-B83F6BA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236-27E2-4E1A-B014-36F86BE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2375-887A-4122-8313-56ABF526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1AFA-4889-45A0-9370-6B1C0B6C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640A-13BA-421A-B249-92AF2F23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604F-35C0-403F-ACA8-663E343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531A-5B71-41B9-A144-A10A328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EDE7-9332-4274-A153-7B71EAED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6B6C-C23C-4542-9433-47D1A9BD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D0D1-BEE3-4A69-B6AA-B5679405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E217-E64D-407A-8118-67127FA4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57B6-683F-4F6A-8BB9-7E5045CC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2C4-3C09-489E-B960-4C284DEC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3467-D67E-44D5-99B4-C49DB76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1304-7AE6-40B7-95CC-75A2B5C4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52DC-F8B7-485C-9EFA-2E677CB0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7D54-64E5-4751-AFD9-7540F9E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589B-09DB-49D7-9B57-6E676D7C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6CFBD-967F-4EA8-A08A-9F2F6DCD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3C6AB-1AC6-4F1F-82D0-DD13140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1336-EA9F-4264-8557-EF6098B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4600F-84AB-46CF-BCF4-78D3BB8D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DF1B9-2A0D-4FEC-8937-57B9A070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485-BC06-40C8-B11F-5BABFA7E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331C-E3E7-4876-AE3C-5175E286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A9FA9-F834-468F-ACA8-CBF7BBD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3DF1-9349-4FBF-BE0E-2A545CDA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9F1F-5821-44AE-BED1-6EAFEB0C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16E0-8C0E-4C02-AD60-7813644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D463C-BBB9-4F89-9E58-6545609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299B-EBD1-4694-840F-087CD99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87C1-6D52-4D55-9D2E-D9D2290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20E6-2B85-4BD1-95B6-68CE98C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70DB-8640-4236-9F66-8E32987C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774-032B-4598-97E5-46489619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D783-7E69-4B74-8966-04389B39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02BF-7EF0-4F3A-A2FD-26D2A7E4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2425-D295-4A75-BB0E-6D8B852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364D-FA4A-46EC-8AF6-25577CC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0D7D-4C12-4EA5-A711-78A5B6B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013C-3FB7-4555-B440-CEF44F60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B924-A71B-4EC6-8C53-0E34690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92D0-AA38-43B4-AF47-5B182FE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2EAD-C191-45ED-A860-291DBCF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2D7E-4579-4ED3-B914-E04CCD79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4E3-3986-44AA-AED5-E5FD657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59DE-9E1B-4CA4-BA40-D2D63901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0381-8BFB-4D8F-B359-0683F62C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6AE0-FDDC-43A1-AA41-C2D62920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F3A9-BE8E-405A-B1A0-5E61E7BF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A2B5-7209-4C63-9062-FB465EA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696B-BE25-42BF-9C3A-88432F4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55671-B021-4D9D-AC6B-A3B38AAE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71C98-C594-4AFE-A4B8-1F1D8901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01902-8C91-4326-B1FA-427AF1C8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2F138-41D5-40DC-9944-8773BC4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E06-F4F9-4CE1-B1CC-E7CE563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F0E2-A551-42F5-8334-B9AB73D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36804-E08C-4B0F-9F96-CAAC3EF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0919-A82C-4CBC-A1CE-8897327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AE8FA-658F-42A5-806D-69B96A51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0ED4-87B9-4AF2-9490-390CDBBC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78C5-6648-484D-97DB-45892774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2E01F-17A1-4A9A-9A8F-44E29BA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CA00D-9FBE-472A-9767-EC695C5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7E63-CC65-40A2-B776-AEF5034C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28657-80D5-4B1C-AF03-44C4D26B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03A-7805-45CE-8188-65698B6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E68D5-701E-42BE-972D-FFB141E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2838-56D0-41FE-B3D8-A3F3FC81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0DC5D-5AFB-4CC8-AE48-41C742AA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279F-61D9-4DC4-BD58-B929B0D7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D269-6AD7-4814-B0B5-53A7B9A2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513AD-B389-433D-9D19-A0C99435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6B09-5FFC-483C-A63C-AC032D9A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BFD63-4F45-4A25-9ACB-74E725DC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2A2F-A77A-4CEA-9CE3-BB534B6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29C5-E3EB-401D-A167-EDD27EC4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3537-A43F-4881-A61A-454267BB7290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3D94-0B0F-42B7-9525-C4FFD217452D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A9B-79A2-4B19-8E75-4527B1C34DE0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C92-C126-4574-A327-CCDCA1B049A6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BFE5-3E39-44CA-8DE7-A1EA391B5CBA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CC8-4541-46B8-8210-797BB868D789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EFA6-C33F-40D6-96D8-23E7F58D5CAC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909C-62B9-47FB-9D91-D2E7BF9D2E16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B8D7-420A-4CD5-B501-91CBF351B932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2EF-3501-4AFB-A42C-CF81138D40B4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175-1115-4FC0-8051-5769A3B0FDCD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2087-BAA6-46A8-A287-16C36A9A869A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Заголовок 1" descr=""/>
          <p:cNvPicPr/>
          <p:nvPr/>
        </p:nvPicPr>
        <p:blipFill>
          <a:blip r:embed="rId1"/>
          <a:stretch/>
        </p:blipFill>
        <p:spPr>
          <a:xfrm>
            <a:off x="360360" y="1420920"/>
            <a:ext cx="8612280" cy="1944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5286240" y="5357520"/>
            <a:ext cx="3400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С(К)ОУ школа № 46 «Центр РиМ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рова Наталия Георгиевн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ограммы на CD–дисках с тренажерами, тестами, тренировочными  упражнениями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28760" y="2571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учебник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и серии «Фраз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Репетитор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1С: Репетитор. Русский язы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Наставник – русский язык 2, 3, 4 классы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«Редактор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ая энциклопедия «Русская литератур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естовой технологии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85840" y="2071440"/>
            <a:ext cx="840096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Уровеь обученности и качества знаний по русскому языку учащихся за 2010 – 2012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Анализ письменных работ учащихся за 2010 – 2011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Анализ письменных работ учащихся за 2011 – 2012 г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Диаграмма 6" descr=""/>
          <p:cNvPicPr/>
          <p:nvPr/>
        </p:nvPicPr>
        <p:blipFill>
          <a:blip r:embed="rId1"/>
          <a:stretch/>
        </p:blipFill>
        <p:spPr>
          <a:xfrm>
            <a:off x="1785960" y="2143080"/>
            <a:ext cx="6286320" cy="371484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ученности и качества знаний по русскому языку учащих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0 – 2012 гг.</a:t>
            </a:r>
            <a:endParaRPr b="0" lang="en-US" sz="20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исьменных работ учащихся за 2010 – 2011 гг.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637" name="Диаграмма 4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71508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исьменных работ учащихся за 2011 – 2012 гг.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639" name="Диаграмма 5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700092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Схема 3" descr=""/>
          <p:cNvPicPr/>
          <p:nvPr/>
        </p:nvPicPr>
        <p:blipFill>
          <a:blip r:embed="rId1"/>
          <a:stretch/>
        </p:blipFill>
        <p:spPr>
          <a:xfrm>
            <a:off x="603360" y="433440"/>
            <a:ext cx="7723080" cy="5986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Прямоугольник 3" descr=""/>
          <p:cNvPicPr/>
          <p:nvPr/>
        </p:nvPicPr>
        <p:blipFill>
          <a:blip r:embed="rId1"/>
          <a:stretch/>
        </p:blipFill>
        <p:spPr>
          <a:xfrm>
            <a:off x="6480" y="1633680"/>
            <a:ext cx="918036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Схема 7" descr=""/>
          <p:cNvPicPr/>
          <p:nvPr/>
        </p:nvPicPr>
        <p:blipFill>
          <a:blip r:embed="rId1"/>
          <a:stretch/>
        </p:blipFill>
        <p:spPr>
          <a:xfrm>
            <a:off x="195120" y="573120"/>
            <a:ext cx="8680680" cy="5662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2"/>
          <p:cNvSpPr/>
          <p:nvPr/>
        </p:nvSpPr>
        <p:spPr>
          <a:xfrm>
            <a:off x="428760" y="1143000"/>
            <a:ext cx="8501040" cy="7142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2"/>
          <p:cNvSpPr/>
          <p:nvPr/>
        </p:nvSpPr>
        <p:spPr>
          <a:xfrm>
            <a:off x="1571760" y="2071800"/>
            <a:ext cx="7000920" cy="6667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пециальную литературу по особенностям развития связной письменной речи у детей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9"/>
          <p:cNvSpPr/>
          <p:nvPr/>
        </p:nvSpPr>
        <p:spPr>
          <a:xfrm>
            <a:off x="858960" y="1860480"/>
            <a:ext cx="0" cy="3711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1"/>
          <p:cNvSpPr/>
          <p:nvPr/>
        </p:nvSpPr>
        <p:spPr>
          <a:xfrm>
            <a:off x="857160" y="22924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2"/>
          <p:cNvSpPr/>
          <p:nvPr/>
        </p:nvSpPr>
        <p:spPr>
          <a:xfrm>
            <a:off x="1571760" y="2928960"/>
            <a:ext cx="7000920" cy="85716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сихолого–педагогическую литературу по вопросу использования информационных технологий в коррекционных шко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2"/>
          <p:cNvSpPr/>
          <p:nvPr/>
        </p:nvSpPr>
        <p:spPr>
          <a:xfrm>
            <a:off x="1571760" y="4143240"/>
            <a:ext cx="7000920" cy="8575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бщую характеристику использования компьютерных технологий на уроках русского языка в коррекционной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571760" y="5286240"/>
            <a:ext cx="7000920" cy="9288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компьютерные программы (тренажёры, игры, диски) предлагаемые для обучения детей с нарушением интелл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1"/>
          <p:cNvSpPr/>
          <p:nvPr/>
        </p:nvSpPr>
        <p:spPr>
          <a:xfrm>
            <a:off x="857160" y="30718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1"/>
          <p:cNvSpPr/>
          <p:nvPr/>
        </p:nvSpPr>
        <p:spPr>
          <a:xfrm>
            <a:off x="857160" y="457200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857160" y="55720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Содержимое 4" descr=""/>
          <p:cNvPicPr/>
          <p:nvPr/>
        </p:nvPicPr>
        <p:blipFill>
          <a:blip r:embed="rId1"/>
          <a:stretch/>
        </p:blipFill>
        <p:spPr>
          <a:xfrm>
            <a:off x="414360" y="341280"/>
            <a:ext cx="8291520" cy="5986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2"/>
          <p:cNvSpPr/>
          <p:nvPr/>
        </p:nvSpPr>
        <p:spPr>
          <a:xfrm>
            <a:off x="428760" y="5558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и качеству недоразвития фонетической стороны речи учащихся вспомогательной школы можно раз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Содержимое 5" descr=""/>
          <p:cNvPicPr/>
          <p:nvPr/>
        </p:nvPicPr>
        <p:blipFill>
          <a:blip r:embed="rId1"/>
          <a:stretch/>
        </p:blipFill>
        <p:spPr>
          <a:xfrm>
            <a:off x="176040" y="1901880"/>
            <a:ext cx="853452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азвитие лексико-граммати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я речи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большая разница между объемом пассивного и активного словаря - активный словарь гораздо меньше по объем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номинативные слова употребляются в активном словаре неточно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неточность употребления самых простых с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ифференциации в обозначении сходных предмет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1b587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, шубу, плащ некотор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слов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т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7" descr="J0151041"/>
          <p:cNvPicPr/>
          <p:nvPr/>
        </p:nvPicPr>
        <p:blipFill>
          <a:blip r:embed="rId1"/>
          <a:stretch/>
        </p:blipFill>
        <p:spPr>
          <a:xfrm>
            <a:off x="928800" y="4071960"/>
            <a:ext cx="153180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2"/>
          <p:cNvSpPr/>
          <p:nvPr/>
        </p:nvSpPr>
        <p:spPr>
          <a:xfrm>
            <a:off x="428760" y="928800"/>
            <a:ext cx="8501040" cy="93168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 овладения 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аксической сторо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22"/>
          <p:cNvSpPr/>
          <p:nvPr/>
        </p:nvSpPr>
        <p:spPr>
          <a:xfrm>
            <a:off x="1571760" y="2119320"/>
            <a:ext cx="7000920" cy="4316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распространенность 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9"/>
          <p:cNvSpPr/>
          <p:nvPr/>
        </p:nvSpPr>
        <p:spPr>
          <a:xfrm>
            <a:off x="858960" y="1860480"/>
            <a:ext cx="0" cy="3711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1"/>
          <p:cNvSpPr/>
          <p:nvPr/>
        </p:nvSpPr>
        <p:spPr>
          <a:xfrm>
            <a:off x="857160" y="22924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22"/>
          <p:cNvSpPr/>
          <p:nvPr/>
        </p:nvSpPr>
        <p:spPr>
          <a:xfrm>
            <a:off x="1571760" y="2724120"/>
            <a:ext cx="7000920" cy="6336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 слов, словосочетаний, необходимых для построения фр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22"/>
          <p:cNvSpPr/>
          <p:nvPr/>
        </p:nvSpPr>
        <p:spPr>
          <a:xfrm>
            <a:off x="1571760" y="3500280"/>
            <a:ext cx="7000920" cy="85752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кое использование сложносочиненных и сложноподчиненных конструкций, неправильное их п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2"/>
          <p:cNvSpPr/>
          <p:nvPr/>
        </p:nvSpPr>
        <p:spPr>
          <a:xfrm>
            <a:off x="1571760" y="4643280"/>
            <a:ext cx="7000920" cy="43200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вязи слов в пред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2"/>
          <p:cNvSpPr/>
          <p:nvPr/>
        </p:nvSpPr>
        <p:spPr>
          <a:xfrm>
            <a:off x="1571760" y="5354640"/>
            <a:ext cx="7000920" cy="431640"/>
          </a:xfrm>
          <a:prstGeom prst="rect">
            <a:avLst/>
          </a:prstGeom>
          <a:noFill/>
          <a:ln w="255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орядка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1"/>
          <p:cNvSpPr/>
          <p:nvPr/>
        </p:nvSpPr>
        <p:spPr>
          <a:xfrm>
            <a:off x="857160" y="30718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1"/>
          <p:cNvSpPr/>
          <p:nvPr/>
        </p:nvSpPr>
        <p:spPr>
          <a:xfrm>
            <a:off x="857160" y="385776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1"/>
          <p:cNvSpPr/>
          <p:nvPr/>
        </p:nvSpPr>
        <p:spPr>
          <a:xfrm>
            <a:off x="857160" y="485784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1"/>
          <p:cNvSpPr/>
          <p:nvPr/>
        </p:nvSpPr>
        <p:spPr>
          <a:xfrm>
            <a:off x="857160" y="5572080"/>
            <a:ext cx="588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3"/>
          <p:cNvSpPr/>
          <p:nvPr/>
        </p:nvSpPr>
        <p:spPr>
          <a:xfrm>
            <a:off x="1403280" y="2205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использованию компьютерных технологий на уроках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ые дидактические средства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00040" y="178596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выдерж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адач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кроссвор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таблиц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просмотры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Содержимое 2"/>
          <p:cNvSpPr/>
          <p:nvPr/>
        </p:nvSpPr>
        <p:spPr>
          <a:xfrm>
            <a:off x="428760" y="1928880"/>
            <a:ext cx="792468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4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6:14:41Z</dcterms:created>
  <dc:creator>Asus</dc:creator>
  <dc:description/>
  <dc:language>en-US</dc:language>
  <cp:lastModifiedBy>Наташа</cp:lastModifiedBy>
  <dcterms:modified xsi:type="dcterms:W3CDTF">2012-06-06T18:00:05Z</dcterms:modified>
  <cp:revision>185</cp:revision>
  <dc:subject/>
  <dc:title>ПРОВЕРКА СООТВЕТСТВИЯ БУХГАЛТЕРСКОЙ ОТЧЕТНОСТИ ТРЕОВАНИЯМ ДЕЙСТВУЮЩЕГО ЗАКОНАДАТЕЛЬСТВА</dc:title>
</cp:coreProperties>
</file>