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F7C-FD61-4F9C-8681-B975C687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EAC-992F-449C-B728-4EC1E1B7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4488A-70B2-4A95-AAC1-3088EAEE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211F4-FA99-4279-867E-5EF0AC2B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08BE6-7A00-4457-9711-296398FD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17554-76BD-4296-8DF2-B3F8355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4A39E-B843-41E6-8963-DC4A3AC9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C1A81-481F-4185-8146-E154087E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9F598-7B85-4E2B-8ECD-1256E768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6EB08-0E81-4305-9C28-5C70BD2B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31BDC-210D-4334-94F9-183C6D71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0CD42-45ED-4348-A0D3-EF6E208E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1D2-9E24-4950-8C1C-49F7EB6E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1830D-3F02-4FC4-A59F-F69F5DB6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C7721-240D-4B7D-ABDB-1CBA5D66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3BE2C-2FCE-452E-8B12-FD81510E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1C88C-0F69-4712-A6A5-6CFF4438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16985-3D52-4D16-ABD0-47CD1A7A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E92BD-9F4A-4AE7-8154-52B49804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821C6-E6EF-4B3C-857E-8E793D68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9B403-8B68-42B5-8CED-6FB5C3FF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638B6-C6B3-4634-89F4-4EBC8FA7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EC381-1FB0-4623-9918-62DF904B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3CB-883B-47B9-8668-7960BE80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9B4DF-79A9-4364-9205-9439862D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D6732-E537-41E7-A6DD-93B8BAB2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C13E5-BCB2-4B17-8556-77E97EF4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CAB63-D8B9-4C0E-85E9-E06467F6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4C19C-8C3C-481D-AD70-8647DE0C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0638C-A804-41C0-B5AD-85E5B06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B4642-7A23-43BE-A040-6C0176CC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27BF5-CAA0-4531-8BD8-3E14375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9C309-48B3-4DA6-8249-0BF7E2E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56D02-030B-4B89-A453-A324C6F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AB2B-18C1-421F-A406-2CCD7FFD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A08BB-4B4D-4A08-A5CE-F84CA602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C856F-C964-4EA4-BF2D-D32A0F60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23B12-B76E-49F0-AE75-A53A643A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D60F1-544C-458C-8DCA-D53C7142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B065A-2331-4280-A5D5-DCB71C20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9AB19-C31D-472F-8A1F-55F18919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B6349-1CA5-4825-BF0F-9651CC08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85F6F-F9EE-4A7D-A793-B03BD632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014BD-324D-4EE1-9A86-233F30BC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92BD8-6869-45BF-9EC7-3A82CC1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B3B3-AAB4-407A-898B-D0213BC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2EAED-D7B4-46BA-9900-0D7DDC7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3AAA3-D26B-494C-8723-124CE20B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A76C7-585B-4BCB-8FB7-342CC92C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1C356-AD22-413D-9BBC-9CE9E9FE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19E97-2116-4AA2-A56A-FAC54577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7A9F-CED0-40A1-B26F-BDB0753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B786-C1DB-4413-83D6-A77874E4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1086-8EA5-44C6-9C76-38489ABA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1278-215B-45FB-ADA9-3A2B6647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913A-E204-453E-8CAE-D549BEA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28A-395C-436C-B12F-33396704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5B49-448B-4CC0-8E7A-D24DE24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A3A9-27A7-4034-8D4A-F51A9808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5A68-D930-4AFE-99A2-F6CBFD4A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FC54-8313-4F6F-B2C9-7C65E14B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9CD5-480F-4B60-969A-1FB09E6A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2ED83-5AC1-4C51-9883-78606A72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DEFA-C2C4-49AA-9900-25FFB80D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DA64-5BDE-46DC-BEC7-C72A67AE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71AD-CB30-4BBE-9CC9-82B6C6CE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E585-1AD3-47D0-B3F0-9C60962C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4D5-8CD1-423D-8138-2DE01FCC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9D20-0031-4FF6-B9A8-E7FC9578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DC4E-1172-43C6-866B-02EB725F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0638-6544-4D05-ADE1-BF373F4D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F956-A318-4523-8411-AC72D7BF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4EA3-290B-4FC4-B6B1-72B20FA0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71FD2-171F-4DB2-BCA9-FEF192C2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E0E5-326D-4DCC-B888-B13703DA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3D09-22CA-4F41-81D4-70459808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FF7B-5A3F-4F18-8223-C2B4CFCD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10C23-37C0-4A3D-AB87-677077E5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BF9-E104-4E82-981D-B1571D81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C8CCD-558D-47F0-A621-F2F3E3E2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6B6D-2F80-4639-86C7-B14A1847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249D7-F4D9-48F3-8400-BE49B461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27A5-255B-43BA-ABD7-D4B6F80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1E85D-5C88-4B35-B7E2-28DF9AF9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3543C-74AF-4D7F-AA72-0C6973E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531E-1960-4B94-8B66-22A0952A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6AA5-9A71-496A-BFE3-B3A6255B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32018-35E8-4380-B971-71B3CC20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6A76B-F0F4-471A-A436-55780B0D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44E-F9EC-4DBA-AF44-6F7FE241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8309A-11A3-469B-9DCA-2D59B29D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CB8C2-1846-47CC-B027-FAE258AB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2CD39-998C-4D73-ADE3-2B84684A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0BB8-3A3B-4DE1-B25F-4EA9DC75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E8BD2-382A-413A-9E43-8F283B31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E762F-1A1E-495B-AF83-8D437A3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D670-7A33-4539-A8D4-100E37D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C03A-8506-4F2B-925F-99688F70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1285D-9EFC-4A84-9349-6CD6C1D6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60E0A-EC0F-450C-8118-F84CFB2C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B23-5323-4112-A7DD-C556827F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7314-58BB-4AA5-947B-F6B678A8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8954A-FDFE-47CB-B61C-6A330521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87E3-D3D3-462E-9910-C4D3AC3D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212CE-5CDB-4415-B757-F9314DC5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1E3E-A4FA-4273-BFCA-1FBA00A4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BA990-115C-487F-81EF-1E571ECB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F002-9134-4BE5-9C3E-53AD5E8A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711B7-2ED2-40DE-AAA4-FC70460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8F040-ED6E-4727-BA37-C1C4A2C7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822C1-9E69-41FF-BE53-E6A1973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2A5-2930-42D5-9583-E51FC7EA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CB64-4E7E-4815-81CB-0BC607A7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257CB-28FF-4D74-9146-E5429427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6A3DA-1C75-4A7E-B794-9818780E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019F4-63CB-4472-8FA4-22D8C0C4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2E5B-7B09-4D1F-BB05-E6EF7D5E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DB5AD-49D9-4220-8741-53ACBAA5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08228-FC54-4B07-BBCB-15A560FC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1B086-B93F-4FAC-A2F7-8B314D8F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9F16-66C6-407B-ACA2-8A70A57C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D1843-433E-4406-B40D-D1E8B77A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B34-41FA-444E-912D-319AF3C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E185D-BD25-478C-8B28-B73ADA48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FB216-E18B-47E1-A647-E7CC82E8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D7A19-5127-40B2-AAA6-C12A79BB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5AE0A-15F9-42BE-889D-8CBCBB77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C4146-139E-496F-AFA7-B36BEAE9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1E28F-3BEF-46DC-A48D-656F9204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B52E-D33B-46BA-818F-2BA7AB6C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E88ED-081E-4DC1-829C-F51CC3D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B78C6-6837-4703-8962-3A431BD4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0C6D8-6845-40E5-B464-602367D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3EE-39DF-483E-92AF-B79E1AEB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AB71A-73E8-45C9-A5C0-1F42BECB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0F1DA-E9CF-4418-A47B-47939C26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BD022-72C2-4358-A6FD-473F1BAD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7391F-DB19-4FDE-82B3-8C5C7D19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BDEB-7312-448A-8D1A-7468C3E3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922B0-1D5E-4A03-A5CF-98A1851C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0FEB3-3E36-44C9-A1E2-4AB98CF5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C1AA3-D07D-4E00-BB3A-AF7AAF6A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2741D-4DCE-446C-9594-F39916F9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286EF-E498-4B3C-B754-1E194FE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7977-62AC-419A-A69B-1FEF960C431C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F74A-B1D8-497C-A436-89B1A348CDBB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2B78-BE97-41FD-B26A-5564155EA469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7FAB-3DBB-4D7D-BB29-8FBDE5787958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F38B-0D59-4E4C-9FDF-66B38B049D3D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EFFE-1D7F-4A3E-8FBF-33C2E3AA4DD1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2692-99B2-452F-A8DC-B7B2944EECA6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03E3-EA06-43E0-8045-B87E16AF637F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1122-F099-4C14-81FD-76BA23CE5BF0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8143-DC10-4EA2-B588-5C9836444C49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D7A-C6FF-484E-BA01-DE20B25D7978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DD60-5921-4032-89F7-18CBFB382D68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Заголовок 1" descr=""/>
          <p:cNvPicPr/>
          <p:nvPr/>
        </p:nvPicPr>
        <p:blipFill>
          <a:blip r:embed="rId1"/>
          <a:stretch/>
        </p:blipFill>
        <p:spPr>
          <a:xfrm>
            <a:off x="360360" y="1420920"/>
            <a:ext cx="8612280" cy="19447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5286240" y="5357520"/>
            <a:ext cx="340056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С(К)ОУ школа № 46 «Центр РиМ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рова Наталия Георгиевн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ограммы на CD–дисках с тренажерами, тестами, тренировочными  упражнениями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28760" y="2571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учебник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и серии «Фраз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Репетитор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1С: Репетитор. Русский язык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Наставник – русский язык 2, 3, 4 классы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Редактор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ая энциклопедия «Русская литератур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тестовой технологии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85840" y="2071440"/>
            <a:ext cx="840096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Уровеь обученности и качества знаний по русскому языку учащихся за 2010 – 2012 г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Анализ письменных работ учащихся за 2010 – 2011 г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Анализ письменных работ учащихся за 2011 – 2012 г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Диаграмма 6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6286320" cy="371484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бученности и качества знаний по русскому языку учащих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0 – 2012 гг.</a:t>
            </a:r>
            <a:endParaRPr b="0" lang="en-US" sz="20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исьменных работ учащихся за 2010 – 2011 гг.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637" name="Диаграмма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71508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исьменных работ учащихся за 2011 – 2012 гг.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639" name="Диаграмма 5" descr=""/>
          <p:cNvPicPr/>
          <p:nvPr/>
        </p:nvPicPr>
        <p:blipFill>
          <a:blip r:embed="rId1"/>
          <a:stretch/>
        </p:blipFill>
        <p:spPr>
          <a:xfrm>
            <a:off x="1000080" y="2143080"/>
            <a:ext cx="700092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Схема 3" descr=""/>
          <p:cNvPicPr/>
          <p:nvPr/>
        </p:nvPicPr>
        <p:blipFill>
          <a:blip r:embed="rId1"/>
          <a:stretch/>
        </p:blipFill>
        <p:spPr>
          <a:xfrm>
            <a:off x="603360" y="433440"/>
            <a:ext cx="7723080" cy="5986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Прямоугольник 3" descr=""/>
          <p:cNvPicPr/>
          <p:nvPr/>
        </p:nvPicPr>
        <p:blipFill>
          <a:blip r:embed="rId1"/>
          <a:stretch/>
        </p:blipFill>
        <p:spPr>
          <a:xfrm>
            <a:off x="6480" y="1633680"/>
            <a:ext cx="918036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Схема 7" descr=""/>
          <p:cNvPicPr/>
          <p:nvPr/>
        </p:nvPicPr>
        <p:blipFill>
          <a:blip r:embed="rId1"/>
          <a:stretch/>
        </p:blipFill>
        <p:spPr>
          <a:xfrm>
            <a:off x="195120" y="573120"/>
            <a:ext cx="8680680" cy="5662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12"/>
          <p:cNvSpPr/>
          <p:nvPr/>
        </p:nvSpPr>
        <p:spPr>
          <a:xfrm>
            <a:off x="428760" y="1143000"/>
            <a:ext cx="8501040" cy="71424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22"/>
          <p:cNvSpPr/>
          <p:nvPr/>
        </p:nvSpPr>
        <p:spPr>
          <a:xfrm>
            <a:off x="1571760" y="2071800"/>
            <a:ext cx="7000920" cy="66672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пециальную литературу по особенностям развития связной письменной речи у детей с нарушением интелл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9"/>
          <p:cNvSpPr/>
          <p:nvPr/>
        </p:nvSpPr>
        <p:spPr>
          <a:xfrm>
            <a:off x="858960" y="1860480"/>
            <a:ext cx="0" cy="3711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1"/>
          <p:cNvSpPr/>
          <p:nvPr/>
        </p:nvSpPr>
        <p:spPr>
          <a:xfrm>
            <a:off x="857160" y="22924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22"/>
          <p:cNvSpPr/>
          <p:nvPr/>
        </p:nvSpPr>
        <p:spPr>
          <a:xfrm>
            <a:off x="1571760" y="2928960"/>
            <a:ext cx="7000920" cy="85716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сихолого–педагогическую литературу по вопросу использования информационных технологий в коррекционных шко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22"/>
          <p:cNvSpPr/>
          <p:nvPr/>
        </p:nvSpPr>
        <p:spPr>
          <a:xfrm>
            <a:off x="1571760" y="4143240"/>
            <a:ext cx="7000920" cy="85752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общую характеристику использования компьютерных технологий на уроках русского языка в коррекционной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22"/>
          <p:cNvSpPr/>
          <p:nvPr/>
        </p:nvSpPr>
        <p:spPr>
          <a:xfrm>
            <a:off x="1571760" y="5286240"/>
            <a:ext cx="7000920" cy="92880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компьютерные программы (тренажёры, игры, диски) предлагаемые для обучения детей с нарушением интелл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1"/>
          <p:cNvSpPr/>
          <p:nvPr/>
        </p:nvSpPr>
        <p:spPr>
          <a:xfrm>
            <a:off x="857160" y="30718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1"/>
          <p:cNvSpPr/>
          <p:nvPr/>
        </p:nvSpPr>
        <p:spPr>
          <a:xfrm>
            <a:off x="857160" y="457200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41"/>
          <p:cNvSpPr/>
          <p:nvPr/>
        </p:nvSpPr>
        <p:spPr>
          <a:xfrm>
            <a:off x="857160" y="55720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Содержимое 4" descr=""/>
          <p:cNvPicPr/>
          <p:nvPr/>
        </p:nvPicPr>
        <p:blipFill>
          <a:blip r:embed="rId1"/>
          <a:stretch/>
        </p:blipFill>
        <p:spPr>
          <a:xfrm>
            <a:off x="414360" y="341280"/>
            <a:ext cx="8291520" cy="5986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2"/>
          <p:cNvSpPr/>
          <p:nvPr/>
        </p:nvSpPr>
        <p:spPr>
          <a:xfrm>
            <a:off x="428760" y="5558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и качеству недоразвития фонетической стороны речи учащихся вспомогательной школы можно разде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Содержимое 5" descr=""/>
          <p:cNvPicPr/>
          <p:nvPr/>
        </p:nvPicPr>
        <p:blipFill>
          <a:blip r:embed="rId1"/>
          <a:stretch/>
        </p:blipFill>
        <p:spPr>
          <a:xfrm>
            <a:off x="176040" y="1901880"/>
            <a:ext cx="8534520" cy="4443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развитие лексико-грамматическог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 речи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большая разница между объемом пассивного и активного словаря - активный словарь гораздо меньше по объем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номинативные слова употребляются в активном словаре неточн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неточность употребления самых простых с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ифференциации в обозначении сходных предме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то, шубу, плащ некоторы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зывают слово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то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3" name="Picture 7" descr="J0151041"/>
          <p:cNvPicPr/>
          <p:nvPr/>
        </p:nvPicPr>
        <p:blipFill>
          <a:blip r:embed="rId1"/>
          <a:stretch/>
        </p:blipFill>
        <p:spPr>
          <a:xfrm>
            <a:off x="928800" y="4071960"/>
            <a:ext cx="1531800" cy="191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12"/>
          <p:cNvSpPr/>
          <p:nvPr/>
        </p:nvSpPr>
        <p:spPr>
          <a:xfrm>
            <a:off x="428760" y="928800"/>
            <a:ext cx="8501040" cy="93168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 овладения 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ой сторо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22"/>
          <p:cNvSpPr/>
          <p:nvPr/>
        </p:nvSpPr>
        <p:spPr>
          <a:xfrm>
            <a:off x="1571760" y="2119320"/>
            <a:ext cx="7000920" cy="43164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я распространенность пред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9"/>
          <p:cNvSpPr/>
          <p:nvPr/>
        </p:nvSpPr>
        <p:spPr>
          <a:xfrm>
            <a:off x="858960" y="1860480"/>
            <a:ext cx="0" cy="3711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1"/>
          <p:cNvSpPr/>
          <p:nvPr/>
        </p:nvSpPr>
        <p:spPr>
          <a:xfrm>
            <a:off x="857160" y="22924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22"/>
          <p:cNvSpPr/>
          <p:nvPr/>
        </p:nvSpPr>
        <p:spPr>
          <a:xfrm>
            <a:off x="1571760" y="2724120"/>
            <a:ext cx="7000920" cy="63360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 слов, словосочетаний, необходимых для построения фр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22"/>
          <p:cNvSpPr/>
          <p:nvPr/>
        </p:nvSpPr>
        <p:spPr>
          <a:xfrm>
            <a:off x="1571760" y="3500280"/>
            <a:ext cx="7000920" cy="85752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кое использование сложносочиненных и сложноподчиненных конструкций, неправильное их п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2"/>
          <p:cNvSpPr/>
          <p:nvPr/>
        </p:nvSpPr>
        <p:spPr>
          <a:xfrm>
            <a:off x="1571760" y="4643280"/>
            <a:ext cx="7000920" cy="43200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связи слов в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2"/>
          <p:cNvSpPr/>
          <p:nvPr/>
        </p:nvSpPr>
        <p:spPr>
          <a:xfrm>
            <a:off x="1571760" y="5354640"/>
            <a:ext cx="7000920" cy="43164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орядка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1"/>
          <p:cNvSpPr/>
          <p:nvPr/>
        </p:nvSpPr>
        <p:spPr>
          <a:xfrm>
            <a:off x="857160" y="30718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1"/>
          <p:cNvSpPr/>
          <p:nvPr/>
        </p:nvSpPr>
        <p:spPr>
          <a:xfrm>
            <a:off x="857160" y="385776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1"/>
          <p:cNvSpPr/>
          <p:nvPr/>
        </p:nvSpPr>
        <p:spPr>
          <a:xfrm>
            <a:off x="857160" y="485784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1"/>
          <p:cNvSpPr/>
          <p:nvPr/>
        </p:nvSpPr>
        <p:spPr>
          <a:xfrm>
            <a:off x="857160" y="55720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3"/>
          <p:cNvSpPr/>
          <p:nvPr/>
        </p:nvSpPr>
        <p:spPr>
          <a:xfrm>
            <a:off x="1403280" y="22050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использованию компьютерных технологий на уроках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ые дидактические средства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00040" y="178596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выдерж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задач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кроссвор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таблиц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просмотры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Содержимое 2"/>
          <p:cNvSpPr/>
          <p:nvPr/>
        </p:nvSpPr>
        <p:spPr>
          <a:xfrm>
            <a:off x="428760" y="1928880"/>
            <a:ext cx="792468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20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6:14:41Z</dcterms:created>
  <dc:creator>Asus</dc:creator>
  <dc:description/>
  <dc:language>en-US</dc:language>
  <cp:lastModifiedBy>Наташа</cp:lastModifiedBy>
  <dcterms:modified xsi:type="dcterms:W3CDTF">2012-06-06T18:00:05Z</dcterms:modified>
  <cp:revision>185</cp:revision>
  <dc:subject/>
  <dc:title>ПРОВЕРКА СООТВЕТСТВИЯ БУХГАЛТЕРСКОЙ ОТЧЕТНОСТИ ТРЕОВАНИЯМ ДЕЙСТВУЮЩЕГО ЗАКОНАДАТЕЛЬСТВА</dc:title>
</cp:coreProperties>
</file>