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2B3-4693-45FE-95CA-AA972A37A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4D55-AC7B-4D6D-9E6C-C505C0499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430F-A4F2-456C-96AC-8F68C4B59D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6139-E147-4C6E-8088-F6C6EC513B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D31F-1A8C-4CE7-95F2-DA661C5858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6ED-F831-4BEF-B418-EEFA6C155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0A7D-CB97-46D2-B715-9F70142CB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848A-1585-4D18-9320-DD0604DDC3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1D39-6C62-4673-8359-D78AA60756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A31-BBE1-4EC2-9837-FCC3F37031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2E80-DFA2-48D1-A2FC-B4638E16D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9142-4840-4588-828E-76423F7767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9832-687B-4B5F-ADBE-FCD907FED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CECE-64CD-413C-8E86-DFFC3B475A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BB3-D01C-4B19-BD8B-F85C88A766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081-851B-4C60-8BF6-1B5C8C9CD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F463-7373-4A79-BF79-D61B57B993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F55B-3BC3-4A5D-ADFE-715DABF17E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757-B5E2-4A16-9693-AB73B1A0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97B-9CEA-4290-8211-98E84858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0DF-BBDE-40A1-8F28-2BE6D0AC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263-B815-40EA-BBB8-9305C047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B28-ADC4-4B0D-96A7-A5799E3C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3D34-2056-4913-807A-5AD480A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09E7-6093-4EC2-B321-55589F6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21AA-3E55-4278-80F4-367D58A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2F40-0F4A-498D-BF1E-8F3292C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76C6-2B65-4520-830E-C28DCA2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88A9-A09F-4275-B64F-66875C8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363-880E-4124-8C79-F0917D92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70B9-7E81-4554-9AA6-557FAD8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92A-2970-4FD7-A9F5-BF9B4C9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A3E-D3EF-44FD-81E3-FF8F91E1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256F-C5D2-4C75-A1B7-8B32901B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287D-F25F-4811-98A6-2D0595E4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892DD-4237-49D9-BA9E-C53EE281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B0D3C-170D-489D-8719-C4FAC8CF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FD9AA-96DA-4763-9DE6-78230F05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1EA98-DF1F-49B2-B151-ED612A0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A5052-EFB0-4055-96F6-FD4A407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ECD-4E49-4BE7-966F-72504D5C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DB962-206F-4124-9521-B43F085D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C4E60-3537-4A4E-AA48-3FA8FDD0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4B7F5-A1D7-42D5-9AC7-8D4806FF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DAF83-0B28-4871-8188-DF5443AE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84FE6-4BF1-4AFE-8094-6287DDB8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16484-C3ED-4A97-B7F9-67594017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AF874-3FCB-47E2-A17F-D05FF9CE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C2F8-A39D-40C1-A8B2-935FDFDB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EE34-8B33-4399-AA51-A5AAA9E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4C4F2-68CA-456D-B8B5-D230213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186-2A9C-43C3-A039-D8F40DE0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6C9B-E97E-4E52-9F9A-979E6121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ED6E-6751-4311-AEB1-10A874B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0456-8DCD-4E5B-830C-D1B9724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6F625-7FA1-4FC7-823E-DC7CC07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4D80-EAAF-441C-87F5-0BC0E14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0B38-F9DD-4FB1-A200-0E73329C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241C-4275-411E-9E8A-0D9E469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7157-E0AC-469D-A5BA-376757EA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F953A-A13B-46D3-A8D7-1AC1E806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050DB-C145-470C-9D38-51791A07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60D-8CA6-4039-9590-683B2C4E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91C6D-77AA-43DF-B33D-7400723D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BFD74-75B5-44FE-B692-48C4074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DB6CC-505D-481B-B9E7-F0C04A08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7AD32-4C1F-4FF4-AF31-60E7B0A3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31E83-970B-4C47-8B81-43EF8E42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9BD5D-5025-4354-A564-429C3D8E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0F8FA-1AAC-4FF0-B264-EB67982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E0FFD-399F-4E1C-8FB1-6FC6A5A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9218E-7B1A-43F9-A078-AC0476F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4F556-6862-44DF-8BC5-5F7C5417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8A5-3191-4DA0-9E14-7F0B0DF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F3308-7C70-49A3-BE7A-F8708D12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40B47-65B2-47A5-B13D-11DC6F63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A1C88-A821-410F-AAB8-6D58E681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2390A-93D9-4DEB-B9C3-C215146D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DFDFF-5C3A-4C52-8644-8E680E0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9DC89-A303-4334-9A19-FADCA16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96835-C45E-4E36-9772-4B953CC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213511-6D88-48FC-A892-8BF8853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6361A-CA8E-4205-8C00-1B94102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DFE3A-8FB4-4E2C-AC60-C5FB6BA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ABC-872D-425E-8FF7-224D663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B0EC5-F17A-4BE6-9B95-FF7B134F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0C316-FE3E-43E3-86CB-D31AF0EE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ECBC1-3B9E-4AEF-BD35-8C9933E6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DCBE3-D26F-4959-A223-632CE20E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6222D-D623-4628-A656-AAE51AE1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99465-0C49-4BBD-8539-07667718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7CFDF-6803-40FE-9BA4-9052642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078FA-8A27-4094-9E69-24847EB0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81CDD-CBEA-44AC-98E4-1BF35E1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5F3C2-7A8F-4CC1-B9A7-786B42F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3F9-3E13-4D25-94ED-D5B6C89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09D52-F695-4955-9292-9FB9BD9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FF1AE-638B-4738-802F-BE78119E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CFDD7-1CAB-4A01-B2A4-617CA1D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3A4AD-322B-47A3-9358-187B3082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27498-9058-44A7-8284-1590AE80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781-620E-427E-BB08-9F52BC9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642E-FD41-46A4-9EE1-4260AD4AA6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0454-D3C0-4AC2-A897-A562C5AFB2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F042-EE7E-43B2-89CB-A0C04A65FD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3420-846E-496A-9CCB-93AD78F420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18CC-9EC6-468A-85BB-69D3E17F19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BFF-8D39-4154-85DA-D0EFEEF657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99C7-D2A5-4B1F-B7BE-F94FD0746C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986520" cy="3042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203640" y="4869000"/>
            <a:ext cx="518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BatangChe"/>
              </a:rPr>
              <a:t>Выполнил учитель химии-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BatangChe"/>
              </a:rPr>
              <a:t>Зюзина Татьян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2" descr=""/>
          <p:cNvPicPr/>
          <p:nvPr/>
        </p:nvPicPr>
        <p:blipFill>
          <a:blip r:embed="rId2"/>
          <a:stretch/>
        </p:blipFill>
        <p:spPr>
          <a:xfrm>
            <a:off x="420840" y="1511280"/>
            <a:ext cx="7619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Содержимое 2" descr=""/>
          <p:cNvPicPr/>
          <p:nvPr/>
        </p:nvPicPr>
        <p:blipFill>
          <a:blip r:embed="rId2"/>
          <a:stretch/>
        </p:blipFill>
        <p:spPr>
          <a:xfrm>
            <a:off x="463680" y="1517760"/>
            <a:ext cx="7510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2" descr=""/>
          <p:cNvPicPr/>
          <p:nvPr/>
        </p:nvPicPr>
        <p:blipFill>
          <a:blip r:embed="rId2"/>
          <a:stretch/>
        </p:blipFill>
        <p:spPr>
          <a:xfrm>
            <a:off x="426960" y="1547640"/>
            <a:ext cx="76312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Содержимое 5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7505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6" descr=""/>
          <p:cNvPicPr/>
          <p:nvPr/>
        </p:nvPicPr>
        <p:blipFill>
          <a:blip r:embed="rId2"/>
          <a:stretch/>
        </p:blipFill>
        <p:spPr>
          <a:xfrm>
            <a:off x="438120" y="1596960"/>
            <a:ext cx="75056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748044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Содержимое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7480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480440" cy="725760"/>
          </a:xfrm>
          <a:prstGeom prst="rect">
            <a:avLst/>
          </a:prstGeom>
          <a:ln w="0">
            <a:noFill/>
          </a:ln>
        </p:spPr>
      </p:pic>
      <p:pic>
        <p:nvPicPr>
          <p:cNvPr id="390" name="Содержимое 3" descr=""/>
          <p:cNvPicPr/>
          <p:nvPr/>
        </p:nvPicPr>
        <p:blipFill>
          <a:blip r:embed="rId2"/>
          <a:stretch/>
        </p:blipFill>
        <p:spPr>
          <a:xfrm>
            <a:off x="212760" y="712800"/>
            <a:ext cx="857736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48044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Содержимое 4" descr=""/>
          <p:cNvPicPr/>
          <p:nvPr/>
        </p:nvPicPr>
        <p:blipFill>
          <a:blip r:embed="rId2"/>
          <a:stretch/>
        </p:blipFill>
        <p:spPr>
          <a:xfrm>
            <a:off x="384120" y="1511280"/>
            <a:ext cx="754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extBox 1" descr=""/>
          <p:cNvPicPr/>
          <p:nvPr/>
        </p:nvPicPr>
        <p:blipFill>
          <a:blip r:embed="rId1"/>
          <a:stretch/>
        </p:blipFill>
        <p:spPr>
          <a:xfrm>
            <a:off x="158760" y="433440"/>
            <a:ext cx="8613720" cy="274788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3" descr=""/>
          <p:cNvPicPr/>
          <p:nvPr/>
        </p:nvPicPr>
        <p:blipFill>
          <a:blip r:embed="rId2"/>
          <a:stretch/>
        </p:blipFill>
        <p:spPr>
          <a:xfrm>
            <a:off x="42840" y="2876400"/>
            <a:ext cx="9028080" cy="310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93560" y="146160"/>
            <a:ext cx="7480440" cy="128592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"/>
          <p:cNvPicPr/>
          <p:nvPr/>
        </p:nvPicPr>
        <p:blipFill>
          <a:blip r:embed="rId2"/>
          <a:stretch/>
        </p:blipFill>
        <p:spPr>
          <a:xfrm>
            <a:off x="438120" y="1584360"/>
            <a:ext cx="7505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7650360" cy="87804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"/>
          <p:cNvPicPr/>
          <p:nvPr/>
        </p:nvPicPr>
        <p:blipFill>
          <a:blip r:embed="rId2"/>
          <a:stretch/>
        </p:blipFill>
        <p:spPr>
          <a:xfrm>
            <a:off x="420840" y="1268280"/>
            <a:ext cx="748008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480440" cy="116496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4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74804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480440" cy="116496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5" descr=""/>
          <p:cNvPicPr/>
          <p:nvPr/>
        </p:nvPicPr>
        <p:blipFill>
          <a:blip r:embed="rId2"/>
          <a:stretch/>
        </p:blipFill>
        <p:spPr>
          <a:xfrm>
            <a:off x="360360" y="1566720"/>
            <a:ext cx="5381640" cy="4913280"/>
          </a:xfrm>
          <a:prstGeom prst="rect">
            <a:avLst/>
          </a:prstGeom>
          <a:ln w="0">
            <a:noFill/>
          </a:ln>
        </p:spPr>
      </p:pic>
      <p:pic>
        <p:nvPicPr>
          <p:cNvPr id="370" name="TextBox 6" descr=""/>
          <p:cNvPicPr/>
          <p:nvPr/>
        </p:nvPicPr>
        <p:blipFill>
          <a:blip r:embed="rId3"/>
          <a:stretch/>
        </p:blipFill>
        <p:spPr>
          <a:xfrm>
            <a:off x="5761080" y="2951280"/>
            <a:ext cx="29620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7480440" cy="116496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6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7480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7632720" cy="1433520"/>
          </a:xfrm>
          <a:prstGeom prst="rect">
            <a:avLst/>
          </a:prstGeom>
          <a:ln w="0">
            <a:noFill/>
          </a:ln>
        </p:spPr>
      </p:pic>
      <p:pic>
        <p:nvPicPr>
          <p:cNvPr id="374" name="Содержимое 2" descr=""/>
          <p:cNvPicPr/>
          <p:nvPr/>
        </p:nvPicPr>
        <p:blipFill>
          <a:blip r:embed="rId2"/>
          <a:stretch/>
        </p:blipFill>
        <p:spPr>
          <a:xfrm>
            <a:off x="426960" y="1547640"/>
            <a:ext cx="7504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73836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2" descr=""/>
          <p:cNvPicPr/>
          <p:nvPr/>
        </p:nvPicPr>
        <p:blipFill>
          <a:blip r:embed="rId2"/>
          <a:stretch/>
        </p:blipFill>
        <p:spPr>
          <a:xfrm>
            <a:off x="450720" y="1090440"/>
            <a:ext cx="74804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34:58Z</dcterms:created>
  <dc:creator>User</dc:creator>
  <dc:description/>
  <dc:language>en-US</dc:language>
  <cp:lastModifiedBy>таня</cp:lastModifiedBy>
  <dcterms:modified xsi:type="dcterms:W3CDTF">2012-10-26T09:09:50Z</dcterms:modified>
  <cp:revision>29</cp:revision>
  <dc:subject/>
  <dc:title>ВЫЗЫВАЮЩЕЕ ПОВЕДЕНИЕ ПОДРОСТКОВ</dc:title>
</cp:coreProperties>
</file>