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DE3D-9CBD-4236-A234-CB2B118B2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A255-006E-41CE-BAFF-2DF8E736C3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9D91-458B-46E5-ACBD-111957AD72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CEAD-0BD7-42F3-A890-4C731BB569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13BF-1349-4D09-A12C-B2C1BD9FE2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6CC9-DF95-4E7A-BBB5-1AE38901B0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A26-1D55-4094-AF4E-88542DCFD3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B29A-2760-4647-B842-C4498BAB3E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88DE-D326-4FE7-A1F6-9B51F2C772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9776-5921-442B-975A-CF6392981B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4F24-C49A-424A-9B9F-6426235B4B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878D-B512-4F8D-98F7-DCE23E23A8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6A84-885C-4381-9910-0E144ADD76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A9E3-266F-45E9-AF03-51BC4F5829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8C5-7819-491B-936B-9D37E40F92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D383-87E9-464B-AF8D-D527CCF09F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FA0D-C06F-450D-A170-43B05505D5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972B-3710-43C8-8F33-AF909015A0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122-2BF0-401C-8496-02A304A7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443-4101-4BDE-9059-3947D06E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208-0290-4D35-B45A-114A604E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63B-AA1A-4F05-8657-D605442D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93C3-4B68-4BF1-952A-6F8DFACF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D540-C208-411C-BF19-9E411755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E063-C820-4046-BB10-FF5CEE6F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8F18-5837-4D0C-9049-7E65E383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9C52-A1EE-448F-AAB6-0B4A1EB9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6B03-97F3-49D0-9035-343D95BA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5C38-E40C-4939-98AD-38D0234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3E3-DCC7-45B0-96A4-552CCEA5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BE78-5503-40C5-AD44-1058BBFC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1772-3F5B-4123-B137-9519DF3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E095-2B27-4ABD-B62D-B80FAE39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2DE1-6BB1-49FC-BDDE-175CA53C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31BD-4122-49E3-A7C5-47FD3981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478D3-7309-44C6-B6C9-D0588F7D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DB4A3-7B32-411A-BD9D-9F3DF4FB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9272C-2283-43C8-818C-62E0FACA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69B86-8986-49FF-B484-E5D0CDDD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089CA-4721-468B-B4DE-A3DE29E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C56-635D-4109-9783-6F64C57C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7FE98-F5B2-49A6-A1D8-A53437C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8F9EE-9F4D-44A3-9B84-56ED3F1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0B378-4CD5-4AA6-A3CF-ED3A292E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F12EF-802D-4C3D-A9A0-AE43602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A2901-627B-4D20-B225-10A95445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C80F5-24C9-4EC8-9F6E-6493E603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F75D1-CA41-4E18-8EDF-817A948A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8F10-7577-4661-AAD7-86E8031C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F1DF-2E83-4961-897B-5362FF2E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B2AF-0649-47B3-999E-613D5368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DB8-6283-406A-9541-B0302C01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6665-DB51-471D-A0C2-9DF2D7B7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68B69-7DAD-48F0-A722-95828D0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E778-272A-4EE4-916C-3A978E59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4E5A-72CB-46D1-82D9-FC51560D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C54F-0F8A-4707-8C40-54BF850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03E29-408A-4446-9EFF-6C4DD898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5286-EB6D-464B-8322-81598077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8C17-615D-49AA-BE93-4058D5B3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D0A9F-7EFC-4CDE-B653-8D0941EB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5C7B7-9166-4B92-B400-1E09C8EF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6DB-1E49-4D8A-9A09-AB11E619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F14B3-B14B-4564-A19F-A83C235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FE310-78C4-45A9-9D5C-E177C2B9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C11DE-980D-4754-838F-32B7A70B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9D9CC-DEE0-4304-A604-0184796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5AD2E-AB30-4ED4-BC4A-068AB7F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D7A49-6A4B-4FCD-A027-37AD22F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5A679-AFE9-4CF9-AF83-A29B05A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277C2-98AF-4E18-A555-C004475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D4860-B5F8-4522-93EA-F830F6CD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E37A2-E56D-4316-BA0C-6ECB3D1D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458-B832-466B-92CF-D21867E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E7F3A-D520-41FC-A40C-E7BF94F9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69B07-37C0-4EF1-A3FF-4937B9CE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C14A5-6081-4422-AC6B-7D0F2AC4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06057-515C-40A5-AEA7-704F7DD2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E07A1-5A15-4843-BF93-91436989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3C0C1-2EFC-4B38-AE41-6441389B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C542E-B1B2-461B-BED3-DDB2D8DB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BF8FE-B1A3-4B95-80DE-75E57DF7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75940-5477-4B0C-84AE-4FF26B9C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26B0C-0572-4411-93F1-F8045483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19D-354A-4810-83A2-E53881C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8CAE2-D6D2-4CAA-91C7-1F128ECA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55C87-99C1-4E2C-ADEF-414F0A92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FCFFA-4B48-4496-8568-37D65284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ABC23-9CC1-446C-A116-43AB78FF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FCEA5-7FDA-4E29-9332-797D25C6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D11EA-FC5E-4467-BB16-9EF4941A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FCD6F-E7A5-4662-981C-B9E7FA83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E9B7F2-3C8C-4F31-A346-319D54C5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90EB9-727D-40C1-930D-67C21EF4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45E30-FB75-467B-A5D8-FAF91A1A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0D5-8FF8-47AC-93A8-9EAD021E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7FE22-8EF5-4317-AE43-21502F09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77A28-34D7-429E-91A9-027E8C6E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3E979-A442-4F23-99EE-4547F8C2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D3C14-FB65-4413-9419-C3D3BE71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B23CC-AEAE-4719-9D5A-3A18CF42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075-B4E4-4CBD-83C4-B006E17E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B108-8083-4A40-B2E1-7EEBDB54E7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FEB0-B11C-43FA-AD48-FA086313818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5C7E-F0B0-4B57-9F8A-1220E31E70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6FD2-ABD9-4F1F-BB50-2F1E13EA25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1F40-092A-4176-848C-1D2D60EBD9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0C8C-6800-4D26-A013-667928DBA4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41A8-F376-4935-AEFE-AAE738C15A9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6986520" cy="3042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203640" y="4869000"/>
            <a:ext cx="5180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BatangChe"/>
              </a:rPr>
              <a:t>Выполнил учитель химии-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BatangChe"/>
              </a:rPr>
              <a:t>Зюзина Татьян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2" descr=""/>
          <p:cNvPicPr/>
          <p:nvPr/>
        </p:nvPicPr>
        <p:blipFill>
          <a:blip r:embed="rId2"/>
          <a:stretch/>
        </p:blipFill>
        <p:spPr>
          <a:xfrm>
            <a:off x="420840" y="1511280"/>
            <a:ext cx="76197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Содержимое 2" descr=""/>
          <p:cNvPicPr/>
          <p:nvPr/>
        </p:nvPicPr>
        <p:blipFill>
          <a:blip r:embed="rId2"/>
          <a:stretch/>
        </p:blipFill>
        <p:spPr>
          <a:xfrm>
            <a:off x="463680" y="1517760"/>
            <a:ext cx="75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2" descr=""/>
          <p:cNvPicPr/>
          <p:nvPr/>
        </p:nvPicPr>
        <p:blipFill>
          <a:blip r:embed="rId2"/>
          <a:stretch/>
        </p:blipFill>
        <p:spPr>
          <a:xfrm>
            <a:off x="426960" y="1547640"/>
            <a:ext cx="76312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Содержимое 5" descr=""/>
          <p:cNvPicPr/>
          <p:nvPr/>
        </p:nvPicPr>
        <p:blipFill>
          <a:blip r:embed="rId2"/>
          <a:stretch/>
        </p:blipFill>
        <p:spPr>
          <a:xfrm>
            <a:off x="438120" y="1596960"/>
            <a:ext cx="75056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Содержимое 6" descr=""/>
          <p:cNvPicPr/>
          <p:nvPr/>
        </p:nvPicPr>
        <p:blipFill>
          <a:blip r:embed="rId2"/>
          <a:stretch/>
        </p:blipFill>
        <p:spPr>
          <a:xfrm>
            <a:off x="438120" y="1596960"/>
            <a:ext cx="75056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748044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Содержимое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74804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480440" cy="725760"/>
          </a:xfrm>
          <a:prstGeom prst="rect">
            <a:avLst/>
          </a:prstGeom>
          <a:ln w="0">
            <a:noFill/>
          </a:ln>
        </p:spPr>
      </p:pic>
      <p:pic>
        <p:nvPicPr>
          <p:cNvPr id="390" name="Содержимое 3" descr=""/>
          <p:cNvPicPr/>
          <p:nvPr/>
        </p:nvPicPr>
        <p:blipFill>
          <a:blip r:embed="rId2"/>
          <a:stretch/>
        </p:blipFill>
        <p:spPr>
          <a:xfrm>
            <a:off x="212760" y="712800"/>
            <a:ext cx="857736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Содержимое 4" descr=""/>
          <p:cNvPicPr/>
          <p:nvPr/>
        </p:nvPicPr>
        <p:blipFill>
          <a:blip r:embed="rId2"/>
          <a:stretch/>
        </p:blipFill>
        <p:spPr>
          <a:xfrm>
            <a:off x="384120" y="1511280"/>
            <a:ext cx="754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extBox 1" descr=""/>
          <p:cNvPicPr/>
          <p:nvPr/>
        </p:nvPicPr>
        <p:blipFill>
          <a:blip r:embed="rId1"/>
          <a:stretch/>
        </p:blipFill>
        <p:spPr>
          <a:xfrm>
            <a:off x="158760" y="433440"/>
            <a:ext cx="8613720" cy="274788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3" descr=""/>
          <p:cNvPicPr/>
          <p:nvPr/>
        </p:nvPicPr>
        <p:blipFill>
          <a:blip r:embed="rId2"/>
          <a:stretch/>
        </p:blipFill>
        <p:spPr>
          <a:xfrm>
            <a:off x="42840" y="2876400"/>
            <a:ext cx="9028080" cy="310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93560" y="146160"/>
            <a:ext cx="7480440" cy="128592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"/>
          <p:cNvPicPr/>
          <p:nvPr/>
        </p:nvPicPr>
        <p:blipFill>
          <a:blip r:embed="rId2"/>
          <a:stretch/>
        </p:blipFill>
        <p:spPr>
          <a:xfrm>
            <a:off x="438120" y="1584360"/>
            <a:ext cx="75056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7650360" cy="87804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3" descr=""/>
          <p:cNvPicPr/>
          <p:nvPr/>
        </p:nvPicPr>
        <p:blipFill>
          <a:blip r:embed="rId2"/>
          <a:stretch/>
        </p:blipFill>
        <p:spPr>
          <a:xfrm>
            <a:off x="420840" y="1268280"/>
            <a:ext cx="748008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7480440" cy="116496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74804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7480440" cy="1164960"/>
          </a:xfrm>
          <a:prstGeom prst="rect">
            <a:avLst/>
          </a:prstGeom>
          <a:ln w="0">
            <a:noFill/>
          </a:ln>
        </p:spPr>
      </p:pic>
      <p:pic>
        <p:nvPicPr>
          <p:cNvPr id="369" name="Содержимое 5" descr=""/>
          <p:cNvPicPr/>
          <p:nvPr/>
        </p:nvPicPr>
        <p:blipFill>
          <a:blip r:embed="rId2"/>
          <a:stretch/>
        </p:blipFill>
        <p:spPr>
          <a:xfrm>
            <a:off x="360360" y="1566720"/>
            <a:ext cx="5381640" cy="4913280"/>
          </a:xfrm>
          <a:prstGeom prst="rect">
            <a:avLst/>
          </a:prstGeom>
          <a:ln w="0">
            <a:noFill/>
          </a:ln>
        </p:spPr>
      </p:pic>
      <p:pic>
        <p:nvPicPr>
          <p:cNvPr id="370" name="TextBox 6" descr=""/>
          <p:cNvPicPr/>
          <p:nvPr/>
        </p:nvPicPr>
        <p:blipFill>
          <a:blip r:embed="rId3"/>
          <a:stretch/>
        </p:blipFill>
        <p:spPr>
          <a:xfrm>
            <a:off x="5761080" y="2951280"/>
            <a:ext cx="29620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7480440" cy="1164960"/>
          </a:xfrm>
          <a:prstGeom prst="rect">
            <a:avLst/>
          </a:prstGeom>
          <a:ln w="0">
            <a:noFill/>
          </a:ln>
        </p:spPr>
      </p:pic>
      <p:pic>
        <p:nvPicPr>
          <p:cNvPr id="372" name="Содержимое 6" descr=""/>
          <p:cNvPicPr/>
          <p:nvPr/>
        </p:nvPicPr>
        <p:blipFill>
          <a:blip r:embed="rId2"/>
          <a:stretch/>
        </p:blipFill>
        <p:spPr>
          <a:xfrm>
            <a:off x="450720" y="1474920"/>
            <a:ext cx="7480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7632720" cy="1433520"/>
          </a:xfrm>
          <a:prstGeom prst="rect">
            <a:avLst/>
          </a:prstGeom>
          <a:ln w="0">
            <a:noFill/>
          </a:ln>
        </p:spPr>
      </p:pic>
      <p:pic>
        <p:nvPicPr>
          <p:cNvPr id="374" name="Содержимое 2" descr=""/>
          <p:cNvPicPr/>
          <p:nvPr/>
        </p:nvPicPr>
        <p:blipFill>
          <a:blip r:embed="rId2"/>
          <a:stretch/>
        </p:blipFill>
        <p:spPr>
          <a:xfrm>
            <a:off x="426960" y="1547640"/>
            <a:ext cx="7504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7632720" cy="738360"/>
          </a:xfrm>
          <a:prstGeom prst="rect">
            <a:avLst/>
          </a:prstGeom>
          <a:ln w="0">
            <a:noFill/>
          </a:ln>
        </p:spPr>
      </p:pic>
      <p:pic>
        <p:nvPicPr>
          <p:cNvPr id="376" name="Содержимое 2" descr=""/>
          <p:cNvPicPr/>
          <p:nvPr/>
        </p:nvPicPr>
        <p:blipFill>
          <a:blip r:embed="rId2"/>
          <a:stretch/>
        </p:blipFill>
        <p:spPr>
          <a:xfrm>
            <a:off x="450720" y="1090440"/>
            <a:ext cx="74804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34:58Z</dcterms:created>
  <dc:creator>User</dc:creator>
  <dc:description/>
  <dc:language>en-US</dc:language>
  <cp:lastModifiedBy>таня</cp:lastModifiedBy>
  <dcterms:modified xsi:type="dcterms:W3CDTF">2012-10-26T09:09:50Z</dcterms:modified>
  <cp:revision>29</cp:revision>
  <dc:subject/>
  <dc:title>ВЫЗЫВАЮЩЕЕ ПОВЕДЕНИЕ ПОДРОСТКОВ</dc:title>
</cp:coreProperties>
</file>