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C4E-B1D0-4459-AD75-9301232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A63-45B2-4D96-A6ED-883FEC9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91A-DE14-4CCF-992F-375840F8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A74-CAFD-474E-B1F5-67AC2319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0A0-7C4B-41A4-BD4C-45E1D03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0AF-C671-437E-9FD3-DF3122FC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287-46FA-467B-95A7-60AFD40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228-D324-4889-A930-3A76D263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399-C958-45D4-9724-D07A1E4D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405-37F0-4221-B4BA-3523961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CBB-312C-455D-8892-49E9694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789-3EFC-481C-AA32-A022FED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8D8E-A1EF-4F74-B273-AE39D6B7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ы к урокам по Петру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835280" y="260280"/>
            <a:ext cx="518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ей Михайлович (1645-1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9280" y="1557360"/>
            <a:ext cx="309744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ия Милосла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724360" y="1628640"/>
            <a:ext cx="309564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алья Нары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9280" y="2708280"/>
            <a:ext cx="129708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ёд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63640" y="2708280"/>
            <a:ext cx="122400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276720" y="2708280"/>
            <a:ext cx="122400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732720" y="2708280"/>
            <a:ext cx="1295280" cy="1297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00720" y="4653000"/>
            <a:ext cx="251928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ствовали в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168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 rot="2380200">
            <a:off x="1952280" y="78120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19620000">
            <a:off x="6137280" y="77004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755640" y="2205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2268360" y="220500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 rot="19105200">
            <a:off x="3564000" y="2060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7308720" y="227664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9395000">
            <a:off x="4284360" y="407628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 rot="2317800">
            <a:off x="6587640" y="4076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250920" y="4508640"/>
            <a:ext cx="1368360" cy="1081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ств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76-1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835280" y="4508640"/>
            <a:ext cx="1296720" cy="1081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1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/>
          <p:cNvSpPr/>
          <p:nvPr/>
        </p:nvSpPr>
        <p:spPr>
          <a:xfrm>
            <a:off x="755640" y="4005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2195640" y="4005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3348000" y="404640"/>
            <a:ext cx="3024360" cy="360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нимание Соф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732720" y="333360"/>
            <a:ext cx="2232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н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остран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95280" y="333360"/>
            <a:ext cx="2592360" cy="1079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лецкое восс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635280" y="1628640"/>
            <a:ext cx="2376720" cy="505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708360" y="2924280"/>
            <a:ext cx="2376360" cy="433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50920" y="2708280"/>
            <a:ext cx="302580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лечение нау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м и мор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227640" y="2708280"/>
            <a:ext cx="273708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 и ненависть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им поряд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2843280" y="4581360"/>
            <a:ext cx="4392720" cy="1368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89 год – свержение Софь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 единоличны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443640" y="62064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716360" y="836640"/>
            <a:ext cx="142920" cy="792000"/>
          </a:xfrm>
          <a:prstGeom prst="downArrow">
            <a:avLst>
              <a:gd name="adj1" fmla="val 50000"/>
              <a:gd name="adj2" fmla="val 13853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 rot="1475400">
            <a:off x="2692440" y="1514160"/>
            <a:ext cx="934920" cy="288720"/>
          </a:xfrm>
          <a:prstGeom prst="rightArrow">
            <a:avLst>
              <a:gd name="adj1" fmla="val 50000"/>
              <a:gd name="adj2" fmla="val 809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 rot="19926600">
            <a:off x="6084360" y="1483920"/>
            <a:ext cx="935280" cy="289080"/>
          </a:xfrm>
          <a:prstGeom prst="leftArrow">
            <a:avLst>
              <a:gd name="adj1" fmla="val 50000"/>
              <a:gd name="adj2" fmla="val 8088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 rot="19298400">
            <a:off x="3015720" y="2289240"/>
            <a:ext cx="792360" cy="216000"/>
          </a:xfrm>
          <a:prstGeom prst="leftArrow">
            <a:avLst>
              <a:gd name="adj1" fmla="val 50000"/>
              <a:gd name="adj2" fmla="val 9170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 rot="1797000">
            <a:off x="6006600" y="2270160"/>
            <a:ext cx="863640" cy="198360"/>
          </a:xfrm>
          <a:prstGeom prst="rightArrow">
            <a:avLst>
              <a:gd name="adj1" fmla="val 50000"/>
              <a:gd name="adj2" fmla="val 10884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4716360" y="227664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6"/>
          <p:cNvSpPr/>
          <p:nvPr/>
        </p:nvSpPr>
        <p:spPr>
          <a:xfrm rot="2230200">
            <a:off x="2781000" y="3825360"/>
            <a:ext cx="1535040" cy="360360"/>
          </a:xfrm>
          <a:prstGeom prst="rightArrow">
            <a:avLst>
              <a:gd name="adj1" fmla="val 50000"/>
              <a:gd name="adj2" fmla="val 10649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 rot="18866400">
            <a:off x="5631840" y="3815280"/>
            <a:ext cx="1422360" cy="360360"/>
          </a:xfrm>
          <a:prstGeom prst="leftArrow">
            <a:avLst>
              <a:gd name="adj1" fmla="val 50000"/>
              <a:gd name="adj2" fmla="val 986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4716360" y="342900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340000" y="333360"/>
            <a:ext cx="41767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 – единоличны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и с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340000" y="1628640"/>
            <a:ext cx="424800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ездки по стране, плавань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ому морю 169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411280" y="3068640"/>
            <a:ext cx="417672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зовские походы (1695, 16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19640" y="4005360"/>
            <a:ext cx="216036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о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97 – 16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372360" y="4005360"/>
            <a:ext cx="230328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лец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стание (16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95280" y="3933720"/>
            <a:ext cx="2448000" cy="935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юзники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ны со Шве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492360" y="5516640"/>
            <a:ext cx="208764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516720" y="5445000"/>
            <a:ext cx="223200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– «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лан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4356000" y="119700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4427640" y="256536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500720" y="3573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2916360" y="436572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5867280" y="44370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4500720" y="4941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19283400">
            <a:off x="5649480" y="5036760"/>
            <a:ext cx="863640" cy="324000"/>
          </a:xfrm>
          <a:prstGeom prst="leftArrow">
            <a:avLst>
              <a:gd name="adj1" fmla="val 50000"/>
              <a:gd name="adj2" fmla="val 6663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5724360" y="5805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17:35Z</dcterms:created>
  <dc:creator>Customer</dc:creator>
  <dc:description/>
  <dc:language>en-US</dc:language>
  <cp:lastModifiedBy>1</cp:lastModifiedBy>
  <dcterms:modified xsi:type="dcterms:W3CDTF">2012-10-19T09:39:41Z</dcterms:modified>
  <cp:revision>4</cp:revision>
  <dc:subject/>
  <dc:title>Слайд 1</dc:title>
</cp:coreProperties>
</file>