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138-D348-428C-90E3-38F219A7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466-4087-4FBA-9BC6-1DBD8979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69A-67B6-4550-9EF9-D590598B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08D-1CBA-4A4C-9E82-6EF29E03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769-2449-4A49-BB0C-AF3FD6CF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9E5-6C25-470A-B3CC-1A7A0325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811-BDAE-4D68-83FD-EF3CDF36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BBD-B95A-486C-8687-032D917E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E5F-455C-4ED5-B770-E8963C2F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78F-095C-4842-9F2C-6CCF0598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56D-F43A-47B7-99C6-DA5CDA05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998-436C-42BC-B64F-7207EC8C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18AC-3316-4326-89D6-22992A5EA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ы к урокам по Петру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835280" y="260280"/>
            <a:ext cx="5184720" cy="504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ексей Михайлович (1645-16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79280" y="1557360"/>
            <a:ext cx="309744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рия Милосла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724360" y="1628640"/>
            <a:ext cx="3095640" cy="576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талья Нары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79280" y="2708280"/>
            <a:ext cx="1297080" cy="1225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ёд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763640" y="2708280"/>
            <a:ext cx="1224000" cy="1225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ф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276720" y="2708280"/>
            <a:ext cx="1224000" cy="1225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6732720" y="2708280"/>
            <a:ext cx="1295280" cy="1297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00720" y="4653000"/>
            <a:ext cx="2519280" cy="79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арствовали в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168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 rot="2380200">
            <a:off x="1952280" y="781200"/>
            <a:ext cx="431640" cy="792000"/>
          </a:xfrm>
          <a:prstGeom prst="downArrow">
            <a:avLst>
              <a:gd name="adj1" fmla="val 50000"/>
              <a:gd name="adj2" fmla="val 4587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 rot="19620000">
            <a:off x="6137280" y="770040"/>
            <a:ext cx="431640" cy="792000"/>
          </a:xfrm>
          <a:prstGeom prst="downArrow">
            <a:avLst>
              <a:gd name="adj1" fmla="val 50000"/>
              <a:gd name="adj2" fmla="val 4587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755640" y="220500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2268360" y="2205000"/>
            <a:ext cx="358920" cy="432000"/>
          </a:xfrm>
          <a:prstGeom prst="downArrow">
            <a:avLst>
              <a:gd name="adj1" fmla="val 50000"/>
              <a:gd name="adj2" fmla="val 3009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 rot="19105200">
            <a:off x="3564000" y="2060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7308720" y="2276640"/>
            <a:ext cx="358920" cy="360360"/>
          </a:xfrm>
          <a:prstGeom prst="downArrow">
            <a:avLst>
              <a:gd name="adj1" fmla="val 50000"/>
              <a:gd name="adj2" fmla="val 251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 rot="19395000">
            <a:off x="4284360" y="4076280"/>
            <a:ext cx="358560" cy="576360"/>
          </a:xfrm>
          <a:prstGeom prst="downArrow">
            <a:avLst>
              <a:gd name="adj1" fmla="val 50000"/>
              <a:gd name="adj2" fmla="val 4018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0"/>
          <p:cNvSpPr/>
          <p:nvPr/>
        </p:nvSpPr>
        <p:spPr>
          <a:xfrm rot="2317800">
            <a:off x="6587640" y="4076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250920" y="4508640"/>
            <a:ext cx="1368360" cy="1081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арство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76-1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1835280" y="4508640"/>
            <a:ext cx="1296720" cy="1081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1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3"/>
          <p:cNvSpPr/>
          <p:nvPr/>
        </p:nvSpPr>
        <p:spPr>
          <a:xfrm>
            <a:off x="755640" y="400536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2195640" y="400536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3348000" y="404640"/>
            <a:ext cx="3024360" cy="360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внимание Соф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6732720" y="333360"/>
            <a:ext cx="2232000" cy="1008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ени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остран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95280" y="333360"/>
            <a:ext cx="2592360" cy="1079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елецкое восс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8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635280" y="1628640"/>
            <a:ext cx="2376720" cy="505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т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708360" y="2924280"/>
            <a:ext cx="2376360" cy="433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250920" y="2708280"/>
            <a:ext cx="3025800" cy="79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лечение наук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ым и морс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6227640" y="2708280"/>
            <a:ext cx="2737080" cy="79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 и ненависть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йским поряд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2843280" y="4581360"/>
            <a:ext cx="4392720" cy="1368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89 год – свержение Софь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тр 1 единоличный прав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6443640" y="62064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4716360" y="836640"/>
            <a:ext cx="142920" cy="792000"/>
          </a:xfrm>
          <a:prstGeom prst="downArrow">
            <a:avLst>
              <a:gd name="adj1" fmla="val 50000"/>
              <a:gd name="adj2" fmla="val 138539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1"/>
          <p:cNvSpPr/>
          <p:nvPr/>
        </p:nvSpPr>
        <p:spPr>
          <a:xfrm rot="1475400">
            <a:off x="2692440" y="1514160"/>
            <a:ext cx="934920" cy="288720"/>
          </a:xfrm>
          <a:prstGeom prst="rightArrow">
            <a:avLst>
              <a:gd name="adj1" fmla="val 50000"/>
              <a:gd name="adj2" fmla="val 8095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 rot="19926600">
            <a:off x="6084360" y="1483920"/>
            <a:ext cx="935280" cy="289080"/>
          </a:xfrm>
          <a:prstGeom prst="leftArrow">
            <a:avLst>
              <a:gd name="adj1" fmla="val 50000"/>
              <a:gd name="adj2" fmla="val 8088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 rot="19298400">
            <a:off x="3015720" y="2289240"/>
            <a:ext cx="792360" cy="216000"/>
          </a:xfrm>
          <a:prstGeom prst="leftArrow">
            <a:avLst>
              <a:gd name="adj1" fmla="val 50000"/>
              <a:gd name="adj2" fmla="val 9170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4"/>
          <p:cNvSpPr/>
          <p:nvPr/>
        </p:nvSpPr>
        <p:spPr>
          <a:xfrm rot="1797000">
            <a:off x="6006600" y="2270160"/>
            <a:ext cx="863640" cy="198360"/>
          </a:xfrm>
          <a:prstGeom prst="rightArrow">
            <a:avLst>
              <a:gd name="adj1" fmla="val 50000"/>
              <a:gd name="adj2" fmla="val 10884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5"/>
          <p:cNvSpPr/>
          <p:nvPr/>
        </p:nvSpPr>
        <p:spPr>
          <a:xfrm>
            <a:off x="4716360" y="227664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6"/>
          <p:cNvSpPr/>
          <p:nvPr/>
        </p:nvSpPr>
        <p:spPr>
          <a:xfrm rot="2230200">
            <a:off x="2781000" y="3825360"/>
            <a:ext cx="1535040" cy="360360"/>
          </a:xfrm>
          <a:prstGeom prst="rightArrow">
            <a:avLst>
              <a:gd name="adj1" fmla="val 50000"/>
              <a:gd name="adj2" fmla="val 106494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7"/>
          <p:cNvSpPr/>
          <p:nvPr/>
        </p:nvSpPr>
        <p:spPr>
          <a:xfrm rot="18866400">
            <a:off x="5631840" y="3815280"/>
            <a:ext cx="1422360" cy="360360"/>
          </a:xfrm>
          <a:prstGeom prst="leftArrow">
            <a:avLst>
              <a:gd name="adj1" fmla="val 50000"/>
              <a:gd name="adj2" fmla="val 9867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8"/>
          <p:cNvSpPr/>
          <p:nvPr/>
        </p:nvSpPr>
        <p:spPr>
          <a:xfrm>
            <a:off x="4716360" y="342900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340000" y="333360"/>
            <a:ext cx="4176720" cy="79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тр 1 – единоличный прав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и с 168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340000" y="1628640"/>
            <a:ext cx="4248000" cy="720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ездки по стране, плавань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лому морю 169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411280" y="3068640"/>
            <a:ext cx="4176720" cy="431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зовские походы (1695, 16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419640" y="4005360"/>
            <a:ext cx="216036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ли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о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697 – 16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6372360" y="4005360"/>
            <a:ext cx="2303280" cy="8636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елец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стание (16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395280" y="3933720"/>
            <a:ext cx="2448000" cy="935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юзники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ны со Шве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492360" y="5516640"/>
            <a:ext cx="2087640" cy="649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6516720" y="5445000"/>
            <a:ext cx="2232000" cy="72072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я – «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ллан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4356000" y="119700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4427640" y="256536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500720" y="357336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5"/>
          <p:cNvSpPr/>
          <p:nvPr/>
        </p:nvSpPr>
        <p:spPr>
          <a:xfrm>
            <a:off x="2916360" y="436572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5867280" y="4437000"/>
            <a:ext cx="505080" cy="216000"/>
          </a:xfrm>
          <a:prstGeom prst="rightArrow">
            <a:avLst>
              <a:gd name="adj1" fmla="val 50000"/>
              <a:gd name="adj2" fmla="val 584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4500720" y="4941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 rot="19283400">
            <a:off x="5649480" y="5036760"/>
            <a:ext cx="863640" cy="324000"/>
          </a:xfrm>
          <a:prstGeom prst="leftArrow">
            <a:avLst>
              <a:gd name="adj1" fmla="val 50000"/>
              <a:gd name="adj2" fmla="val 66639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>
            <a:off x="5724360" y="580536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17:35Z</dcterms:created>
  <dc:creator>Customer</dc:creator>
  <dc:description/>
  <dc:language>en-US</dc:language>
  <cp:lastModifiedBy>1</cp:lastModifiedBy>
  <dcterms:modified xsi:type="dcterms:W3CDTF">2012-10-19T09:39:41Z</dcterms:modified>
  <cp:revision>4</cp:revision>
  <dc:subject/>
  <dc:title>Слайд 1</dc:title>
</cp:coreProperties>
</file>