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229-4D9B-42A5-81E6-F9BA94B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1DF-EAF1-4FC0-9627-0993327C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DCA-2EAD-4ABC-9842-0642D87C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5E4-90EE-4A03-8484-59E39715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4085-294B-4332-8DFC-D89F0406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81ED-FBB4-43C4-AE61-6C4E7D06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30C4-A194-4371-AC8F-A71BD882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66D6-0B25-46AE-B9C7-D658AAE5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105F-10A3-4205-B743-F1B559D6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7111-0646-49B0-90E4-EFA19936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2A1C-91B9-43C1-9286-702D12A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28A-CD75-40E1-846C-2F467749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77FF-D0CD-4275-AEFD-860D009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29BD-482B-4EA6-AF92-93EC3F30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55BE-9D2B-484C-99ED-5678B91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4E34-EC9D-4497-B7A6-0937B3C8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6440-D485-4720-B617-2EC46DD6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D13-4881-4447-88FA-5AE7C62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379-F2FF-4043-AF90-A489F380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ED1-A1DD-431B-9883-E62B4299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D87-6DDD-4F3C-90CB-73F24772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844-E390-41E5-A391-BA67CC3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6AB-06F0-4EDC-9EF2-F434EE5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386-6FA3-4A13-9712-6E55E197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6961-6749-40DB-8253-5FB5CE43D6B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DA8D-6D69-4FE4-8327-EEBC45CE79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МБОУ «Средняя общеобразовательная школа  с углубленным изучением отдельных предметов №53»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города Курска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spcBef>
                <a:spcPts val="15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Скажи наркотикам нет!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Mea_Culpa_Enigma.mid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2963880" y="563076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нькова Виктория – 9 «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3"/>
          <p:cNvSpPr txBox="1"/>
          <p:nvPr/>
        </p:nvSpPr>
        <p:spPr>
          <a:xfrm>
            <a:off x="1905120" y="2384280"/>
            <a:ext cx="53337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a5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ходишь костлявый,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a5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a5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у просто скелет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a5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a5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брось это дело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a5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a5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ажи наркотикам - НЕТ!!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a5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6"/>
          <p:cNvSpPr txBox="1"/>
          <p:nvPr/>
        </p:nvSpPr>
        <p:spPr>
          <a:xfrm>
            <a:off x="826920" y="2060640"/>
            <a:ext cx="705672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66"/>
                    </a:gs>
                    <a:gs pos="100000">
                      <a:srgbClr val="ffff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ажи наркотикам -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66"/>
                  </a:gs>
                  <a:gs pos="100000">
                    <a:srgbClr val="ffffff"/>
                  </a:gs>
                </a:gsLst>
                <a:lin ang="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66"/>
                    </a:gs>
                    <a:gs pos="100000">
                      <a:srgbClr val="ffff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Т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66"/>
                  </a:gs>
                  <a:gs pos="100000">
                    <a:srgbClr val="ffffff"/>
                  </a:gs>
                </a:gsLst>
                <a:lin ang="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4"/>
          <p:cNvSpPr txBox="1"/>
          <p:nvPr/>
        </p:nvSpPr>
        <p:spPr>
          <a:xfrm>
            <a:off x="1476360" y="2349360"/>
            <a:ext cx="645948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рось сигарету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1332000" y="2492280"/>
            <a:ext cx="6234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храни жизнь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3"/>
          <p:cNvSpPr txBox="1"/>
          <p:nvPr/>
        </p:nvSpPr>
        <p:spPr>
          <a:xfrm>
            <a:off x="900000" y="1773360"/>
            <a:ext cx="784728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660066"/>
                    </a:gs>
                    <a:gs pos="100000">
                      <a:srgbClr val="ff00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делай наркотик -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660066"/>
                  </a:gs>
                  <a:gs pos="100000">
                    <a:srgbClr val="ff00ff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660066"/>
                    </a:gs>
                    <a:gs pos="100000">
                      <a:srgbClr val="ff00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ей жизнью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660066"/>
                  </a:gs>
                  <a:gs pos="100000">
                    <a:srgbClr val="ff00ff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3"/>
          <p:cNvSpPr txBox="1"/>
          <p:nvPr/>
        </p:nvSpPr>
        <p:spPr>
          <a:xfrm>
            <a:off x="1187280" y="1484280"/>
            <a:ext cx="7056720" cy="395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ы острой игло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ебе вену пронзаешь -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чем тебе это,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ы не представляешь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66" name="WordArt 3"/>
          <p:cNvSpPr txBox="1"/>
          <p:nvPr/>
        </p:nvSpPr>
        <p:spPr>
          <a:xfrm>
            <a:off x="2219400" y="2384280"/>
            <a:ext cx="4705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не понимаешь,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происходит с тобой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ходишь как тень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м словно не свой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3"/>
          <p:cNvSpPr txBox="1"/>
          <p:nvPr/>
        </p:nvSpPr>
        <p:spPr>
          <a:xfrm>
            <a:off x="1547640" y="620640"/>
            <a:ext cx="6351840" cy="374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a500"/>
                    </a:gs>
                    <a:gs pos="50000">
                      <a:srgbClr val="3333ff"/>
                    </a:gs>
                    <a:gs pos="100000">
                      <a:srgbClr val="cca5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ы хочешь исчезнуть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a500"/>
                  </a:gs>
                  <a:gs pos="50000">
                    <a:srgbClr val="3333ff"/>
                  </a:gs>
                  <a:gs pos="100000">
                    <a:srgbClr val="cca5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a500"/>
                    </a:gs>
                    <a:gs pos="50000">
                      <a:srgbClr val="3333ff"/>
                    </a:gs>
                    <a:gs pos="100000">
                      <a:srgbClr val="cca5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пасть, испариться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a500"/>
                  </a:gs>
                  <a:gs pos="50000">
                    <a:srgbClr val="3333ff"/>
                  </a:gs>
                  <a:gs pos="100000">
                    <a:srgbClr val="cca5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a500"/>
                    </a:gs>
                    <a:gs pos="50000">
                      <a:srgbClr val="3333ff"/>
                    </a:gs>
                    <a:gs pos="100000">
                      <a:srgbClr val="cca5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ы обещаешь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a500"/>
                  </a:gs>
                  <a:gs pos="50000">
                    <a:srgbClr val="3333ff"/>
                  </a:gs>
                  <a:gs pos="100000">
                    <a:srgbClr val="cca5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a500"/>
                    </a:gs>
                    <a:gs pos="50000">
                      <a:srgbClr val="3333ff"/>
                    </a:gs>
                    <a:gs pos="100000">
                      <a:srgbClr val="cca5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не повторится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a500"/>
                  </a:gs>
                  <a:gs pos="50000">
                    <a:srgbClr val="3333ff"/>
                  </a:gs>
                  <a:gs pos="100000">
                    <a:srgbClr val="cca5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3"/>
          <p:cNvSpPr txBox="1"/>
          <p:nvPr/>
        </p:nvSpPr>
        <p:spPr>
          <a:xfrm>
            <a:off x="1871640" y="1336680"/>
            <a:ext cx="5400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ж поздно тут думать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здно метаться!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же не вернут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девятнадцать лет братьев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жат под землею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всем молоды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били себя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ак совсем не пожили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14036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3"/>
          <p:cNvSpPr txBox="1"/>
          <p:nvPr/>
        </p:nvSpPr>
        <p:spPr>
          <a:xfrm>
            <a:off x="0" y="76500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изнь - это лучше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ги е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27:37Z</dcterms:created>
  <dc:creator>Наталья</dc:creator>
  <dc:description/>
  <dc:language>en-US</dc:language>
  <cp:lastModifiedBy>1</cp:lastModifiedBy>
  <dcterms:modified xsi:type="dcterms:W3CDTF">2012-07-26T13:41:28Z</dcterms:modified>
  <cp:revision>11</cp:revision>
  <dc:subject/>
  <dc:title>Слайд 1</dc:title>
</cp:coreProperties>
</file>