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5BC9C-8807-43D3-A7EF-03BE9059B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EBE4C-22F6-48B1-AADE-B685FECE6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208D2-5A8C-4DF7-A39C-4E17FC59B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BA177-DF80-4E74-B787-FFA840935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E996B-7F33-4ECD-BCB6-CAA025070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F2DBB-1540-410C-8B58-E0B7FC69B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42CA5-F46B-4C1A-A256-E9A146B5F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DBC31-9283-4109-BC6B-FA9CB55BA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312DE-9B88-49F9-8799-06469FCB4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C8BFA-EBA5-47AB-AB82-E3BD404D2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76891-9FC1-41E3-AC73-F64531301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D6289-9481-4CCC-9D90-651AD9DDB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C9BA7-2913-460F-9EDD-5A0AED53D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EF8F9-E8BF-41D5-8B87-40BCD432D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9EA48-492D-48DB-8296-131345A51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B4978-0A42-4C1F-AFE7-C7A96D20A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B3CE9-2691-42F3-97F8-E8204E540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66766-FC56-4AB4-B732-9D8269450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580D4-C108-4DF2-8873-6E094B6FC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CDD3C-F5DC-41CE-AE10-F5E799C0C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BB682-8124-4F40-B5C3-CE4F70ED6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DF9DD-F241-4132-BFDC-8B1A596EC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D36D6-30EF-457C-9B0A-76762014E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B01A3-1847-4B9B-A72F-B7BD1521F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A9003-9CB6-4EE3-8F48-7EB5C27DE385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F3B24-24E0-4393-AE20-A961629F26B8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bbd71"/>
                </a:solidFill>
                <a:latin typeface="Arial"/>
              </a:rPr>
              <a:t>МБОУ «Средняя общеобразовательная школа  с углубленным изучением отдельных предметов №53» </a:t>
            </a:r>
            <a:br>
              <a:rPr sz="2400"/>
            </a:br>
            <a:r>
              <a:rPr b="0" lang="ru-RU" sz="2400" spc="-1" strike="noStrike">
                <a:solidFill>
                  <a:srgbClr val="dbbd71"/>
                </a:solidFill>
                <a:latin typeface="Arial"/>
              </a:rPr>
              <a:t>города Курска</a:t>
            </a:r>
            <a:endParaRPr b="0" lang="en-US" sz="2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2000"/>
          </a:bodyPr>
          <a:p>
            <a:pPr marL="212400" indent="0" algn="ctr">
              <a:spcBef>
                <a:spcPts val="799"/>
              </a:spcBef>
              <a:buNone/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12400" indent="0" algn="ctr">
              <a:spcBef>
                <a:spcPts val="799"/>
              </a:spcBef>
              <a:buNone/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12400" indent="0" algn="ctr">
              <a:spcBef>
                <a:spcPts val="799"/>
              </a:spcBef>
              <a:buNone/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12400" indent="0" algn="ctr">
              <a:spcBef>
                <a:spcPts val="799"/>
              </a:spcBef>
              <a:buNone/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12400" indent="0" algn="ctr">
              <a:spcBef>
                <a:spcPts val="1500"/>
              </a:spcBef>
              <a:buNone/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Tahoma"/>
              </a:rPr>
              <a:t>«Скажи наркотикам нет!»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4" name="Mea_Culpa_Enigma.mid" descr=""/>
          <p:cNvPicPr/>
          <p:nvPr/>
        </p:nvPicPr>
        <p:blipFill>
          <a:blip r:embed="rId1"/>
          <a:stretch/>
        </p:blipFill>
        <p:spPr>
          <a:xfrm>
            <a:off x="8675640" y="638172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55" name="Прямоугольник 6"/>
          <p:cNvSpPr/>
          <p:nvPr/>
        </p:nvSpPr>
        <p:spPr>
          <a:xfrm>
            <a:off x="2963880" y="5630760"/>
            <a:ext cx="321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енькова Виктория – 9 «А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10000"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30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30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30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" dur="1" fill="hold"/>
                                        <p:tgtEl>
                                          <p:spTgt spid="1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WordArt 3"/>
          <p:cNvSpPr txBox="1"/>
          <p:nvPr/>
        </p:nvSpPr>
        <p:spPr>
          <a:xfrm>
            <a:off x="1905120" y="2384280"/>
            <a:ext cx="5333760" cy="2095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cca500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Ты ходишь костлявый, 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cca500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cca500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ну просто скелет!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cca500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cca500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Ты брось это дело!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cca500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cca500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Скажи наркотикам - НЕТ!!!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cca500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slow" advTm="10000">
    <p:strips dir="rd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7" name="WordArt 6"/>
          <p:cNvSpPr txBox="1"/>
          <p:nvPr/>
        </p:nvSpPr>
        <p:spPr>
          <a:xfrm>
            <a:off x="826920" y="2060640"/>
            <a:ext cx="7056720" cy="1879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ffff66"/>
                    </a:gs>
                    <a:gs pos="100000">
                      <a:srgbClr val="ffffff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Скажи наркотикам -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50000">
                    <a:srgbClr val="ffff66"/>
                  </a:gs>
                  <a:gs pos="100000">
                    <a:srgbClr val="ffffff"/>
                  </a:gs>
                </a:gsLst>
                <a:lin ang="0"/>
              </a:gra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ffff66"/>
                    </a:gs>
                    <a:gs pos="100000">
                      <a:srgbClr val="ffffff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НЕТ!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50000">
                    <a:srgbClr val="ffff66"/>
                  </a:gs>
                  <a:gs pos="100000">
                    <a:srgbClr val="ffffff"/>
                  </a:gs>
                </a:gsLst>
                <a:lin ang="0"/>
              </a:gra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slow" advTm="10000">
    <p:strips dir="rd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2" descr=""/>
          <p:cNvPicPr/>
          <p:nvPr/>
        </p:nvPicPr>
        <p:blipFill>
          <a:blip r:embed="rId1"/>
          <a:stretch/>
        </p:blipFill>
        <p:spPr>
          <a:xfrm>
            <a:off x="0" y="-363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9" name="WordArt 4"/>
          <p:cNvSpPr txBox="1"/>
          <p:nvPr/>
        </p:nvSpPr>
        <p:spPr>
          <a:xfrm>
            <a:off x="1476360" y="2349360"/>
            <a:ext cx="6459480" cy="132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Брось сигарету!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60" name="WordArt 5"/>
          <p:cNvSpPr txBox="1"/>
          <p:nvPr/>
        </p:nvSpPr>
        <p:spPr>
          <a:xfrm>
            <a:off x="1332000" y="2492280"/>
            <a:ext cx="6234120" cy="1292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Сохрани жизнь!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slow" advTm="10000">
    <p:strips dir="rd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3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3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3000"/>
                            </p:stCondLst>
                            <p:childTnLst>
                              <p:par>
                                <p:cTn id="35" nodeType="after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6000"/>
                            </p:stCondLst>
                            <p:childTnLst>
                              <p:par>
                                <p:cTn id="3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2" name="WordArt 3"/>
          <p:cNvSpPr txBox="1"/>
          <p:nvPr/>
        </p:nvSpPr>
        <p:spPr>
          <a:xfrm>
            <a:off x="900000" y="1773360"/>
            <a:ext cx="7847280" cy="2039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ff"/>
                    </a:gs>
                    <a:gs pos="50000">
                      <a:srgbClr val="660066"/>
                    </a:gs>
                    <a:gs pos="100000">
                      <a:srgbClr val="ff00ff"/>
                    </a:gs>
                  </a:gsLst>
                  <a:lin ang="27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Не делай наркотик - 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ff00ff"/>
                  </a:gs>
                  <a:gs pos="50000">
                    <a:srgbClr val="660066"/>
                  </a:gs>
                  <a:gs pos="100000">
                    <a:srgbClr val="ff00ff"/>
                  </a:gs>
                </a:gsLst>
                <a:lin ang="27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ff"/>
                    </a:gs>
                    <a:gs pos="50000">
                      <a:srgbClr val="660066"/>
                    </a:gs>
                    <a:gs pos="100000">
                      <a:srgbClr val="ff00ff"/>
                    </a:gs>
                  </a:gsLst>
                  <a:lin ang="27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воей жизнью!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ff00ff"/>
                  </a:gs>
                  <a:gs pos="50000">
                    <a:srgbClr val="660066"/>
                  </a:gs>
                  <a:gs pos="100000">
                    <a:srgbClr val="ff00ff"/>
                  </a:gs>
                </a:gsLst>
                <a:lin ang="27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slow" advTm="10000">
    <p:strips dir="rd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3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4" name="WordArt 3"/>
          <p:cNvSpPr txBox="1"/>
          <p:nvPr/>
        </p:nvSpPr>
        <p:spPr>
          <a:xfrm>
            <a:off x="1187280" y="1484280"/>
            <a:ext cx="7056720" cy="395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66"/>
                    </a:gs>
                    <a:gs pos="100000">
                      <a:srgbClr val="3333ff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Ты острой иглой 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66"/>
                  </a:gs>
                  <a:gs pos="100000">
                    <a:srgbClr val="3333ff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66"/>
                    </a:gs>
                    <a:gs pos="100000">
                      <a:srgbClr val="3333ff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себе вену пронзаешь - 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66"/>
                  </a:gs>
                  <a:gs pos="100000">
                    <a:srgbClr val="3333ff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66"/>
                    </a:gs>
                    <a:gs pos="100000">
                      <a:srgbClr val="3333ff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Зачем тебе это, 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66"/>
                  </a:gs>
                  <a:gs pos="100000">
                    <a:srgbClr val="3333ff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66"/>
                    </a:gs>
                    <a:gs pos="100000">
                      <a:srgbClr val="3333ff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ты не представляешь!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66"/>
                  </a:gs>
                  <a:gs pos="100000">
                    <a:srgbClr val="3333ff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slow" advTm="10000">
    <p:strips dir="rd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3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3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3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2" descr=""/>
          <p:cNvPicPr/>
          <p:nvPr/>
        </p:nvPicPr>
        <p:blipFill>
          <a:blip r:embed="rId1"/>
          <a:stretch/>
        </p:blipFill>
        <p:spPr>
          <a:xfrm>
            <a:off x="0" y="2052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166" name="WordArt 3"/>
          <p:cNvSpPr txBox="1"/>
          <p:nvPr/>
        </p:nvSpPr>
        <p:spPr>
          <a:xfrm>
            <a:off x="2219400" y="2384280"/>
            <a:ext cx="4705200" cy="2095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Ты не понимаешь, 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что происходит с тобой!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Ты ходишь как тень,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Сам словно не свой!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slow" advTm="10000">
    <p:strips dir="rd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540720" cy="7000920"/>
          </a:xfrm>
          <a:prstGeom prst="rect">
            <a:avLst/>
          </a:prstGeom>
          <a:ln w="0">
            <a:noFill/>
          </a:ln>
        </p:spPr>
      </p:pic>
      <p:sp>
        <p:nvSpPr>
          <p:cNvPr id="168" name="WordArt 3"/>
          <p:cNvSpPr txBox="1"/>
          <p:nvPr/>
        </p:nvSpPr>
        <p:spPr>
          <a:xfrm>
            <a:off x="1547640" y="620640"/>
            <a:ext cx="6351840" cy="374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cca500"/>
                    </a:gs>
                    <a:gs pos="50000">
                      <a:srgbClr val="3333ff"/>
                    </a:gs>
                    <a:gs pos="100000">
                      <a:srgbClr val="cca5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Ты хочешь исчезнуть,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cca500"/>
                  </a:gs>
                  <a:gs pos="50000">
                    <a:srgbClr val="3333ff"/>
                  </a:gs>
                  <a:gs pos="100000">
                    <a:srgbClr val="cca5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cca500"/>
                    </a:gs>
                    <a:gs pos="50000">
                      <a:srgbClr val="3333ff"/>
                    </a:gs>
                    <a:gs pos="100000">
                      <a:srgbClr val="cca5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пропасть, испариться,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cca500"/>
                  </a:gs>
                  <a:gs pos="50000">
                    <a:srgbClr val="3333ff"/>
                  </a:gs>
                  <a:gs pos="100000">
                    <a:srgbClr val="cca5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cca500"/>
                    </a:gs>
                    <a:gs pos="50000">
                      <a:srgbClr val="3333ff"/>
                    </a:gs>
                    <a:gs pos="100000">
                      <a:srgbClr val="cca5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Ты обещаешь,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cca500"/>
                  </a:gs>
                  <a:gs pos="50000">
                    <a:srgbClr val="3333ff"/>
                  </a:gs>
                  <a:gs pos="100000">
                    <a:srgbClr val="cca5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cca500"/>
                    </a:gs>
                    <a:gs pos="50000">
                      <a:srgbClr val="3333ff"/>
                    </a:gs>
                    <a:gs pos="100000">
                      <a:srgbClr val="cca5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что не повторится!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cca500"/>
                  </a:gs>
                  <a:gs pos="50000">
                    <a:srgbClr val="3333ff"/>
                  </a:gs>
                  <a:gs pos="100000">
                    <a:srgbClr val="cca5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slow" advTm="10000">
    <p:strips dir="rd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"/>
          <p:cNvPicPr/>
          <p:nvPr/>
        </p:nvPicPr>
        <p:blipFill>
          <a:blip r:embed="rId1"/>
          <a:stretch/>
        </p:blipFill>
        <p:spPr>
          <a:xfrm>
            <a:off x="0" y="-457200"/>
            <a:ext cx="9144000" cy="7315200"/>
          </a:xfrm>
          <a:prstGeom prst="rect">
            <a:avLst/>
          </a:prstGeom>
          <a:ln w="0">
            <a:noFill/>
          </a:ln>
        </p:spPr>
      </p:pic>
      <p:sp>
        <p:nvSpPr>
          <p:cNvPr id="170" name="WordArt 3"/>
          <p:cNvSpPr txBox="1"/>
          <p:nvPr/>
        </p:nvSpPr>
        <p:spPr>
          <a:xfrm>
            <a:off x="1871640" y="1336680"/>
            <a:ext cx="540072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Уж поздно тут думать,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поздно метаться! 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Уже не вернуть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в девятнадцать лет братьев!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Лежат под землею 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совсем молодые!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Убили себя,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Так совсем не пожили!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17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slow" advTm="10000">
    <p:strips dir="rd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"/>
          <p:cNvPicPr/>
          <p:nvPr/>
        </p:nvPicPr>
        <p:blipFill>
          <a:blip r:embed="rId1"/>
          <a:stretch/>
        </p:blipFill>
        <p:spPr>
          <a:xfrm>
            <a:off x="414036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WordArt 3"/>
          <p:cNvSpPr txBox="1"/>
          <p:nvPr/>
        </p:nvSpPr>
        <p:spPr>
          <a:xfrm>
            <a:off x="0" y="765000"/>
            <a:ext cx="655164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Жизнь - это лучшее!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Береги ее!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slow" advTm="10000">
    <p:strips dir="rd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5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9:27:37Z</dcterms:created>
  <dc:creator>Наталья</dc:creator>
  <dc:description/>
  <dc:language>en-US</dc:language>
  <cp:lastModifiedBy>1</cp:lastModifiedBy>
  <dcterms:modified xsi:type="dcterms:W3CDTF">2012-07-26T13:41:28Z</dcterms:modified>
  <cp:revision>11</cp:revision>
  <dc:subject/>
  <dc:title>Слайд 1</dc:title>
</cp:coreProperties>
</file>