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EEF-AD15-4CE5-B43B-71784D88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6FA-8925-493E-B782-172E89FE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E08-F917-44EF-AE9C-617E6895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9FB-2705-4AFA-98E4-DC519DB8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6421-2015-4FA0-9C55-82373B55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6E8B-9835-431A-943E-D040E5CA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ADC0-7238-49C5-9D50-2909F02B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B097-9FE0-4A23-9F35-F00B94F7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0195-813C-46A1-BA2C-3846AFD3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D594-B809-4DCA-ABDD-B0A9FA66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38C9-61B2-476A-860A-5791F666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FCB-CC12-4F3C-9FF0-E8F29339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B8FC-A309-420A-A0F2-FB2C4CD8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627D-7D48-4726-B519-D6F6BC63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9338-BEC5-4E02-826B-CD7DD501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E1A6-22C6-4775-8E7D-8EF4CC41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5393-F805-4986-AAAF-97387D83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4F086-B2C8-43FE-AC52-20871262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CD669-2FAB-4877-9408-0FE6FE7F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99CC2-AAF0-49D2-BBA4-B4B899B3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9D85C-B2A3-4C6E-A5ED-EEFBF4E8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B3D39-EF7D-4908-BA72-D0843F2C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699-9418-4DE6-AD27-B9802AA0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6767-2D39-454B-A0A0-E18C368B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FBF2-7BF9-41DF-B8F8-84289EF1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FE72-81E7-4AE8-82EA-BEBDDE60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FABAD-431D-48D7-88E6-8887D01F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FECE9-8DD6-4410-B58C-DEC3065C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85F19-DF67-4CD3-8593-F809CC27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8EDC-BD40-40F3-B5CA-02A14407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BC2F7-9A2E-4B39-B6AC-3AD0C845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D80F0-9112-4C5B-9462-0DCB5FA5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5AFD6-A209-40A6-B983-6B367077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AB1-8EB0-4744-B777-ECC8547E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89101-FA0D-4C9C-9BB6-C701EAF5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3EC7A-7EE8-4797-8A93-39C650EA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968CC-743B-4642-A93D-2D3ED473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C501C-EAF4-44F9-B4AA-0280A387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3F264-7C43-48EE-8EA8-146D0617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00E20-C69A-4B57-B5F7-17D1935D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A4A46-6889-4665-A176-F2288241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5E9AA-F14B-445D-BDE4-ECB95DFD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FC358-2103-4BDE-8DD5-B8FB2EE2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97E2F-EB73-45BC-8AFC-C05C7CCA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B34-3297-4F09-BFD0-8F72FB65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7FE44-BD72-4AB9-A8B3-728E3084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2C555-28C2-4282-9ECB-78255925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ABFC5-55F8-4241-9A77-DF6467FC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1DAA9-4408-40F6-B1EE-94E790B7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3EE0F-A762-4653-B21F-E9FDA8ED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7B7FE-2386-436E-8C8E-E4F24ACA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5C8F9-BC93-47EE-AEA7-AC4DDF9F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41C1C-069C-47D9-9626-5BFE2F10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600D0-B6D2-4B25-99D9-91748371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28F5F-7506-4F52-91FD-86D95F7E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103-68D3-4AFA-A190-E37A6D6F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89CD4-ED85-4C23-AC72-D32FF83A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C14-5B88-43E2-8ADC-322AAC5C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871-9A8A-400A-ADF3-FE552C38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FC76-828E-41D1-A659-D9AA00F5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de66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e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42f7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42f7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42f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5D08-4E26-4310-ADC6-775F1D0403B5}" type="slidenum">
              <a:rPr b="0" lang="en-US" sz="1100" spc="-1" strike="noStrike">
                <a:solidFill>
                  <a:srgbClr val="842f7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de66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d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e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35D0-DBF0-42FF-9D12-35CCA8A2D4B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de66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e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42f7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42f7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42f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71F5-2ACA-4D21-B91A-89FAB135F422}" type="slidenum">
              <a:rPr b="0" lang="en-US" sz="1100" spc="-1" strike="noStrike">
                <a:solidFill>
                  <a:srgbClr val="842f7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e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4378-3329-486B-B079-21106BDEC6AA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de66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e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de6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de66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42f7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42f7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42f7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55AF-E383-431B-AC01-3A56351BCF09}" type="slidenum">
              <a:rPr b="0" lang="en-US" sz="1100" spc="-1" strike="noStrike">
                <a:solidFill>
                  <a:srgbClr val="842f7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Всё о нём</a:t>
            </a:r>
            <a:endParaRPr b="0" lang="en-US" sz="2200" spc="-1" strike="noStrike">
              <a:solidFill>
                <a:srgbClr val="ffde66"/>
              </a:solidFill>
              <a:latin typeface="Trebuchet MS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79200" y="1189080"/>
            <a:ext cx="7583760" cy="2792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974880"/>
            <a:ext cx="7516800" cy="3036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Documents and Settings\дом\Рабочий стол\smalik3.jpg"/>
          <p:cNvPicPr/>
          <p:nvPr/>
        </p:nvPicPr>
        <p:blipFill>
          <a:blip r:embed="rId2"/>
          <a:stretch/>
        </p:blipFill>
        <p:spPr>
          <a:xfrm>
            <a:off x="2771640" y="4292640"/>
            <a:ext cx="273060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219240" y="182520"/>
            <a:ext cx="7424640" cy="5711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Documents and Settings\дом\Рабочий стол\begin.jpg"/>
          <p:cNvPicPr/>
          <p:nvPr/>
        </p:nvPicPr>
        <p:blipFill>
          <a:blip r:embed="rId2"/>
          <a:stretch/>
        </p:blipFill>
        <p:spPr>
          <a:xfrm>
            <a:off x="6156360" y="4614840"/>
            <a:ext cx="1728720" cy="22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98440" y="317520"/>
            <a:ext cx="7656480" cy="6546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675560" cy="5565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Documents and Settings\дом\Рабочий стол\end.gif"/>
          <p:cNvPicPr/>
          <p:nvPr/>
        </p:nvPicPr>
        <p:blipFill>
          <a:blip r:embed="rId2"/>
          <a:stretch/>
        </p:blipFill>
        <p:spPr>
          <a:xfrm>
            <a:off x="7343640" y="4437000"/>
            <a:ext cx="180036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682040" cy="3048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дом\Рабочий стол\смайлы (1)\3.jpg"/>
          <p:cNvPicPr/>
          <p:nvPr/>
        </p:nvPicPr>
        <p:blipFill>
          <a:blip r:embed="rId2"/>
          <a:stretch/>
        </p:blipFill>
        <p:spPr>
          <a:xfrm>
            <a:off x="5072040" y="3236760"/>
            <a:ext cx="3097080" cy="3597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дом\Рабочий стол\смайлы (1)\00006623_large.jpg"/>
          <p:cNvPicPr/>
          <p:nvPr/>
        </p:nvPicPr>
        <p:blipFill>
          <a:blip r:embed="rId2"/>
          <a:stretch/>
        </p:blipFill>
        <p:spPr>
          <a:xfrm>
            <a:off x="3048120" y="1943280"/>
            <a:ext cx="30477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дом\Рабочий стол\смайлы (1)\ar118298676523918.jpg"/>
          <p:cNvPicPr/>
          <p:nvPr/>
        </p:nvPicPr>
        <p:blipFill>
          <a:blip r:embed="rId2"/>
          <a:stretch/>
        </p:blipFill>
        <p:spPr>
          <a:xfrm>
            <a:off x="2484360" y="2492280"/>
            <a:ext cx="374328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дом\Рабочий стол\смайлы (1)\ea57324b4c5f.jpg"/>
          <p:cNvPicPr/>
          <p:nvPr/>
        </p:nvPicPr>
        <p:blipFill>
          <a:blip r:embed="rId2"/>
          <a:stretch/>
        </p:blipFill>
        <p:spPr>
          <a:xfrm>
            <a:off x="2268360" y="2205000"/>
            <a:ext cx="381024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10599840" cy="4844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de66"/>
              </a:solidFill>
              <a:latin typeface="Trebuchet MS"/>
            </a:endParaRPr>
          </a:p>
        </p:txBody>
      </p:sp>
      <p:pic>
        <p:nvPicPr>
          <p:cNvPr id="232" name="Picture 2" descr="C:\Documents and Settings\дом\Рабочий стол\смайлы (1)\i.jpeg"/>
          <p:cNvPicPr/>
          <p:nvPr/>
        </p:nvPicPr>
        <p:blipFill>
          <a:blip r:embed="rId1"/>
          <a:stretch/>
        </p:blipFill>
        <p:spPr>
          <a:xfrm>
            <a:off x="2050920" y="1954080"/>
            <a:ext cx="4249800" cy="362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5351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Documents and Settings\дом\Рабочий стол\смайлы (1)\смайл.gif"/>
          <p:cNvPicPr/>
          <p:nvPr/>
        </p:nvPicPr>
        <p:blipFill>
          <a:blip r:embed="rId2"/>
          <a:stretch/>
        </p:blipFill>
        <p:spPr>
          <a:xfrm>
            <a:off x="2556000" y="1989000"/>
            <a:ext cx="4217760" cy="2759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5:52:05Z</dcterms:created>
  <dc:creator>SamLab.ws</dc:creator>
  <dc:description/>
  <dc:language>en-US</dc:language>
  <cp:lastModifiedBy>User</cp:lastModifiedBy>
  <dcterms:modified xsi:type="dcterms:W3CDTF">2012-01-26T11:19:18Z</dcterms:modified>
  <cp:revision>6</cp:revision>
  <dc:subject/>
  <dc:title>Смайлик  Всё о нём</dc:title>
</cp:coreProperties>
</file>