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jpeg" ContentType="image/jpeg"/>
  <Override PartName="/ppt/media/image2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5E54-FF87-4546-93D5-7BC0DC5C1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FC9A-34A5-4C03-9A6F-375D3225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7F5F-2CAA-4C97-A2A4-274AA07E3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41A9-3564-4979-998B-29CAE79B6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640E-D5D2-4B49-93D2-F15D738B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17AA-5B98-4917-AE16-59E52AA1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3DE8-8185-47F6-83B4-3BED633D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D989-400A-4D3E-AF34-C95DBA7B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6584-378E-488F-B705-DB7898A4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7303-AB4D-4B89-9478-DD1CDFCA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86DD-3873-49F6-9A29-13EE3D77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98EB-463E-4AB8-A41E-4BB63AC1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9403-77C7-470A-815B-6F42D2F6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CDE0-AC2B-4945-8752-5DA78FBB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5D09-5551-4D63-8551-9F66F820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4341-89AF-45CA-9121-7931FE3A9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CE76-C095-4844-A309-3D815A87F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2EEA3-B5CD-40E8-ADFE-CC4458C90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9B6B0-5A04-4B9C-A4E6-8678A2E7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1F2F0-D86E-4A1F-BB39-D6A00740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D3C54-B931-4C8C-85E0-73DEF1D3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6D06E-CCF3-46B0-BE5F-EBF7A2E1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9C81-B7F2-415A-84A3-C8964229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704F9-C861-4A07-A1D0-F2AE7960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DA243-8DC7-48BC-A2FF-6157740C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9EDFC-473A-4505-85B5-85AE64C8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68F4F-D58A-43FA-B11B-72A78DE8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6C2D3-6CB5-4DCF-8E3A-21F50FC9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AB5E8-3AB4-4207-BC52-7C1713870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FCDA1-4082-46E6-99D9-777D2959A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7E573-8DA6-4A07-950D-20F1EDB1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52578-906C-4A1A-8921-4ABE79F9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8E188-BD12-4603-804E-A95EE9CD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8794-5347-4426-A43F-0ED14956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F3400-3223-473B-8FFB-819CBF37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3DDEA-7355-4AE9-8204-167B28B5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B8637-098F-4DB1-8DC2-96316448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27326-F0F9-4499-94B2-C3BB1E0A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9772E-D809-4748-B332-A8B669E1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15CBB-6FAF-4D4A-B8C1-7FF21550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0EB46-0631-4855-88AF-CECEA599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6DC80-4CED-487A-B5FA-62877B2DA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F7F95-4BB1-4E73-AD89-7440D371E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8BD87-0CD6-4D18-96E3-04EA4397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F70F-F126-4F10-B0A4-B0300AF2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DC9B5-88F0-4EE2-81F6-2530B2A6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A1623-5EB5-4BA7-B961-A1F1D6D7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75690-89A4-465A-811C-1BA3A83E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1103D-4CD1-451E-B6C6-0E3F2D4C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C5409-6CBB-4D11-A326-71C4E0BB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E29F5-C36F-403F-85A8-E90B594D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065A8-DACD-4179-80C5-B4281FBA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88BF7-D10C-4F17-9EDF-9CA00457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1FF9E-13C2-40EC-95C8-A3FC698C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7ECD2-A651-4ACD-A940-CA927B94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D869-FE24-4C86-AF9F-48133EBC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B1AC7-055D-42C1-97D2-FF28A48E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D1B2-8BEA-4AD2-B0F5-17D21801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DA4D-BEB4-4F6E-8ABE-890C6F16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B4A1-06F8-4795-AA9C-386CC4F3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de66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de66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42f7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de66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de66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42f7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42f7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42f7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D8B1-B72F-4BDE-86CF-A88C382DA8D1}" type="slidenum">
              <a:rPr b="0" lang="en-US" sz="1100" spc="-1" strike="noStrike">
                <a:solidFill>
                  <a:srgbClr val="842f7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de66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d9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de66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42f7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de66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de66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E19E-A25A-40A0-8094-26866928E1D4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de66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de66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42f7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de66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de66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42f7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42f7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42f7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E2C1-DE32-4E04-AC8A-FAACD62E53FC}" type="slidenum">
              <a:rPr b="0" lang="en-US" sz="1100" spc="-1" strike="noStrike">
                <a:solidFill>
                  <a:srgbClr val="842f7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34" name="Прямоугольник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de66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de66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de66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397F-F439-42DA-9E84-02D28DAF4002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de66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de66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42f7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de66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de66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42f7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42f7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42f7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43B3-15A0-4318-811E-AA1DEC005444}" type="slidenum">
              <a:rPr b="0" lang="en-US" sz="1100" spc="-1" strike="noStrike">
                <a:solidFill>
                  <a:srgbClr val="842f7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Всё о нём</a:t>
            </a:r>
            <a:endParaRPr b="0" lang="en-US" sz="2200" spc="-1" strike="noStrike">
              <a:solidFill>
                <a:srgbClr val="ffde66"/>
              </a:solidFill>
              <a:latin typeface="Trebuchet MS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79200" y="1189080"/>
            <a:ext cx="7583760" cy="27925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212760" y="974880"/>
            <a:ext cx="7516800" cy="30366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C:\Documents and Settings\дом\Рабочий стол\smalik3.jpg"/>
          <p:cNvPicPr/>
          <p:nvPr/>
        </p:nvPicPr>
        <p:blipFill>
          <a:blip r:embed="rId2"/>
          <a:stretch/>
        </p:blipFill>
        <p:spPr>
          <a:xfrm>
            <a:off x="2771640" y="4292640"/>
            <a:ext cx="2730600" cy="24256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219240" y="182520"/>
            <a:ext cx="7424640" cy="57117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Documents and Settings\дом\Рабочий стол\begin.jpg"/>
          <p:cNvPicPr/>
          <p:nvPr/>
        </p:nvPicPr>
        <p:blipFill>
          <a:blip r:embed="rId2"/>
          <a:stretch/>
        </p:blipFill>
        <p:spPr>
          <a:xfrm>
            <a:off x="6156360" y="4614840"/>
            <a:ext cx="1728720" cy="22431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298440" y="317520"/>
            <a:ext cx="7656480" cy="65469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675560" cy="55656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C:\Documents and Settings\дом\Рабочий стол\end.gif"/>
          <p:cNvPicPr/>
          <p:nvPr/>
        </p:nvPicPr>
        <p:blipFill>
          <a:blip r:embed="rId2"/>
          <a:stretch/>
        </p:blipFill>
        <p:spPr>
          <a:xfrm>
            <a:off x="7343640" y="4437000"/>
            <a:ext cx="1800360" cy="2060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682040" cy="3048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C:\Documents and Settings\дом\Рабочий стол\смайлы (1)\3.jpg"/>
          <p:cNvPicPr/>
          <p:nvPr/>
        </p:nvPicPr>
        <p:blipFill>
          <a:blip r:embed="rId2"/>
          <a:stretch/>
        </p:blipFill>
        <p:spPr>
          <a:xfrm>
            <a:off x="5072040" y="3236760"/>
            <a:ext cx="3097080" cy="35974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C:\Documents and Settings\дом\Рабочий стол\смайлы (1)\00006623_large.jpg"/>
          <p:cNvPicPr/>
          <p:nvPr/>
        </p:nvPicPr>
        <p:blipFill>
          <a:blip r:embed="rId2"/>
          <a:stretch/>
        </p:blipFill>
        <p:spPr>
          <a:xfrm>
            <a:off x="3048120" y="1943280"/>
            <a:ext cx="304776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C:\Documents and Settings\дом\Рабочий стол\смайлы (1)\ar118298676523918.jpg"/>
          <p:cNvPicPr/>
          <p:nvPr/>
        </p:nvPicPr>
        <p:blipFill>
          <a:blip r:embed="rId2"/>
          <a:stretch/>
        </p:blipFill>
        <p:spPr>
          <a:xfrm>
            <a:off x="2484360" y="2492280"/>
            <a:ext cx="3743280" cy="41767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C:\Documents and Settings\дом\Рабочий стол\смайлы (1)\ea57324b4c5f.jpg"/>
          <p:cNvPicPr/>
          <p:nvPr/>
        </p:nvPicPr>
        <p:blipFill>
          <a:blip r:embed="rId2"/>
          <a:stretch/>
        </p:blipFill>
        <p:spPr>
          <a:xfrm>
            <a:off x="2268360" y="2205000"/>
            <a:ext cx="3810240" cy="40006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10599840" cy="4844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72421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pic>
        <p:nvPicPr>
          <p:cNvPr id="232" name="Picture 2" descr="C:\Documents and Settings\дом\Рабочий стол\смайлы (1)\i.jpeg"/>
          <p:cNvPicPr/>
          <p:nvPr/>
        </p:nvPicPr>
        <p:blipFill>
          <a:blip r:embed="rId1"/>
          <a:stretch/>
        </p:blipFill>
        <p:spPr>
          <a:xfrm>
            <a:off x="2050920" y="1954080"/>
            <a:ext cx="4249800" cy="36259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53514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Documents and Settings\дом\Рабочий стол\смайлы (1)\смайл.gif"/>
          <p:cNvPicPr/>
          <p:nvPr/>
        </p:nvPicPr>
        <p:blipFill>
          <a:blip r:embed="rId2"/>
          <a:stretch/>
        </p:blipFill>
        <p:spPr>
          <a:xfrm>
            <a:off x="2556000" y="1989000"/>
            <a:ext cx="4217760" cy="2759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15:52:05Z</dcterms:created>
  <dc:creator>SamLab.ws</dc:creator>
  <dc:description/>
  <dc:language>en-US</dc:language>
  <cp:lastModifiedBy>User</cp:lastModifiedBy>
  <dcterms:modified xsi:type="dcterms:W3CDTF">2012-01-26T11:19:18Z</dcterms:modified>
  <cp:revision>6</cp:revision>
  <dc:subject/>
  <dc:title>Смайлик  Всё о нём</dc:title>
</cp:coreProperties>
</file>