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1E8-8126-4D1D-9BD3-3899463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749-4D49-4065-80C2-DBB03C6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390-F893-4141-ABEA-EFDC6F30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D2E-CD5E-4715-8714-15D0DAD5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F00-1743-41E1-8B47-B228224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E282-84D9-45A3-9868-427FF04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E595-F48E-4FBF-9F2B-B7AD32C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B4F-38A1-4279-BD10-DC5D03C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1FF2-2BFF-4FBC-A855-3BC8E2D4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5A48-6A04-4E8A-B40F-F4A0EA19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1E4C-2179-4726-87B4-10C28F3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ADB-C7C2-4F0A-ACFF-FE10BC9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7FF7-3CDB-4584-A1F8-B24D0EA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5EC-8C1F-46F4-88DA-D91F42EA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F64-49F6-48C4-A43D-15E6A017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8CD-0CC9-43DE-8CF3-F6AABE9C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0236-E010-4C4E-B086-EF944D78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C18-9B81-4CA5-BEE8-4FDCFDFE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96F-6748-428D-B5B6-A08F1BF4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DC6-A4B9-4EF3-9446-703E6C6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F99-A02B-4336-9433-1BBAD29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C38-5EF8-4822-8059-C548050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6C7-33E2-47B1-BFED-BFCBF56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0C-E5C1-4B19-9506-4EA7B42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9D4-7EC5-4328-B0D5-B395273F4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652-BAAB-4F2E-907A-0FA3A24FA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нутренняя политика Александра 1 в 1815-1825 год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435280" y="5444640"/>
            <a:ext cx="3384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стоброва Ф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-гимназия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овск-Забайкаль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Какие цели ставил перед собой     Александ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начале правл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военный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ежды общества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ервативные сл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 пре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59800">
            <a:off x="3419280" y="248292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361600">
            <a:off x="3163680" y="333648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ская конститу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возглавил польское государств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ятельность Сей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гражданские права давала конститу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Новосильц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ставная грамота Российской импе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двухпалатный парла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федеративное устрой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неприкосновенность лич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отмена цензур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едположите как могли отреагировать дворяне на подобный проект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14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492280"/>
            <a:ext cx="8964720" cy="576360"/>
          </a:xfrm>
          <a:prstGeom prst="rightArrow">
            <a:avLst>
              <a:gd name="adj1" fmla="val 50000"/>
              <a:gd name="adj2" fmla="val 38885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державная монархия                        Конституционная монарх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637000"/>
            <a:ext cx="144360" cy="28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Причины отказа от проведения рефо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вольство двор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еволюционное движение в Евро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ём Александ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шел на попятно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233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6:20:44Z</dcterms:created>
  <dc:creator>Admin</dc:creator>
  <dc:description/>
  <dc:language>en-US</dc:language>
  <cp:lastModifiedBy>1</cp:lastModifiedBy>
  <dcterms:modified xsi:type="dcterms:W3CDTF">2012-10-19T10:04:57Z</dcterms:modified>
  <cp:revision>6</cp:revision>
  <dc:subject/>
  <dc:title>Внутренняя политика Александра 1 в 1815-1825 годах</dc:title>
</cp:coreProperties>
</file>