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ABF-5C13-4CF2-994E-6AE60806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6DEE-EBA7-4CB5-BAC0-B0AA6A53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CEE-C6EE-4F82-BA9C-28F31E80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53D-3DA0-4FAE-8ED5-BBE5C5F8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18E0-2CF6-4C5F-89A0-0D4D50A9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3BFB-9325-4278-A35A-31D24692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13CE-4548-4A8F-94A0-457C7B5D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44A0-5A8F-4C54-90A8-B24F7C7B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6B4A-11A3-477A-BC4D-EE82A137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C8DB-310F-4649-9C94-DA3DF531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FBC8-F322-4931-AD5A-655C6183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A47-3467-41B7-A42D-9D81F2F7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D0C8-0BE7-4033-A407-16C57206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6F7A-210E-49DE-87E5-983A0E6C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78D7-B192-4E8A-AA01-0F191F65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D546-C218-4210-B774-8B55CB56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ECCD-3A13-4C1C-91D0-8E76165E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BCE-5F29-4CB5-8093-6766DBC0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D0B-765C-4CD9-94B2-AE2272A6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C8A-4577-4EC6-8E8A-80F6610B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D67-C40D-4CCB-96DB-7EB8BEFA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2FB-A8BF-4BA3-99A4-DEA7C621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DFE-8BC2-435A-8471-B06B7368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028-E11A-4A1A-B3C3-C270FB2F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48D5-7CB4-411C-9383-C88CAB8307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686F-D172-4C4E-87C9-9FC449B7E1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нутренняя политика Александра 1 в 1815-1825 год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435280" y="5444640"/>
            <a:ext cx="33843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стоброва Ф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-гимназия №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тровск-Забайкаль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  Какие цели ставил перед собой     Александр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начале правл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военный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ежды общества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иод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образова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сервативные сло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ив преобразов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59800">
            <a:off x="3419280" y="248292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361600">
            <a:off x="3163680" y="333648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ьская конститу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то возглавил польское государств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ятельность Сей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гражданские права давала конституц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5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ект Новосильц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Уставная грамота Российской импер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двухпалатный парламен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федеративное устройств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неприкосновенность лично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отмена цензуры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едположите как могли отреагировать дворяне на подобный проект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40360" y="1413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2492280"/>
            <a:ext cx="8964720" cy="576360"/>
          </a:xfrm>
          <a:prstGeom prst="rightArrow">
            <a:avLst>
              <a:gd name="adj1" fmla="val 50000"/>
              <a:gd name="adj2" fmla="val 388851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державная монархия                        Конституционная монарх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2637000"/>
            <a:ext cx="144360" cy="287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Причины отказа от проведения рефор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вольство двор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еволюционное движение в Европ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чём Александ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шел на попятно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2333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6:20:44Z</dcterms:created>
  <dc:creator>Admin</dc:creator>
  <dc:description/>
  <dc:language>en-US</dc:language>
  <cp:lastModifiedBy>1</cp:lastModifiedBy>
  <dcterms:modified xsi:type="dcterms:W3CDTF">2012-10-19T10:04:57Z</dcterms:modified>
  <cp:revision>6</cp:revision>
  <dc:subject/>
  <dc:title>Внутренняя политика Александра 1 в 1815-1825 годах</dc:title>
</cp:coreProperties>
</file>