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D98-3C69-41DD-8586-F3F8B6DF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C9-CCEB-4FF1-91AC-0EC398A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A46-03D7-41F9-9F5E-C27140E4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E00-319E-4CDD-AC01-A3691E9F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9A1-64BC-4B0E-A74D-81F35FC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EED-B7D5-4503-B631-CBCAF70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454-D161-4EDF-9F9B-AE892A00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2D6-FB42-48E9-942F-550DDFC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212-1FC4-4405-8221-13CCD5A4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CE9-3CE8-49DD-BDD4-6CDC010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350-B9D5-4D95-95AB-96E57E4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820-4DE3-44ED-9631-73C2E2B5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04A-D675-4B20-889D-A2E46936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189684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72000" y="-360"/>
            <a:ext cx="2663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имир Владимирович Высо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38-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ер, автор и исполнитель более тысячи пе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уется огромной народной любовью даже спустя 30 лет после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4360" cy="611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8000" y="189000"/>
            <a:ext cx="3995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аибольшую популярность ему принесли кино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др из фильма «Место встречи изменить нельз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678200" cy="5789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0840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19280" y="549360"/>
            <a:ext cx="3924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цкий м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здил по стране.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зде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ли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ром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96908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9280" y="549000"/>
            <a:ext cx="38275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 концерты проходили в квартирах знакомых и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45752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8864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цкий умер 25 июля 198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еатре было вывешено скромной объявление «Умер актер Владимир Высоцкий». Ни один из зрителей не сдал билет на несостоявшийся спектак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249800" cy="6481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08720" y="189000"/>
            <a:ext cx="31780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ых сообщений о смерти певца и актера не поступало. Шел 1980 год. Советский Союз принимал олимпи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13440" cy="5532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5084280"/>
            <a:ext cx="885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это тысячи людей пришли проводить его в последний путь. Все попытки властей разогнать скорбящих оказались безрезульта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043760" cy="4727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328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мятник на могиле Владимира Высоцкого всегда окружен живыми цве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24980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64000" y="765000"/>
            <a:ext cx="332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ое признание Высоцкий получил только спустя несколько лет после смерти. Творческие награды он получил уже посмер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96728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348440" cy="6473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67280" y="274320"/>
            <a:ext cx="3168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рты Высоцкого проходили полулегально. Часто оборачивались крупными неприятностями для организатор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54364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17996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39092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37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3280" y="549360"/>
            <a:ext cx="36831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жизни на пластинках вышло всего несколько песен. Но не было дома, где не звучали бы песни Высоцкого, которые люди переписывали друг у друга, доставали всеми правдами и неправ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535280" cy="5975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257800" cy="5112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96000" y="981000"/>
            <a:ext cx="2890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раке с известной французской актрисой Мариной Влади Высоцкий был по настоящему счастл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Да, у ме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цуженка жена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сского 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схожденья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439272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1971 по 1980 Высоцкий играл в театре на Таганке Гамлета. Это была самая известная его театральная роль. В последний раз предстал перед зрителями в этой роли18 июля – за неделю до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03380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720" y="260280"/>
            <a:ext cx="3610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я в теа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соц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рителей сво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щной энерг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278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0:24:48Z</dcterms:created>
  <dc:creator>Admin</dc:creator>
  <dc:description/>
  <dc:language>en-US</dc:language>
  <cp:lastModifiedBy>Admin</cp:lastModifiedBy>
  <dcterms:modified xsi:type="dcterms:W3CDTF">2009-11-22T09:05:58Z</dcterms:modified>
  <cp:revision>6</cp:revision>
  <dc:subject/>
  <dc:title>Слайд 1</dc:title>
</cp:coreProperties>
</file>