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E20-A8ED-433A-9E5D-08BDC73A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0A6-CB5D-4F4C-B043-178D185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630-F4A5-4A58-B455-3B1A8508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852-ACDC-4CC4-8E05-F05CC3C2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A46-34EB-4824-AFC7-795757A7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629-575B-4001-9730-D6C3A75F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B4E-325C-4571-945B-2DA155A2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E06-F411-40CE-89D6-CBE703F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EBD-2DEF-4B42-AB72-B8FFAC6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E8F-B06D-499A-84CA-815CE7F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658-33CB-4774-9D0A-E1D9A4B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023-3201-41C0-A4B5-55B11F1A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0EE-7F69-4EC2-A897-9FC3CE80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189684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72000" y="-360"/>
            <a:ext cx="2663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имир Владимирович Выс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38-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ер, автор и исполнитель более тысячи пе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уется огромной народной любовью даже спустя 30 лет после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4360" cy="611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8000" y="189000"/>
            <a:ext cx="3995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аибольшую популярность ему принесли кино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др из фильма «Место встречи изменить нельз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678200" cy="5789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084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19280" y="549360"/>
            <a:ext cx="3924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цкий м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здил по стране.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зде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ли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ром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96908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9280" y="549000"/>
            <a:ext cx="382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концерты проходили в квартирах знакомых и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45752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цкий умер 25 июля 198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еатре было вывешено скромной объявление «Умер актер Владимир Высоцкий». Ни один из зрителей не сдал билет на несостоявшийся спектак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249800" cy="6481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08720" y="189000"/>
            <a:ext cx="3178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ых сообщений о смерти певца и актера не поступало. Шел 1980 год. Советский Союз принимал олимпи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13440" cy="5532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85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это тысячи людей пришли проводить его в последний путь. Все попытки властей разогнать скорбящих оказались безрезульта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043760" cy="4727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328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мятник на могиле Владимира Высоцкого всегда окружен живыми цве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24980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64000" y="765000"/>
            <a:ext cx="332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ое признание Высоцкий получил только спустя несколько лет после смерти. Творческие награды он получил уже посмер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9672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48440" cy="6473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67280" y="274320"/>
            <a:ext cx="3168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рты Высоцкого проходили полулегально. Часто оборачивались крупными неприятностями для организатор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54364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17996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9092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3280" y="549360"/>
            <a:ext cx="3683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жизни на пластинках вышло всего несколько песен. Но не было дома, где не звучали бы песни Высоцкого, которые люди переписывали друг у друга, доставали всеми правдами и неправ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535280" cy="5975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257800" cy="5112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96000" y="981000"/>
            <a:ext cx="2890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раке с известной французской актрисой Мариной Влади Высоцкий был по настоящему счастл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а, у ме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цуженка жена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сского 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схожденья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439272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1971 по 1980 Высоцкий играл в театре на Таганке Гамлета. Это была самая известная его театральная роль. В последний раз предстал перед зрителями в этой роли18 июля – за неделю до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03380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72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я в теа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ц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рителей сво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щной энер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278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0:24:48Z</dcterms:created>
  <dc:creator>Admin</dc:creator>
  <dc:description/>
  <dc:language>en-US</dc:language>
  <cp:lastModifiedBy>Admin</cp:lastModifiedBy>
  <dcterms:modified xsi:type="dcterms:W3CDTF">2009-11-22T09:05:58Z</dcterms:modified>
  <cp:revision>6</cp:revision>
  <dc:subject/>
  <dc:title>Слайд 1</dc:title>
</cp:coreProperties>
</file>