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56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29.png" ContentType="image/png"/>
  <Override PartName="/ppt/media/image21.jpeg" ContentType="image/jpeg"/>
  <Override PartName="/ppt/media/image54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16.jpeg" ContentType="image/jpeg"/>
  <Override PartName="/ppt/media/image32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image22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24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1.wmf" ContentType="image/x-wmf"/>
  <Override PartName="/ppt/media/image40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13.png" ContentType="image/png"/>
  <Override PartName="/ppt/media/image52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24E-19C7-4640-B2E2-D943DB21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293-46D9-40BE-B4A5-F0C92FE2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219-0F0F-43AE-808C-321F1D80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5B7-2EF9-4F97-BB53-4FC441F8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02D4-48F1-479B-B5BC-ECE23C67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7FFD-072D-4638-8051-985326F1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098D-08A6-4918-A4D2-67576518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4FE8-8849-4605-9BB3-1383B042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A357-1F8F-4459-B5C9-89CA536D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A852-74BE-4C41-B333-F83F4BAA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114A-10DB-45C7-B3CE-3EB3BDE3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9E8-A579-41F7-A4E0-63CF480D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95CE-BC53-4FBE-89E2-7B425DCF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80A4-745F-407B-9C15-D8DAD022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42BE-E35F-4F87-AD01-51B3BD20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03DD-A7F1-4067-9845-06EA708C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D65F-ED67-452E-BA8B-0627B73F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D3E-063C-4D67-B21C-37D0ED8E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160-ADAB-428A-A8DC-24EC8DDE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E32-259C-40EE-B4EF-012B20AB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8C77-A3A5-4469-9EF8-5AF79E79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D88-7341-44C7-9750-D3F72307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CF1-A258-4EAE-8928-C46E8B43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69A-EE2A-4F84-B544-00EAE1D4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07D9-1BDC-463B-8DA9-D1EFEA945EA5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0D8F-33CF-4376-8F0B-24C8C1833DAF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ЮЖНАЯ АМЕРИ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341360"/>
            <a:ext cx="7386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7d47d"/>
                </a:solidFill>
                <a:latin typeface="Arial"/>
              </a:rPr>
              <a:t>ОБОБЩАЮЩЕЕ ПОВТОРЕНИЕ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70720" indent="-270720" algn="ctr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7d47d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f7d47d"/>
                </a:solidFill>
                <a:latin typeface="Arial"/>
              </a:rPr>
              <a:t>ПО ТЕМ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70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70720" indent="-270720" algn="ctr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1" i="1" lang="en-US" sz="1800" spc="-1" strike="noStrike" u="sng">
                <a:solidFill>
                  <a:srgbClr val="f7d47d"/>
                </a:solidFill>
                <a:uFillTx/>
                <a:latin typeface="Arial"/>
              </a:rPr>
              <a:t>«ПРИРОДА ЮЖНОЙ АМЕРИКИ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63520" y="3429000"/>
            <a:ext cx="7386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авилов Н.И.-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русский ботаник установил центры древних очагов земледелия. (1923-1933)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08000" y="1598760"/>
            <a:ext cx="446436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ЗАДАНИЕ №3   </a:t>
            </a: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ПОЧЕМУ НА ЗАПАДЕ МАТЕРИКА ГОРЫ, А НА ВОСТОКЕ-РАВНИНЫ?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7399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нежная лавина (май 1970г) погибло 25 тыс человек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Землетрясения в перуанских Андах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376200"/>
            <a:ext cx="76932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разильское плоскогорь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63520" y="1598760"/>
            <a:ext cx="7386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ЛЬЕФ ЮЖНОЙ АМЕРИ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№4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ОБОЗНАЧИТЬ НА К/К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КРУПНЫЕ ФОРМЫ РЕЛЬЕФ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3780000" y="1598760"/>
            <a:ext cx="37479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ЛИМА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ЗАДАНИЕ№5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ЗАПИСАТЬ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КЛИМАТИЧЕСКИЕ ОБЛАСТ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А) ТРОПИЧЕСКИЙ ПОЯ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Б) СУБТРОПИЧЕС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В) УМЕРЕН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3780000" y="2320920"/>
            <a:ext cx="408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НУТРЕННИЕ ВО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711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ЗАДАНИЕ№6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Обозначить на к/к крупнейшие рек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7399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Ковалева </a:t>
            </a:r>
            <a:br>
              <a:rPr sz="4000"/>
            </a:b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Галина </a:t>
            </a:r>
            <a:br>
              <a:rPr sz="4000"/>
            </a:b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Александровн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4076280"/>
            <a:ext cx="73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0b854"/>
                </a:solidFill>
                <a:latin typeface="Arial"/>
              </a:rPr>
              <a:t>г.Старый Оско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0b854"/>
                </a:solidFill>
                <a:latin typeface="Arial"/>
              </a:rPr>
              <a:t>МБОУ «Средняя общеобразовательная школа №21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одопа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ЗАДАНИЕ№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НАЗОВИТЕ ВОДОПАДЫ МАТЕРИ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НА КАКИХ РЕЧНЫХ СИСТЕМАХ ОНИ РАСПОЛОЖЕНЫ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3851280" y="1700280"/>
            <a:ext cx="3798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326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ЗАДАНИЕ№8? </a:t>
            </a:r>
            <a:r>
              <a:rPr b="1" i="1" lang="en-US" sz="2000" spc="-1" strike="noStrike" u="sng">
                <a:solidFill>
                  <a:srgbClr val="f7d47d"/>
                </a:solidFill>
                <a:uFillTx/>
                <a:latin typeface="Arial"/>
              </a:rPr>
              <a:t>ОЗЁРА МАТЕРИКА КАК НАЗЫВАЮТСЯ, ГДЕ РАСПОЛОЖЕНЫ?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732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ЗЕРО ТИТИКА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47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РИРОДА ЮЖНОЙ АМЕРИ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7470720" cy="5373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8680" y="6500880"/>
            <a:ext cx="243000" cy="214200"/>
          </a:xfrm>
          <a:custGeom>
            <a:avLst/>
            <a:gdLst/>
            <a:ahLst/>
            <a:rect l="l" t="t" r="r" b="b"/>
            <a:pathLst>
              <a:path w="676" h="596">
                <a:moveTo>
                  <a:pt x="992" y="18058"/>
                </a:moveTo>
                <a:cubicBezTo>
                  <a:pt x="1032" y="18098"/>
                  <a:pt x="1071" y="18137"/>
                  <a:pt x="1111" y="18177"/>
                </a:cubicBezTo>
                <a:cubicBezTo>
                  <a:pt x="1143" y="18209"/>
                  <a:pt x="1207" y="18251"/>
                  <a:pt x="1210" y="18296"/>
                </a:cubicBezTo>
                <a:cubicBezTo>
                  <a:pt x="1214" y="18360"/>
                  <a:pt x="1247" y="18344"/>
                  <a:pt x="1270" y="18395"/>
                </a:cubicBezTo>
                <a:cubicBezTo>
                  <a:pt x="1292" y="18444"/>
                  <a:pt x="1293" y="18414"/>
                  <a:pt x="1330" y="18435"/>
                </a:cubicBezTo>
                <a:cubicBezTo>
                  <a:pt x="1347" y="18453"/>
                  <a:pt x="1354" y="18457"/>
                  <a:pt x="1349" y="18475"/>
                </a:cubicBezTo>
                <a:cubicBezTo>
                  <a:pt x="1388" y="18484"/>
                  <a:pt x="1394" y="18519"/>
                  <a:pt x="1429" y="18534"/>
                </a:cubicBezTo>
                <a:cubicBezTo>
                  <a:pt x="1452" y="18534"/>
                  <a:pt x="1460" y="18532"/>
                  <a:pt x="1468" y="18514"/>
                </a:cubicBezTo>
              </a:path>
              <a:path w="676" h="596">
                <a:moveTo>
                  <a:pt x="1290" y="18276"/>
                </a:moveTo>
                <a:cubicBezTo>
                  <a:pt x="1300" y="18246"/>
                  <a:pt x="1313" y="18256"/>
                  <a:pt x="1349" y="18256"/>
                </a:cubicBezTo>
                <a:cubicBezTo>
                  <a:pt x="1381" y="18256"/>
                  <a:pt x="1393" y="18236"/>
                  <a:pt x="1429" y="18236"/>
                </a:cubicBezTo>
                <a:cubicBezTo>
                  <a:pt x="1473" y="18236"/>
                  <a:pt x="1493" y="18217"/>
                  <a:pt x="1508" y="18197"/>
                </a:cubicBezTo>
                <a:cubicBezTo>
                  <a:pt x="1530" y="18168"/>
                  <a:pt x="1562" y="18143"/>
                  <a:pt x="1588" y="18117"/>
                </a:cubicBezTo>
                <a:cubicBezTo>
                  <a:pt x="1522" y="18125"/>
                  <a:pt x="1523" y="18154"/>
                  <a:pt x="1488" y="18177"/>
                </a:cubicBezTo>
                <a:cubicBezTo>
                  <a:pt x="1468" y="18190"/>
                  <a:pt x="1452" y="18218"/>
                  <a:pt x="1429" y="18236"/>
                </a:cubicBezTo>
                <a:cubicBezTo>
                  <a:pt x="1391" y="18265"/>
                  <a:pt x="1423" y="18276"/>
                  <a:pt x="1369" y="18276"/>
                </a:cubicBezTo>
                <a:cubicBezTo>
                  <a:pt x="1328" y="18276"/>
                  <a:pt x="1310" y="18274"/>
                  <a:pt x="1290" y="18296"/>
                </a:cubicBezTo>
                <a:cubicBezTo>
                  <a:pt x="1265" y="18325"/>
                  <a:pt x="1243" y="18316"/>
                  <a:pt x="1230" y="18355"/>
                </a:cubicBezTo>
                <a:cubicBezTo>
                  <a:pt x="1216" y="18396"/>
                  <a:pt x="1225" y="18408"/>
                  <a:pt x="1191" y="18435"/>
                </a:cubicBezTo>
                <a:cubicBezTo>
                  <a:pt x="1177" y="18446"/>
                  <a:pt x="1114" y="18471"/>
                  <a:pt x="1111" y="18475"/>
                </a:cubicBezTo>
                <a:cubicBezTo>
                  <a:pt x="1088" y="18502"/>
                  <a:pt x="1086" y="18475"/>
                  <a:pt x="1052" y="18494"/>
                </a:cubicBezTo>
                <a:cubicBezTo>
                  <a:pt x="1012" y="18517"/>
                  <a:pt x="1010" y="18573"/>
                  <a:pt x="972" y="18594"/>
                </a:cubicBezTo>
                <a:cubicBezTo>
                  <a:pt x="965" y="18598"/>
                  <a:pt x="918" y="18626"/>
                  <a:pt x="913" y="18633"/>
                </a:cubicBezTo>
                <a:cubicBezTo>
                  <a:pt x="913" y="18640"/>
                  <a:pt x="913" y="18646"/>
                  <a:pt x="913" y="18653"/>
                </a:cubicBezTo>
              </a:path>
            </a:pathLst>
          </a:custGeom>
          <a:noFill/>
          <a:ln cap="rnd" w="34920">
            <a:solidFill>
              <a:srgbClr val="2f13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92840" y="4665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371" y="12958"/>
                </a:moveTo>
                <a:lnTo>
                  <a:pt x="16371" y="1295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92840" y="4665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371" y="12958"/>
                </a:moveTo>
                <a:lnTo>
                  <a:pt x="16371" y="1295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92840" y="4665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371" y="12958"/>
                </a:moveTo>
                <a:lnTo>
                  <a:pt x="16371" y="1295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37240" y="4643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657" y="12898"/>
                </a:moveTo>
                <a:lnTo>
                  <a:pt x="15657" y="1289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37240" y="4643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657" y="12898"/>
                </a:moveTo>
                <a:lnTo>
                  <a:pt x="15657" y="1289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37240" y="46432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657" y="12898"/>
                </a:moveTo>
                <a:lnTo>
                  <a:pt x="15657" y="1289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9400" y="4786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915" y="13295"/>
                </a:moveTo>
                <a:lnTo>
                  <a:pt x="15915" y="132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9400" y="4786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915" y="13295"/>
                </a:moveTo>
                <a:lnTo>
                  <a:pt x="15915" y="132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9400" y="4786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915" y="13295"/>
                </a:moveTo>
                <a:lnTo>
                  <a:pt x="15915" y="1329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23000" y="48006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173" y="13335"/>
                </a:moveTo>
                <a:lnTo>
                  <a:pt x="16173" y="1333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23000" y="48006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173" y="13335"/>
                </a:moveTo>
                <a:lnTo>
                  <a:pt x="16173" y="1333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07080" y="4908600"/>
            <a:ext cx="73080" cy="463680"/>
          </a:xfrm>
          <a:custGeom>
            <a:avLst/>
            <a:gdLst/>
            <a:ahLst/>
            <a:rect l="l" t="t" r="r" b="b"/>
            <a:pathLst>
              <a:path w="200" h="1290">
                <a:moveTo>
                  <a:pt x="16054" y="13633"/>
                </a:moveTo>
                <a:cubicBezTo>
                  <a:pt x="16041" y="13646"/>
                  <a:pt x="16018" y="13668"/>
                  <a:pt x="15994" y="13692"/>
                </a:cubicBezTo>
                <a:cubicBezTo>
                  <a:pt x="15968" y="13718"/>
                  <a:pt x="15967" y="13730"/>
                  <a:pt x="15954" y="13752"/>
                </a:cubicBezTo>
                <a:cubicBezTo>
                  <a:pt x="15927" y="13798"/>
                  <a:pt x="15951" y="13826"/>
                  <a:pt x="15935" y="13871"/>
                </a:cubicBezTo>
                <a:cubicBezTo>
                  <a:pt x="15923" y="13904"/>
                  <a:pt x="15901" y="13934"/>
                  <a:pt x="15895" y="13970"/>
                </a:cubicBezTo>
                <a:cubicBezTo>
                  <a:pt x="15889" y="14006"/>
                  <a:pt x="15879" y="14056"/>
                  <a:pt x="15875" y="14089"/>
                </a:cubicBezTo>
                <a:cubicBezTo>
                  <a:pt x="15865" y="14162"/>
                  <a:pt x="15858" y="14233"/>
                  <a:pt x="15855" y="14307"/>
                </a:cubicBezTo>
                <a:cubicBezTo>
                  <a:pt x="15849" y="14472"/>
                  <a:pt x="15859" y="14669"/>
                  <a:pt x="15875" y="14803"/>
                </a:cubicBezTo>
                <a:cubicBezTo>
                  <a:pt x="15885" y="14885"/>
                  <a:pt x="15883" y="14869"/>
                  <a:pt x="15915" y="14922"/>
                </a:cubicBezTo>
                <a:cubicBezTo>
                  <a:pt x="15932" y="14888"/>
                  <a:pt x="15936" y="14857"/>
                  <a:pt x="15954" y="14823"/>
                </a:cubicBezTo>
                <a:cubicBezTo>
                  <a:pt x="15976" y="14782"/>
                  <a:pt x="15972" y="14767"/>
                  <a:pt x="15974" y="14724"/>
                </a:cubicBezTo>
                <a:cubicBezTo>
                  <a:pt x="15977" y="14668"/>
                  <a:pt x="15985" y="14612"/>
                  <a:pt x="15994" y="14565"/>
                </a:cubicBezTo>
                <a:cubicBezTo>
                  <a:pt x="16002" y="14522"/>
                  <a:pt x="15985" y="14502"/>
                  <a:pt x="16014" y="14466"/>
                </a:cubicBezTo>
                <a:cubicBezTo>
                  <a:pt x="16041" y="14432"/>
                  <a:pt x="16034" y="14412"/>
                  <a:pt x="16034" y="14367"/>
                </a:cubicBezTo>
                <a:cubicBezTo>
                  <a:pt x="16034" y="14321"/>
                  <a:pt x="16047" y="14290"/>
                  <a:pt x="16054" y="14248"/>
                </a:cubicBezTo>
                <a:cubicBezTo>
                  <a:pt x="16077" y="14109"/>
                  <a:pt x="16083" y="13789"/>
                  <a:pt x="16034" y="13692"/>
                </a:cubicBezTo>
                <a:cubicBezTo>
                  <a:pt x="15992" y="13706"/>
                  <a:pt x="15999" y="13680"/>
                  <a:pt x="15994" y="13732"/>
                </a:cubicBezTo>
                <a:cubicBezTo>
                  <a:pt x="15982" y="13860"/>
                  <a:pt x="15981" y="13964"/>
                  <a:pt x="15954" y="14089"/>
                </a:cubicBezTo>
                <a:cubicBezTo>
                  <a:pt x="15954" y="14122"/>
                  <a:pt x="15954" y="14129"/>
                  <a:pt x="15954" y="14149"/>
                </a:cubicBezTo>
                <a:cubicBezTo>
                  <a:pt x="15969" y="14104"/>
                  <a:pt x="15972" y="14096"/>
                  <a:pt x="15974" y="14049"/>
                </a:cubicBezTo>
                <a:cubicBezTo>
                  <a:pt x="15976" y="13990"/>
                  <a:pt x="15974" y="13930"/>
                  <a:pt x="15974" y="13871"/>
                </a:cubicBezTo>
                <a:cubicBezTo>
                  <a:pt x="15974" y="13937"/>
                  <a:pt x="15974" y="13964"/>
                  <a:pt x="15974" y="14030"/>
                </a:cubicBezTo>
                <a:cubicBezTo>
                  <a:pt x="15974" y="14088"/>
                  <a:pt x="15960" y="14106"/>
                  <a:pt x="15954" y="14149"/>
                </a:cubicBezTo>
                <a:cubicBezTo>
                  <a:pt x="15944" y="14213"/>
                  <a:pt x="15943" y="14283"/>
                  <a:pt x="15935" y="14347"/>
                </a:cubicBezTo>
                <a:cubicBezTo>
                  <a:pt x="15930" y="14386"/>
                  <a:pt x="15921" y="14415"/>
                  <a:pt x="15915" y="14446"/>
                </a:cubicBezTo>
                <a:cubicBezTo>
                  <a:pt x="15900" y="14519"/>
                  <a:pt x="15924" y="14597"/>
                  <a:pt x="15895" y="146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78480" y="4857840"/>
            <a:ext cx="222120" cy="285840"/>
          </a:xfrm>
          <a:custGeom>
            <a:avLst/>
            <a:gdLst/>
            <a:ahLst/>
            <a:rect l="l" t="t" r="r" b="b"/>
            <a:pathLst>
              <a:path w="616" h="795">
                <a:moveTo>
                  <a:pt x="15478" y="13533"/>
                </a:moveTo>
                <a:cubicBezTo>
                  <a:pt x="15472" y="13573"/>
                  <a:pt x="15472" y="13566"/>
                  <a:pt x="15458" y="13593"/>
                </a:cubicBezTo>
                <a:cubicBezTo>
                  <a:pt x="15449" y="13610"/>
                  <a:pt x="15424" y="13652"/>
                  <a:pt x="15419" y="13672"/>
                </a:cubicBezTo>
                <a:cubicBezTo>
                  <a:pt x="15408" y="13714"/>
                  <a:pt x="15427" y="13728"/>
                  <a:pt x="15399" y="13772"/>
                </a:cubicBezTo>
                <a:cubicBezTo>
                  <a:pt x="15381" y="13801"/>
                  <a:pt x="15365" y="13836"/>
                  <a:pt x="15359" y="13871"/>
                </a:cubicBezTo>
                <a:cubicBezTo>
                  <a:pt x="15353" y="13904"/>
                  <a:pt x="15354" y="13941"/>
                  <a:pt x="15339" y="13970"/>
                </a:cubicBezTo>
                <a:cubicBezTo>
                  <a:pt x="15324" y="14001"/>
                  <a:pt x="15317" y="14041"/>
                  <a:pt x="15300" y="14069"/>
                </a:cubicBezTo>
                <a:cubicBezTo>
                  <a:pt x="15280" y="14102"/>
                  <a:pt x="15275" y="14134"/>
                  <a:pt x="15260" y="14168"/>
                </a:cubicBezTo>
                <a:cubicBezTo>
                  <a:pt x="15244" y="14205"/>
                  <a:pt x="15230" y="14234"/>
                  <a:pt x="15220" y="14268"/>
                </a:cubicBezTo>
                <a:cubicBezTo>
                  <a:pt x="15220" y="14275"/>
                  <a:pt x="15220" y="14281"/>
                  <a:pt x="15220" y="14288"/>
                </a:cubicBezTo>
                <a:cubicBezTo>
                  <a:pt x="15248" y="14274"/>
                  <a:pt x="15274" y="14272"/>
                  <a:pt x="15300" y="14248"/>
                </a:cubicBezTo>
                <a:cubicBezTo>
                  <a:pt x="15329" y="14222"/>
                  <a:pt x="15331" y="14216"/>
                  <a:pt x="15359" y="14188"/>
                </a:cubicBezTo>
                <a:cubicBezTo>
                  <a:pt x="15375" y="14172"/>
                  <a:pt x="15401" y="14144"/>
                  <a:pt x="15419" y="14109"/>
                </a:cubicBezTo>
                <a:cubicBezTo>
                  <a:pt x="15437" y="14074"/>
                  <a:pt x="15461" y="14047"/>
                  <a:pt x="15478" y="14030"/>
                </a:cubicBezTo>
                <a:cubicBezTo>
                  <a:pt x="15507" y="14002"/>
                  <a:pt x="15531" y="13995"/>
                  <a:pt x="15558" y="13970"/>
                </a:cubicBezTo>
                <a:cubicBezTo>
                  <a:pt x="15593" y="13938"/>
                  <a:pt x="15596" y="13932"/>
                  <a:pt x="15637" y="13891"/>
                </a:cubicBezTo>
                <a:cubicBezTo>
                  <a:pt x="15650" y="13878"/>
                  <a:pt x="15673" y="13854"/>
                  <a:pt x="15696" y="13831"/>
                </a:cubicBezTo>
                <a:cubicBezTo>
                  <a:pt x="15719" y="13807"/>
                  <a:pt x="15743" y="13785"/>
                  <a:pt x="15756" y="13772"/>
                </a:cubicBezTo>
                <a:cubicBezTo>
                  <a:pt x="15784" y="13744"/>
                  <a:pt x="15799" y="13722"/>
                  <a:pt x="15815" y="13692"/>
                </a:cubicBezTo>
                <a:cubicBezTo>
                  <a:pt x="15822" y="13679"/>
                  <a:pt x="15828" y="13665"/>
                  <a:pt x="15835" y="13652"/>
                </a:cubicBezTo>
                <a:cubicBezTo>
                  <a:pt x="15802" y="13633"/>
                  <a:pt x="15796" y="13635"/>
                  <a:pt x="15756" y="13633"/>
                </a:cubicBezTo>
                <a:cubicBezTo>
                  <a:pt x="15717" y="13631"/>
                  <a:pt x="15694" y="13642"/>
                  <a:pt x="15677" y="13652"/>
                </a:cubicBezTo>
                <a:cubicBezTo>
                  <a:pt x="15655" y="13665"/>
                  <a:pt x="15659" y="13717"/>
                  <a:pt x="15637" y="13752"/>
                </a:cubicBezTo>
                <a:cubicBezTo>
                  <a:pt x="15616" y="13786"/>
                  <a:pt x="15602" y="13819"/>
                  <a:pt x="15558" y="13811"/>
                </a:cubicBezTo>
                <a:cubicBezTo>
                  <a:pt x="15497" y="13800"/>
                  <a:pt x="15521" y="13757"/>
                  <a:pt x="15518" y="13712"/>
                </a:cubicBezTo>
                <a:cubicBezTo>
                  <a:pt x="15514" y="13665"/>
                  <a:pt x="15518" y="13490"/>
                  <a:pt x="15518" y="13514"/>
                </a:cubicBezTo>
                <a:cubicBezTo>
                  <a:pt x="15518" y="13564"/>
                  <a:pt x="15507" y="13614"/>
                  <a:pt x="15538" y="13652"/>
                </a:cubicBezTo>
                <a:cubicBezTo>
                  <a:pt x="15568" y="13689"/>
                  <a:pt x="15550" y="13686"/>
                  <a:pt x="15597" y="13692"/>
                </a:cubicBezTo>
                <a:cubicBezTo>
                  <a:pt x="15680" y="13702"/>
                  <a:pt x="15692" y="13688"/>
                  <a:pt x="15756" y="13633"/>
                </a:cubicBezTo>
                <a:cubicBezTo>
                  <a:pt x="15813" y="13584"/>
                  <a:pt x="15821" y="13561"/>
                  <a:pt x="15815" y="13533"/>
                </a:cubicBezTo>
                <a:cubicBezTo>
                  <a:pt x="15753" y="13547"/>
                  <a:pt x="15778" y="13520"/>
                  <a:pt x="15716" y="13573"/>
                </a:cubicBezTo>
                <a:cubicBezTo>
                  <a:pt x="15693" y="13593"/>
                  <a:pt x="15645" y="13681"/>
                  <a:pt x="15637" y="13712"/>
                </a:cubicBezTo>
                <a:cubicBezTo>
                  <a:pt x="15622" y="13769"/>
                  <a:pt x="15605" y="13797"/>
                  <a:pt x="15577" y="13851"/>
                </a:cubicBezTo>
                <a:cubicBezTo>
                  <a:pt x="15557" y="13889"/>
                  <a:pt x="15547" y="13902"/>
                  <a:pt x="15518" y="13930"/>
                </a:cubicBezTo>
                <a:cubicBezTo>
                  <a:pt x="15511" y="13937"/>
                  <a:pt x="15505" y="13943"/>
                  <a:pt x="15498" y="13950"/>
                </a:cubicBezTo>
                <a:cubicBezTo>
                  <a:pt x="15498" y="13883"/>
                  <a:pt x="15495" y="13810"/>
                  <a:pt x="15518" y="13772"/>
                </a:cubicBezTo>
                <a:cubicBezTo>
                  <a:pt x="15513" y="13816"/>
                  <a:pt x="15518" y="13827"/>
                  <a:pt x="15498" y="13871"/>
                </a:cubicBezTo>
                <a:cubicBezTo>
                  <a:pt x="15480" y="13911"/>
                  <a:pt x="15462" y="13896"/>
                  <a:pt x="15438" y="13930"/>
                </a:cubicBezTo>
                <a:cubicBezTo>
                  <a:pt x="15424" y="13950"/>
                  <a:pt x="15414" y="13986"/>
                  <a:pt x="15399" y="14010"/>
                </a:cubicBezTo>
                <a:cubicBezTo>
                  <a:pt x="15374" y="14052"/>
                  <a:pt x="15339" y="14089"/>
                  <a:pt x="15399" y="14049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00800" y="4871880"/>
            <a:ext cx="185760" cy="222480"/>
          </a:xfrm>
          <a:custGeom>
            <a:avLst/>
            <a:gdLst/>
            <a:ahLst/>
            <a:rect l="l" t="t" r="r" b="b"/>
            <a:pathLst>
              <a:path w="517" h="617">
                <a:moveTo>
                  <a:pt x="15796" y="13573"/>
                </a:moveTo>
                <a:cubicBezTo>
                  <a:pt x="15756" y="13573"/>
                  <a:pt x="15749" y="13564"/>
                  <a:pt x="15716" y="13553"/>
                </a:cubicBezTo>
                <a:cubicBezTo>
                  <a:pt x="15706" y="13550"/>
                  <a:pt x="15650" y="13516"/>
                  <a:pt x="15637" y="13533"/>
                </a:cubicBezTo>
                <a:cubicBezTo>
                  <a:pt x="15620" y="13554"/>
                  <a:pt x="15590" y="13553"/>
                  <a:pt x="15577" y="13593"/>
                </a:cubicBezTo>
                <a:cubicBezTo>
                  <a:pt x="15565" y="13628"/>
                  <a:pt x="15546" y="13644"/>
                  <a:pt x="15518" y="13672"/>
                </a:cubicBezTo>
                <a:cubicBezTo>
                  <a:pt x="15503" y="13687"/>
                  <a:pt x="15466" y="13747"/>
                  <a:pt x="15458" y="13752"/>
                </a:cubicBezTo>
                <a:cubicBezTo>
                  <a:pt x="15431" y="13770"/>
                  <a:pt x="15404" y="13768"/>
                  <a:pt x="15399" y="13811"/>
                </a:cubicBezTo>
                <a:cubicBezTo>
                  <a:pt x="15395" y="13845"/>
                  <a:pt x="15387" y="13860"/>
                  <a:pt x="15379" y="13891"/>
                </a:cubicBezTo>
                <a:cubicBezTo>
                  <a:pt x="15424" y="13923"/>
                  <a:pt x="15422" y="13922"/>
                  <a:pt x="15379" y="13970"/>
                </a:cubicBezTo>
                <a:cubicBezTo>
                  <a:pt x="15355" y="13997"/>
                  <a:pt x="15347" y="14020"/>
                  <a:pt x="15319" y="14049"/>
                </a:cubicBezTo>
                <a:cubicBezTo>
                  <a:pt x="15301" y="14068"/>
                  <a:pt x="15262" y="14097"/>
                  <a:pt x="15280" y="14129"/>
                </a:cubicBezTo>
                <a:cubicBezTo>
                  <a:pt x="15291" y="14149"/>
                  <a:pt x="15338" y="14161"/>
                  <a:pt x="15359" y="14149"/>
                </a:cubicBezTo>
                <a:cubicBezTo>
                  <a:pt x="15384" y="14135"/>
                  <a:pt x="15417" y="14085"/>
                  <a:pt x="15419" y="14069"/>
                </a:cubicBezTo>
                <a:cubicBezTo>
                  <a:pt x="15425" y="14025"/>
                  <a:pt x="15441" y="14028"/>
                  <a:pt x="15458" y="13990"/>
                </a:cubicBezTo>
                <a:cubicBezTo>
                  <a:pt x="15468" y="13967"/>
                  <a:pt x="15491" y="13957"/>
                  <a:pt x="15518" y="13930"/>
                </a:cubicBezTo>
                <a:cubicBezTo>
                  <a:pt x="15560" y="13888"/>
                  <a:pt x="15550" y="13889"/>
                  <a:pt x="15597" y="13871"/>
                </a:cubicBezTo>
                <a:cubicBezTo>
                  <a:pt x="15608" y="13867"/>
                  <a:pt x="15693" y="13815"/>
                  <a:pt x="15696" y="13811"/>
                </a:cubicBezTo>
                <a:cubicBezTo>
                  <a:pt x="15713" y="13790"/>
                  <a:pt x="15731" y="13757"/>
                  <a:pt x="15756" y="13732"/>
                </a:cubicBezTo>
                <a:cubicBezTo>
                  <a:pt x="15703" y="13700"/>
                  <a:pt x="15713" y="13729"/>
                  <a:pt x="15677" y="13732"/>
                </a:cubicBezTo>
                <a:cubicBezTo>
                  <a:pt x="15635" y="13735"/>
                  <a:pt x="15631" y="13750"/>
                  <a:pt x="15597" y="13772"/>
                </a:cubicBezTo>
                <a:cubicBezTo>
                  <a:pt x="15566" y="13792"/>
                  <a:pt x="15557" y="13791"/>
                  <a:pt x="15518" y="13791"/>
                </a:cubicBezTo>
                <a:cubicBezTo>
                  <a:pt x="15476" y="13791"/>
                  <a:pt x="15478" y="13817"/>
                  <a:pt x="15478" y="13851"/>
                </a:cubicBezTo>
                <a:cubicBezTo>
                  <a:pt x="15478" y="13879"/>
                  <a:pt x="15474" y="13893"/>
                  <a:pt x="15458" y="1391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65840" y="4908600"/>
            <a:ext cx="77760" cy="249120"/>
          </a:xfrm>
          <a:custGeom>
            <a:avLst/>
            <a:gdLst/>
            <a:ahLst/>
            <a:rect l="l" t="t" r="r" b="b"/>
            <a:pathLst>
              <a:path w="219" h="695">
                <a:moveTo>
                  <a:pt x="16351" y="13672"/>
                </a:moveTo>
                <a:cubicBezTo>
                  <a:pt x="16321" y="13682"/>
                  <a:pt x="16331" y="13696"/>
                  <a:pt x="16331" y="13732"/>
                </a:cubicBezTo>
                <a:cubicBezTo>
                  <a:pt x="16331" y="13768"/>
                  <a:pt x="16315" y="13779"/>
                  <a:pt x="16312" y="13811"/>
                </a:cubicBezTo>
                <a:cubicBezTo>
                  <a:pt x="16306" y="13866"/>
                  <a:pt x="16308" y="13903"/>
                  <a:pt x="16292" y="13950"/>
                </a:cubicBezTo>
                <a:cubicBezTo>
                  <a:pt x="16259" y="14050"/>
                  <a:pt x="16292" y="14220"/>
                  <a:pt x="16292" y="14327"/>
                </a:cubicBezTo>
                <a:cubicBezTo>
                  <a:pt x="16322" y="14297"/>
                  <a:pt x="16331" y="14290"/>
                  <a:pt x="16331" y="14248"/>
                </a:cubicBezTo>
                <a:cubicBezTo>
                  <a:pt x="16331" y="14182"/>
                  <a:pt x="16340" y="14125"/>
                  <a:pt x="16351" y="14069"/>
                </a:cubicBezTo>
                <a:cubicBezTo>
                  <a:pt x="16361" y="14022"/>
                  <a:pt x="16379" y="13998"/>
                  <a:pt x="16391" y="13950"/>
                </a:cubicBezTo>
                <a:cubicBezTo>
                  <a:pt x="16400" y="13913"/>
                  <a:pt x="16420" y="13891"/>
                  <a:pt x="16431" y="13871"/>
                </a:cubicBezTo>
                <a:cubicBezTo>
                  <a:pt x="16443" y="13849"/>
                  <a:pt x="16469" y="13806"/>
                  <a:pt x="16470" y="13791"/>
                </a:cubicBezTo>
                <a:cubicBezTo>
                  <a:pt x="16475" y="13733"/>
                  <a:pt x="16504" y="13766"/>
                  <a:pt x="16510" y="13712"/>
                </a:cubicBezTo>
                <a:cubicBezTo>
                  <a:pt x="16514" y="13675"/>
                  <a:pt x="16511" y="13660"/>
                  <a:pt x="16490" y="13633"/>
                </a:cubicBezTo>
                <a:cubicBezTo>
                  <a:pt x="16453" y="13651"/>
                  <a:pt x="16450" y="13669"/>
                  <a:pt x="16450" y="13712"/>
                </a:cubicBezTo>
                <a:cubicBezTo>
                  <a:pt x="16450" y="13742"/>
                  <a:pt x="16424" y="13782"/>
                  <a:pt x="16411" y="13811"/>
                </a:cubicBezTo>
                <a:cubicBezTo>
                  <a:pt x="16411" y="13775"/>
                  <a:pt x="16401" y="13762"/>
                  <a:pt x="16431" y="13752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00760" y="4929120"/>
            <a:ext cx="71280" cy="208080"/>
          </a:xfrm>
          <a:custGeom>
            <a:avLst/>
            <a:gdLst/>
            <a:ahLst/>
            <a:rect l="l" t="t" r="r" b="b"/>
            <a:pathLst>
              <a:path w="199" h="577">
                <a:moveTo>
                  <a:pt x="16570" y="13692"/>
                </a:moveTo>
                <a:cubicBezTo>
                  <a:pt x="16576" y="13692"/>
                  <a:pt x="16583" y="13692"/>
                  <a:pt x="16589" y="13692"/>
                </a:cubicBezTo>
                <a:cubicBezTo>
                  <a:pt x="16565" y="13726"/>
                  <a:pt x="16583" y="13736"/>
                  <a:pt x="16570" y="13772"/>
                </a:cubicBezTo>
                <a:cubicBezTo>
                  <a:pt x="16557" y="13807"/>
                  <a:pt x="16540" y="13840"/>
                  <a:pt x="16530" y="13871"/>
                </a:cubicBezTo>
                <a:cubicBezTo>
                  <a:pt x="16523" y="13891"/>
                  <a:pt x="16520" y="13931"/>
                  <a:pt x="16510" y="13950"/>
                </a:cubicBezTo>
                <a:cubicBezTo>
                  <a:pt x="16492" y="13983"/>
                  <a:pt x="16502" y="13996"/>
                  <a:pt x="16490" y="14030"/>
                </a:cubicBezTo>
                <a:cubicBezTo>
                  <a:pt x="16483" y="14050"/>
                  <a:pt x="16479" y="14112"/>
                  <a:pt x="16470" y="14129"/>
                </a:cubicBezTo>
                <a:cubicBezTo>
                  <a:pt x="16453" y="14159"/>
                  <a:pt x="16428" y="14179"/>
                  <a:pt x="16411" y="14208"/>
                </a:cubicBezTo>
                <a:cubicBezTo>
                  <a:pt x="16395" y="14241"/>
                  <a:pt x="16388" y="14246"/>
                  <a:pt x="16391" y="142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886360" y="4971960"/>
            <a:ext cx="28800" cy="108000"/>
          </a:xfrm>
          <a:custGeom>
            <a:avLst/>
            <a:gdLst/>
            <a:ahLst/>
            <a:rect l="l" t="t" r="r" b="b"/>
            <a:pathLst>
              <a:path w="81" h="299">
                <a:moveTo>
                  <a:pt x="16391" y="14030"/>
                </a:moveTo>
                <a:cubicBezTo>
                  <a:pt x="16391" y="13974"/>
                  <a:pt x="16395" y="13937"/>
                  <a:pt x="16411" y="13891"/>
                </a:cubicBezTo>
                <a:cubicBezTo>
                  <a:pt x="16421" y="13862"/>
                  <a:pt x="16428" y="13853"/>
                  <a:pt x="16431" y="13831"/>
                </a:cubicBezTo>
                <a:cubicBezTo>
                  <a:pt x="16436" y="13791"/>
                  <a:pt x="16411" y="13850"/>
                  <a:pt x="16411" y="13851"/>
                </a:cubicBezTo>
                <a:cubicBezTo>
                  <a:pt x="16398" y="13876"/>
                  <a:pt x="16391" y="13898"/>
                  <a:pt x="16391" y="13930"/>
                </a:cubicBezTo>
                <a:cubicBezTo>
                  <a:pt x="16391" y="13962"/>
                  <a:pt x="16371" y="13974"/>
                  <a:pt x="16371" y="14010"/>
                </a:cubicBezTo>
                <a:cubicBezTo>
                  <a:pt x="16371" y="14028"/>
                  <a:pt x="16356" y="14109"/>
                  <a:pt x="16351" y="14109"/>
                </a:cubicBezTo>
                <a:cubicBezTo>
                  <a:pt x="16311" y="14109"/>
                  <a:pt x="16351" y="14030"/>
                  <a:pt x="16351" y="1399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57920" y="4994280"/>
            <a:ext cx="93600" cy="214200"/>
          </a:xfrm>
          <a:custGeom>
            <a:avLst/>
            <a:gdLst/>
            <a:ahLst/>
            <a:rect l="l" t="t" r="r" b="b"/>
            <a:pathLst>
              <a:path w="259" h="596">
                <a:moveTo>
                  <a:pt x="16292" y="14248"/>
                </a:moveTo>
                <a:cubicBezTo>
                  <a:pt x="16269" y="14278"/>
                  <a:pt x="16272" y="14289"/>
                  <a:pt x="16272" y="14327"/>
                </a:cubicBezTo>
                <a:cubicBezTo>
                  <a:pt x="16272" y="14373"/>
                  <a:pt x="16272" y="14420"/>
                  <a:pt x="16272" y="14466"/>
                </a:cubicBezTo>
                <a:cubicBezTo>
                  <a:pt x="16302" y="14436"/>
                  <a:pt x="16312" y="14429"/>
                  <a:pt x="16312" y="14387"/>
                </a:cubicBezTo>
                <a:cubicBezTo>
                  <a:pt x="16312" y="14354"/>
                  <a:pt x="16312" y="14321"/>
                  <a:pt x="16312" y="14288"/>
                </a:cubicBezTo>
                <a:cubicBezTo>
                  <a:pt x="16339" y="14301"/>
                  <a:pt x="16318" y="14301"/>
                  <a:pt x="16292" y="14327"/>
                </a:cubicBezTo>
                <a:cubicBezTo>
                  <a:pt x="16324" y="14319"/>
                  <a:pt x="16347" y="14304"/>
                  <a:pt x="16351" y="14268"/>
                </a:cubicBezTo>
                <a:cubicBezTo>
                  <a:pt x="16358" y="14210"/>
                  <a:pt x="16331" y="14134"/>
                  <a:pt x="16371" y="14089"/>
                </a:cubicBezTo>
                <a:cubicBezTo>
                  <a:pt x="16405" y="14051"/>
                  <a:pt x="16443" y="14013"/>
                  <a:pt x="16470" y="13970"/>
                </a:cubicBezTo>
                <a:cubicBezTo>
                  <a:pt x="16496" y="13929"/>
                  <a:pt x="16526" y="13904"/>
                  <a:pt x="16510" y="13891"/>
                </a:cubicBezTo>
                <a:cubicBezTo>
                  <a:pt x="16503" y="13884"/>
                  <a:pt x="16497" y="13878"/>
                  <a:pt x="16490" y="1387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2379600"/>
            <a:ext cx="193680" cy="63720"/>
          </a:xfrm>
          <a:custGeom>
            <a:avLst/>
            <a:gdLst/>
            <a:ahLst/>
            <a:rect l="l" t="t" r="r" b="b"/>
            <a:pathLst>
              <a:path w="537" h="180">
                <a:moveTo>
                  <a:pt x="17800" y="6787"/>
                </a:moveTo>
                <a:cubicBezTo>
                  <a:pt x="17806" y="6786"/>
                  <a:pt x="17877" y="6769"/>
                  <a:pt x="17879" y="6767"/>
                </a:cubicBezTo>
                <a:cubicBezTo>
                  <a:pt x="17903" y="6737"/>
                  <a:pt x="17889" y="6727"/>
                  <a:pt x="17939" y="6727"/>
                </a:cubicBezTo>
                <a:cubicBezTo>
                  <a:pt x="18051" y="6727"/>
                  <a:pt x="18164" y="6727"/>
                  <a:pt x="18276" y="6727"/>
                </a:cubicBezTo>
                <a:cubicBezTo>
                  <a:pt x="18333" y="6727"/>
                  <a:pt x="18241" y="6730"/>
                  <a:pt x="18236" y="6727"/>
                </a:cubicBezTo>
                <a:cubicBezTo>
                  <a:pt x="18203" y="6708"/>
                  <a:pt x="18198" y="6707"/>
                  <a:pt x="18157" y="6707"/>
                </a:cubicBezTo>
                <a:cubicBezTo>
                  <a:pt x="18150" y="6707"/>
                  <a:pt x="18144" y="6707"/>
                  <a:pt x="18137" y="6707"/>
                </a:cubicBezTo>
                <a:cubicBezTo>
                  <a:pt x="18080" y="6707"/>
                  <a:pt x="18172" y="6710"/>
                  <a:pt x="18177" y="6707"/>
                </a:cubicBezTo>
                <a:cubicBezTo>
                  <a:pt x="18187" y="6702"/>
                  <a:pt x="18239" y="6666"/>
                  <a:pt x="18256" y="6687"/>
                </a:cubicBezTo>
                <a:cubicBezTo>
                  <a:pt x="18267" y="6701"/>
                  <a:pt x="18286" y="6766"/>
                  <a:pt x="18316" y="6707"/>
                </a:cubicBezTo>
                <a:cubicBezTo>
                  <a:pt x="18316" y="6700"/>
                  <a:pt x="18316" y="6694"/>
                  <a:pt x="18316" y="6687"/>
                </a:cubicBezTo>
                <a:cubicBezTo>
                  <a:pt x="18302" y="6634"/>
                  <a:pt x="18275" y="6671"/>
                  <a:pt x="18256" y="6648"/>
                </a:cubicBezTo>
                <a:cubicBezTo>
                  <a:pt x="18238" y="6625"/>
                  <a:pt x="18239" y="6628"/>
                  <a:pt x="18197" y="6628"/>
                </a:cubicBezTo>
                <a:cubicBezTo>
                  <a:pt x="18141" y="6628"/>
                  <a:pt x="18019" y="6607"/>
                  <a:pt x="17978" y="6648"/>
                </a:cubicBezTo>
                <a:cubicBezTo>
                  <a:pt x="17958" y="6668"/>
                  <a:pt x="17963" y="6668"/>
                  <a:pt x="17919" y="6668"/>
                </a:cubicBezTo>
                <a:cubicBezTo>
                  <a:pt x="17871" y="6668"/>
                  <a:pt x="17852" y="6659"/>
                  <a:pt x="17840" y="6707"/>
                </a:cubicBezTo>
                <a:cubicBezTo>
                  <a:pt x="17878" y="6680"/>
                  <a:pt x="17895" y="6646"/>
                  <a:pt x="17919" y="6628"/>
                </a:cubicBezTo>
                <a:cubicBezTo>
                  <a:pt x="17949" y="6605"/>
                  <a:pt x="17960" y="6608"/>
                  <a:pt x="17998" y="6608"/>
                </a:cubicBezTo>
                <a:cubicBezTo>
                  <a:pt x="18083" y="6608"/>
                  <a:pt x="18157" y="6608"/>
                  <a:pt x="18236" y="6628"/>
                </a:cubicBezTo>
                <a:cubicBezTo>
                  <a:pt x="18271" y="6637"/>
                  <a:pt x="18270" y="6645"/>
                  <a:pt x="18296" y="6648"/>
                </a:cubicBezTo>
                <a:cubicBezTo>
                  <a:pt x="18303" y="6648"/>
                  <a:pt x="18309" y="6648"/>
                  <a:pt x="18316" y="6648"/>
                </a:cubicBezTo>
                <a:cubicBezTo>
                  <a:pt x="18303" y="6700"/>
                  <a:pt x="18266" y="6689"/>
                  <a:pt x="18236" y="6727"/>
                </a:cubicBezTo>
                <a:cubicBezTo>
                  <a:pt x="18218" y="6750"/>
                  <a:pt x="18219" y="6747"/>
                  <a:pt x="18177" y="6747"/>
                </a:cubicBezTo>
                <a:cubicBezTo>
                  <a:pt x="18148" y="6747"/>
                  <a:pt x="18119" y="6742"/>
                  <a:pt x="18098" y="6727"/>
                </a:cubicBezTo>
                <a:cubicBezTo>
                  <a:pt x="18063" y="6703"/>
                  <a:pt x="18054" y="6720"/>
                  <a:pt x="18018" y="6707"/>
                </a:cubicBezTo>
                <a:cubicBezTo>
                  <a:pt x="17970" y="6690"/>
                  <a:pt x="17951" y="6687"/>
                  <a:pt x="17899" y="6687"/>
                </a:cubicBezTo>
                <a:cubicBezTo>
                  <a:pt x="17877" y="6687"/>
                  <a:pt x="17764" y="6674"/>
                  <a:pt x="17780" y="6707"/>
                </a:cubicBezTo>
                <a:cubicBezTo>
                  <a:pt x="17787" y="6714"/>
                  <a:pt x="17793" y="6720"/>
                  <a:pt x="17800" y="6727"/>
                </a:cubicBezTo>
                <a:cubicBezTo>
                  <a:pt x="17853" y="6714"/>
                  <a:pt x="17816" y="6687"/>
                  <a:pt x="17840" y="6668"/>
                </a:cubicBezTo>
                <a:cubicBezTo>
                  <a:pt x="17859" y="6668"/>
                  <a:pt x="17866" y="6668"/>
                  <a:pt x="17879" y="666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57440" y="3006720"/>
            <a:ext cx="2000160" cy="1722600"/>
          </a:xfrm>
          <a:custGeom>
            <a:avLst/>
            <a:gdLst/>
            <a:ahLst/>
            <a:rect l="l" t="t" r="r" b="b"/>
            <a:pathLst>
              <a:path w="5557" h="4784">
                <a:moveTo>
                  <a:pt x="10418" y="11490"/>
                </a:moveTo>
                <a:cubicBezTo>
                  <a:pt x="10420" y="11513"/>
                  <a:pt x="10420" y="11669"/>
                  <a:pt x="10438" y="11748"/>
                </a:cubicBezTo>
                <a:cubicBezTo>
                  <a:pt x="10502" y="12024"/>
                  <a:pt x="10707" y="12398"/>
                  <a:pt x="10993" y="12502"/>
                </a:cubicBezTo>
                <a:cubicBezTo>
                  <a:pt x="11186" y="12572"/>
                  <a:pt x="11443" y="12620"/>
                  <a:pt x="11648" y="12581"/>
                </a:cubicBezTo>
                <a:cubicBezTo>
                  <a:pt x="11782" y="12505"/>
                  <a:pt x="11824" y="12481"/>
                  <a:pt x="11906" y="12422"/>
                </a:cubicBezTo>
                <a:cubicBezTo>
                  <a:pt x="11994" y="12241"/>
                  <a:pt x="12036" y="12109"/>
                  <a:pt x="12045" y="11886"/>
                </a:cubicBezTo>
                <a:cubicBezTo>
                  <a:pt x="12050" y="11771"/>
                  <a:pt x="12082" y="11486"/>
                  <a:pt x="12025" y="11370"/>
                </a:cubicBezTo>
                <a:cubicBezTo>
                  <a:pt x="12006" y="11332"/>
                  <a:pt x="11937" y="11297"/>
                  <a:pt x="11906" y="11271"/>
                </a:cubicBezTo>
                <a:cubicBezTo>
                  <a:pt x="11771" y="11157"/>
                  <a:pt x="11661" y="11111"/>
                  <a:pt x="11490" y="11073"/>
                </a:cubicBezTo>
                <a:cubicBezTo>
                  <a:pt x="11264" y="11023"/>
                  <a:pt x="10948" y="11011"/>
                  <a:pt x="10755" y="11132"/>
                </a:cubicBezTo>
                <a:cubicBezTo>
                  <a:pt x="10476" y="11307"/>
                  <a:pt x="10394" y="11755"/>
                  <a:pt x="10339" y="12045"/>
                </a:cubicBezTo>
                <a:cubicBezTo>
                  <a:pt x="10291" y="12298"/>
                  <a:pt x="10299" y="12543"/>
                  <a:pt x="10299" y="12799"/>
                </a:cubicBezTo>
                <a:cubicBezTo>
                  <a:pt x="10299" y="12934"/>
                  <a:pt x="10298" y="12976"/>
                  <a:pt x="10339" y="13057"/>
                </a:cubicBezTo>
                <a:cubicBezTo>
                  <a:pt x="10435" y="13089"/>
                  <a:pt x="10467" y="13125"/>
                  <a:pt x="10577" y="13137"/>
                </a:cubicBezTo>
                <a:cubicBezTo>
                  <a:pt x="10842" y="13167"/>
                  <a:pt x="11001" y="12948"/>
                  <a:pt x="11172" y="12779"/>
                </a:cubicBezTo>
                <a:cubicBezTo>
                  <a:pt x="11395" y="12559"/>
                  <a:pt x="11622" y="12333"/>
                  <a:pt x="11787" y="12065"/>
                </a:cubicBezTo>
                <a:cubicBezTo>
                  <a:pt x="11827" y="12001"/>
                  <a:pt x="11942" y="11886"/>
                  <a:pt x="11946" y="11807"/>
                </a:cubicBezTo>
                <a:cubicBezTo>
                  <a:pt x="11949" y="11740"/>
                  <a:pt x="11915" y="11687"/>
                  <a:pt x="11886" y="11628"/>
                </a:cubicBezTo>
                <a:cubicBezTo>
                  <a:pt x="11809" y="11473"/>
                  <a:pt x="11707" y="11418"/>
                  <a:pt x="11589" y="11311"/>
                </a:cubicBezTo>
                <a:cubicBezTo>
                  <a:pt x="11393" y="11262"/>
                  <a:pt x="11152" y="11162"/>
                  <a:pt x="10934" y="11232"/>
                </a:cubicBezTo>
                <a:cubicBezTo>
                  <a:pt x="10663" y="11319"/>
                  <a:pt x="10581" y="11699"/>
                  <a:pt x="10557" y="11926"/>
                </a:cubicBezTo>
                <a:cubicBezTo>
                  <a:pt x="10537" y="12115"/>
                  <a:pt x="10461" y="12764"/>
                  <a:pt x="10616" y="12898"/>
                </a:cubicBezTo>
                <a:cubicBezTo>
                  <a:pt x="10681" y="12954"/>
                  <a:pt x="10873" y="12969"/>
                  <a:pt x="10954" y="12938"/>
                </a:cubicBezTo>
                <a:cubicBezTo>
                  <a:pt x="11234" y="12831"/>
                  <a:pt x="11534" y="12432"/>
                  <a:pt x="11728" y="12204"/>
                </a:cubicBezTo>
                <a:cubicBezTo>
                  <a:pt x="11884" y="12021"/>
                  <a:pt x="11992" y="11860"/>
                  <a:pt x="12045" y="11628"/>
                </a:cubicBezTo>
                <a:cubicBezTo>
                  <a:pt x="12063" y="11503"/>
                  <a:pt x="12070" y="11470"/>
                  <a:pt x="12065" y="11390"/>
                </a:cubicBezTo>
                <a:cubicBezTo>
                  <a:pt x="11962" y="11255"/>
                  <a:pt x="12039" y="11223"/>
                  <a:pt x="11867" y="11172"/>
                </a:cubicBezTo>
                <a:cubicBezTo>
                  <a:pt x="11644" y="11106"/>
                  <a:pt x="11426" y="11289"/>
                  <a:pt x="11271" y="11410"/>
                </a:cubicBezTo>
                <a:cubicBezTo>
                  <a:pt x="11065" y="11570"/>
                  <a:pt x="10847" y="11748"/>
                  <a:pt x="10735" y="11986"/>
                </a:cubicBezTo>
                <a:cubicBezTo>
                  <a:pt x="10683" y="12097"/>
                  <a:pt x="10638" y="12260"/>
                  <a:pt x="10696" y="12382"/>
                </a:cubicBezTo>
                <a:cubicBezTo>
                  <a:pt x="10739" y="12473"/>
                  <a:pt x="10817" y="12539"/>
                  <a:pt x="10894" y="12601"/>
                </a:cubicBezTo>
                <a:cubicBezTo>
                  <a:pt x="10921" y="12614"/>
                  <a:pt x="10947" y="12627"/>
                  <a:pt x="10974" y="12640"/>
                </a:cubicBezTo>
                <a:cubicBezTo>
                  <a:pt x="11189" y="12654"/>
                  <a:pt x="11409" y="12705"/>
                  <a:pt x="11609" y="12601"/>
                </a:cubicBezTo>
                <a:cubicBezTo>
                  <a:pt x="11755" y="12525"/>
                  <a:pt x="11892" y="12357"/>
                  <a:pt x="11847" y="12184"/>
                </a:cubicBezTo>
                <a:cubicBezTo>
                  <a:pt x="11799" y="12000"/>
                  <a:pt x="11639" y="11798"/>
                  <a:pt x="11509" y="11668"/>
                </a:cubicBezTo>
                <a:cubicBezTo>
                  <a:pt x="11349" y="11508"/>
                  <a:pt x="10995" y="11416"/>
                  <a:pt x="10775" y="11470"/>
                </a:cubicBezTo>
                <a:cubicBezTo>
                  <a:pt x="10611" y="11470"/>
                  <a:pt x="10544" y="11484"/>
                  <a:pt x="10458" y="11589"/>
                </a:cubicBezTo>
                <a:cubicBezTo>
                  <a:pt x="10298" y="11757"/>
                  <a:pt x="10215" y="11775"/>
                  <a:pt x="10160" y="12005"/>
                </a:cubicBezTo>
                <a:cubicBezTo>
                  <a:pt x="10147" y="12059"/>
                  <a:pt x="10147" y="12201"/>
                  <a:pt x="10180" y="12224"/>
                </a:cubicBezTo>
                <a:cubicBezTo>
                  <a:pt x="10307" y="12314"/>
                  <a:pt x="10607" y="12115"/>
                  <a:pt x="10696" y="12065"/>
                </a:cubicBezTo>
                <a:cubicBezTo>
                  <a:pt x="10918" y="11941"/>
                  <a:pt x="11148" y="11823"/>
                  <a:pt x="11370" y="11708"/>
                </a:cubicBezTo>
                <a:cubicBezTo>
                  <a:pt x="11383" y="11701"/>
                  <a:pt x="11397" y="11695"/>
                  <a:pt x="11410" y="11688"/>
                </a:cubicBezTo>
                <a:cubicBezTo>
                  <a:pt x="11422" y="11642"/>
                  <a:pt x="11531" y="11614"/>
                  <a:pt x="11490" y="11589"/>
                </a:cubicBezTo>
                <a:cubicBezTo>
                  <a:pt x="11456" y="11568"/>
                  <a:pt x="11456" y="11480"/>
                  <a:pt x="11351" y="11549"/>
                </a:cubicBezTo>
                <a:cubicBezTo>
                  <a:pt x="11142" y="11687"/>
                  <a:pt x="10848" y="12277"/>
                  <a:pt x="10954" y="12541"/>
                </a:cubicBezTo>
                <a:cubicBezTo>
                  <a:pt x="10980" y="12606"/>
                  <a:pt x="10969" y="12603"/>
                  <a:pt x="11053" y="12601"/>
                </a:cubicBezTo>
                <a:cubicBezTo>
                  <a:pt x="11192" y="12598"/>
                  <a:pt x="11311" y="12216"/>
                  <a:pt x="11331" y="12105"/>
                </a:cubicBezTo>
                <a:cubicBezTo>
                  <a:pt x="11355" y="11968"/>
                  <a:pt x="11349" y="11830"/>
                  <a:pt x="11331" y="11708"/>
                </a:cubicBezTo>
                <a:cubicBezTo>
                  <a:pt x="11313" y="11690"/>
                  <a:pt x="11309" y="11683"/>
                  <a:pt x="11291" y="11688"/>
                </a:cubicBezTo>
                <a:cubicBezTo>
                  <a:pt x="11157" y="11854"/>
                  <a:pt x="11063" y="12012"/>
                  <a:pt x="10993" y="12244"/>
                </a:cubicBezTo>
                <a:cubicBezTo>
                  <a:pt x="10919" y="12490"/>
                  <a:pt x="10863" y="12706"/>
                  <a:pt x="10835" y="12958"/>
                </a:cubicBezTo>
                <a:cubicBezTo>
                  <a:pt x="10835" y="12978"/>
                  <a:pt x="10835" y="12985"/>
                  <a:pt x="10835" y="12998"/>
                </a:cubicBezTo>
                <a:cubicBezTo>
                  <a:pt x="10987" y="12824"/>
                  <a:pt x="11011" y="12722"/>
                  <a:pt x="11053" y="12462"/>
                </a:cubicBezTo>
                <a:cubicBezTo>
                  <a:pt x="11095" y="12203"/>
                  <a:pt x="11162" y="11895"/>
                  <a:pt x="11013" y="11668"/>
                </a:cubicBezTo>
                <a:cubicBezTo>
                  <a:pt x="10908" y="11508"/>
                  <a:pt x="10823" y="11483"/>
                  <a:pt x="10656" y="11450"/>
                </a:cubicBezTo>
                <a:cubicBezTo>
                  <a:pt x="10578" y="11435"/>
                  <a:pt x="10452" y="11431"/>
                  <a:pt x="10398" y="11490"/>
                </a:cubicBezTo>
                <a:cubicBezTo>
                  <a:pt x="10306" y="11591"/>
                  <a:pt x="10324" y="11835"/>
                  <a:pt x="10339" y="11966"/>
                </a:cubicBezTo>
                <a:cubicBezTo>
                  <a:pt x="10342" y="11997"/>
                  <a:pt x="10385" y="12164"/>
                  <a:pt x="10398" y="12144"/>
                </a:cubicBezTo>
                <a:cubicBezTo>
                  <a:pt x="10497" y="11999"/>
                  <a:pt x="10477" y="11483"/>
                  <a:pt x="10398" y="11331"/>
                </a:cubicBezTo>
                <a:cubicBezTo>
                  <a:pt x="10348" y="11234"/>
                  <a:pt x="10241" y="11163"/>
                  <a:pt x="10180" y="11073"/>
                </a:cubicBezTo>
                <a:cubicBezTo>
                  <a:pt x="10190" y="11416"/>
                  <a:pt x="10232" y="11666"/>
                  <a:pt x="10339" y="12005"/>
                </a:cubicBezTo>
                <a:cubicBezTo>
                  <a:pt x="10360" y="12072"/>
                  <a:pt x="10408" y="12341"/>
                  <a:pt x="10497" y="12402"/>
                </a:cubicBezTo>
                <a:cubicBezTo>
                  <a:pt x="10497" y="12369"/>
                  <a:pt x="10497" y="12336"/>
                  <a:pt x="10497" y="12303"/>
                </a:cubicBezTo>
                <a:cubicBezTo>
                  <a:pt x="10497" y="11971"/>
                  <a:pt x="10520" y="11730"/>
                  <a:pt x="10378" y="11430"/>
                </a:cubicBezTo>
                <a:cubicBezTo>
                  <a:pt x="10308" y="11281"/>
                  <a:pt x="10159" y="10998"/>
                  <a:pt x="10001" y="10914"/>
                </a:cubicBezTo>
                <a:cubicBezTo>
                  <a:pt x="9873" y="10846"/>
                  <a:pt x="9675" y="10879"/>
                  <a:pt x="9604" y="10993"/>
                </a:cubicBezTo>
                <a:cubicBezTo>
                  <a:pt x="9441" y="11254"/>
                  <a:pt x="9449" y="11672"/>
                  <a:pt x="9446" y="11966"/>
                </a:cubicBezTo>
                <a:cubicBezTo>
                  <a:pt x="9444" y="12162"/>
                  <a:pt x="9403" y="12399"/>
                  <a:pt x="9545" y="12561"/>
                </a:cubicBezTo>
                <a:cubicBezTo>
                  <a:pt x="9606" y="12630"/>
                  <a:pt x="9591" y="12608"/>
                  <a:pt x="9684" y="12621"/>
                </a:cubicBezTo>
                <a:cubicBezTo>
                  <a:pt x="9860" y="12646"/>
                  <a:pt x="9979" y="12474"/>
                  <a:pt x="10100" y="12382"/>
                </a:cubicBezTo>
                <a:cubicBezTo>
                  <a:pt x="10153" y="12335"/>
                  <a:pt x="10492" y="12100"/>
                  <a:pt x="10478" y="12005"/>
                </a:cubicBezTo>
                <a:cubicBezTo>
                  <a:pt x="10458" y="11870"/>
                  <a:pt x="10439" y="11941"/>
                  <a:pt x="10299" y="11886"/>
                </a:cubicBezTo>
                <a:cubicBezTo>
                  <a:pt x="10006" y="11772"/>
                  <a:pt x="9484" y="11521"/>
                  <a:pt x="9168" y="11549"/>
                </a:cubicBezTo>
                <a:cubicBezTo>
                  <a:pt x="9046" y="11560"/>
                  <a:pt x="9126" y="11590"/>
                  <a:pt x="9049" y="11609"/>
                </a:cubicBezTo>
                <a:cubicBezTo>
                  <a:pt x="9135" y="11697"/>
                  <a:pt x="9191" y="11802"/>
                  <a:pt x="9327" y="11886"/>
                </a:cubicBezTo>
                <a:cubicBezTo>
                  <a:pt x="9640" y="12079"/>
                  <a:pt x="10200" y="12168"/>
                  <a:pt x="10557" y="12085"/>
                </a:cubicBezTo>
                <a:cubicBezTo>
                  <a:pt x="10618" y="12071"/>
                  <a:pt x="10923" y="11982"/>
                  <a:pt x="10954" y="11867"/>
                </a:cubicBezTo>
                <a:cubicBezTo>
                  <a:pt x="10978" y="11779"/>
                  <a:pt x="10936" y="11762"/>
                  <a:pt x="10874" y="11728"/>
                </a:cubicBezTo>
                <a:cubicBezTo>
                  <a:pt x="10634" y="11595"/>
                  <a:pt x="9211" y="11659"/>
                  <a:pt x="9128" y="11807"/>
                </a:cubicBezTo>
                <a:cubicBezTo>
                  <a:pt x="9104" y="11850"/>
                  <a:pt x="9128" y="12017"/>
                  <a:pt x="9128" y="12065"/>
                </a:cubicBezTo>
                <a:cubicBezTo>
                  <a:pt x="9235" y="12199"/>
                  <a:pt x="9272" y="12368"/>
                  <a:pt x="9505" y="12303"/>
                </a:cubicBezTo>
                <a:cubicBezTo>
                  <a:pt x="9754" y="12233"/>
                  <a:pt x="10010" y="12047"/>
                  <a:pt x="10220" y="11867"/>
                </a:cubicBezTo>
                <a:cubicBezTo>
                  <a:pt x="10411" y="11704"/>
                  <a:pt x="10577" y="11559"/>
                  <a:pt x="10636" y="11311"/>
                </a:cubicBezTo>
                <a:cubicBezTo>
                  <a:pt x="10636" y="11243"/>
                  <a:pt x="10641" y="11227"/>
                  <a:pt x="10616" y="11192"/>
                </a:cubicBezTo>
                <a:cubicBezTo>
                  <a:pt x="10464" y="11130"/>
                  <a:pt x="10405" y="11082"/>
                  <a:pt x="10220" y="11073"/>
                </a:cubicBezTo>
                <a:cubicBezTo>
                  <a:pt x="9748" y="11051"/>
                  <a:pt x="9364" y="11111"/>
                  <a:pt x="8969" y="11390"/>
                </a:cubicBezTo>
                <a:cubicBezTo>
                  <a:pt x="8736" y="11555"/>
                  <a:pt x="8672" y="11728"/>
                  <a:pt x="8632" y="11986"/>
                </a:cubicBezTo>
                <a:cubicBezTo>
                  <a:pt x="8605" y="12158"/>
                  <a:pt x="8683" y="12251"/>
                  <a:pt x="8731" y="12402"/>
                </a:cubicBezTo>
                <a:cubicBezTo>
                  <a:pt x="8793" y="12458"/>
                  <a:pt x="8871" y="12620"/>
                  <a:pt x="8969" y="12621"/>
                </a:cubicBezTo>
                <a:cubicBezTo>
                  <a:pt x="9154" y="12623"/>
                  <a:pt x="9202" y="12514"/>
                  <a:pt x="9307" y="12363"/>
                </a:cubicBezTo>
                <a:cubicBezTo>
                  <a:pt x="9603" y="11939"/>
                  <a:pt x="9785" y="11409"/>
                  <a:pt x="9803" y="10894"/>
                </a:cubicBezTo>
                <a:cubicBezTo>
                  <a:pt x="9808" y="10756"/>
                  <a:pt x="9826" y="10705"/>
                  <a:pt x="9704" y="10636"/>
                </a:cubicBezTo>
                <a:cubicBezTo>
                  <a:pt x="9564" y="10557"/>
                  <a:pt x="9241" y="10687"/>
                  <a:pt x="9148" y="10755"/>
                </a:cubicBezTo>
                <a:cubicBezTo>
                  <a:pt x="8842" y="10979"/>
                  <a:pt x="8595" y="11355"/>
                  <a:pt x="8473" y="11708"/>
                </a:cubicBezTo>
                <a:cubicBezTo>
                  <a:pt x="8418" y="11931"/>
                  <a:pt x="8398" y="11994"/>
                  <a:pt x="8414" y="12144"/>
                </a:cubicBezTo>
                <a:cubicBezTo>
                  <a:pt x="8423" y="12231"/>
                  <a:pt x="8356" y="12502"/>
                  <a:pt x="8513" y="12521"/>
                </a:cubicBezTo>
                <a:cubicBezTo>
                  <a:pt x="8627" y="12535"/>
                  <a:pt x="8674" y="12516"/>
                  <a:pt x="8751" y="12402"/>
                </a:cubicBezTo>
                <a:cubicBezTo>
                  <a:pt x="8901" y="12180"/>
                  <a:pt x="8935" y="11731"/>
                  <a:pt x="9009" y="11470"/>
                </a:cubicBezTo>
                <a:cubicBezTo>
                  <a:pt x="9063" y="11278"/>
                  <a:pt x="9118" y="11086"/>
                  <a:pt x="9168" y="10894"/>
                </a:cubicBezTo>
                <a:cubicBezTo>
                  <a:pt x="9184" y="10833"/>
                  <a:pt x="9194" y="10774"/>
                  <a:pt x="9208" y="10716"/>
                </a:cubicBezTo>
                <a:cubicBezTo>
                  <a:pt x="9160" y="10737"/>
                  <a:pt x="9148" y="10675"/>
                  <a:pt x="9009" y="10775"/>
                </a:cubicBezTo>
                <a:cubicBezTo>
                  <a:pt x="8641" y="11039"/>
                  <a:pt x="8397" y="11374"/>
                  <a:pt x="8215" y="11787"/>
                </a:cubicBezTo>
                <a:cubicBezTo>
                  <a:pt x="8121" y="12000"/>
                  <a:pt x="8104" y="12272"/>
                  <a:pt x="8136" y="12462"/>
                </a:cubicBezTo>
                <a:cubicBezTo>
                  <a:pt x="8143" y="12462"/>
                  <a:pt x="8149" y="12462"/>
                  <a:pt x="8156" y="12462"/>
                </a:cubicBezTo>
                <a:cubicBezTo>
                  <a:pt x="8239" y="12306"/>
                  <a:pt x="8301" y="12152"/>
                  <a:pt x="8374" y="11986"/>
                </a:cubicBezTo>
                <a:cubicBezTo>
                  <a:pt x="8495" y="11710"/>
                  <a:pt x="8571" y="11451"/>
                  <a:pt x="8612" y="11152"/>
                </a:cubicBezTo>
                <a:cubicBezTo>
                  <a:pt x="8642" y="10935"/>
                  <a:pt x="8653" y="10714"/>
                  <a:pt x="8672" y="10497"/>
                </a:cubicBezTo>
                <a:cubicBezTo>
                  <a:pt x="8665" y="10582"/>
                  <a:pt x="8689" y="10592"/>
                  <a:pt x="8672" y="10676"/>
                </a:cubicBezTo>
                <a:cubicBezTo>
                  <a:pt x="8603" y="11029"/>
                  <a:pt x="8425" y="11365"/>
                  <a:pt x="8394" y="11728"/>
                </a:cubicBezTo>
                <a:cubicBezTo>
                  <a:pt x="8391" y="11764"/>
                  <a:pt x="8361" y="12034"/>
                  <a:pt x="8414" y="12065"/>
                </a:cubicBezTo>
                <a:cubicBezTo>
                  <a:pt x="8498" y="12114"/>
                  <a:pt x="8550" y="12078"/>
                  <a:pt x="8612" y="12005"/>
                </a:cubicBezTo>
                <a:cubicBezTo>
                  <a:pt x="8758" y="11833"/>
                  <a:pt x="8823" y="11590"/>
                  <a:pt x="8930" y="11390"/>
                </a:cubicBezTo>
                <a:cubicBezTo>
                  <a:pt x="9014" y="11233"/>
                  <a:pt x="9112" y="10954"/>
                  <a:pt x="9247" y="10835"/>
                </a:cubicBezTo>
                <a:cubicBezTo>
                  <a:pt x="9383" y="10715"/>
                  <a:pt x="9301" y="10880"/>
                  <a:pt x="9307" y="11053"/>
                </a:cubicBezTo>
                <a:cubicBezTo>
                  <a:pt x="9320" y="11419"/>
                  <a:pt x="9281" y="11801"/>
                  <a:pt x="9346" y="12164"/>
                </a:cubicBezTo>
                <a:cubicBezTo>
                  <a:pt x="9375" y="12328"/>
                  <a:pt x="9475" y="12947"/>
                  <a:pt x="9624" y="13057"/>
                </a:cubicBezTo>
                <a:cubicBezTo>
                  <a:pt x="9698" y="13112"/>
                  <a:pt x="9607" y="12929"/>
                  <a:pt x="9585" y="12839"/>
                </a:cubicBezTo>
                <a:cubicBezTo>
                  <a:pt x="9489" y="12426"/>
                  <a:pt x="9340" y="11994"/>
                  <a:pt x="9088" y="11648"/>
                </a:cubicBezTo>
                <a:cubicBezTo>
                  <a:pt x="8976" y="11494"/>
                  <a:pt x="8857" y="11350"/>
                  <a:pt x="8731" y="11212"/>
                </a:cubicBezTo>
                <a:cubicBezTo>
                  <a:pt x="8724" y="11205"/>
                  <a:pt x="8718" y="11199"/>
                  <a:pt x="8711" y="11192"/>
                </a:cubicBezTo>
                <a:cubicBezTo>
                  <a:pt x="8711" y="11542"/>
                  <a:pt x="8557" y="12305"/>
                  <a:pt x="8771" y="12601"/>
                </a:cubicBezTo>
                <a:cubicBezTo>
                  <a:pt x="8821" y="12670"/>
                  <a:pt x="8826" y="12682"/>
                  <a:pt x="8910" y="12680"/>
                </a:cubicBezTo>
                <a:cubicBezTo>
                  <a:pt x="9031" y="12677"/>
                  <a:pt x="9128" y="12569"/>
                  <a:pt x="9188" y="12462"/>
                </a:cubicBezTo>
                <a:cubicBezTo>
                  <a:pt x="9335" y="12198"/>
                  <a:pt x="9348" y="11834"/>
                  <a:pt x="9426" y="11549"/>
                </a:cubicBezTo>
                <a:cubicBezTo>
                  <a:pt x="9435" y="11516"/>
                  <a:pt x="9458" y="11478"/>
                  <a:pt x="9465" y="11450"/>
                </a:cubicBezTo>
                <a:cubicBezTo>
                  <a:pt x="9465" y="11823"/>
                  <a:pt x="9451" y="12162"/>
                  <a:pt x="9545" y="12521"/>
                </a:cubicBezTo>
                <a:cubicBezTo>
                  <a:pt x="9575" y="12635"/>
                  <a:pt x="9650" y="13044"/>
                  <a:pt x="9823" y="13057"/>
                </a:cubicBezTo>
                <a:cubicBezTo>
                  <a:pt x="9931" y="13065"/>
                  <a:pt x="9907" y="12978"/>
                  <a:pt x="9981" y="12958"/>
                </a:cubicBezTo>
                <a:cubicBezTo>
                  <a:pt x="10167" y="12908"/>
                  <a:pt x="10326" y="12883"/>
                  <a:pt x="10517" y="12879"/>
                </a:cubicBezTo>
                <a:cubicBezTo>
                  <a:pt x="10610" y="12877"/>
                  <a:pt x="10717" y="12903"/>
                  <a:pt x="10795" y="12839"/>
                </a:cubicBezTo>
                <a:cubicBezTo>
                  <a:pt x="10931" y="12727"/>
                  <a:pt x="11005" y="12512"/>
                  <a:pt x="11093" y="12363"/>
                </a:cubicBezTo>
                <a:cubicBezTo>
                  <a:pt x="11171" y="12231"/>
                  <a:pt x="11263" y="12127"/>
                  <a:pt x="11351" y="12005"/>
                </a:cubicBezTo>
                <a:cubicBezTo>
                  <a:pt x="11403" y="11933"/>
                  <a:pt x="11445" y="11861"/>
                  <a:pt x="11490" y="11787"/>
                </a:cubicBezTo>
                <a:cubicBezTo>
                  <a:pt x="11530" y="11721"/>
                  <a:pt x="11587" y="11661"/>
                  <a:pt x="11609" y="11589"/>
                </a:cubicBezTo>
                <a:cubicBezTo>
                  <a:pt x="11620" y="11552"/>
                  <a:pt x="11658" y="11389"/>
                  <a:pt x="11628" y="11351"/>
                </a:cubicBezTo>
                <a:cubicBezTo>
                  <a:pt x="11542" y="11243"/>
                  <a:pt x="11475" y="11283"/>
                  <a:pt x="11351" y="11271"/>
                </a:cubicBezTo>
                <a:cubicBezTo>
                  <a:pt x="11231" y="11259"/>
                  <a:pt x="10888" y="11341"/>
                  <a:pt x="10795" y="11251"/>
                </a:cubicBezTo>
                <a:cubicBezTo>
                  <a:pt x="10769" y="11226"/>
                  <a:pt x="10821" y="11268"/>
                  <a:pt x="10835" y="11212"/>
                </a:cubicBezTo>
                <a:cubicBezTo>
                  <a:pt x="10852" y="11145"/>
                  <a:pt x="10995" y="11053"/>
                  <a:pt x="11033" y="10993"/>
                </a:cubicBezTo>
                <a:cubicBezTo>
                  <a:pt x="11089" y="10906"/>
                  <a:pt x="11139" y="10810"/>
                  <a:pt x="11172" y="10716"/>
                </a:cubicBezTo>
                <a:cubicBezTo>
                  <a:pt x="11241" y="10523"/>
                  <a:pt x="11183" y="10510"/>
                  <a:pt x="11152" y="10358"/>
                </a:cubicBezTo>
                <a:cubicBezTo>
                  <a:pt x="11000" y="10322"/>
                  <a:pt x="10831" y="10256"/>
                  <a:pt x="10676" y="10239"/>
                </a:cubicBezTo>
                <a:cubicBezTo>
                  <a:pt x="10399" y="10209"/>
                  <a:pt x="10160" y="10266"/>
                  <a:pt x="9902" y="10358"/>
                </a:cubicBezTo>
                <a:cubicBezTo>
                  <a:pt x="9550" y="10487"/>
                  <a:pt x="9731" y="10406"/>
                  <a:pt x="10021" y="10478"/>
                </a:cubicBezTo>
                <a:cubicBezTo>
                  <a:pt x="10481" y="10592"/>
                  <a:pt x="10962" y="10722"/>
                  <a:pt x="11430" y="10795"/>
                </a:cubicBezTo>
                <a:cubicBezTo>
                  <a:pt x="11473" y="10802"/>
                  <a:pt x="11975" y="10913"/>
                  <a:pt x="12045" y="10855"/>
                </a:cubicBezTo>
                <a:cubicBezTo>
                  <a:pt x="12069" y="10835"/>
                  <a:pt x="12043" y="10794"/>
                  <a:pt x="12065" y="10775"/>
                </a:cubicBezTo>
                <a:cubicBezTo>
                  <a:pt x="12065" y="10755"/>
                  <a:pt x="12065" y="10736"/>
                  <a:pt x="12065" y="10716"/>
                </a:cubicBezTo>
                <a:cubicBezTo>
                  <a:pt x="12003" y="10652"/>
                  <a:pt x="11983" y="10587"/>
                  <a:pt x="11886" y="10537"/>
                </a:cubicBezTo>
                <a:cubicBezTo>
                  <a:pt x="11690" y="10435"/>
                  <a:pt x="11467" y="10380"/>
                  <a:pt x="11251" y="10339"/>
                </a:cubicBezTo>
                <a:cubicBezTo>
                  <a:pt x="10861" y="10264"/>
                  <a:pt x="10341" y="10193"/>
                  <a:pt x="9962" y="10339"/>
                </a:cubicBezTo>
                <a:cubicBezTo>
                  <a:pt x="9865" y="10376"/>
                  <a:pt x="9776" y="10450"/>
                  <a:pt x="9684" y="10497"/>
                </a:cubicBezTo>
                <a:cubicBezTo>
                  <a:pt x="9747" y="10532"/>
                  <a:pt x="9444" y="10552"/>
                  <a:pt x="9823" y="10616"/>
                </a:cubicBezTo>
                <a:cubicBezTo>
                  <a:pt x="10324" y="10701"/>
                  <a:pt x="10884" y="10653"/>
                  <a:pt x="11390" y="10656"/>
                </a:cubicBezTo>
                <a:cubicBezTo>
                  <a:pt x="11423" y="10656"/>
                  <a:pt x="12655" y="10692"/>
                  <a:pt x="12660" y="10636"/>
                </a:cubicBezTo>
                <a:cubicBezTo>
                  <a:pt x="12663" y="10604"/>
                  <a:pt x="12517" y="10470"/>
                  <a:pt x="12502" y="10458"/>
                </a:cubicBezTo>
                <a:cubicBezTo>
                  <a:pt x="12318" y="10307"/>
                  <a:pt x="12089" y="10352"/>
                  <a:pt x="11867" y="10319"/>
                </a:cubicBezTo>
                <a:cubicBezTo>
                  <a:pt x="11424" y="10254"/>
                  <a:pt x="10981" y="10198"/>
                  <a:pt x="10537" y="10140"/>
                </a:cubicBezTo>
                <a:cubicBezTo>
                  <a:pt x="10286" y="10108"/>
                  <a:pt x="10253" y="10106"/>
                  <a:pt x="10517" y="10140"/>
                </a:cubicBezTo>
                <a:cubicBezTo>
                  <a:pt x="10793" y="10175"/>
                  <a:pt x="11072" y="10228"/>
                  <a:pt x="11351" y="10239"/>
                </a:cubicBezTo>
                <a:cubicBezTo>
                  <a:pt x="11599" y="10249"/>
                  <a:pt x="11832" y="10260"/>
                  <a:pt x="12065" y="10180"/>
                </a:cubicBezTo>
                <a:cubicBezTo>
                  <a:pt x="12134" y="10156"/>
                  <a:pt x="12198" y="10130"/>
                  <a:pt x="12263" y="10100"/>
                </a:cubicBezTo>
                <a:cubicBezTo>
                  <a:pt x="12270" y="10094"/>
                  <a:pt x="12276" y="10087"/>
                  <a:pt x="12283" y="10081"/>
                </a:cubicBezTo>
                <a:cubicBezTo>
                  <a:pt x="12221" y="9935"/>
                  <a:pt x="12285" y="9904"/>
                  <a:pt x="12085" y="9842"/>
                </a:cubicBezTo>
                <a:cubicBezTo>
                  <a:pt x="11778" y="9747"/>
                  <a:pt x="11427" y="9783"/>
                  <a:pt x="11112" y="9783"/>
                </a:cubicBezTo>
                <a:cubicBezTo>
                  <a:pt x="10602" y="9783"/>
                  <a:pt x="10131" y="9765"/>
                  <a:pt x="9644" y="9942"/>
                </a:cubicBezTo>
                <a:cubicBezTo>
                  <a:pt x="9476" y="10003"/>
                  <a:pt x="9438" y="10091"/>
                  <a:pt x="9346" y="10180"/>
                </a:cubicBezTo>
                <a:cubicBezTo>
                  <a:pt x="9362" y="10189"/>
                  <a:pt x="9418" y="10276"/>
                  <a:pt x="9426" y="10279"/>
                </a:cubicBezTo>
                <a:cubicBezTo>
                  <a:pt x="9578" y="10330"/>
                  <a:pt x="9763" y="10335"/>
                  <a:pt x="9922" y="10339"/>
                </a:cubicBezTo>
                <a:cubicBezTo>
                  <a:pt x="10373" y="10350"/>
                  <a:pt x="10815" y="10340"/>
                  <a:pt x="11232" y="10140"/>
                </a:cubicBezTo>
                <a:cubicBezTo>
                  <a:pt x="11393" y="10063"/>
                  <a:pt x="11612" y="9884"/>
                  <a:pt x="11688" y="9723"/>
                </a:cubicBezTo>
                <a:cubicBezTo>
                  <a:pt x="11776" y="9536"/>
                  <a:pt x="11671" y="9372"/>
                  <a:pt x="11628" y="9227"/>
                </a:cubicBezTo>
                <a:cubicBezTo>
                  <a:pt x="11628" y="9221"/>
                  <a:pt x="11628" y="9214"/>
                  <a:pt x="11628" y="9208"/>
                </a:cubicBezTo>
                <a:cubicBezTo>
                  <a:pt x="11537" y="9190"/>
                  <a:pt x="11581" y="9111"/>
                  <a:pt x="11470" y="9128"/>
                </a:cubicBezTo>
                <a:cubicBezTo>
                  <a:pt x="11289" y="9156"/>
                  <a:pt x="11205" y="9242"/>
                  <a:pt x="11073" y="9386"/>
                </a:cubicBezTo>
                <a:cubicBezTo>
                  <a:pt x="10596" y="9908"/>
                  <a:pt x="10184" y="10603"/>
                  <a:pt x="9942" y="11271"/>
                </a:cubicBezTo>
                <a:cubicBezTo>
                  <a:pt x="9942" y="11291"/>
                  <a:pt x="9942" y="11311"/>
                  <a:pt x="9942" y="11331"/>
                </a:cubicBezTo>
                <a:cubicBezTo>
                  <a:pt x="9984" y="11310"/>
                  <a:pt x="9983" y="11398"/>
                  <a:pt x="10021" y="11370"/>
                </a:cubicBezTo>
                <a:cubicBezTo>
                  <a:pt x="10387" y="11104"/>
                  <a:pt x="11091" y="10345"/>
                  <a:pt x="10993" y="9842"/>
                </a:cubicBezTo>
                <a:cubicBezTo>
                  <a:pt x="10969" y="9721"/>
                  <a:pt x="10866" y="9664"/>
                  <a:pt x="10735" y="9704"/>
                </a:cubicBezTo>
                <a:cubicBezTo>
                  <a:pt x="10448" y="9792"/>
                  <a:pt x="10183" y="9966"/>
                  <a:pt x="9942" y="10140"/>
                </a:cubicBezTo>
                <a:cubicBezTo>
                  <a:pt x="9768" y="10266"/>
                  <a:pt x="9663" y="10381"/>
                  <a:pt x="9565" y="10557"/>
                </a:cubicBezTo>
                <a:cubicBezTo>
                  <a:pt x="9499" y="10677"/>
                  <a:pt x="9455" y="10856"/>
                  <a:pt x="9446" y="10993"/>
                </a:cubicBezTo>
                <a:cubicBezTo>
                  <a:pt x="9443" y="11037"/>
                  <a:pt x="9467" y="11095"/>
                  <a:pt x="9465" y="11132"/>
                </a:cubicBezTo>
                <a:cubicBezTo>
                  <a:pt x="9693" y="11096"/>
                  <a:pt x="9676" y="11152"/>
                  <a:pt x="9902" y="11013"/>
                </a:cubicBezTo>
                <a:cubicBezTo>
                  <a:pt x="10126" y="10876"/>
                  <a:pt x="10206" y="10591"/>
                  <a:pt x="10239" y="10339"/>
                </a:cubicBezTo>
                <a:cubicBezTo>
                  <a:pt x="10256" y="10207"/>
                  <a:pt x="10302" y="9811"/>
                  <a:pt x="10200" y="9704"/>
                </a:cubicBezTo>
                <a:cubicBezTo>
                  <a:pt x="10183" y="9686"/>
                  <a:pt x="10142" y="9693"/>
                  <a:pt x="10120" y="9684"/>
                </a:cubicBezTo>
                <a:cubicBezTo>
                  <a:pt x="10015" y="9641"/>
                  <a:pt x="9948" y="9725"/>
                  <a:pt x="9862" y="9624"/>
                </a:cubicBezTo>
                <a:cubicBezTo>
                  <a:pt x="9825" y="9580"/>
                  <a:pt x="9836" y="9564"/>
                  <a:pt x="9803" y="9505"/>
                </a:cubicBezTo>
                <a:cubicBezTo>
                  <a:pt x="9784" y="9471"/>
                  <a:pt x="9830" y="9387"/>
                  <a:pt x="9763" y="9386"/>
                </a:cubicBezTo>
                <a:cubicBezTo>
                  <a:pt x="9646" y="9384"/>
                  <a:pt x="9613" y="9539"/>
                  <a:pt x="9565" y="9644"/>
                </a:cubicBezTo>
                <a:cubicBezTo>
                  <a:pt x="9528" y="9726"/>
                  <a:pt x="9527" y="9834"/>
                  <a:pt x="9525" y="9922"/>
                </a:cubicBezTo>
                <a:cubicBezTo>
                  <a:pt x="9532" y="9935"/>
                  <a:pt x="9538" y="9949"/>
                  <a:pt x="9545" y="9962"/>
                </a:cubicBezTo>
                <a:cubicBezTo>
                  <a:pt x="9610" y="9952"/>
                  <a:pt x="9710" y="10015"/>
                  <a:pt x="9783" y="9981"/>
                </a:cubicBezTo>
                <a:cubicBezTo>
                  <a:pt x="10138" y="9817"/>
                  <a:pt x="10385" y="9494"/>
                  <a:pt x="10696" y="9267"/>
                </a:cubicBezTo>
                <a:cubicBezTo>
                  <a:pt x="10776" y="9208"/>
                  <a:pt x="11033" y="9103"/>
                  <a:pt x="10934" y="9108"/>
                </a:cubicBezTo>
                <a:cubicBezTo>
                  <a:pt x="10744" y="9118"/>
                  <a:pt x="10503" y="9315"/>
                  <a:pt x="10339" y="9386"/>
                </a:cubicBezTo>
                <a:cubicBezTo>
                  <a:pt x="10072" y="9502"/>
                  <a:pt x="9779" y="9541"/>
                  <a:pt x="9505" y="9644"/>
                </a:cubicBezTo>
                <a:cubicBezTo>
                  <a:pt x="9425" y="9674"/>
                  <a:pt x="9346" y="9720"/>
                  <a:pt x="9267" y="9743"/>
                </a:cubicBezTo>
                <a:cubicBezTo>
                  <a:pt x="9243" y="9750"/>
                  <a:pt x="9212" y="9735"/>
                  <a:pt x="9188" y="9743"/>
                </a:cubicBezTo>
                <a:cubicBezTo>
                  <a:pt x="9142" y="9743"/>
                  <a:pt x="9095" y="9743"/>
                  <a:pt x="9049" y="9743"/>
                </a:cubicBezTo>
                <a:cubicBezTo>
                  <a:pt x="9174" y="9708"/>
                  <a:pt x="9177" y="9707"/>
                  <a:pt x="9307" y="9704"/>
                </a:cubicBezTo>
                <a:cubicBezTo>
                  <a:pt x="9741" y="9693"/>
                  <a:pt x="10171" y="9739"/>
                  <a:pt x="10597" y="9644"/>
                </a:cubicBezTo>
                <a:cubicBezTo>
                  <a:pt x="10799" y="9599"/>
                  <a:pt x="10948" y="9616"/>
                  <a:pt x="10835" y="9485"/>
                </a:cubicBezTo>
                <a:cubicBezTo>
                  <a:pt x="10758" y="9395"/>
                  <a:pt x="10357" y="9370"/>
                  <a:pt x="10259" y="9366"/>
                </a:cubicBezTo>
                <a:cubicBezTo>
                  <a:pt x="10122" y="9361"/>
                  <a:pt x="9350" y="9447"/>
                  <a:pt x="9346" y="9307"/>
                </a:cubicBezTo>
                <a:cubicBezTo>
                  <a:pt x="9339" y="9068"/>
                  <a:pt x="9640" y="8896"/>
                  <a:pt x="9823" y="8791"/>
                </a:cubicBezTo>
                <a:cubicBezTo>
                  <a:pt x="10077" y="8663"/>
                  <a:pt x="10145" y="8626"/>
                  <a:pt x="10319" y="8572"/>
                </a:cubicBezTo>
                <a:cubicBezTo>
                  <a:pt x="10439" y="8526"/>
                  <a:pt x="10643" y="8456"/>
                  <a:pt x="10636" y="8434"/>
                </a:cubicBezTo>
                <a:cubicBezTo>
                  <a:pt x="10570" y="8434"/>
                  <a:pt x="10543" y="8434"/>
                  <a:pt x="10497" y="8434"/>
                </a:cubicBezTo>
                <a:cubicBezTo>
                  <a:pt x="10222" y="8605"/>
                  <a:pt x="9940" y="8771"/>
                  <a:pt x="9684" y="8969"/>
                </a:cubicBezTo>
                <a:cubicBezTo>
                  <a:pt x="9500" y="9111"/>
                  <a:pt x="9324" y="9558"/>
                  <a:pt x="9148" y="9406"/>
                </a:cubicBezTo>
                <a:cubicBezTo>
                  <a:pt x="9104" y="9368"/>
                  <a:pt x="9181" y="9263"/>
                  <a:pt x="9188" y="9227"/>
                </a:cubicBezTo>
                <a:cubicBezTo>
                  <a:pt x="9195" y="9194"/>
                  <a:pt x="9217" y="9120"/>
                  <a:pt x="9227" y="9088"/>
                </a:cubicBezTo>
                <a:cubicBezTo>
                  <a:pt x="9234" y="9068"/>
                  <a:pt x="9240" y="9049"/>
                  <a:pt x="9247" y="9029"/>
                </a:cubicBezTo>
                <a:cubicBezTo>
                  <a:pt x="9294" y="8985"/>
                  <a:pt x="9342" y="8936"/>
                  <a:pt x="9386" y="8890"/>
                </a:cubicBezTo>
                <a:cubicBezTo>
                  <a:pt x="9401" y="8874"/>
                  <a:pt x="9411" y="8832"/>
                  <a:pt x="9446" y="8811"/>
                </a:cubicBezTo>
                <a:cubicBezTo>
                  <a:pt x="9583" y="8728"/>
                  <a:pt x="9696" y="8748"/>
                  <a:pt x="9783" y="8672"/>
                </a:cubicBezTo>
                <a:cubicBezTo>
                  <a:pt x="9826" y="8634"/>
                  <a:pt x="9862" y="8531"/>
                  <a:pt x="9922" y="8513"/>
                </a:cubicBezTo>
                <a:cubicBezTo>
                  <a:pt x="9994" y="8491"/>
                  <a:pt x="9966" y="8510"/>
                  <a:pt x="10021" y="8513"/>
                </a:cubicBezTo>
                <a:cubicBezTo>
                  <a:pt x="10076" y="8516"/>
                  <a:pt x="10000" y="8619"/>
                  <a:pt x="10081" y="8592"/>
                </a:cubicBezTo>
                <a:cubicBezTo>
                  <a:pt x="10110" y="8582"/>
                  <a:pt x="10126" y="8541"/>
                  <a:pt x="10140" y="8533"/>
                </a:cubicBezTo>
                <a:cubicBezTo>
                  <a:pt x="10179" y="8509"/>
                  <a:pt x="10169" y="8504"/>
                  <a:pt x="10200" y="8473"/>
                </a:cubicBezTo>
                <a:cubicBezTo>
                  <a:pt x="10218" y="8455"/>
                  <a:pt x="10248" y="8449"/>
                  <a:pt x="10259" y="8414"/>
                </a:cubicBezTo>
                <a:cubicBezTo>
                  <a:pt x="10279" y="8351"/>
                  <a:pt x="10303" y="8378"/>
                  <a:pt x="10239" y="8374"/>
                </a:cubicBezTo>
                <a:cubicBezTo>
                  <a:pt x="10230" y="8373"/>
                  <a:pt x="10186" y="8412"/>
                  <a:pt x="10160" y="8414"/>
                </a:cubicBezTo>
                <a:cubicBezTo>
                  <a:pt x="10123" y="8418"/>
                  <a:pt x="10105" y="8431"/>
                  <a:pt x="10061" y="8434"/>
                </a:cubicBezTo>
                <a:cubicBezTo>
                  <a:pt x="9897" y="8444"/>
                  <a:pt x="9780" y="8442"/>
                  <a:pt x="9624" y="8493"/>
                </a:cubicBezTo>
                <a:cubicBezTo>
                  <a:pt x="9571" y="8510"/>
                  <a:pt x="9539" y="8540"/>
                  <a:pt x="9485" y="8553"/>
                </a:cubicBezTo>
                <a:cubicBezTo>
                  <a:pt x="9432" y="8566"/>
                  <a:pt x="9381" y="8558"/>
                  <a:pt x="9327" y="8572"/>
                </a:cubicBezTo>
                <a:cubicBezTo>
                  <a:pt x="9295" y="8580"/>
                  <a:pt x="9278" y="8579"/>
                  <a:pt x="9247" y="8592"/>
                </a:cubicBezTo>
                <a:cubicBezTo>
                  <a:pt x="9221" y="8603"/>
                  <a:pt x="9220" y="8599"/>
                  <a:pt x="9188" y="8612"/>
                </a:cubicBezTo>
                <a:cubicBezTo>
                  <a:pt x="9153" y="8626"/>
                  <a:pt x="9120" y="8672"/>
                  <a:pt x="9088" y="8692"/>
                </a:cubicBezTo>
                <a:cubicBezTo>
                  <a:pt x="9062" y="8708"/>
                  <a:pt x="9037" y="8710"/>
                  <a:pt x="9009" y="8731"/>
                </a:cubicBezTo>
                <a:cubicBezTo>
                  <a:pt x="8988" y="8747"/>
                  <a:pt x="8946" y="8776"/>
                  <a:pt x="8930" y="8791"/>
                </a:cubicBezTo>
                <a:cubicBezTo>
                  <a:pt x="8918" y="8803"/>
                  <a:pt x="8899" y="8841"/>
                  <a:pt x="8890" y="8850"/>
                </a:cubicBezTo>
                <a:cubicBezTo>
                  <a:pt x="8868" y="8871"/>
                  <a:pt x="8849" y="8914"/>
                  <a:pt x="8830" y="8930"/>
                </a:cubicBezTo>
                <a:cubicBezTo>
                  <a:pt x="8805" y="8951"/>
                  <a:pt x="8780" y="8969"/>
                  <a:pt x="8751" y="8989"/>
                </a:cubicBezTo>
                <a:cubicBezTo>
                  <a:pt x="8726" y="9007"/>
                  <a:pt x="8694" y="9014"/>
                  <a:pt x="8672" y="9029"/>
                </a:cubicBezTo>
                <a:cubicBezTo>
                  <a:pt x="8626" y="9061"/>
                  <a:pt x="8603" y="9058"/>
                  <a:pt x="8553" y="9088"/>
                </a:cubicBezTo>
                <a:cubicBezTo>
                  <a:pt x="8525" y="9104"/>
                  <a:pt x="8471" y="9127"/>
                  <a:pt x="8434" y="9148"/>
                </a:cubicBezTo>
                <a:cubicBezTo>
                  <a:pt x="8417" y="9158"/>
                  <a:pt x="8372" y="9193"/>
                  <a:pt x="8334" y="9208"/>
                </a:cubicBezTo>
                <a:cubicBezTo>
                  <a:pt x="8286" y="9226"/>
                  <a:pt x="8228" y="9227"/>
                  <a:pt x="8176" y="9247"/>
                </a:cubicBezTo>
                <a:cubicBezTo>
                  <a:pt x="8111" y="9272"/>
                  <a:pt x="8139" y="9251"/>
                  <a:pt x="8076" y="9287"/>
                </a:cubicBezTo>
                <a:cubicBezTo>
                  <a:pt x="8031" y="9312"/>
                  <a:pt x="7999" y="9300"/>
                  <a:pt x="7977" y="9327"/>
                </a:cubicBezTo>
                <a:cubicBezTo>
                  <a:pt x="7960" y="9348"/>
                  <a:pt x="7964" y="9424"/>
                  <a:pt x="7957" y="9446"/>
                </a:cubicBezTo>
                <a:cubicBezTo>
                  <a:pt x="7948" y="9476"/>
                  <a:pt x="7928" y="9510"/>
                  <a:pt x="7918" y="9545"/>
                </a:cubicBezTo>
                <a:cubicBezTo>
                  <a:pt x="7909" y="9579"/>
                  <a:pt x="7900" y="9627"/>
                  <a:pt x="7898" y="9644"/>
                </a:cubicBezTo>
                <a:cubicBezTo>
                  <a:pt x="7881" y="9794"/>
                  <a:pt x="7898" y="9923"/>
                  <a:pt x="7858" y="10061"/>
                </a:cubicBezTo>
                <a:cubicBezTo>
                  <a:pt x="7846" y="10104"/>
                  <a:pt x="7837" y="10163"/>
                  <a:pt x="7818" y="10200"/>
                </a:cubicBezTo>
                <a:cubicBezTo>
                  <a:pt x="7790" y="10254"/>
                  <a:pt x="7689" y="10392"/>
                  <a:pt x="7719" y="10339"/>
                </a:cubicBezTo>
                <a:cubicBezTo>
                  <a:pt x="7755" y="10275"/>
                  <a:pt x="7760" y="10262"/>
                  <a:pt x="7799" y="10200"/>
                </a:cubicBezTo>
                <a:cubicBezTo>
                  <a:pt x="7857" y="10108"/>
                  <a:pt x="7926" y="10019"/>
                  <a:pt x="7977" y="9922"/>
                </a:cubicBezTo>
                <a:cubicBezTo>
                  <a:pt x="7995" y="9888"/>
                  <a:pt x="8009" y="9838"/>
                  <a:pt x="8017" y="9823"/>
                </a:cubicBezTo>
                <a:cubicBezTo>
                  <a:pt x="7875" y="9860"/>
                  <a:pt x="7801" y="9877"/>
                  <a:pt x="7660" y="9962"/>
                </a:cubicBezTo>
                <a:cubicBezTo>
                  <a:pt x="7537" y="10036"/>
                  <a:pt x="7200" y="10218"/>
                  <a:pt x="7342" y="10239"/>
                </a:cubicBezTo>
                <a:cubicBezTo>
                  <a:pt x="7458" y="10256"/>
                  <a:pt x="7531" y="10165"/>
                  <a:pt x="7620" y="10100"/>
                </a:cubicBezTo>
                <a:cubicBezTo>
                  <a:pt x="7713" y="10032"/>
                  <a:pt x="7796" y="9943"/>
                  <a:pt x="7878" y="9862"/>
                </a:cubicBezTo>
                <a:cubicBezTo>
                  <a:pt x="7950" y="9791"/>
                  <a:pt x="8164" y="9593"/>
                  <a:pt x="8076" y="9644"/>
                </a:cubicBezTo>
                <a:cubicBezTo>
                  <a:pt x="8067" y="9649"/>
                  <a:pt x="7978" y="9735"/>
                  <a:pt x="7938" y="9783"/>
                </a:cubicBezTo>
                <a:cubicBezTo>
                  <a:pt x="7845" y="9895"/>
                  <a:pt x="7748" y="10004"/>
                  <a:pt x="7660" y="10120"/>
                </a:cubicBezTo>
                <a:cubicBezTo>
                  <a:pt x="7635" y="10153"/>
                  <a:pt x="7590" y="10221"/>
                  <a:pt x="7580" y="10239"/>
                </a:cubicBezTo>
                <a:cubicBezTo>
                  <a:pt x="7557" y="10279"/>
                  <a:pt x="7543" y="10316"/>
                  <a:pt x="7521" y="10358"/>
                </a:cubicBezTo>
                <a:cubicBezTo>
                  <a:pt x="7503" y="10393"/>
                  <a:pt x="7474" y="10444"/>
                  <a:pt x="7461" y="10478"/>
                </a:cubicBezTo>
                <a:cubicBezTo>
                  <a:pt x="7443" y="10525"/>
                  <a:pt x="7439" y="10564"/>
                  <a:pt x="7422" y="10597"/>
                </a:cubicBezTo>
                <a:cubicBezTo>
                  <a:pt x="7402" y="10636"/>
                  <a:pt x="7361" y="10688"/>
                  <a:pt x="7342" y="10735"/>
                </a:cubicBezTo>
                <a:cubicBezTo>
                  <a:pt x="7333" y="10758"/>
                  <a:pt x="7310" y="10763"/>
                  <a:pt x="7302" y="10795"/>
                </a:cubicBezTo>
                <a:cubicBezTo>
                  <a:pt x="7274" y="10909"/>
                  <a:pt x="7311" y="11023"/>
                  <a:pt x="7263" y="11132"/>
                </a:cubicBezTo>
                <a:cubicBezTo>
                  <a:pt x="7250" y="11161"/>
                  <a:pt x="7215" y="11183"/>
                  <a:pt x="7203" y="11212"/>
                </a:cubicBezTo>
                <a:cubicBezTo>
                  <a:pt x="7189" y="11246"/>
                  <a:pt x="7177" y="11281"/>
                  <a:pt x="7164" y="11311"/>
                </a:cubicBezTo>
                <a:cubicBezTo>
                  <a:pt x="7149" y="11347"/>
                  <a:pt x="7155" y="11371"/>
                  <a:pt x="7144" y="11410"/>
                </a:cubicBezTo>
                <a:cubicBezTo>
                  <a:pt x="7131" y="11457"/>
                  <a:pt x="7103" y="11460"/>
                  <a:pt x="7104" y="11509"/>
                </a:cubicBezTo>
                <a:cubicBezTo>
                  <a:pt x="7105" y="11576"/>
                  <a:pt x="7133" y="11588"/>
                  <a:pt x="7144" y="11628"/>
                </a:cubicBezTo>
                <a:cubicBezTo>
                  <a:pt x="7155" y="11668"/>
                  <a:pt x="7170" y="11705"/>
                  <a:pt x="7183" y="11748"/>
                </a:cubicBezTo>
                <a:cubicBezTo>
                  <a:pt x="7194" y="11784"/>
                  <a:pt x="7192" y="11826"/>
                  <a:pt x="7203" y="11867"/>
                </a:cubicBezTo>
                <a:cubicBezTo>
                  <a:pt x="7212" y="11902"/>
                  <a:pt x="7236" y="11921"/>
                  <a:pt x="7243" y="11946"/>
                </a:cubicBezTo>
                <a:cubicBezTo>
                  <a:pt x="7254" y="11985"/>
                  <a:pt x="7239" y="12064"/>
                  <a:pt x="7283" y="12085"/>
                </a:cubicBezTo>
                <a:cubicBezTo>
                  <a:pt x="7450" y="12166"/>
                  <a:pt x="7756" y="12033"/>
                  <a:pt x="7878" y="11946"/>
                </a:cubicBezTo>
                <a:cubicBezTo>
                  <a:pt x="8088" y="11796"/>
                  <a:pt x="8300" y="11640"/>
                  <a:pt x="8473" y="11450"/>
                </a:cubicBezTo>
                <a:cubicBezTo>
                  <a:pt x="8577" y="11335"/>
                  <a:pt x="8671" y="11211"/>
                  <a:pt x="8771" y="11093"/>
                </a:cubicBezTo>
                <a:cubicBezTo>
                  <a:pt x="8821" y="11049"/>
                  <a:pt x="8797" y="11017"/>
                  <a:pt x="8850" y="10993"/>
                </a:cubicBezTo>
                <a:cubicBezTo>
                  <a:pt x="8891" y="10974"/>
                  <a:pt x="8932" y="10952"/>
                  <a:pt x="8969" y="10934"/>
                </a:cubicBezTo>
                <a:cubicBezTo>
                  <a:pt x="9020" y="10909"/>
                  <a:pt x="9103" y="10902"/>
                  <a:pt x="9148" y="10855"/>
                </a:cubicBezTo>
                <a:cubicBezTo>
                  <a:pt x="9168" y="10834"/>
                  <a:pt x="9217" y="10837"/>
                  <a:pt x="9188" y="10835"/>
                </a:cubicBezTo>
                <a:cubicBezTo>
                  <a:pt x="9115" y="10830"/>
                  <a:pt x="9036" y="10848"/>
                  <a:pt x="8969" y="10874"/>
                </a:cubicBezTo>
                <a:cubicBezTo>
                  <a:pt x="8814" y="10933"/>
                  <a:pt x="8650" y="11035"/>
                  <a:pt x="8513" y="11132"/>
                </a:cubicBezTo>
                <a:cubicBezTo>
                  <a:pt x="8332" y="11261"/>
                  <a:pt x="8454" y="11235"/>
                  <a:pt x="8473" y="11152"/>
                </a:cubicBezTo>
                <a:cubicBezTo>
                  <a:pt x="8535" y="10876"/>
                  <a:pt x="8788" y="10608"/>
                  <a:pt x="8910" y="10358"/>
                </a:cubicBezTo>
                <a:cubicBezTo>
                  <a:pt x="8943" y="10285"/>
                  <a:pt x="8976" y="10213"/>
                  <a:pt x="9009" y="10140"/>
                </a:cubicBezTo>
                <a:cubicBezTo>
                  <a:pt x="9048" y="10046"/>
                  <a:pt x="9177" y="9840"/>
                  <a:pt x="9168" y="9723"/>
                </a:cubicBezTo>
                <a:cubicBezTo>
                  <a:pt x="9166" y="9691"/>
                  <a:pt x="9157" y="9560"/>
                  <a:pt x="9088" y="9684"/>
                </a:cubicBezTo>
                <a:cubicBezTo>
                  <a:pt x="8960" y="9912"/>
                  <a:pt x="8878" y="10358"/>
                  <a:pt x="8830" y="10616"/>
                </a:cubicBezTo>
                <a:cubicBezTo>
                  <a:pt x="8807" y="10739"/>
                  <a:pt x="8838" y="10974"/>
                  <a:pt x="8791" y="11093"/>
                </a:cubicBezTo>
                <a:cubicBezTo>
                  <a:pt x="8681" y="11370"/>
                  <a:pt x="8784" y="10495"/>
                  <a:pt x="8830" y="10200"/>
                </a:cubicBezTo>
                <a:cubicBezTo>
                  <a:pt x="8870" y="9939"/>
                  <a:pt x="8884" y="9641"/>
                  <a:pt x="8950" y="9386"/>
                </a:cubicBezTo>
                <a:cubicBezTo>
                  <a:pt x="8958" y="9355"/>
                  <a:pt x="8950" y="9564"/>
                  <a:pt x="8950" y="9604"/>
                </a:cubicBezTo>
                <a:cubicBezTo>
                  <a:pt x="8952" y="9810"/>
                  <a:pt x="8957" y="10018"/>
                  <a:pt x="8969" y="10220"/>
                </a:cubicBezTo>
                <a:cubicBezTo>
                  <a:pt x="9016" y="10199"/>
                  <a:pt x="9083" y="10304"/>
                  <a:pt x="9108" y="10259"/>
                </a:cubicBezTo>
                <a:cubicBezTo>
                  <a:pt x="9171" y="10145"/>
                  <a:pt x="9191" y="10035"/>
                  <a:pt x="9188" y="9902"/>
                </a:cubicBezTo>
                <a:cubicBezTo>
                  <a:pt x="9187" y="9852"/>
                  <a:pt x="9173" y="9801"/>
                  <a:pt x="9168" y="9763"/>
                </a:cubicBezTo>
                <a:cubicBezTo>
                  <a:pt x="9166" y="9745"/>
                  <a:pt x="9157" y="9644"/>
                  <a:pt x="9148" y="9624"/>
                </a:cubicBezTo>
                <a:cubicBezTo>
                  <a:pt x="9112" y="9548"/>
                  <a:pt x="9057" y="9510"/>
                  <a:pt x="8989" y="9485"/>
                </a:cubicBezTo>
                <a:cubicBezTo>
                  <a:pt x="8887" y="9447"/>
                  <a:pt x="8831" y="9509"/>
                  <a:pt x="8771" y="9565"/>
                </a:cubicBezTo>
                <a:cubicBezTo>
                  <a:pt x="8608" y="9715"/>
                  <a:pt x="8518" y="10032"/>
                  <a:pt x="8493" y="10239"/>
                </a:cubicBezTo>
                <a:cubicBezTo>
                  <a:pt x="8472" y="10416"/>
                  <a:pt x="8465" y="10662"/>
                  <a:pt x="8513" y="10835"/>
                </a:cubicBezTo>
                <a:cubicBezTo>
                  <a:pt x="8519" y="10858"/>
                  <a:pt x="8582" y="11003"/>
                  <a:pt x="8612" y="11013"/>
                </a:cubicBezTo>
                <a:cubicBezTo>
                  <a:pt x="8691" y="11039"/>
                  <a:pt x="8804" y="10811"/>
                  <a:pt x="8830" y="10775"/>
                </a:cubicBezTo>
                <a:cubicBezTo>
                  <a:pt x="8986" y="10559"/>
                  <a:pt x="8991" y="10340"/>
                  <a:pt x="9009" y="10081"/>
                </a:cubicBezTo>
                <a:cubicBezTo>
                  <a:pt x="9013" y="10019"/>
                  <a:pt x="9081" y="9649"/>
                  <a:pt x="9009" y="9624"/>
                </a:cubicBezTo>
                <a:cubicBezTo>
                  <a:pt x="8893" y="9584"/>
                  <a:pt x="8815" y="9728"/>
                  <a:pt x="8751" y="9803"/>
                </a:cubicBezTo>
                <a:cubicBezTo>
                  <a:pt x="8581" y="10001"/>
                  <a:pt x="8423" y="10216"/>
                  <a:pt x="8255" y="10418"/>
                </a:cubicBezTo>
                <a:cubicBezTo>
                  <a:pt x="8098" y="10607"/>
                  <a:pt x="7991" y="10761"/>
                  <a:pt x="7878" y="10974"/>
                </a:cubicBezTo>
                <a:cubicBezTo>
                  <a:pt x="7871" y="11101"/>
                  <a:pt x="7816" y="11348"/>
                  <a:pt x="7918" y="11271"/>
                </a:cubicBezTo>
                <a:cubicBezTo>
                  <a:pt x="8167" y="11082"/>
                  <a:pt x="8369" y="10709"/>
                  <a:pt x="8513" y="10438"/>
                </a:cubicBezTo>
                <a:cubicBezTo>
                  <a:pt x="8592" y="10289"/>
                  <a:pt x="8766" y="10006"/>
                  <a:pt x="8731" y="9823"/>
                </a:cubicBezTo>
                <a:cubicBezTo>
                  <a:pt x="8727" y="9800"/>
                  <a:pt x="8749" y="9736"/>
                  <a:pt x="8711" y="9743"/>
                </a:cubicBezTo>
                <a:cubicBezTo>
                  <a:pt x="8571" y="9769"/>
                  <a:pt x="8573" y="10079"/>
                  <a:pt x="8553" y="10160"/>
                </a:cubicBezTo>
                <a:cubicBezTo>
                  <a:pt x="8496" y="10513"/>
                  <a:pt x="8455" y="10876"/>
                  <a:pt x="8434" y="11232"/>
                </a:cubicBezTo>
                <a:cubicBezTo>
                  <a:pt x="8453" y="11106"/>
                  <a:pt x="8451" y="11138"/>
                  <a:pt x="8473" y="11013"/>
                </a:cubicBezTo>
                <a:cubicBezTo>
                  <a:pt x="8523" y="10731"/>
                  <a:pt x="8911" y="9543"/>
                  <a:pt x="8811" y="9346"/>
                </a:cubicBezTo>
                <a:cubicBezTo>
                  <a:pt x="8787" y="9298"/>
                  <a:pt x="8762" y="9394"/>
                  <a:pt x="8711" y="9485"/>
                </a:cubicBezTo>
                <a:cubicBezTo>
                  <a:pt x="8611" y="9663"/>
                  <a:pt x="8555" y="9874"/>
                  <a:pt x="8473" y="10061"/>
                </a:cubicBezTo>
                <a:cubicBezTo>
                  <a:pt x="8458" y="10095"/>
                  <a:pt x="8364" y="10391"/>
                  <a:pt x="8295" y="10418"/>
                </a:cubicBezTo>
                <a:cubicBezTo>
                  <a:pt x="8271" y="10427"/>
                  <a:pt x="8273" y="10446"/>
                  <a:pt x="8235" y="10438"/>
                </a:cubicBezTo>
                <a:cubicBezTo>
                  <a:pt x="8170" y="10425"/>
                  <a:pt x="8189" y="10434"/>
                  <a:pt x="8156" y="10358"/>
                </a:cubicBezTo>
                <a:cubicBezTo>
                  <a:pt x="8091" y="10207"/>
                  <a:pt x="8160" y="9862"/>
                  <a:pt x="8215" y="9723"/>
                </a:cubicBezTo>
                <a:cubicBezTo>
                  <a:pt x="8230" y="9686"/>
                  <a:pt x="8280" y="9545"/>
                  <a:pt x="8334" y="9545"/>
                </a:cubicBezTo>
                <a:cubicBezTo>
                  <a:pt x="8434" y="9545"/>
                  <a:pt x="8389" y="9647"/>
                  <a:pt x="8473" y="968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49600" y="3006720"/>
            <a:ext cx="2601720" cy="1944720"/>
          </a:xfrm>
          <a:custGeom>
            <a:avLst/>
            <a:gdLst/>
            <a:ahLst/>
            <a:rect l="l" t="t" r="r" b="b"/>
            <a:pathLst>
              <a:path w="7224" h="5399">
                <a:moveTo>
                  <a:pt x="8473" y="9684"/>
                </a:moveTo>
                <a:cubicBezTo>
                  <a:pt x="8527" y="9718"/>
                  <a:pt x="8661" y="9883"/>
                  <a:pt x="8731" y="9882"/>
                </a:cubicBezTo>
                <a:cubicBezTo>
                  <a:pt x="8816" y="9880"/>
                  <a:pt x="8784" y="9783"/>
                  <a:pt x="8791" y="9783"/>
                </a:cubicBezTo>
                <a:cubicBezTo>
                  <a:pt x="8746" y="9740"/>
                  <a:pt x="8764" y="9651"/>
                  <a:pt x="8692" y="9624"/>
                </a:cubicBezTo>
                <a:cubicBezTo>
                  <a:pt x="8635" y="9603"/>
                  <a:pt x="8486" y="9613"/>
                  <a:pt x="8453" y="9664"/>
                </a:cubicBezTo>
                <a:cubicBezTo>
                  <a:pt x="8419" y="9716"/>
                  <a:pt x="8447" y="9731"/>
                  <a:pt x="8434" y="9803"/>
                </a:cubicBezTo>
                <a:cubicBezTo>
                  <a:pt x="8351" y="10250"/>
                  <a:pt x="8462" y="10740"/>
                  <a:pt x="8394" y="11192"/>
                </a:cubicBezTo>
                <a:cubicBezTo>
                  <a:pt x="8386" y="11245"/>
                  <a:pt x="8381" y="11351"/>
                  <a:pt x="8354" y="11390"/>
                </a:cubicBezTo>
                <a:cubicBezTo>
                  <a:pt x="8323" y="11435"/>
                  <a:pt x="8289" y="11467"/>
                  <a:pt x="8235" y="11490"/>
                </a:cubicBezTo>
                <a:cubicBezTo>
                  <a:pt x="8047" y="11571"/>
                  <a:pt x="7793" y="11434"/>
                  <a:pt x="7660" y="11331"/>
                </a:cubicBezTo>
                <a:cubicBezTo>
                  <a:pt x="7484" y="11196"/>
                  <a:pt x="7422" y="11066"/>
                  <a:pt x="7382" y="10855"/>
                </a:cubicBezTo>
                <a:cubicBezTo>
                  <a:pt x="7361" y="10741"/>
                  <a:pt x="7395" y="10598"/>
                  <a:pt x="7402" y="10497"/>
                </a:cubicBezTo>
                <a:cubicBezTo>
                  <a:pt x="7402" y="10524"/>
                  <a:pt x="7402" y="10550"/>
                  <a:pt x="7402" y="10577"/>
                </a:cubicBezTo>
                <a:cubicBezTo>
                  <a:pt x="7395" y="10779"/>
                  <a:pt x="7363" y="10971"/>
                  <a:pt x="7362" y="11172"/>
                </a:cubicBezTo>
                <a:cubicBezTo>
                  <a:pt x="7360" y="11400"/>
                  <a:pt x="7382" y="11540"/>
                  <a:pt x="7580" y="11688"/>
                </a:cubicBezTo>
                <a:cubicBezTo>
                  <a:pt x="7736" y="11804"/>
                  <a:pt x="7954" y="11779"/>
                  <a:pt x="8116" y="11728"/>
                </a:cubicBezTo>
                <a:cubicBezTo>
                  <a:pt x="8201" y="11701"/>
                  <a:pt x="8292" y="11633"/>
                  <a:pt x="8354" y="11569"/>
                </a:cubicBezTo>
                <a:cubicBezTo>
                  <a:pt x="8555" y="11363"/>
                  <a:pt x="8693" y="11071"/>
                  <a:pt x="8672" y="10775"/>
                </a:cubicBezTo>
                <a:cubicBezTo>
                  <a:pt x="8665" y="10679"/>
                  <a:pt x="8639" y="10569"/>
                  <a:pt x="8553" y="10517"/>
                </a:cubicBezTo>
                <a:cubicBezTo>
                  <a:pt x="8418" y="10436"/>
                  <a:pt x="8269" y="10436"/>
                  <a:pt x="8116" y="10497"/>
                </a:cubicBezTo>
                <a:cubicBezTo>
                  <a:pt x="7957" y="10561"/>
                  <a:pt x="7935" y="10713"/>
                  <a:pt x="7898" y="10855"/>
                </a:cubicBezTo>
                <a:cubicBezTo>
                  <a:pt x="7849" y="11044"/>
                  <a:pt x="7829" y="11241"/>
                  <a:pt x="7779" y="11430"/>
                </a:cubicBezTo>
                <a:cubicBezTo>
                  <a:pt x="7746" y="11495"/>
                  <a:pt x="7733" y="11505"/>
                  <a:pt x="7739" y="11549"/>
                </a:cubicBezTo>
                <a:cubicBezTo>
                  <a:pt x="7784" y="11449"/>
                  <a:pt x="7851" y="11347"/>
                  <a:pt x="7878" y="11212"/>
                </a:cubicBezTo>
                <a:cubicBezTo>
                  <a:pt x="7884" y="11181"/>
                  <a:pt x="7944" y="10884"/>
                  <a:pt x="7878" y="10855"/>
                </a:cubicBezTo>
                <a:cubicBezTo>
                  <a:pt x="7825" y="10832"/>
                  <a:pt x="7842" y="10857"/>
                  <a:pt x="7799" y="10855"/>
                </a:cubicBezTo>
                <a:cubicBezTo>
                  <a:pt x="7764" y="10854"/>
                  <a:pt x="7667" y="10960"/>
                  <a:pt x="7620" y="10974"/>
                </a:cubicBezTo>
                <a:cubicBezTo>
                  <a:pt x="7586" y="10989"/>
                  <a:pt x="7427" y="11012"/>
                  <a:pt x="7461" y="11013"/>
                </a:cubicBezTo>
                <a:cubicBezTo>
                  <a:pt x="7572" y="11015"/>
                  <a:pt x="7702" y="10993"/>
                  <a:pt x="7818" y="10993"/>
                </a:cubicBezTo>
                <a:cubicBezTo>
                  <a:pt x="8098" y="10993"/>
                  <a:pt x="8356" y="11006"/>
                  <a:pt x="8632" y="11053"/>
                </a:cubicBezTo>
                <a:cubicBezTo>
                  <a:pt x="8761" y="11075"/>
                  <a:pt x="8881" y="11103"/>
                  <a:pt x="9009" y="11112"/>
                </a:cubicBezTo>
                <a:cubicBezTo>
                  <a:pt x="9700" y="11162"/>
                  <a:pt x="10495" y="11008"/>
                  <a:pt x="11132" y="11172"/>
                </a:cubicBezTo>
                <a:cubicBezTo>
                  <a:pt x="11139" y="11179"/>
                  <a:pt x="11145" y="11185"/>
                  <a:pt x="11152" y="11192"/>
                </a:cubicBezTo>
                <a:cubicBezTo>
                  <a:pt x="11117" y="11379"/>
                  <a:pt x="11147" y="11374"/>
                  <a:pt x="11013" y="11529"/>
                </a:cubicBezTo>
                <a:cubicBezTo>
                  <a:pt x="10838" y="11731"/>
                  <a:pt x="10659" y="11927"/>
                  <a:pt x="10478" y="12125"/>
                </a:cubicBezTo>
                <a:cubicBezTo>
                  <a:pt x="10312" y="12306"/>
                  <a:pt x="9912" y="12610"/>
                  <a:pt x="9823" y="12819"/>
                </a:cubicBezTo>
                <a:cubicBezTo>
                  <a:pt x="9800" y="12874"/>
                  <a:pt x="9860" y="12920"/>
                  <a:pt x="9842" y="12978"/>
                </a:cubicBezTo>
                <a:cubicBezTo>
                  <a:pt x="9821" y="13046"/>
                  <a:pt x="9819" y="13126"/>
                  <a:pt x="9803" y="13196"/>
                </a:cubicBezTo>
                <a:cubicBezTo>
                  <a:pt x="9930" y="13228"/>
                  <a:pt x="10037" y="13286"/>
                  <a:pt x="10180" y="13295"/>
                </a:cubicBezTo>
                <a:cubicBezTo>
                  <a:pt x="10421" y="13310"/>
                  <a:pt x="10708" y="13332"/>
                  <a:pt x="10934" y="13236"/>
                </a:cubicBezTo>
                <a:cubicBezTo>
                  <a:pt x="11218" y="13115"/>
                  <a:pt x="11461" y="12773"/>
                  <a:pt x="11648" y="12541"/>
                </a:cubicBezTo>
                <a:cubicBezTo>
                  <a:pt x="11840" y="12303"/>
                  <a:pt x="12042" y="12077"/>
                  <a:pt x="12244" y="11847"/>
                </a:cubicBezTo>
                <a:cubicBezTo>
                  <a:pt x="12410" y="11658"/>
                  <a:pt x="12664" y="11436"/>
                  <a:pt x="12779" y="11212"/>
                </a:cubicBezTo>
                <a:cubicBezTo>
                  <a:pt x="12823" y="11127"/>
                  <a:pt x="12818" y="11153"/>
                  <a:pt x="12839" y="11053"/>
                </a:cubicBezTo>
                <a:cubicBezTo>
                  <a:pt x="12872" y="10896"/>
                  <a:pt x="12839" y="10699"/>
                  <a:pt x="12839" y="10537"/>
                </a:cubicBezTo>
                <a:cubicBezTo>
                  <a:pt x="12863" y="10585"/>
                  <a:pt x="12789" y="10553"/>
                  <a:pt x="12819" y="10597"/>
                </a:cubicBezTo>
                <a:cubicBezTo>
                  <a:pt x="12861" y="10659"/>
                  <a:pt x="12926" y="10753"/>
                  <a:pt x="12998" y="10775"/>
                </a:cubicBezTo>
                <a:cubicBezTo>
                  <a:pt x="13066" y="10796"/>
                  <a:pt x="13263" y="10772"/>
                  <a:pt x="13315" y="10735"/>
                </a:cubicBezTo>
                <a:cubicBezTo>
                  <a:pt x="13382" y="10686"/>
                  <a:pt x="13337" y="10725"/>
                  <a:pt x="13355" y="10676"/>
                </a:cubicBezTo>
                <a:cubicBezTo>
                  <a:pt x="13401" y="10554"/>
                  <a:pt x="13296" y="10474"/>
                  <a:pt x="13216" y="10438"/>
                </a:cubicBezTo>
                <a:cubicBezTo>
                  <a:pt x="13112" y="10391"/>
                  <a:pt x="12893" y="10438"/>
                  <a:pt x="12779" y="10438"/>
                </a:cubicBezTo>
                <a:cubicBezTo>
                  <a:pt x="12836" y="10508"/>
                  <a:pt x="12887" y="10623"/>
                  <a:pt x="12978" y="10696"/>
                </a:cubicBezTo>
                <a:cubicBezTo>
                  <a:pt x="13109" y="10801"/>
                  <a:pt x="13253" y="10857"/>
                  <a:pt x="13414" y="10894"/>
                </a:cubicBezTo>
                <a:cubicBezTo>
                  <a:pt x="13467" y="10894"/>
                  <a:pt x="13481" y="10894"/>
                  <a:pt x="13514" y="10894"/>
                </a:cubicBezTo>
                <a:cubicBezTo>
                  <a:pt x="13514" y="10818"/>
                  <a:pt x="13549" y="10707"/>
                  <a:pt x="13533" y="10616"/>
                </a:cubicBezTo>
                <a:cubicBezTo>
                  <a:pt x="13508" y="10477"/>
                  <a:pt x="13457" y="10373"/>
                  <a:pt x="13395" y="10239"/>
                </a:cubicBezTo>
                <a:cubicBezTo>
                  <a:pt x="13382" y="10219"/>
                  <a:pt x="13368" y="10200"/>
                  <a:pt x="13355" y="10180"/>
                </a:cubicBezTo>
                <a:cubicBezTo>
                  <a:pt x="13308" y="10189"/>
                  <a:pt x="13190" y="10122"/>
                  <a:pt x="13137" y="10160"/>
                </a:cubicBezTo>
                <a:cubicBezTo>
                  <a:pt x="13013" y="10248"/>
                  <a:pt x="12910" y="10467"/>
                  <a:pt x="12839" y="10597"/>
                </a:cubicBezTo>
                <a:cubicBezTo>
                  <a:pt x="12810" y="10649"/>
                  <a:pt x="12747" y="10743"/>
                  <a:pt x="12760" y="10815"/>
                </a:cubicBezTo>
                <a:cubicBezTo>
                  <a:pt x="12774" y="10892"/>
                  <a:pt x="12793" y="10886"/>
                  <a:pt x="12839" y="10954"/>
                </a:cubicBezTo>
                <a:cubicBezTo>
                  <a:pt x="12891" y="10988"/>
                  <a:pt x="12903" y="10997"/>
                  <a:pt x="12938" y="11013"/>
                </a:cubicBezTo>
                <a:cubicBezTo>
                  <a:pt x="13045" y="10988"/>
                  <a:pt x="13186" y="11069"/>
                  <a:pt x="13256" y="10954"/>
                </a:cubicBezTo>
                <a:cubicBezTo>
                  <a:pt x="13299" y="10883"/>
                  <a:pt x="13292" y="10701"/>
                  <a:pt x="13275" y="10616"/>
                </a:cubicBezTo>
                <a:cubicBezTo>
                  <a:pt x="13240" y="10436"/>
                  <a:pt x="13106" y="10212"/>
                  <a:pt x="12998" y="10061"/>
                </a:cubicBezTo>
                <a:cubicBezTo>
                  <a:pt x="12902" y="9927"/>
                  <a:pt x="12778" y="9807"/>
                  <a:pt x="12640" y="9723"/>
                </a:cubicBezTo>
                <a:cubicBezTo>
                  <a:pt x="12626" y="9714"/>
                  <a:pt x="12594" y="9732"/>
                  <a:pt x="12581" y="9723"/>
                </a:cubicBezTo>
                <a:cubicBezTo>
                  <a:pt x="12518" y="9846"/>
                  <a:pt x="12418" y="10091"/>
                  <a:pt x="12402" y="10299"/>
                </a:cubicBezTo>
                <a:cubicBezTo>
                  <a:pt x="12389" y="10467"/>
                  <a:pt x="12422" y="10662"/>
                  <a:pt x="12422" y="10815"/>
                </a:cubicBezTo>
                <a:cubicBezTo>
                  <a:pt x="12464" y="10779"/>
                  <a:pt x="12552" y="10755"/>
                  <a:pt x="12601" y="10696"/>
                </a:cubicBezTo>
                <a:cubicBezTo>
                  <a:pt x="12838" y="10413"/>
                  <a:pt x="12953" y="10051"/>
                  <a:pt x="12938" y="9684"/>
                </a:cubicBezTo>
                <a:cubicBezTo>
                  <a:pt x="12936" y="9627"/>
                  <a:pt x="12900" y="9519"/>
                  <a:pt x="12898" y="9505"/>
                </a:cubicBezTo>
                <a:cubicBezTo>
                  <a:pt x="12851" y="9553"/>
                  <a:pt x="12772" y="9517"/>
                  <a:pt x="12720" y="9624"/>
                </a:cubicBezTo>
                <a:cubicBezTo>
                  <a:pt x="12635" y="9799"/>
                  <a:pt x="12618" y="10049"/>
                  <a:pt x="12720" y="10220"/>
                </a:cubicBezTo>
                <a:cubicBezTo>
                  <a:pt x="12807" y="10368"/>
                  <a:pt x="12985" y="10438"/>
                  <a:pt x="13117" y="10537"/>
                </a:cubicBezTo>
                <a:cubicBezTo>
                  <a:pt x="13074" y="10499"/>
                  <a:pt x="13115" y="10620"/>
                  <a:pt x="13077" y="10577"/>
                </a:cubicBezTo>
                <a:cubicBezTo>
                  <a:pt x="12941" y="10424"/>
                  <a:pt x="12868" y="10223"/>
                  <a:pt x="12740" y="10061"/>
                </a:cubicBezTo>
                <a:cubicBezTo>
                  <a:pt x="12648" y="9945"/>
                  <a:pt x="12506" y="9729"/>
                  <a:pt x="12382" y="9644"/>
                </a:cubicBezTo>
                <a:cubicBezTo>
                  <a:pt x="12322" y="9603"/>
                  <a:pt x="12276" y="9588"/>
                  <a:pt x="12204" y="9585"/>
                </a:cubicBezTo>
                <a:cubicBezTo>
                  <a:pt x="12178" y="9584"/>
                  <a:pt x="12038" y="9571"/>
                  <a:pt x="12045" y="9604"/>
                </a:cubicBezTo>
                <a:cubicBezTo>
                  <a:pt x="12049" y="9622"/>
                  <a:pt x="12291" y="9795"/>
                  <a:pt x="12303" y="9803"/>
                </a:cubicBezTo>
                <a:cubicBezTo>
                  <a:pt x="12372" y="9852"/>
                  <a:pt x="12467" y="9895"/>
                  <a:pt x="12541" y="9942"/>
                </a:cubicBezTo>
                <a:cubicBezTo>
                  <a:pt x="12476" y="9905"/>
                  <a:pt x="12467" y="9900"/>
                  <a:pt x="12402" y="9862"/>
                </a:cubicBezTo>
                <a:cubicBezTo>
                  <a:pt x="12222" y="9758"/>
                  <a:pt x="12041" y="9658"/>
                  <a:pt x="11847" y="9585"/>
                </a:cubicBezTo>
                <a:cubicBezTo>
                  <a:pt x="11688" y="9525"/>
                  <a:pt x="11561" y="9459"/>
                  <a:pt x="11410" y="9386"/>
                </a:cubicBezTo>
                <a:cubicBezTo>
                  <a:pt x="11337" y="9351"/>
                  <a:pt x="11258" y="9336"/>
                  <a:pt x="11192" y="9307"/>
                </a:cubicBezTo>
                <a:cubicBezTo>
                  <a:pt x="11144" y="9286"/>
                  <a:pt x="11103" y="9243"/>
                  <a:pt x="11053" y="9227"/>
                </a:cubicBezTo>
                <a:cubicBezTo>
                  <a:pt x="11009" y="9213"/>
                  <a:pt x="11037" y="9239"/>
                  <a:pt x="10993" y="9227"/>
                </a:cubicBezTo>
                <a:cubicBezTo>
                  <a:pt x="11384" y="9234"/>
                  <a:pt x="11738" y="9240"/>
                  <a:pt x="12105" y="9406"/>
                </a:cubicBezTo>
                <a:cubicBezTo>
                  <a:pt x="12254" y="9473"/>
                  <a:pt x="12346" y="9587"/>
                  <a:pt x="12482" y="9664"/>
                </a:cubicBezTo>
                <a:cubicBezTo>
                  <a:pt x="12522" y="9687"/>
                  <a:pt x="12566" y="9683"/>
                  <a:pt x="12601" y="9704"/>
                </a:cubicBezTo>
                <a:cubicBezTo>
                  <a:pt x="12580" y="9555"/>
                  <a:pt x="12629" y="9562"/>
                  <a:pt x="12541" y="9406"/>
                </a:cubicBezTo>
                <a:cubicBezTo>
                  <a:pt x="12422" y="9194"/>
                  <a:pt x="12281" y="9031"/>
                  <a:pt x="12085" y="8890"/>
                </a:cubicBezTo>
                <a:cubicBezTo>
                  <a:pt x="11778" y="8668"/>
                  <a:pt x="11247" y="8704"/>
                  <a:pt x="10894" y="8751"/>
                </a:cubicBezTo>
                <a:cubicBezTo>
                  <a:pt x="10894" y="8758"/>
                  <a:pt x="10894" y="8764"/>
                  <a:pt x="10894" y="8771"/>
                </a:cubicBezTo>
                <a:cubicBezTo>
                  <a:pt x="10939" y="8791"/>
                  <a:pt x="10997" y="8855"/>
                  <a:pt x="11053" y="8870"/>
                </a:cubicBezTo>
                <a:cubicBezTo>
                  <a:pt x="11222" y="8915"/>
                  <a:pt x="11434" y="8936"/>
                  <a:pt x="11609" y="8950"/>
                </a:cubicBezTo>
                <a:cubicBezTo>
                  <a:pt x="11903" y="8973"/>
                  <a:pt x="12207" y="8950"/>
                  <a:pt x="12502" y="8950"/>
                </a:cubicBezTo>
                <a:cubicBezTo>
                  <a:pt x="12446" y="8948"/>
                  <a:pt x="12355" y="8985"/>
                  <a:pt x="12283" y="8969"/>
                </a:cubicBezTo>
                <a:cubicBezTo>
                  <a:pt x="12027" y="8911"/>
                  <a:pt x="11827" y="8819"/>
                  <a:pt x="11549" y="8811"/>
                </a:cubicBezTo>
                <a:cubicBezTo>
                  <a:pt x="11268" y="8803"/>
                  <a:pt x="11021" y="8840"/>
                  <a:pt x="10755" y="8870"/>
                </a:cubicBezTo>
                <a:cubicBezTo>
                  <a:pt x="10720" y="8874"/>
                  <a:pt x="10810" y="8887"/>
                  <a:pt x="10775" y="8890"/>
                </a:cubicBezTo>
                <a:cubicBezTo>
                  <a:pt x="10654" y="8902"/>
                  <a:pt x="10580" y="8882"/>
                  <a:pt x="10458" y="8890"/>
                </a:cubicBezTo>
                <a:cubicBezTo>
                  <a:pt x="10041" y="8917"/>
                  <a:pt x="9525" y="8969"/>
                  <a:pt x="9128" y="9108"/>
                </a:cubicBezTo>
                <a:cubicBezTo>
                  <a:pt x="9014" y="9148"/>
                  <a:pt x="9015" y="9141"/>
                  <a:pt x="8950" y="9227"/>
                </a:cubicBezTo>
                <a:cubicBezTo>
                  <a:pt x="8947" y="9231"/>
                  <a:pt x="9011" y="9284"/>
                  <a:pt x="9009" y="9287"/>
                </a:cubicBezTo>
                <a:cubicBezTo>
                  <a:pt x="9143" y="9276"/>
                  <a:pt x="9379" y="9188"/>
                  <a:pt x="9485" y="9208"/>
                </a:cubicBezTo>
                <a:cubicBezTo>
                  <a:pt x="9607" y="9231"/>
                  <a:pt x="9587" y="9249"/>
                  <a:pt x="9684" y="9327"/>
                </a:cubicBezTo>
                <a:cubicBezTo>
                  <a:pt x="9801" y="9421"/>
                  <a:pt x="9846" y="9521"/>
                  <a:pt x="9981" y="9604"/>
                </a:cubicBezTo>
                <a:cubicBezTo>
                  <a:pt x="10105" y="9680"/>
                  <a:pt x="10136" y="9690"/>
                  <a:pt x="10259" y="9704"/>
                </a:cubicBezTo>
                <a:cubicBezTo>
                  <a:pt x="10391" y="9719"/>
                  <a:pt x="10417" y="9652"/>
                  <a:pt x="10517" y="9585"/>
                </a:cubicBezTo>
                <a:cubicBezTo>
                  <a:pt x="10555" y="9560"/>
                  <a:pt x="10633" y="9537"/>
                  <a:pt x="10656" y="9485"/>
                </a:cubicBezTo>
                <a:cubicBezTo>
                  <a:pt x="10671" y="9450"/>
                  <a:pt x="10692" y="9465"/>
                  <a:pt x="10696" y="9406"/>
                </a:cubicBezTo>
                <a:cubicBezTo>
                  <a:pt x="10697" y="9391"/>
                  <a:pt x="10644" y="9282"/>
                  <a:pt x="10636" y="9267"/>
                </a:cubicBezTo>
                <a:cubicBezTo>
                  <a:pt x="10587" y="9177"/>
                  <a:pt x="10455" y="9094"/>
                  <a:pt x="10398" y="9029"/>
                </a:cubicBezTo>
                <a:cubicBezTo>
                  <a:pt x="10383" y="9012"/>
                  <a:pt x="10365" y="8978"/>
                  <a:pt x="10339" y="8950"/>
                </a:cubicBezTo>
                <a:cubicBezTo>
                  <a:pt x="10319" y="8930"/>
                  <a:pt x="10312" y="8923"/>
                  <a:pt x="10299" y="8910"/>
                </a:cubicBezTo>
                <a:cubicBezTo>
                  <a:pt x="10319" y="8896"/>
                  <a:pt x="10403" y="8864"/>
                  <a:pt x="10418" y="8850"/>
                </a:cubicBezTo>
                <a:cubicBezTo>
                  <a:pt x="10431" y="8838"/>
                  <a:pt x="10463" y="8808"/>
                  <a:pt x="10478" y="8791"/>
                </a:cubicBezTo>
                <a:cubicBezTo>
                  <a:pt x="10512" y="8753"/>
                  <a:pt x="10600" y="8665"/>
                  <a:pt x="10597" y="8612"/>
                </a:cubicBezTo>
                <a:cubicBezTo>
                  <a:pt x="10591" y="8519"/>
                  <a:pt x="10625" y="8581"/>
                  <a:pt x="10557" y="8533"/>
                </a:cubicBezTo>
                <a:cubicBezTo>
                  <a:pt x="10475" y="8476"/>
                  <a:pt x="10398" y="8566"/>
                  <a:pt x="10339" y="8493"/>
                </a:cubicBezTo>
                <a:cubicBezTo>
                  <a:pt x="10324" y="8474"/>
                  <a:pt x="10397" y="8453"/>
                  <a:pt x="10358" y="8414"/>
                </a:cubicBezTo>
                <a:cubicBezTo>
                  <a:pt x="10397" y="8409"/>
                  <a:pt x="10383" y="8347"/>
                  <a:pt x="10418" y="8354"/>
                </a:cubicBezTo>
                <a:cubicBezTo>
                  <a:pt x="10478" y="8366"/>
                  <a:pt x="10546" y="8410"/>
                  <a:pt x="10597" y="8414"/>
                </a:cubicBezTo>
                <a:cubicBezTo>
                  <a:pt x="10892" y="8436"/>
                  <a:pt x="11237" y="8384"/>
                  <a:pt x="11490" y="8453"/>
                </a:cubicBezTo>
                <a:cubicBezTo>
                  <a:pt x="11526" y="8463"/>
                  <a:pt x="11521" y="8466"/>
                  <a:pt x="11549" y="8473"/>
                </a:cubicBezTo>
                <a:cubicBezTo>
                  <a:pt x="11593" y="8483"/>
                  <a:pt x="11581" y="8506"/>
                  <a:pt x="11628" y="8513"/>
                </a:cubicBezTo>
                <a:cubicBezTo>
                  <a:pt x="11754" y="8533"/>
                  <a:pt x="11879" y="8522"/>
                  <a:pt x="11986" y="8533"/>
                </a:cubicBezTo>
                <a:cubicBezTo>
                  <a:pt x="12087" y="8543"/>
                  <a:pt x="12170" y="8541"/>
                  <a:pt x="12263" y="8572"/>
                </a:cubicBezTo>
                <a:cubicBezTo>
                  <a:pt x="12293" y="8582"/>
                  <a:pt x="12400" y="8630"/>
                  <a:pt x="12442" y="8652"/>
                </a:cubicBezTo>
                <a:cubicBezTo>
                  <a:pt x="12456" y="8660"/>
                  <a:pt x="12493" y="8691"/>
                  <a:pt x="12521" y="8711"/>
                </a:cubicBezTo>
                <a:cubicBezTo>
                  <a:pt x="12560" y="8739"/>
                  <a:pt x="12584" y="8764"/>
                  <a:pt x="12621" y="8791"/>
                </a:cubicBezTo>
                <a:cubicBezTo>
                  <a:pt x="12684" y="8838"/>
                  <a:pt x="12731" y="8891"/>
                  <a:pt x="12799" y="8930"/>
                </a:cubicBezTo>
                <a:cubicBezTo>
                  <a:pt x="12833" y="8950"/>
                  <a:pt x="12872" y="8960"/>
                  <a:pt x="12918" y="8989"/>
                </a:cubicBezTo>
                <a:cubicBezTo>
                  <a:pt x="12956" y="9013"/>
                  <a:pt x="12995" y="9025"/>
                  <a:pt x="13037" y="9049"/>
                </a:cubicBezTo>
                <a:cubicBezTo>
                  <a:pt x="13075" y="9071"/>
                  <a:pt x="13125" y="9102"/>
                  <a:pt x="13156" y="9128"/>
                </a:cubicBezTo>
                <a:cubicBezTo>
                  <a:pt x="13186" y="9153"/>
                  <a:pt x="13186" y="9167"/>
                  <a:pt x="13216" y="9188"/>
                </a:cubicBezTo>
                <a:cubicBezTo>
                  <a:pt x="13235" y="9201"/>
                  <a:pt x="13248" y="9223"/>
                  <a:pt x="13275" y="9247"/>
                </a:cubicBezTo>
                <a:cubicBezTo>
                  <a:pt x="13294" y="9264"/>
                  <a:pt x="13339" y="9268"/>
                  <a:pt x="13355" y="9287"/>
                </a:cubicBezTo>
                <a:cubicBezTo>
                  <a:pt x="13376" y="9313"/>
                  <a:pt x="13393" y="9336"/>
                  <a:pt x="13414" y="9366"/>
                </a:cubicBezTo>
                <a:cubicBezTo>
                  <a:pt x="13430" y="9389"/>
                  <a:pt x="13415" y="9418"/>
                  <a:pt x="13434" y="9446"/>
                </a:cubicBezTo>
                <a:cubicBezTo>
                  <a:pt x="13446" y="9464"/>
                  <a:pt x="13474" y="9499"/>
                  <a:pt x="13494" y="9525"/>
                </a:cubicBezTo>
                <a:cubicBezTo>
                  <a:pt x="13520" y="9560"/>
                  <a:pt x="13573" y="9619"/>
                  <a:pt x="13593" y="9644"/>
                </a:cubicBezTo>
                <a:cubicBezTo>
                  <a:pt x="13600" y="9651"/>
                  <a:pt x="13606" y="9657"/>
                  <a:pt x="13613" y="9664"/>
                </a:cubicBezTo>
                <a:cubicBezTo>
                  <a:pt x="13609" y="9622"/>
                  <a:pt x="13718" y="9718"/>
                  <a:pt x="13692" y="9684"/>
                </a:cubicBezTo>
                <a:cubicBezTo>
                  <a:pt x="13674" y="9660"/>
                  <a:pt x="13652" y="9649"/>
                  <a:pt x="13633" y="9624"/>
                </a:cubicBezTo>
                <a:cubicBezTo>
                  <a:pt x="13615" y="9600"/>
                  <a:pt x="13583" y="9589"/>
                  <a:pt x="13573" y="9565"/>
                </a:cubicBezTo>
                <a:cubicBezTo>
                  <a:pt x="13568" y="9554"/>
                  <a:pt x="13463" y="9497"/>
                  <a:pt x="13514" y="9465"/>
                </a:cubicBezTo>
                <a:cubicBezTo>
                  <a:pt x="13536" y="9451"/>
                  <a:pt x="13553" y="9430"/>
                  <a:pt x="13593" y="9465"/>
                </a:cubicBezTo>
                <a:cubicBezTo>
                  <a:pt x="13605" y="9475"/>
                  <a:pt x="13631" y="9503"/>
                  <a:pt x="13652" y="9525"/>
                </a:cubicBezTo>
                <a:cubicBezTo>
                  <a:pt x="13688" y="9563"/>
                  <a:pt x="13682" y="9606"/>
                  <a:pt x="13712" y="9644"/>
                </a:cubicBezTo>
                <a:cubicBezTo>
                  <a:pt x="13721" y="9655"/>
                  <a:pt x="13758" y="9677"/>
                  <a:pt x="13772" y="9704"/>
                </a:cubicBezTo>
                <a:cubicBezTo>
                  <a:pt x="13787" y="9731"/>
                  <a:pt x="13800" y="9742"/>
                  <a:pt x="13811" y="9763"/>
                </a:cubicBezTo>
                <a:cubicBezTo>
                  <a:pt x="13843" y="9821"/>
                  <a:pt x="13837" y="9894"/>
                  <a:pt x="13871" y="9942"/>
                </a:cubicBezTo>
                <a:cubicBezTo>
                  <a:pt x="13881" y="9956"/>
                  <a:pt x="13896" y="9984"/>
                  <a:pt x="13910" y="10001"/>
                </a:cubicBezTo>
                <a:cubicBezTo>
                  <a:pt x="13921" y="10014"/>
                  <a:pt x="13952" y="10043"/>
                  <a:pt x="13970" y="10061"/>
                </a:cubicBezTo>
                <a:cubicBezTo>
                  <a:pt x="13983" y="10074"/>
                  <a:pt x="14019" y="10091"/>
                  <a:pt x="14030" y="10100"/>
                </a:cubicBezTo>
                <a:cubicBezTo>
                  <a:pt x="14057" y="10122"/>
                  <a:pt x="14079" y="10137"/>
                  <a:pt x="14109" y="10160"/>
                </a:cubicBezTo>
                <a:cubicBezTo>
                  <a:pt x="14136" y="10181"/>
                  <a:pt x="14179" y="10196"/>
                  <a:pt x="14208" y="10220"/>
                </a:cubicBezTo>
                <a:cubicBezTo>
                  <a:pt x="14225" y="10234"/>
                  <a:pt x="14258" y="10266"/>
                  <a:pt x="14268" y="10279"/>
                </a:cubicBezTo>
                <a:cubicBezTo>
                  <a:pt x="14294" y="10310"/>
                  <a:pt x="14310" y="10298"/>
                  <a:pt x="14327" y="10339"/>
                </a:cubicBezTo>
                <a:cubicBezTo>
                  <a:pt x="14353" y="10403"/>
                  <a:pt x="14339" y="10378"/>
                  <a:pt x="14347" y="10438"/>
                </a:cubicBezTo>
                <a:cubicBezTo>
                  <a:pt x="14356" y="10508"/>
                  <a:pt x="14320" y="10595"/>
                  <a:pt x="14347" y="10676"/>
                </a:cubicBezTo>
                <a:cubicBezTo>
                  <a:pt x="14356" y="10704"/>
                  <a:pt x="14402" y="10687"/>
                  <a:pt x="14407" y="10716"/>
                </a:cubicBezTo>
                <a:cubicBezTo>
                  <a:pt x="14438" y="10885"/>
                  <a:pt x="14424" y="11069"/>
                  <a:pt x="14486" y="11232"/>
                </a:cubicBezTo>
                <a:cubicBezTo>
                  <a:pt x="14499" y="11267"/>
                  <a:pt x="14515" y="11260"/>
                  <a:pt x="14526" y="11291"/>
                </a:cubicBezTo>
                <a:cubicBezTo>
                  <a:pt x="14540" y="11330"/>
                  <a:pt x="14549" y="11393"/>
                  <a:pt x="14565" y="11430"/>
                </a:cubicBezTo>
                <a:cubicBezTo>
                  <a:pt x="14566" y="11432"/>
                  <a:pt x="14578" y="11454"/>
                  <a:pt x="14585" y="11470"/>
                </a:cubicBezTo>
                <a:cubicBezTo>
                  <a:pt x="14578" y="11329"/>
                  <a:pt x="14584" y="11195"/>
                  <a:pt x="14545" y="11093"/>
                </a:cubicBezTo>
                <a:cubicBezTo>
                  <a:pt x="14525" y="11041"/>
                  <a:pt x="14513" y="10993"/>
                  <a:pt x="14486" y="10954"/>
                </a:cubicBezTo>
                <a:cubicBezTo>
                  <a:pt x="14474" y="10936"/>
                  <a:pt x="14418" y="10866"/>
                  <a:pt x="14407" y="10855"/>
                </a:cubicBezTo>
                <a:cubicBezTo>
                  <a:pt x="14348" y="10795"/>
                  <a:pt x="14257" y="10723"/>
                  <a:pt x="14188" y="10676"/>
                </a:cubicBezTo>
                <a:cubicBezTo>
                  <a:pt x="14148" y="10649"/>
                  <a:pt x="14091" y="10616"/>
                  <a:pt x="14069" y="10597"/>
                </a:cubicBezTo>
                <a:cubicBezTo>
                  <a:pt x="13991" y="10530"/>
                  <a:pt x="13991" y="10680"/>
                  <a:pt x="13950" y="10557"/>
                </a:cubicBezTo>
                <a:cubicBezTo>
                  <a:pt x="13890" y="10375"/>
                  <a:pt x="14057" y="10138"/>
                  <a:pt x="14010" y="9981"/>
                </a:cubicBezTo>
                <a:cubicBezTo>
                  <a:pt x="13981" y="9885"/>
                  <a:pt x="14047" y="9980"/>
                  <a:pt x="13990" y="9922"/>
                </a:cubicBezTo>
                <a:cubicBezTo>
                  <a:pt x="13978" y="9910"/>
                  <a:pt x="13840" y="9897"/>
                  <a:pt x="13811" y="9882"/>
                </a:cubicBezTo>
                <a:cubicBezTo>
                  <a:pt x="13766" y="9859"/>
                  <a:pt x="13721" y="9822"/>
                  <a:pt x="13672" y="9803"/>
                </a:cubicBezTo>
                <a:cubicBezTo>
                  <a:pt x="13621" y="9783"/>
                  <a:pt x="13563" y="9768"/>
                  <a:pt x="13514" y="9743"/>
                </a:cubicBezTo>
                <a:cubicBezTo>
                  <a:pt x="13471" y="9721"/>
                  <a:pt x="13537" y="9744"/>
                  <a:pt x="13494" y="9723"/>
                </a:cubicBezTo>
                <a:cubicBezTo>
                  <a:pt x="13533" y="9733"/>
                  <a:pt x="13614" y="9726"/>
                  <a:pt x="13652" y="9743"/>
                </a:cubicBezTo>
                <a:cubicBezTo>
                  <a:pt x="13709" y="9768"/>
                  <a:pt x="13756" y="9810"/>
                  <a:pt x="13811" y="9842"/>
                </a:cubicBezTo>
                <a:cubicBezTo>
                  <a:pt x="13839" y="9858"/>
                  <a:pt x="13871" y="9857"/>
                  <a:pt x="13891" y="9882"/>
                </a:cubicBezTo>
                <a:cubicBezTo>
                  <a:pt x="13912" y="9909"/>
                  <a:pt x="13952" y="9920"/>
                  <a:pt x="13970" y="9962"/>
                </a:cubicBezTo>
                <a:cubicBezTo>
                  <a:pt x="13998" y="10029"/>
                  <a:pt x="13944" y="10128"/>
                  <a:pt x="13950" y="10180"/>
                </a:cubicBezTo>
                <a:cubicBezTo>
                  <a:pt x="13925" y="10166"/>
                  <a:pt x="13888" y="10241"/>
                  <a:pt x="13831" y="10180"/>
                </a:cubicBezTo>
                <a:cubicBezTo>
                  <a:pt x="13771" y="10116"/>
                  <a:pt x="13747" y="10039"/>
                  <a:pt x="13692" y="9981"/>
                </a:cubicBezTo>
                <a:cubicBezTo>
                  <a:pt x="13527" y="9808"/>
                  <a:pt x="13347" y="9655"/>
                  <a:pt x="13137" y="9545"/>
                </a:cubicBezTo>
                <a:cubicBezTo>
                  <a:pt x="13085" y="9518"/>
                  <a:pt x="13067" y="9526"/>
                  <a:pt x="13018" y="9505"/>
                </a:cubicBezTo>
                <a:cubicBezTo>
                  <a:pt x="13026" y="9649"/>
                  <a:pt x="12994" y="9749"/>
                  <a:pt x="13037" y="9902"/>
                </a:cubicBezTo>
                <a:cubicBezTo>
                  <a:pt x="13094" y="10105"/>
                  <a:pt x="13285" y="10483"/>
                  <a:pt x="13454" y="10616"/>
                </a:cubicBezTo>
                <a:cubicBezTo>
                  <a:pt x="13543" y="10686"/>
                  <a:pt x="13481" y="10691"/>
                  <a:pt x="13553" y="10656"/>
                </a:cubicBezTo>
                <a:cubicBezTo>
                  <a:pt x="13604" y="10631"/>
                  <a:pt x="13588" y="10488"/>
                  <a:pt x="13593" y="10438"/>
                </a:cubicBezTo>
                <a:cubicBezTo>
                  <a:pt x="13607" y="10312"/>
                  <a:pt x="13581" y="10180"/>
                  <a:pt x="13573" y="10061"/>
                </a:cubicBezTo>
                <a:cubicBezTo>
                  <a:pt x="13626" y="10312"/>
                  <a:pt x="13684" y="10551"/>
                  <a:pt x="13772" y="10795"/>
                </a:cubicBezTo>
                <a:cubicBezTo>
                  <a:pt x="13854" y="11022"/>
                  <a:pt x="13944" y="11249"/>
                  <a:pt x="14030" y="11470"/>
                </a:cubicBezTo>
                <a:cubicBezTo>
                  <a:pt x="13982" y="11365"/>
                  <a:pt x="14023" y="11454"/>
                  <a:pt x="13970" y="11351"/>
                </a:cubicBezTo>
                <a:cubicBezTo>
                  <a:pt x="13858" y="11134"/>
                  <a:pt x="13740" y="10917"/>
                  <a:pt x="13633" y="10696"/>
                </a:cubicBezTo>
                <a:cubicBezTo>
                  <a:pt x="13575" y="10576"/>
                  <a:pt x="13514" y="10485"/>
                  <a:pt x="13454" y="10378"/>
                </a:cubicBezTo>
                <a:cubicBezTo>
                  <a:pt x="13617" y="10893"/>
                  <a:pt x="13746" y="11409"/>
                  <a:pt x="13990" y="11886"/>
                </a:cubicBezTo>
                <a:cubicBezTo>
                  <a:pt x="13992" y="11843"/>
                  <a:pt x="14009" y="11763"/>
                  <a:pt x="14010" y="11708"/>
                </a:cubicBezTo>
                <a:cubicBezTo>
                  <a:pt x="14013" y="11495"/>
                  <a:pt x="13954" y="11371"/>
                  <a:pt x="13871" y="11172"/>
                </a:cubicBezTo>
                <a:cubicBezTo>
                  <a:pt x="13799" y="10998"/>
                  <a:pt x="13715" y="10819"/>
                  <a:pt x="13633" y="10656"/>
                </a:cubicBezTo>
                <a:cubicBezTo>
                  <a:pt x="13626" y="10649"/>
                  <a:pt x="13620" y="10643"/>
                  <a:pt x="13613" y="10636"/>
                </a:cubicBezTo>
                <a:cubicBezTo>
                  <a:pt x="13565" y="10938"/>
                  <a:pt x="13541" y="11247"/>
                  <a:pt x="13494" y="11549"/>
                </a:cubicBezTo>
                <a:cubicBezTo>
                  <a:pt x="13433" y="11944"/>
                  <a:pt x="13463" y="12348"/>
                  <a:pt x="13395" y="12740"/>
                </a:cubicBezTo>
                <a:cubicBezTo>
                  <a:pt x="13367" y="12902"/>
                  <a:pt x="13318" y="13049"/>
                  <a:pt x="13256" y="13196"/>
                </a:cubicBezTo>
                <a:cubicBezTo>
                  <a:pt x="13238" y="13214"/>
                  <a:pt x="13234" y="13221"/>
                  <a:pt x="13216" y="13216"/>
                </a:cubicBezTo>
                <a:cubicBezTo>
                  <a:pt x="13143" y="13044"/>
                  <a:pt x="13073" y="12844"/>
                  <a:pt x="13018" y="12640"/>
                </a:cubicBezTo>
                <a:cubicBezTo>
                  <a:pt x="12948" y="12382"/>
                  <a:pt x="12877" y="12114"/>
                  <a:pt x="12779" y="11867"/>
                </a:cubicBezTo>
                <a:cubicBezTo>
                  <a:pt x="12773" y="11860"/>
                  <a:pt x="12766" y="11854"/>
                  <a:pt x="12760" y="11847"/>
                </a:cubicBezTo>
                <a:cubicBezTo>
                  <a:pt x="12782" y="12075"/>
                  <a:pt x="12815" y="12288"/>
                  <a:pt x="12799" y="12521"/>
                </a:cubicBezTo>
                <a:cubicBezTo>
                  <a:pt x="12780" y="12802"/>
                  <a:pt x="12778" y="13126"/>
                  <a:pt x="12680" y="13395"/>
                </a:cubicBezTo>
                <a:cubicBezTo>
                  <a:pt x="12605" y="13601"/>
                  <a:pt x="12486" y="13688"/>
                  <a:pt x="12283" y="13752"/>
                </a:cubicBezTo>
                <a:cubicBezTo>
                  <a:pt x="11735" y="13923"/>
                  <a:pt x="10733" y="13768"/>
                  <a:pt x="10200" y="13633"/>
                </a:cubicBezTo>
                <a:cubicBezTo>
                  <a:pt x="10027" y="13589"/>
                  <a:pt x="9853" y="13517"/>
                  <a:pt x="9684" y="13474"/>
                </a:cubicBezTo>
                <a:cubicBezTo>
                  <a:pt x="9672" y="13471"/>
                  <a:pt x="9600" y="13461"/>
                  <a:pt x="9565" y="13454"/>
                </a:cubicBezTo>
                <a:cubicBezTo>
                  <a:pt x="9509" y="13443"/>
                  <a:pt x="9459" y="13431"/>
                  <a:pt x="9406" y="13414"/>
                </a:cubicBezTo>
                <a:cubicBezTo>
                  <a:pt x="9372" y="13403"/>
                  <a:pt x="9328" y="13375"/>
                  <a:pt x="9327" y="13375"/>
                </a:cubicBezTo>
                <a:cubicBezTo>
                  <a:pt x="9333" y="13375"/>
                  <a:pt x="9340" y="13375"/>
                  <a:pt x="9346" y="13375"/>
                </a:cubicBezTo>
                <a:cubicBezTo>
                  <a:pt x="9378" y="13353"/>
                  <a:pt x="9349" y="13286"/>
                  <a:pt x="9386" y="13275"/>
                </a:cubicBezTo>
                <a:cubicBezTo>
                  <a:pt x="9395" y="13272"/>
                  <a:pt x="9479" y="13264"/>
                  <a:pt x="9505" y="13256"/>
                </a:cubicBezTo>
                <a:cubicBezTo>
                  <a:pt x="9566" y="13236"/>
                  <a:pt x="9718" y="13202"/>
                  <a:pt x="9783" y="13196"/>
                </a:cubicBezTo>
                <a:cubicBezTo>
                  <a:pt x="9815" y="13193"/>
                  <a:pt x="9826" y="13176"/>
                  <a:pt x="9862" y="13176"/>
                </a:cubicBezTo>
                <a:cubicBezTo>
                  <a:pt x="9963" y="13176"/>
                  <a:pt x="10026" y="13226"/>
                  <a:pt x="10120" y="13236"/>
                </a:cubicBezTo>
                <a:cubicBezTo>
                  <a:pt x="10260" y="13251"/>
                  <a:pt x="10394" y="13253"/>
                  <a:pt x="10537" y="13256"/>
                </a:cubicBezTo>
                <a:cubicBezTo>
                  <a:pt x="10818" y="13262"/>
                  <a:pt x="11074" y="13165"/>
                  <a:pt x="11331" y="13057"/>
                </a:cubicBezTo>
                <a:cubicBezTo>
                  <a:pt x="11426" y="13017"/>
                  <a:pt x="11502" y="12965"/>
                  <a:pt x="11589" y="12918"/>
                </a:cubicBezTo>
                <a:cubicBezTo>
                  <a:pt x="11620" y="12902"/>
                  <a:pt x="11638" y="12874"/>
                  <a:pt x="11668" y="12859"/>
                </a:cubicBezTo>
                <a:cubicBezTo>
                  <a:pt x="11707" y="12840"/>
                  <a:pt x="11756" y="12838"/>
                  <a:pt x="11807" y="12819"/>
                </a:cubicBezTo>
                <a:cubicBezTo>
                  <a:pt x="11961" y="12762"/>
                  <a:pt x="12112" y="12707"/>
                  <a:pt x="12263" y="12640"/>
                </a:cubicBezTo>
                <a:cubicBezTo>
                  <a:pt x="12344" y="12604"/>
                  <a:pt x="12448" y="12578"/>
                  <a:pt x="12521" y="12541"/>
                </a:cubicBezTo>
                <a:cubicBezTo>
                  <a:pt x="12521" y="12534"/>
                  <a:pt x="12521" y="12528"/>
                  <a:pt x="12521" y="12521"/>
                </a:cubicBezTo>
                <a:cubicBezTo>
                  <a:pt x="12351" y="12718"/>
                  <a:pt x="12197" y="12944"/>
                  <a:pt x="11966" y="13077"/>
                </a:cubicBezTo>
                <a:cubicBezTo>
                  <a:pt x="11919" y="13104"/>
                  <a:pt x="11857" y="13104"/>
                  <a:pt x="11807" y="13117"/>
                </a:cubicBezTo>
                <a:cubicBezTo>
                  <a:pt x="11712" y="13141"/>
                  <a:pt x="11654" y="13105"/>
                  <a:pt x="11569" y="13156"/>
                </a:cubicBezTo>
                <a:cubicBezTo>
                  <a:pt x="11522" y="13184"/>
                  <a:pt x="11568" y="13242"/>
                  <a:pt x="11470" y="13275"/>
                </a:cubicBezTo>
                <a:cubicBezTo>
                  <a:pt x="11424" y="13291"/>
                  <a:pt x="11385" y="13288"/>
                  <a:pt x="11331" y="13295"/>
                </a:cubicBezTo>
                <a:cubicBezTo>
                  <a:pt x="11109" y="13322"/>
                  <a:pt x="11004" y="13317"/>
                  <a:pt x="10815" y="13474"/>
                </a:cubicBezTo>
                <a:cubicBezTo>
                  <a:pt x="10800" y="13487"/>
                  <a:pt x="10807" y="13524"/>
                  <a:pt x="10795" y="13533"/>
                </a:cubicBezTo>
                <a:cubicBezTo>
                  <a:pt x="10877" y="13576"/>
                  <a:pt x="10944" y="13647"/>
                  <a:pt x="11053" y="13672"/>
                </a:cubicBezTo>
                <a:cubicBezTo>
                  <a:pt x="11189" y="13704"/>
                  <a:pt x="11321" y="13730"/>
                  <a:pt x="11470" y="13712"/>
                </a:cubicBezTo>
                <a:cubicBezTo>
                  <a:pt x="11569" y="13700"/>
                  <a:pt x="11601" y="13656"/>
                  <a:pt x="11688" y="13633"/>
                </a:cubicBezTo>
                <a:cubicBezTo>
                  <a:pt x="11671" y="13473"/>
                  <a:pt x="11759" y="13431"/>
                  <a:pt x="11628" y="13275"/>
                </a:cubicBezTo>
                <a:cubicBezTo>
                  <a:pt x="11469" y="13085"/>
                  <a:pt x="11277" y="13030"/>
                  <a:pt x="11053" y="12958"/>
                </a:cubicBezTo>
                <a:cubicBezTo>
                  <a:pt x="10855" y="12895"/>
                  <a:pt x="10643" y="12843"/>
                  <a:pt x="10438" y="12799"/>
                </a:cubicBezTo>
                <a:cubicBezTo>
                  <a:pt x="10344" y="12779"/>
                  <a:pt x="10254" y="12753"/>
                  <a:pt x="10160" y="12740"/>
                </a:cubicBezTo>
                <a:cubicBezTo>
                  <a:pt x="10083" y="12729"/>
                  <a:pt x="9988" y="12722"/>
                  <a:pt x="9922" y="12700"/>
                </a:cubicBezTo>
                <a:cubicBezTo>
                  <a:pt x="9777" y="12651"/>
                  <a:pt x="9650" y="12557"/>
                  <a:pt x="9505" y="12502"/>
                </a:cubicBezTo>
                <a:cubicBezTo>
                  <a:pt x="9314" y="12430"/>
                  <a:pt x="9146" y="12372"/>
                  <a:pt x="8969" y="12263"/>
                </a:cubicBezTo>
                <a:cubicBezTo>
                  <a:pt x="8937" y="12244"/>
                  <a:pt x="8752" y="12152"/>
                  <a:pt x="8731" y="12125"/>
                </a:cubicBezTo>
                <a:cubicBezTo>
                  <a:pt x="8698" y="12082"/>
                  <a:pt x="8751" y="12065"/>
                  <a:pt x="8751" y="12065"/>
                </a:cubicBezTo>
                <a:cubicBezTo>
                  <a:pt x="8690" y="11994"/>
                  <a:pt x="8664" y="11895"/>
                  <a:pt x="8572" y="11827"/>
                </a:cubicBezTo>
                <a:cubicBezTo>
                  <a:pt x="8541" y="11804"/>
                  <a:pt x="8493" y="11778"/>
                  <a:pt x="8453" y="11767"/>
                </a:cubicBezTo>
                <a:cubicBezTo>
                  <a:pt x="8405" y="11753"/>
                  <a:pt x="8443" y="11813"/>
                  <a:pt x="8394" y="11807"/>
                </a:cubicBezTo>
                <a:cubicBezTo>
                  <a:pt x="8514" y="11855"/>
                  <a:pt x="8601" y="11910"/>
                  <a:pt x="8731" y="11946"/>
                </a:cubicBezTo>
                <a:cubicBezTo>
                  <a:pt x="8896" y="11991"/>
                  <a:pt x="9097" y="12040"/>
                  <a:pt x="9267" y="12045"/>
                </a:cubicBezTo>
                <a:cubicBezTo>
                  <a:pt x="9376" y="12048"/>
                  <a:pt x="9449" y="12012"/>
                  <a:pt x="9545" y="12005"/>
                </a:cubicBezTo>
                <a:cubicBezTo>
                  <a:pt x="9552" y="12005"/>
                  <a:pt x="9558" y="12005"/>
                  <a:pt x="9565" y="12005"/>
                </a:cubicBezTo>
                <a:cubicBezTo>
                  <a:pt x="9528" y="11970"/>
                  <a:pt x="9545" y="11937"/>
                  <a:pt x="9505" y="11906"/>
                </a:cubicBezTo>
                <a:cubicBezTo>
                  <a:pt x="9411" y="11832"/>
                  <a:pt x="9298" y="11732"/>
                  <a:pt x="9188" y="11688"/>
                </a:cubicBezTo>
                <a:cubicBezTo>
                  <a:pt x="8946" y="11590"/>
                  <a:pt x="8649" y="11633"/>
                  <a:pt x="8394" y="11628"/>
                </a:cubicBezTo>
                <a:cubicBezTo>
                  <a:pt x="8583" y="11733"/>
                  <a:pt x="8788" y="11862"/>
                  <a:pt x="8989" y="11966"/>
                </a:cubicBezTo>
                <a:cubicBezTo>
                  <a:pt x="9316" y="12135"/>
                  <a:pt x="9699" y="12238"/>
                  <a:pt x="10041" y="12382"/>
                </a:cubicBezTo>
                <a:cubicBezTo>
                  <a:pt x="10386" y="12528"/>
                  <a:pt x="10760" y="12579"/>
                  <a:pt x="11132" y="12601"/>
                </a:cubicBezTo>
                <a:cubicBezTo>
                  <a:pt x="11462" y="12621"/>
                  <a:pt x="11642" y="12544"/>
                  <a:pt x="11946" y="12442"/>
                </a:cubicBezTo>
                <a:cubicBezTo>
                  <a:pt x="12011" y="12420"/>
                  <a:pt x="12082" y="12392"/>
                  <a:pt x="12144" y="12382"/>
                </a:cubicBezTo>
                <a:cubicBezTo>
                  <a:pt x="12182" y="12376"/>
                  <a:pt x="12502" y="12350"/>
                  <a:pt x="12521" y="12363"/>
                </a:cubicBezTo>
                <a:cubicBezTo>
                  <a:pt x="12541" y="12376"/>
                  <a:pt x="12500" y="12469"/>
                  <a:pt x="12521" y="12482"/>
                </a:cubicBezTo>
                <a:cubicBezTo>
                  <a:pt x="12427" y="12645"/>
                  <a:pt x="12565" y="12620"/>
                  <a:pt x="12323" y="12720"/>
                </a:cubicBezTo>
                <a:cubicBezTo>
                  <a:pt x="12262" y="12745"/>
                  <a:pt x="12113" y="12744"/>
                  <a:pt x="12085" y="12799"/>
                </a:cubicBezTo>
                <a:cubicBezTo>
                  <a:pt x="12072" y="12825"/>
                  <a:pt x="12126" y="12830"/>
                  <a:pt x="12125" y="12859"/>
                </a:cubicBezTo>
                <a:cubicBezTo>
                  <a:pt x="12120" y="12965"/>
                  <a:pt x="12177" y="13053"/>
                  <a:pt x="12263" y="13117"/>
                </a:cubicBezTo>
                <a:cubicBezTo>
                  <a:pt x="12286" y="13134"/>
                  <a:pt x="12303" y="13182"/>
                  <a:pt x="12343" y="13196"/>
                </a:cubicBezTo>
                <a:cubicBezTo>
                  <a:pt x="12391" y="13212"/>
                  <a:pt x="12419" y="13168"/>
                  <a:pt x="12462" y="13176"/>
                </a:cubicBezTo>
                <a:cubicBezTo>
                  <a:pt x="12480" y="13158"/>
                  <a:pt x="12484" y="13151"/>
                  <a:pt x="12502" y="1315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49440" y="2979720"/>
            <a:ext cx="2473560" cy="2300400"/>
          </a:xfrm>
          <a:custGeom>
            <a:avLst/>
            <a:gdLst/>
            <a:ahLst/>
            <a:rect l="l" t="t" r="r" b="b"/>
            <a:pathLst>
              <a:path w="6867" h="6391">
                <a:moveTo>
                  <a:pt x="12502" y="13156"/>
                </a:moveTo>
                <a:cubicBezTo>
                  <a:pt x="12520" y="13124"/>
                  <a:pt x="12574" y="13139"/>
                  <a:pt x="12581" y="13117"/>
                </a:cubicBezTo>
                <a:cubicBezTo>
                  <a:pt x="12595" y="13071"/>
                  <a:pt x="12610" y="13052"/>
                  <a:pt x="12621" y="12998"/>
                </a:cubicBezTo>
                <a:cubicBezTo>
                  <a:pt x="12664" y="12793"/>
                  <a:pt x="12633" y="12649"/>
                  <a:pt x="12720" y="12442"/>
                </a:cubicBezTo>
                <a:cubicBezTo>
                  <a:pt x="12725" y="12429"/>
                  <a:pt x="12828" y="12254"/>
                  <a:pt x="12819" y="12244"/>
                </a:cubicBezTo>
                <a:cubicBezTo>
                  <a:pt x="12787" y="12210"/>
                  <a:pt x="12670" y="12277"/>
                  <a:pt x="12640" y="12283"/>
                </a:cubicBezTo>
                <a:cubicBezTo>
                  <a:pt x="12590" y="12293"/>
                  <a:pt x="12587" y="12330"/>
                  <a:pt x="12541" y="12343"/>
                </a:cubicBezTo>
                <a:cubicBezTo>
                  <a:pt x="12513" y="12343"/>
                  <a:pt x="12503" y="12350"/>
                  <a:pt x="12502" y="12382"/>
                </a:cubicBezTo>
                <a:cubicBezTo>
                  <a:pt x="12533" y="12355"/>
                  <a:pt x="12553" y="12373"/>
                  <a:pt x="12581" y="12343"/>
                </a:cubicBezTo>
                <a:cubicBezTo>
                  <a:pt x="12635" y="12285"/>
                  <a:pt x="12689" y="12225"/>
                  <a:pt x="12740" y="12164"/>
                </a:cubicBezTo>
                <a:cubicBezTo>
                  <a:pt x="12760" y="12140"/>
                  <a:pt x="12775" y="12097"/>
                  <a:pt x="12799" y="12065"/>
                </a:cubicBezTo>
                <a:cubicBezTo>
                  <a:pt x="12810" y="12050"/>
                  <a:pt x="12845" y="12032"/>
                  <a:pt x="12859" y="12005"/>
                </a:cubicBezTo>
                <a:cubicBezTo>
                  <a:pt x="12878" y="11969"/>
                  <a:pt x="12905" y="11993"/>
                  <a:pt x="12918" y="11946"/>
                </a:cubicBezTo>
                <a:cubicBezTo>
                  <a:pt x="12952" y="11819"/>
                  <a:pt x="12943" y="11557"/>
                  <a:pt x="12799" y="11509"/>
                </a:cubicBezTo>
                <a:cubicBezTo>
                  <a:pt x="12711" y="11480"/>
                  <a:pt x="12557" y="11475"/>
                  <a:pt x="12482" y="11529"/>
                </a:cubicBezTo>
                <a:cubicBezTo>
                  <a:pt x="12298" y="11660"/>
                  <a:pt x="12356" y="11955"/>
                  <a:pt x="12343" y="12144"/>
                </a:cubicBezTo>
                <a:cubicBezTo>
                  <a:pt x="12307" y="12640"/>
                  <a:pt x="12347" y="13137"/>
                  <a:pt x="12303" y="13633"/>
                </a:cubicBezTo>
                <a:cubicBezTo>
                  <a:pt x="12285" y="13778"/>
                  <a:pt x="12278" y="13817"/>
                  <a:pt x="12283" y="13910"/>
                </a:cubicBezTo>
                <a:cubicBezTo>
                  <a:pt x="12276" y="13823"/>
                  <a:pt x="12241" y="13732"/>
                  <a:pt x="12244" y="13652"/>
                </a:cubicBezTo>
                <a:cubicBezTo>
                  <a:pt x="12249" y="13519"/>
                  <a:pt x="12294" y="13405"/>
                  <a:pt x="12303" y="13275"/>
                </a:cubicBezTo>
                <a:cubicBezTo>
                  <a:pt x="12312" y="13147"/>
                  <a:pt x="12277" y="13046"/>
                  <a:pt x="12263" y="12938"/>
                </a:cubicBezTo>
                <a:cubicBezTo>
                  <a:pt x="12257" y="12931"/>
                  <a:pt x="12250" y="12925"/>
                  <a:pt x="12244" y="12918"/>
                </a:cubicBezTo>
                <a:cubicBezTo>
                  <a:pt x="12206" y="12977"/>
                  <a:pt x="12061" y="12910"/>
                  <a:pt x="12065" y="13077"/>
                </a:cubicBezTo>
                <a:cubicBezTo>
                  <a:pt x="12068" y="13185"/>
                  <a:pt x="12135" y="13245"/>
                  <a:pt x="12184" y="13355"/>
                </a:cubicBezTo>
                <a:cubicBezTo>
                  <a:pt x="12214" y="13421"/>
                  <a:pt x="12250" y="13492"/>
                  <a:pt x="12283" y="13553"/>
                </a:cubicBezTo>
                <a:cubicBezTo>
                  <a:pt x="12181" y="13475"/>
                  <a:pt x="12160" y="13435"/>
                  <a:pt x="12045" y="13395"/>
                </a:cubicBezTo>
                <a:cubicBezTo>
                  <a:pt x="11850" y="13328"/>
                  <a:pt x="11607" y="13333"/>
                  <a:pt x="11410" y="13395"/>
                </a:cubicBezTo>
                <a:cubicBezTo>
                  <a:pt x="10874" y="13563"/>
                  <a:pt x="10470" y="14078"/>
                  <a:pt x="10041" y="14407"/>
                </a:cubicBezTo>
                <a:cubicBezTo>
                  <a:pt x="10034" y="14407"/>
                  <a:pt x="10028" y="14407"/>
                  <a:pt x="10021" y="14407"/>
                </a:cubicBezTo>
                <a:cubicBezTo>
                  <a:pt x="10138" y="14352"/>
                  <a:pt x="10259" y="14292"/>
                  <a:pt x="10378" y="14228"/>
                </a:cubicBezTo>
                <a:cubicBezTo>
                  <a:pt x="10622" y="14097"/>
                  <a:pt x="10937" y="13916"/>
                  <a:pt x="11112" y="13692"/>
                </a:cubicBezTo>
                <a:cubicBezTo>
                  <a:pt x="11154" y="13638"/>
                  <a:pt x="11159" y="13596"/>
                  <a:pt x="11192" y="13553"/>
                </a:cubicBezTo>
                <a:cubicBezTo>
                  <a:pt x="11192" y="13546"/>
                  <a:pt x="11192" y="13540"/>
                  <a:pt x="11192" y="13533"/>
                </a:cubicBezTo>
                <a:cubicBezTo>
                  <a:pt x="11161" y="13535"/>
                  <a:pt x="11122" y="13505"/>
                  <a:pt x="11073" y="13514"/>
                </a:cubicBezTo>
                <a:cubicBezTo>
                  <a:pt x="10937" y="13540"/>
                  <a:pt x="10880" y="13555"/>
                  <a:pt x="10755" y="13633"/>
                </a:cubicBezTo>
                <a:cubicBezTo>
                  <a:pt x="10615" y="13720"/>
                  <a:pt x="10494" y="13867"/>
                  <a:pt x="10418" y="14010"/>
                </a:cubicBezTo>
                <a:cubicBezTo>
                  <a:pt x="10370" y="14100"/>
                  <a:pt x="10363" y="14315"/>
                  <a:pt x="10259" y="14367"/>
                </a:cubicBezTo>
                <a:cubicBezTo>
                  <a:pt x="10241" y="14376"/>
                  <a:pt x="10227" y="14389"/>
                  <a:pt x="10180" y="14387"/>
                </a:cubicBezTo>
                <a:cubicBezTo>
                  <a:pt x="10096" y="14383"/>
                  <a:pt x="10152" y="14274"/>
                  <a:pt x="10120" y="14248"/>
                </a:cubicBezTo>
                <a:cubicBezTo>
                  <a:pt x="10094" y="14227"/>
                  <a:pt x="10080" y="14194"/>
                  <a:pt x="10061" y="14168"/>
                </a:cubicBezTo>
                <a:cubicBezTo>
                  <a:pt x="10049" y="14188"/>
                  <a:pt x="10004" y="14250"/>
                  <a:pt x="9981" y="14288"/>
                </a:cubicBezTo>
                <a:cubicBezTo>
                  <a:pt x="9929" y="14375"/>
                  <a:pt x="9904" y="14477"/>
                  <a:pt x="9823" y="14526"/>
                </a:cubicBezTo>
                <a:cubicBezTo>
                  <a:pt x="9731" y="14581"/>
                  <a:pt x="9907" y="14534"/>
                  <a:pt x="9763" y="14545"/>
                </a:cubicBezTo>
                <a:cubicBezTo>
                  <a:pt x="9731" y="14547"/>
                  <a:pt x="9736" y="14484"/>
                  <a:pt x="9704" y="14486"/>
                </a:cubicBezTo>
                <a:cubicBezTo>
                  <a:pt x="9685" y="14487"/>
                  <a:pt x="9662" y="14488"/>
                  <a:pt x="9644" y="14486"/>
                </a:cubicBezTo>
                <a:cubicBezTo>
                  <a:pt x="9664" y="14486"/>
                  <a:pt x="9671" y="14486"/>
                  <a:pt x="9684" y="14486"/>
                </a:cubicBezTo>
                <a:cubicBezTo>
                  <a:pt x="9649" y="14482"/>
                  <a:pt x="9679" y="14509"/>
                  <a:pt x="9644" y="14506"/>
                </a:cubicBezTo>
                <a:cubicBezTo>
                  <a:pt x="9595" y="14502"/>
                  <a:pt x="9493" y="14486"/>
                  <a:pt x="9446" y="14466"/>
                </a:cubicBezTo>
                <a:cubicBezTo>
                  <a:pt x="9414" y="14453"/>
                  <a:pt x="9411" y="14434"/>
                  <a:pt x="9386" y="14426"/>
                </a:cubicBezTo>
                <a:cubicBezTo>
                  <a:pt x="9347" y="14414"/>
                  <a:pt x="9323" y="14382"/>
                  <a:pt x="9287" y="14367"/>
                </a:cubicBezTo>
                <a:cubicBezTo>
                  <a:pt x="9232" y="14345"/>
                  <a:pt x="9181" y="14358"/>
                  <a:pt x="9128" y="14327"/>
                </a:cubicBezTo>
                <a:cubicBezTo>
                  <a:pt x="9098" y="14310"/>
                  <a:pt x="9079" y="14284"/>
                  <a:pt x="9049" y="14268"/>
                </a:cubicBezTo>
                <a:cubicBezTo>
                  <a:pt x="9042" y="14265"/>
                  <a:pt x="9009" y="14238"/>
                  <a:pt x="8989" y="14228"/>
                </a:cubicBezTo>
                <a:cubicBezTo>
                  <a:pt x="8963" y="14214"/>
                  <a:pt x="8935" y="14201"/>
                  <a:pt x="8910" y="14188"/>
                </a:cubicBezTo>
                <a:cubicBezTo>
                  <a:pt x="8888" y="14176"/>
                  <a:pt x="8876" y="14182"/>
                  <a:pt x="8850" y="14168"/>
                </a:cubicBezTo>
                <a:cubicBezTo>
                  <a:pt x="8808" y="14145"/>
                  <a:pt x="8797" y="14145"/>
                  <a:pt x="8771" y="14129"/>
                </a:cubicBezTo>
                <a:cubicBezTo>
                  <a:pt x="8732" y="14105"/>
                  <a:pt x="8686" y="14075"/>
                  <a:pt x="8652" y="14049"/>
                </a:cubicBezTo>
                <a:cubicBezTo>
                  <a:pt x="8642" y="14041"/>
                  <a:pt x="8620" y="13996"/>
                  <a:pt x="8612" y="13990"/>
                </a:cubicBezTo>
                <a:cubicBezTo>
                  <a:pt x="8573" y="13958"/>
                  <a:pt x="8569" y="13964"/>
                  <a:pt x="8533" y="13930"/>
                </a:cubicBezTo>
                <a:cubicBezTo>
                  <a:pt x="8520" y="13918"/>
                  <a:pt x="8498" y="13890"/>
                  <a:pt x="8473" y="13871"/>
                </a:cubicBezTo>
                <a:cubicBezTo>
                  <a:pt x="8453" y="13855"/>
                  <a:pt x="8442" y="13855"/>
                  <a:pt x="8414" y="13831"/>
                </a:cubicBezTo>
                <a:cubicBezTo>
                  <a:pt x="8397" y="13816"/>
                  <a:pt x="8379" y="13791"/>
                  <a:pt x="8354" y="13772"/>
                </a:cubicBezTo>
                <a:cubicBezTo>
                  <a:pt x="8333" y="13756"/>
                  <a:pt x="8288" y="13722"/>
                  <a:pt x="8275" y="13712"/>
                </a:cubicBezTo>
                <a:cubicBezTo>
                  <a:pt x="8248" y="13691"/>
                  <a:pt x="8223" y="13676"/>
                  <a:pt x="8195" y="13652"/>
                </a:cubicBezTo>
                <a:cubicBezTo>
                  <a:pt x="8178" y="13638"/>
                  <a:pt x="8148" y="13624"/>
                  <a:pt x="8136" y="13613"/>
                </a:cubicBezTo>
                <a:cubicBezTo>
                  <a:pt x="8091" y="13573"/>
                  <a:pt x="8049" y="13525"/>
                  <a:pt x="8017" y="13494"/>
                </a:cubicBezTo>
                <a:cubicBezTo>
                  <a:pt x="7993" y="13471"/>
                  <a:pt x="7976" y="13454"/>
                  <a:pt x="7957" y="13434"/>
                </a:cubicBezTo>
                <a:cubicBezTo>
                  <a:pt x="7945" y="13421"/>
                  <a:pt x="7918" y="13400"/>
                  <a:pt x="7898" y="13375"/>
                </a:cubicBezTo>
                <a:cubicBezTo>
                  <a:pt x="7855" y="13323"/>
                  <a:pt x="7819" y="13261"/>
                  <a:pt x="7779" y="13216"/>
                </a:cubicBezTo>
                <a:cubicBezTo>
                  <a:pt x="7763" y="13198"/>
                  <a:pt x="7739" y="13184"/>
                  <a:pt x="7719" y="13156"/>
                </a:cubicBezTo>
                <a:cubicBezTo>
                  <a:pt x="7707" y="13139"/>
                  <a:pt x="7679" y="13125"/>
                  <a:pt x="7660" y="13097"/>
                </a:cubicBezTo>
                <a:cubicBezTo>
                  <a:pt x="7645" y="13075"/>
                  <a:pt x="7653" y="13057"/>
                  <a:pt x="7640" y="13037"/>
                </a:cubicBezTo>
                <a:cubicBezTo>
                  <a:pt x="7626" y="13016"/>
                  <a:pt x="7619" y="13009"/>
                  <a:pt x="7600" y="12978"/>
                </a:cubicBezTo>
                <a:cubicBezTo>
                  <a:pt x="7586" y="12955"/>
                  <a:pt x="7575" y="12924"/>
                  <a:pt x="7560" y="12898"/>
                </a:cubicBezTo>
                <a:cubicBezTo>
                  <a:pt x="7545" y="12873"/>
                  <a:pt x="7535" y="12841"/>
                  <a:pt x="7521" y="12819"/>
                </a:cubicBezTo>
                <a:cubicBezTo>
                  <a:pt x="7501" y="12789"/>
                  <a:pt x="7479" y="12769"/>
                  <a:pt x="7461" y="12740"/>
                </a:cubicBezTo>
                <a:cubicBezTo>
                  <a:pt x="7447" y="12718"/>
                  <a:pt x="7419" y="12672"/>
                  <a:pt x="7402" y="12640"/>
                </a:cubicBezTo>
                <a:cubicBezTo>
                  <a:pt x="7391" y="12620"/>
                  <a:pt x="7354" y="12581"/>
                  <a:pt x="7342" y="12541"/>
                </a:cubicBezTo>
                <a:cubicBezTo>
                  <a:pt x="7311" y="12435"/>
                  <a:pt x="7275" y="12085"/>
                  <a:pt x="7342" y="11986"/>
                </a:cubicBezTo>
                <a:cubicBezTo>
                  <a:pt x="7362" y="11957"/>
                  <a:pt x="7398" y="11960"/>
                  <a:pt x="7422" y="11926"/>
                </a:cubicBezTo>
                <a:cubicBezTo>
                  <a:pt x="7454" y="11880"/>
                  <a:pt x="7497" y="11862"/>
                  <a:pt x="7541" y="11827"/>
                </a:cubicBezTo>
                <a:cubicBezTo>
                  <a:pt x="7581" y="11795"/>
                  <a:pt x="7553" y="11778"/>
                  <a:pt x="7600" y="11748"/>
                </a:cubicBezTo>
                <a:cubicBezTo>
                  <a:pt x="7640" y="11748"/>
                  <a:pt x="7653" y="11748"/>
                  <a:pt x="7680" y="11748"/>
                </a:cubicBezTo>
                <a:cubicBezTo>
                  <a:pt x="7653" y="11764"/>
                  <a:pt x="7710" y="11778"/>
                  <a:pt x="7680" y="11787"/>
                </a:cubicBezTo>
                <a:cubicBezTo>
                  <a:pt x="7632" y="11801"/>
                  <a:pt x="7593" y="11815"/>
                  <a:pt x="7560" y="11827"/>
                </a:cubicBezTo>
                <a:cubicBezTo>
                  <a:pt x="7476" y="11859"/>
                  <a:pt x="7399" y="11825"/>
                  <a:pt x="7322" y="11906"/>
                </a:cubicBezTo>
                <a:cubicBezTo>
                  <a:pt x="7267" y="11964"/>
                  <a:pt x="7265" y="11979"/>
                  <a:pt x="7243" y="12045"/>
                </a:cubicBezTo>
                <a:cubicBezTo>
                  <a:pt x="7212" y="12139"/>
                  <a:pt x="7238" y="12311"/>
                  <a:pt x="7283" y="12382"/>
                </a:cubicBezTo>
                <a:cubicBezTo>
                  <a:pt x="7312" y="12427"/>
                  <a:pt x="7365" y="12437"/>
                  <a:pt x="7382" y="12462"/>
                </a:cubicBezTo>
                <a:cubicBezTo>
                  <a:pt x="7399" y="12487"/>
                  <a:pt x="7424" y="12498"/>
                  <a:pt x="7441" y="12521"/>
                </a:cubicBezTo>
                <a:cubicBezTo>
                  <a:pt x="7472" y="12564"/>
                  <a:pt x="7471" y="12603"/>
                  <a:pt x="7501" y="12640"/>
                </a:cubicBezTo>
                <a:cubicBezTo>
                  <a:pt x="7610" y="12774"/>
                  <a:pt x="7692" y="12919"/>
                  <a:pt x="7799" y="13057"/>
                </a:cubicBezTo>
                <a:cubicBezTo>
                  <a:pt x="7913" y="13204"/>
                  <a:pt x="8066" y="13426"/>
                  <a:pt x="8255" y="13474"/>
                </a:cubicBezTo>
                <a:cubicBezTo>
                  <a:pt x="8301" y="13486"/>
                  <a:pt x="8284" y="13447"/>
                  <a:pt x="8315" y="13454"/>
                </a:cubicBezTo>
                <a:cubicBezTo>
                  <a:pt x="8450" y="13485"/>
                  <a:pt x="8536" y="13500"/>
                  <a:pt x="8672" y="13553"/>
                </a:cubicBezTo>
                <a:cubicBezTo>
                  <a:pt x="8802" y="13604"/>
                  <a:pt x="8917" y="13658"/>
                  <a:pt x="9049" y="13692"/>
                </a:cubicBezTo>
                <a:cubicBezTo>
                  <a:pt x="9099" y="13705"/>
                  <a:pt x="9139" y="13724"/>
                  <a:pt x="9188" y="13732"/>
                </a:cubicBezTo>
                <a:cubicBezTo>
                  <a:pt x="9316" y="13753"/>
                  <a:pt x="9406" y="13708"/>
                  <a:pt x="9465" y="13831"/>
                </a:cubicBezTo>
                <a:cubicBezTo>
                  <a:pt x="9488" y="13878"/>
                  <a:pt x="9456" y="13968"/>
                  <a:pt x="9446" y="14010"/>
                </a:cubicBezTo>
                <a:cubicBezTo>
                  <a:pt x="9428" y="14087"/>
                  <a:pt x="9410" y="14083"/>
                  <a:pt x="9386" y="14129"/>
                </a:cubicBezTo>
                <a:cubicBezTo>
                  <a:pt x="9371" y="14157"/>
                  <a:pt x="9332" y="14192"/>
                  <a:pt x="9307" y="14228"/>
                </a:cubicBezTo>
                <a:cubicBezTo>
                  <a:pt x="9300" y="14238"/>
                  <a:pt x="9276" y="14274"/>
                  <a:pt x="9267" y="14288"/>
                </a:cubicBezTo>
                <a:cubicBezTo>
                  <a:pt x="9299" y="14301"/>
                  <a:pt x="9302" y="14318"/>
                  <a:pt x="9327" y="14327"/>
                </a:cubicBezTo>
                <a:cubicBezTo>
                  <a:pt x="9403" y="14356"/>
                  <a:pt x="9488" y="14376"/>
                  <a:pt x="9565" y="14407"/>
                </a:cubicBezTo>
                <a:cubicBezTo>
                  <a:pt x="9649" y="14441"/>
                  <a:pt x="9660" y="14413"/>
                  <a:pt x="9723" y="14486"/>
                </a:cubicBezTo>
                <a:cubicBezTo>
                  <a:pt x="9765" y="14534"/>
                  <a:pt x="9693" y="14548"/>
                  <a:pt x="9704" y="14565"/>
                </a:cubicBezTo>
                <a:cubicBezTo>
                  <a:pt x="9678" y="14543"/>
                  <a:pt x="9654" y="14537"/>
                  <a:pt x="9624" y="14506"/>
                </a:cubicBezTo>
                <a:cubicBezTo>
                  <a:pt x="9607" y="14489"/>
                  <a:pt x="9583" y="14457"/>
                  <a:pt x="9565" y="14446"/>
                </a:cubicBezTo>
                <a:cubicBezTo>
                  <a:pt x="9540" y="14430"/>
                  <a:pt x="9528" y="14395"/>
                  <a:pt x="9505" y="14387"/>
                </a:cubicBezTo>
                <a:cubicBezTo>
                  <a:pt x="9480" y="14378"/>
                  <a:pt x="9451" y="14373"/>
                  <a:pt x="9426" y="14367"/>
                </a:cubicBezTo>
                <a:cubicBezTo>
                  <a:pt x="9289" y="14336"/>
                  <a:pt x="9210" y="14375"/>
                  <a:pt x="9088" y="14307"/>
                </a:cubicBezTo>
                <a:cubicBezTo>
                  <a:pt x="9049" y="14285"/>
                  <a:pt x="9040" y="14266"/>
                  <a:pt x="9009" y="14248"/>
                </a:cubicBezTo>
                <a:cubicBezTo>
                  <a:pt x="8979" y="14231"/>
                  <a:pt x="8945" y="14176"/>
                  <a:pt x="8930" y="14168"/>
                </a:cubicBezTo>
                <a:cubicBezTo>
                  <a:pt x="8909" y="14156"/>
                  <a:pt x="8871" y="14163"/>
                  <a:pt x="8850" y="14149"/>
                </a:cubicBezTo>
                <a:cubicBezTo>
                  <a:pt x="8826" y="14134"/>
                  <a:pt x="8797" y="14128"/>
                  <a:pt x="8771" y="14109"/>
                </a:cubicBezTo>
                <a:cubicBezTo>
                  <a:pt x="8746" y="14091"/>
                  <a:pt x="8720" y="14065"/>
                  <a:pt x="8692" y="14049"/>
                </a:cubicBezTo>
                <a:cubicBezTo>
                  <a:pt x="8659" y="14030"/>
                  <a:pt x="8656" y="14002"/>
                  <a:pt x="8632" y="13990"/>
                </a:cubicBezTo>
                <a:cubicBezTo>
                  <a:pt x="8610" y="13979"/>
                  <a:pt x="8576" y="13980"/>
                  <a:pt x="8553" y="13970"/>
                </a:cubicBezTo>
                <a:cubicBezTo>
                  <a:pt x="8527" y="13958"/>
                  <a:pt x="8526" y="13963"/>
                  <a:pt x="8493" y="13950"/>
                </a:cubicBezTo>
                <a:cubicBezTo>
                  <a:pt x="8456" y="13936"/>
                  <a:pt x="8405" y="13925"/>
                  <a:pt x="8374" y="13910"/>
                </a:cubicBezTo>
                <a:cubicBezTo>
                  <a:pt x="8355" y="13901"/>
                  <a:pt x="8319" y="13873"/>
                  <a:pt x="8315" y="13871"/>
                </a:cubicBezTo>
                <a:cubicBezTo>
                  <a:pt x="8347" y="13887"/>
                  <a:pt x="8366" y="13848"/>
                  <a:pt x="8394" y="13871"/>
                </a:cubicBezTo>
                <a:cubicBezTo>
                  <a:pt x="8424" y="13896"/>
                  <a:pt x="8471" y="13901"/>
                  <a:pt x="8493" y="13930"/>
                </a:cubicBezTo>
                <a:cubicBezTo>
                  <a:pt x="8517" y="13962"/>
                  <a:pt x="8513" y="13998"/>
                  <a:pt x="8533" y="14030"/>
                </a:cubicBezTo>
                <a:cubicBezTo>
                  <a:pt x="8553" y="14062"/>
                  <a:pt x="8536" y="14076"/>
                  <a:pt x="8553" y="14109"/>
                </a:cubicBezTo>
                <a:cubicBezTo>
                  <a:pt x="8576" y="14151"/>
                  <a:pt x="8564" y="14150"/>
                  <a:pt x="8592" y="14188"/>
                </a:cubicBezTo>
                <a:cubicBezTo>
                  <a:pt x="8614" y="14218"/>
                  <a:pt x="8600" y="14215"/>
                  <a:pt x="8632" y="14248"/>
                </a:cubicBezTo>
                <a:cubicBezTo>
                  <a:pt x="8647" y="14263"/>
                  <a:pt x="8668" y="14271"/>
                  <a:pt x="8692" y="14288"/>
                </a:cubicBezTo>
                <a:cubicBezTo>
                  <a:pt x="8755" y="14333"/>
                  <a:pt x="8765" y="14324"/>
                  <a:pt x="8830" y="14347"/>
                </a:cubicBezTo>
                <a:cubicBezTo>
                  <a:pt x="8864" y="14359"/>
                  <a:pt x="8893" y="14381"/>
                  <a:pt x="8930" y="14387"/>
                </a:cubicBezTo>
                <a:cubicBezTo>
                  <a:pt x="9062" y="14409"/>
                  <a:pt x="9149" y="14405"/>
                  <a:pt x="9267" y="14446"/>
                </a:cubicBezTo>
                <a:cubicBezTo>
                  <a:pt x="9317" y="14463"/>
                  <a:pt x="9374" y="14491"/>
                  <a:pt x="9426" y="14506"/>
                </a:cubicBezTo>
                <a:cubicBezTo>
                  <a:pt x="9506" y="14530"/>
                  <a:pt x="9582" y="14537"/>
                  <a:pt x="9664" y="14565"/>
                </a:cubicBezTo>
                <a:cubicBezTo>
                  <a:pt x="9798" y="14610"/>
                  <a:pt x="9883" y="14628"/>
                  <a:pt x="10021" y="14645"/>
                </a:cubicBezTo>
                <a:cubicBezTo>
                  <a:pt x="10125" y="14658"/>
                  <a:pt x="10229" y="14664"/>
                  <a:pt x="10339" y="14665"/>
                </a:cubicBezTo>
                <a:cubicBezTo>
                  <a:pt x="10520" y="14667"/>
                  <a:pt x="10793" y="14711"/>
                  <a:pt x="10954" y="14645"/>
                </a:cubicBezTo>
                <a:cubicBezTo>
                  <a:pt x="10964" y="14641"/>
                  <a:pt x="11032" y="14576"/>
                  <a:pt x="11053" y="14565"/>
                </a:cubicBezTo>
                <a:cubicBezTo>
                  <a:pt x="11123" y="14528"/>
                  <a:pt x="11180" y="14483"/>
                  <a:pt x="11251" y="14446"/>
                </a:cubicBezTo>
                <a:cubicBezTo>
                  <a:pt x="11296" y="14423"/>
                  <a:pt x="11362" y="14379"/>
                  <a:pt x="11410" y="14367"/>
                </a:cubicBezTo>
                <a:cubicBezTo>
                  <a:pt x="11637" y="14313"/>
                  <a:pt x="11799" y="14359"/>
                  <a:pt x="12005" y="14248"/>
                </a:cubicBezTo>
                <a:cubicBezTo>
                  <a:pt x="12089" y="14202"/>
                  <a:pt x="12184" y="14126"/>
                  <a:pt x="12263" y="14069"/>
                </a:cubicBezTo>
                <a:cubicBezTo>
                  <a:pt x="12404" y="13968"/>
                  <a:pt x="12523" y="13864"/>
                  <a:pt x="12680" y="13791"/>
                </a:cubicBezTo>
                <a:cubicBezTo>
                  <a:pt x="12725" y="13770"/>
                  <a:pt x="12927" y="13741"/>
                  <a:pt x="12958" y="13712"/>
                </a:cubicBezTo>
                <a:cubicBezTo>
                  <a:pt x="13033" y="13641"/>
                  <a:pt x="13033" y="13567"/>
                  <a:pt x="13077" y="13474"/>
                </a:cubicBezTo>
                <a:cubicBezTo>
                  <a:pt x="13171" y="13277"/>
                  <a:pt x="13224" y="13056"/>
                  <a:pt x="13315" y="12859"/>
                </a:cubicBezTo>
                <a:cubicBezTo>
                  <a:pt x="13395" y="12686"/>
                  <a:pt x="13473" y="12515"/>
                  <a:pt x="13553" y="12343"/>
                </a:cubicBezTo>
                <a:cubicBezTo>
                  <a:pt x="13573" y="12301"/>
                  <a:pt x="13630" y="12190"/>
                  <a:pt x="13633" y="12184"/>
                </a:cubicBezTo>
                <a:cubicBezTo>
                  <a:pt x="13582" y="12215"/>
                  <a:pt x="13510" y="12215"/>
                  <a:pt x="13454" y="12263"/>
                </a:cubicBezTo>
                <a:cubicBezTo>
                  <a:pt x="13365" y="12340"/>
                  <a:pt x="13271" y="12451"/>
                  <a:pt x="13196" y="12541"/>
                </a:cubicBezTo>
                <a:cubicBezTo>
                  <a:pt x="13090" y="12669"/>
                  <a:pt x="12996" y="12781"/>
                  <a:pt x="12879" y="12898"/>
                </a:cubicBezTo>
                <a:cubicBezTo>
                  <a:pt x="12826" y="12951"/>
                  <a:pt x="12812" y="12965"/>
                  <a:pt x="12779" y="12998"/>
                </a:cubicBezTo>
                <a:cubicBezTo>
                  <a:pt x="13096" y="12587"/>
                  <a:pt x="13355" y="12203"/>
                  <a:pt x="13533" y="11708"/>
                </a:cubicBezTo>
                <a:cubicBezTo>
                  <a:pt x="13615" y="11479"/>
                  <a:pt x="13634" y="11264"/>
                  <a:pt x="13672" y="11033"/>
                </a:cubicBezTo>
                <a:cubicBezTo>
                  <a:pt x="13672" y="11026"/>
                  <a:pt x="13672" y="11020"/>
                  <a:pt x="13672" y="11013"/>
                </a:cubicBezTo>
                <a:cubicBezTo>
                  <a:pt x="13631" y="11119"/>
                  <a:pt x="13566" y="11302"/>
                  <a:pt x="13514" y="11430"/>
                </a:cubicBezTo>
                <a:cubicBezTo>
                  <a:pt x="13436" y="11622"/>
                  <a:pt x="13335" y="11791"/>
                  <a:pt x="13236" y="11966"/>
                </a:cubicBezTo>
                <a:cubicBezTo>
                  <a:pt x="13236" y="11627"/>
                  <a:pt x="13237" y="11324"/>
                  <a:pt x="13156" y="10993"/>
                </a:cubicBezTo>
                <a:cubicBezTo>
                  <a:pt x="13103" y="10777"/>
                  <a:pt x="13078" y="10648"/>
                  <a:pt x="12918" y="10478"/>
                </a:cubicBezTo>
                <a:cubicBezTo>
                  <a:pt x="12754" y="10304"/>
                  <a:pt x="12503" y="10274"/>
                  <a:pt x="12283" y="10220"/>
                </a:cubicBezTo>
                <a:cubicBezTo>
                  <a:pt x="12151" y="10188"/>
                  <a:pt x="12068" y="10177"/>
                  <a:pt x="11946" y="10200"/>
                </a:cubicBezTo>
                <a:cubicBezTo>
                  <a:pt x="11843" y="10219"/>
                  <a:pt x="11753" y="10276"/>
                  <a:pt x="11648" y="10299"/>
                </a:cubicBezTo>
                <a:cubicBezTo>
                  <a:pt x="11512" y="10329"/>
                  <a:pt x="11295" y="10384"/>
                  <a:pt x="11152" y="10339"/>
                </a:cubicBezTo>
                <a:cubicBezTo>
                  <a:pt x="10963" y="10279"/>
                  <a:pt x="10746" y="10083"/>
                  <a:pt x="10597" y="9962"/>
                </a:cubicBezTo>
                <a:cubicBezTo>
                  <a:pt x="10379" y="9785"/>
                  <a:pt x="10166" y="9621"/>
                  <a:pt x="9902" y="9505"/>
                </a:cubicBezTo>
                <a:cubicBezTo>
                  <a:pt x="9754" y="9440"/>
                  <a:pt x="9556" y="9393"/>
                  <a:pt x="9426" y="9287"/>
                </a:cubicBezTo>
                <a:cubicBezTo>
                  <a:pt x="9400" y="9266"/>
                  <a:pt x="9420" y="9219"/>
                  <a:pt x="9406" y="9208"/>
                </a:cubicBezTo>
                <a:cubicBezTo>
                  <a:pt x="9436" y="9180"/>
                  <a:pt x="9497" y="9163"/>
                  <a:pt x="9525" y="9128"/>
                </a:cubicBezTo>
                <a:cubicBezTo>
                  <a:pt x="9538" y="9111"/>
                  <a:pt x="9567" y="9071"/>
                  <a:pt x="9585" y="9049"/>
                </a:cubicBezTo>
                <a:cubicBezTo>
                  <a:pt x="9629" y="8995"/>
                  <a:pt x="9657" y="8928"/>
                  <a:pt x="9704" y="8870"/>
                </a:cubicBezTo>
                <a:cubicBezTo>
                  <a:pt x="9726" y="8843"/>
                  <a:pt x="9739" y="8821"/>
                  <a:pt x="9763" y="8791"/>
                </a:cubicBezTo>
                <a:cubicBezTo>
                  <a:pt x="9777" y="8773"/>
                  <a:pt x="9810" y="8752"/>
                  <a:pt x="9823" y="8731"/>
                </a:cubicBezTo>
                <a:cubicBezTo>
                  <a:pt x="9856" y="8678"/>
                  <a:pt x="9858" y="8695"/>
                  <a:pt x="9882" y="8632"/>
                </a:cubicBezTo>
                <a:cubicBezTo>
                  <a:pt x="9909" y="8560"/>
                  <a:pt x="9916" y="8427"/>
                  <a:pt x="9882" y="8374"/>
                </a:cubicBezTo>
                <a:cubicBezTo>
                  <a:pt x="9864" y="8347"/>
                  <a:pt x="9838" y="8326"/>
                  <a:pt x="9823" y="8315"/>
                </a:cubicBezTo>
                <a:cubicBezTo>
                  <a:pt x="9743" y="8256"/>
                  <a:pt x="9690" y="8279"/>
                  <a:pt x="9604" y="8295"/>
                </a:cubicBezTo>
                <a:cubicBezTo>
                  <a:pt x="9570" y="8301"/>
                  <a:pt x="9507" y="8363"/>
                  <a:pt x="9485" y="8374"/>
                </a:cubicBezTo>
                <a:cubicBezTo>
                  <a:pt x="9462" y="8386"/>
                  <a:pt x="9435" y="8429"/>
                  <a:pt x="9426" y="8434"/>
                </a:cubicBezTo>
                <a:cubicBezTo>
                  <a:pt x="9404" y="8446"/>
                  <a:pt x="9366" y="8442"/>
                  <a:pt x="9346" y="8453"/>
                </a:cubicBezTo>
                <a:cubicBezTo>
                  <a:pt x="9314" y="8471"/>
                  <a:pt x="9304" y="8490"/>
                  <a:pt x="9267" y="8513"/>
                </a:cubicBezTo>
                <a:cubicBezTo>
                  <a:pt x="9229" y="8536"/>
                  <a:pt x="9204" y="8551"/>
                  <a:pt x="9168" y="8572"/>
                </a:cubicBezTo>
                <a:cubicBezTo>
                  <a:pt x="9116" y="8602"/>
                  <a:pt x="9082" y="8627"/>
                  <a:pt x="9029" y="8652"/>
                </a:cubicBezTo>
                <a:cubicBezTo>
                  <a:pt x="8990" y="8671"/>
                  <a:pt x="8943" y="8692"/>
                  <a:pt x="8910" y="8711"/>
                </a:cubicBezTo>
                <a:cubicBezTo>
                  <a:pt x="8875" y="8731"/>
                  <a:pt x="8848" y="8751"/>
                  <a:pt x="8811" y="8771"/>
                </a:cubicBezTo>
                <a:cubicBezTo>
                  <a:pt x="8774" y="8791"/>
                  <a:pt x="8726" y="8805"/>
                  <a:pt x="8692" y="8830"/>
                </a:cubicBezTo>
                <a:cubicBezTo>
                  <a:pt x="8657" y="8856"/>
                  <a:pt x="8624" y="8866"/>
                  <a:pt x="8592" y="8890"/>
                </a:cubicBezTo>
                <a:cubicBezTo>
                  <a:pt x="8521" y="8945"/>
                  <a:pt x="8465" y="9009"/>
                  <a:pt x="8394" y="9069"/>
                </a:cubicBezTo>
                <a:cubicBezTo>
                  <a:pt x="8374" y="9086"/>
                  <a:pt x="8363" y="9103"/>
                  <a:pt x="8334" y="9128"/>
                </a:cubicBezTo>
                <a:cubicBezTo>
                  <a:pt x="8302" y="9155"/>
                  <a:pt x="8239" y="9207"/>
                  <a:pt x="8215" y="9227"/>
                </a:cubicBezTo>
                <a:cubicBezTo>
                  <a:pt x="8287" y="9186"/>
                  <a:pt x="8363" y="9153"/>
                  <a:pt x="8434" y="9108"/>
                </a:cubicBezTo>
                <a:cubicBezTo>
                  <a:pt x="8485" y="9076"/>
                  <a:pt x="8541" y="9049"/>
                  <a:pt x="8592" y="9009"/>
                </a:cubicBezTo>
                <a:cubicBezTo>
                  <a:pt x="8640" y="8971"/>
                  <a:pt x="8684" y="8928"/>
                  <a:pt x="8731" y="8890"/>
                </a:cubicBezTo>
                <a:cubicBezTo>
                  <a:pt x="8746" y="8878"/>
                  <a:pt x="8769" y="8848"/>
                  <a:pt x="8791" y="8830"/>
                </a:cubicBezTo>
                <a:cubicBezTo>
                  <a:pt x="8818" y="8807"/>
                  <a:pt x="8847" y="8804"/>
                  <a:pt x="8870" y="8771"/>
                </a:cubicBezTo>
                <a:cubicBezTo>
                  <a:pt x="8888" y="8745"/>
                  <a:pt x="8896" y="8760"/>
                  <a:pt x="8910" y="8731"/>
                </a:cubicBezTo>
                <a:cubicBezTo>
                  <a:pt x="8930" y="8690"/>
                  <a:pt x="8840" y="8776"/>
                  <a:pt x="8850" y="8731"/>
                </a:cubicBezTo>
                <a:cubicBezTo>
                  <a:pt x="8862" y="8726"/>
                  <a:pt x="8921" y="8703"/>
                  <a:pt x="8950" y="8692"/>
                </a:cubicBezTo>
                <a:cubicBezTo>
                  <a:pt x="9024" y="8663"/>
                  <a:pt x="9139" y="8617"/>
                  <a:pt x="9188" y="8592"/>
                </a:cubicBezTo>
                <a:cubicBezTo>
                  <a:pt x="9224" y="8573"/>
                  <a:pt x="9270" y="8548"/>
                  <a:pt x="9287" y="8533"/>
                </a:cubicBezTo>
                <a:cubicBezTo>
                  <a:pt x="9328" y="8496"/>
                  <a:pt x="9319" y="8442"/>
                  <a:pt x="9346" y="8414"/>
                </a:cubicBezTo>
                <a:cubicBezTo>
                  <a:pt x="9223" y="8441"/>
                  <a:pt x="9167" y="8445"/>
                  <a:pt x="9069" y="8493"/>
                </a:cubicBezTo>
                <a:cubicBezTo>
                  <a:pt x="9040" y="8507"/>
                  <a:pt x="9029" y="8520"/>
                  <a:pt x="9009" y="8533"/>
                </a:cubicBezTo>
                <a:cubicBezTo>
                  <a:pt x="8980" y="8551"/>
                  <a:pt x="8954" y="8556"/>
                  <a:pt x="8930" y="8572"/>
                </a:cubicBezTo>
                <a:cubicBezTo>
                  <a:pt x="8895" y="8595"/>
                  <a:pt x="8879" y="8611"/>
                  <a:pt x="8850" y="8632"/>
                </a:cubicBezTo>
                <a:cubicBezTo>
                  <a:pt x="8815" y="8657"/>
                  <a:pt x="8762" y="8682"/>
                  <a:pt x="8731" y="8711"/>
                </a:cubicBezTo>
                <a:cubicBezTo>
                  <a:pt x="8718" y="8723"/>
                  <a:pt x="8695" y="8749"/>
                  <a:pt x="8672" y="8771"/>
                </a:cubicBezTo>
                <a:cubicBezTo>
                  <a:pt x="8643" y="8799"/>
                  <a:pt x="8637" y="8824"/>
                  <a:pt x="8612" y="8850"/>
                </a:cubicBezTo>
                <a:cubicBezTo>
                  <a:pt x="8566" y="8897"/>
                  <a:pt x="8519" y="8943"/>
                  <a:pt x="8473" y="8989"/>
                </a:cubicBezTo>
                <a:cubicBezTo>
                  <a:pt x="8502" y="8965"/>
                  <a:pt x="8444" y="9012"/>
                  <a:pt x="8473" y="8989"/>
                </a:cubicBezTo>
                <a:cubicBezTo>
                  <a:pt x="8527" y="8947"/>
                  <a:pt x="8591" y="8915"/>
                  <a:pt x="8632" y="8870"/>
                </a:cubicBezTo>
                <a:cubicBezTo>
                  <a:pt x="8666" y="8833"/>
                  <a:pt x="8688" y="8777"/>
                  <a:pt x="8711" y="8751"/>
                </a:cubicBezTo>
                <a:cubicBezTo>
                  <a:pt x="8539" y="8787"/>
                  <a:pt x="8436" y="8804"/>
                  <a:pt x="8295" y="8890"/>
                </a:cubicBezTo>
                <a:cubicBezTo>
                  <a:pt x="8257" y="8913"/>
                  <a:pt x="8269" y="8926"/>
                  <a:pt x="8235" y="8950"/>
                </a:cubicBezTo>
                <a:cubicBezTo>
                  <a:pt x="8201" y="8975"/>
                  <a:pt x="8171" y="8984"/>
                  <a:pt x="8136" y="9009"/>
                </a:cubicBezTo>
                <a:cubicBezTo>
                  <a:pt x="8098" y="9036"/>
                  <a:pt x="8070" y="9057"/>
                  <a:pt x="8037" y="9088"/>
                </a:cubicBezTo>
                <a:cubicBezTo>
                  <a:pt x="8016" y="9108"/>
                  <a:pt x="7958" y="9148"/>
                  <a:pt x="7938" y="9168"/>
                </a:cubicBezTo>
                <a:cubicBezTo>
                  <a:pt x="7912" y="9193"/>
                  <a:pt x="7907" y="9219"/>
                  <a:pt x="7878" y="9247"/>
                </a:cubicBezTo>
                <a:cubicBezTo>
                  <a:pt x="7847" y="9276"/>
                  <a:pt x="7851" y="9278"/>
                  <a:pt x="7818" y="9307"/>
                </a:cubicBezTo>
                <a:cubicBezTo>
                  <a:pt x="7799" y="9323"/>
                  <a:pt x="7771" y="9357"/>
                  <a:pt x="7759" y="9366"/>
                </a:cubicBezTo>
                <a:cubicBezTo>
                  <a:pt x="7723" y="9394"/>
                  <a:pt x="7697" y="9391"/>
                  <a:pt x="7660" y="9426"/>
                </a:cubicBezTo>
                <a:cubicBezTo>
                  <a:pt x="7635" y="9449"/>
                  <a:pt x="7613" y="9471"/>
                  <a:pt x="7600" y="9485"/>
                </a:cubicBezTo>
                <a:cubicBezTo>
                  <a:pt x="7575" y="9512"/>
                  <a:pt x="7554" y="9526"/>
                  <a:pt x="7541" y="9545"/>
                </a:cubicBezTo>
                <a:cubicBezTo>
                  <a:pt x="7496" y="9610"/>
                  <a:pt x="7486" y="9650"/>
                  <a:pt x="7461" y="9723"/>
                </a:cubicBezTo>
                <a:cubicBezTo>
                  <a:pt x="7436" y="9795"/>
                  <a:pt x="7439" y="9887"/>
                  <a:pt x="7422" y="9962"/>
                </a:cubicBezTo>
                <a:cubicBezTo>
                  <a:pt x="7413" y="10001"/>
                  <a:pt x="7416" y="10024"/>
                  <a:pt x="7402" y="10061"/>
                </a:cubicBezTo>
                <a:cubicBezTo>
                  <a:pt x="7392" y="10086"/>
                  <a:pt x="7392" y="10116"/>
                  <a:pt x="7382" y="10140"/>
                </a:cubicBezTo>
                <a:cubicBezTo>
                  <a:pt x="7379" y="10146"/>
                  <a:pt x="7333" y="10178"/>
                  <a:pt x="7322" y="10200"/>
                </a:cubicBezTo>
                <a:cubicBezTo>
                  <a:pt x="7306" y="10231"/>
                  <a:pt x="7270" y="10286"/>
                  <a:pt x="7263" y="10299"/>
                </a:cubicBezTo>
                <a:cubicBezTo>
                  <a:pt x="7247" y="10330"/>
                  <a:pt x="7234" y="10357"/>
                  <a:pt x="7223" y="10378"/>
                </a:cubicBezTo>
                <a:cubicBezTo>
                  <a:pt x="7210" y="10403"/>
                  <a:pt x="7202" y="10405"/>
                  <a:pt x="7183" y="10438"/>
                </a:cubicBezTo>
                <a:cubicBezTo>
                  <a:pt x="7170" y="10460"/>
                  <a:pt x="7175" y="10495"/>
                  <a:pt x="7164" y="10517"/>
                </a:cubicBezTo>
                <a:cubicBezTo>
                  <a:pt x="7160" y="10525"/>
                  <a:pt x="7114" y="10553"/>
                  <a:pt x="7104" y="10577"/>
                </a:cubicBezTo>
                <a:cubicBezTo>
                  <a:pt x="7081" y="10632"/>
                  <a:pt x="7089" y="10695"/>
                  <a:pt x="7064" y="10755"/>
                </a:cubicBezTo>
                <a:cubicBezTo>
                  <a:pt x="7050" y="10787"/>
                  <a:pt x="7040" y="10825"/>
                  <a:pt x="7025" y="10855"/>
                </a:cubicBezTo>
                <a:cubicBezTo>
                  <a:pt x="7014" y="10877"/>
                  <a:pt x="6997" y="10882"/>
                  <a:pt x="6985" y="10914"/>
                </a:cubicBezTo>
                <a:cubicBezTo>
                  <a:pt x="6972" y="10949"/>
                  <a:pt x="6951" y="10968"/>
                  <a:pt x="6945" y="10993"/>
                </a:cubicBezTo>
                <a:cubicBezTo>
                  <a:pt x="6858" y="11354"/>
                  <a:pt x="6925" y="11925"/>
                  <a:pt x="6925" y="12244"/>
                </a:cubicBezTo>
                <a:cubicBezTo>
                  <a:pt x="6910" y="12192"/>
                  <a:pt x="6905" y="12117"/>
                  <a:pt x="6886" y="12065"/>
                </a:cubicBezTo>
                <a:cubicBezTo>
                  <a:pt x="6871" y="12025"/>
                  <a:pt x="6830" y="11984"/>
                  <a:pt x="6826" y="11946"/>
                </a:cubicBezTo>
                <a:cubicBezTo>
                  <a:pt x="6816" y="11862"/>
                  <a:pt x="6812" y="11801"/>
                  <a:pt x="6826" y="11708"/>
                </a:cubicBezTo>
                <a:cubicBezTo>
                  <a:pt x="6828" y="11697"/>
                  <a:pt x="6860" y="11627"/>
                  <a:pt x="6866" y="11609"/>
                </a:cubicBezTo>
                <a:cubicBezTo>
                  <a:pt x="6884" y="11553"/>
                  <a:pt x="6912" y="11488"/>
                  <a:pt x="6925" y="11430"/>
                </a:cubicBezTo>
                <a:cubicBezTo>
                  <a:pt x="6971" y="11226"/>
                  <a:pt x="6873" y="10666"/>
                  <a:pt x="7025" y="10517"/>
                </a:cubicBezTo>
                <a:cubicBezTo>
                  <a:pt x="7068" y="10474"/>
                  <a:pt x="7166" y="10463"/>
                  <a:pt x="7223" y="10438"/>
                </a:cubicBezTo>
                <a:cubicBezTo>
                  <a:pt x="7285" y="10410"/>
                  <a:pt x="7355" y="10400"/>
                  <a:pt x="7422" y="10378"/>
                </a:cubicBezTo>
                <a:cubicBezTo>
                  <a:pt x="7502" y="10351"/>
                  <a:pt x="7581" y="10329"/>
                  <a:pt x="7660" y="10299"/>
                </a:cubicBezTo>
                <a:cubicBezTo>
                  <a:pt x="7793" y="10249"/>
                  <a:pt x="7911" y="10187"/>
                  <a:pt x="8037" y="10120"/>
                </a:cubicBezTo>
                <a:cubicBezTo>
                  <a:pt x="8088" y="10093"/>
                  <a:pt x="8175" y="10049"/>
                  <a:pt x="8215" y="10021"/>
                </a:cubicBezTo>
                <a:cubicBezTo>
                  <a:pt x="8248" y="9998"/>
                  <a:pt x="8268" y="9983"/>
                  <a:pt x="8295" y="9962"/>
                </a:cubicBezTo>
                <a:cubicBezTo>
                  <a:pt x="8319" y="9943"/>
                  <a:pt x="8333" y="9919"/>
                  <a:pt x="8354" y="9902"/>
                </a:cubicBezTo>
                <a:cubicBezTo>
                  <a:pt x="8364" y="9894"/>
                  <a:pt x="8402" y="9851"/>
                  <a:pt x="8414" y="9842"/>
                </a:cubicBezTo>
                <a:cubicBezTo>
                  <a:pt x="8454" y="9812"/>
                  <a:pt x="8494" y="9788"/>
                  <a:pt x="8533" y="9763"/>
                </a:cubicBezTo>
                <a:cubicBezTo>
                  <a:pt x="8569" y="9740"/>
                  <a:pt x="8599" y="9724"/>
                  <a:pt x="8632" y="9704"/>
                </a:cubicBezTo>
                <a:cubicBezTo>
                  <a:pt x="8639" y="9704"/>
                  <a:pt x="8645" y="9704"/>
                  <a:pt x="8652" y="970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00440" y="4300560"/>
            <a:ext cx="828720" cy="771480"/>
          </a:xfrm>
          <a:custGeom>
            <a:avLst/>
            <a:gdLst/>
            <a:ahLst/>
            <a:rect l="l" t="t" r="r" b="b"/>
            <a:pathLst>
              <a:path w="2303" h="2144">
                <a:moveTo>
                  <a:pt x="9465" y="13196"/>
                </a:moveTo>
                <a:cubicBezTo>
                  <a:pt x="9530" y="13204"/>
                  <a:pt x="9566" y="13199"/>
                  <a:pt x="9624" y="13236"/>
                </a:cubicBezTo>
                <a:cubicBezTo>
                  <a:pt x="9744" y="13312"/>
                  <a:pt x="9827" y="13470"/>
                  <a:pt x="9942" y="13533"/>
                </a:cubicBezTo>
                <a:cubicBezTo>
                  <a:pt x="9988" y="13548"/>
                  <a:pt x="9993" y="13555"/>
                  <a:pt x="10021" y="13553"/>
                </a:cubicBezTo>
                <a:cubicBezTo>
                  <a:pt x="10068" y="13496"/>
                  <a:pt x="10074" y="13505"/>
                  <a:pt x="10081" y="13414"/>
                </a:cubicBezTo>
                <a:cubicBezTo>
                  <a:pt x="10088" y="13324"/>
                  <a:pt x="10062" y="13308"/>
                  <a:pt x="10001" y="13256"/>
                </a:cubicBezTo>
                <a:cubicBezTo>
                  <a:pt x="9890" y="13161"/>
                  <a:pt x="9768" y="13141"/>
                  <a:pt x="9624" y="13137"/>
                </a:cubicBezTo>
                <a:cubicBezTo>
                  <a:pt x="9520" y="13134"/>
                  <a:pt x="9463" y="13131"/>
                  <a:pt x="9406" y="13236"/>
                </a:cubicBezTo>
                <a:cubicBezTo>
                  <a:pt x="9329" y="13377"/>
                  <a:pt x="9386" y="13674"/>
                  <a:pt x="9386" y="13831"/>
                </a:cubicBezTo>
                <a:cubicBezTo>
                  <a:pt x="9386" y="13890"/>
                  <a:pt x="9360" y="14044"/>
                  <a:pt x="9426" y="14089"/>
                </a:cubicBezTo>
                <a:cubicBezTo>
                  <a:pt x="9495" y="14136"/>
                  <a:pt x="9666" y="14067"/>
                  <a:pt x="9723" y="14049"/>
                </a:cubicBezTo>
                <a:cubicBezTo>
                  <a:pt x="9835" y="14013"/>
                  <a:pt x="9919" y="13951"/>
                  <a:pt x="10021" y="13891"/>
                </a:cubicBezTo>
                <a:cubicBezTo>
                  <a:pt x="10044" y="13891"/>
                  <a:pt x="10052" y="13889"/>
                  <a:pt x="10061" y="13871"/>
                </a:cubicBezTo>
                <a:cubicBezTo>
                  <a:pt x="10019" y="13843"/>
                  <a:pt x="10041" y="13833"/>
                  <a:pt x="9962" y="13811"/>
                </a:cubicBezTo>
                <a:cubicBezTo>
                  <a:pt x="9789" y="13762"/>
                  <a:pt x="9604" y="13720"/>
                  <a:pt x="9426" y="13712"/>
                </a:cubicBezTo>
                <a:cubicBezTo>
                  <a:pt x="9373" y="13710"/>
                  <a:pt x="9320" y="13712"/>
                  <a:pt x="9267" y="13712"/>
                </a:cubicBezTo>
                <a:cubicBezTo>
                  <a:pt x="9291" y="13673"/>
                  <a:pt x="9300" y="13703"/>
                  <a:pt x="9307" y="13633"/>
                </a:cubicBezTo>
                <a:cubicBezTo>
                  <a:pt x="9328" y="13419"/>
                  <a:pt x="9307" y="13205"/>
                  <a:pt x="9247" y="13018"/>
                </a:cubicBezTo>
                <a:cubicBezTo>
                  <a:pt x="9239" y="12992"/>
                  <a:pt x="9189" y="12827"/>
                  <a:pt x="9188" y="12819"/>
                </a:cubicBezTo>
                <a:cubicBezTo>
                  <a:pt x="9181" y="12742"/>
                  <a:pt x="9167" y="12820"/>
                  <a:pt x="9287" y="12859"/>
                </a:cubicBezTo>
                <a:cubicBezTo>
                  <a:pt x="9343" y="12878"/>
                  <a:pt x="9387" y="12874"/>
                  <a:pt x="9446" y="12879"/>
                </a:cubicBezTo>
                <a:cubicBezTo>
                  <a:pt x="9465" y="12879"/>
                  <a:pt x="9472" y="12879"/>
                  <a:pt x="9485" y="12879"/>
                </a:cubicBezTo>
                <a:cubicBezTo>
                  <a:pt x="9485" y="12936"/>
                  <a:pt x="9510" y="13053"/>
                  <a:pt x="9465" y="13097"/>
                </a:cubicBezTo>
                <a:cubicBezTo>
                  <a:pt x="9433" y="13128"/>
                  <a:pt x="9348" y="13132"/>
                  <a:pt x="9307" y="13137"/>
                </a:cubicBezTo>
                <a:cubicBezTo>
                  <a:pt x="9206" y="13148"/>
                  <a:pt x="9152" y="13188"/>
                  <a:pt x="9049" y="13196"/>
                </a:cubicBezTo>
                <a:cubicBezTo>
                  <a:pt x="8997" y="13200"/>
                  <a:pt x="8943" y="13196"/>
                  <a:pt x="8890" y="13196"/>
                </a:cubicBezTo>
                <a:cubicBezTo>
                  <a:pt x="8881" y="13129"/>
                  <a:pt x="8883" y="13115"/>
                  <a:pt x="8850" y="13057"/>
                </a:cubicBezTo>
                <a:cubicBezTo>
                  <a:pt x="8818" y="13000"/>
                  <a:pt x="8783" y="12963"/>
                  <a:pt x="8731" y="12938"/>
                </a:cubicBezTo>
                <a:cubicBezTo>
                  <a:pt x="8682" y="12915"/>
                  <a:pt x="8608" y="12919"/>
                  <a:pt x="8553" y="12918"/>
                </a:cubicBezTo>
                <a:cubicBezTo>
                  <a:pt x="8393" y="12915"/>
                  <a:pt x="8016" y="12982"/>
                  <a:pt x="7898" y="12898"/>
                </a:cubicBezTo>
                <a:cubicBezTo>
                  <a:pt x="7851" y="12864"/>
                  <a:pt x="7866" y="12850"/>
                  <a:pt x="7858" y="12799"/>
                </a:cubicBezTo>
                <a:cubicBezTo>
                  <a:pt x="7847" y="12722"/>
                  <a:pt x="7865" y="12655"/>
                  <a:pt x="7838" y="12581"/>
                </a:cubicBezTo>
                <a:cubicBezTo>
                  <a:pt x="7828" y="12554"/>
                  <a:pt x="7813" y="12557"/>
                  <a:pt x="7799" y="12521"/>
                </a:cubicBezTo>
                <a:cubicBezTo>
                  <a:pt x="7790" y="12498"/>
                  <a:pt x="7782" y="12452"/>
                  <a:pt x="7779" y="12402"/>
                </a:cubicBezTo>
                <a:cubicBezTo>
                  <a:pt x="7777" y="12363"/>
                  <a:pt x="7779" y="12322"/>
                  <a:pt x="7779" y="12283"/>
                </a:cubicBezTo>
                <a:cubicBezTo>
                  <a:pt x="7829" y="12271"/>
                  <a:pt x="7834" y="12265"/>
                  <a:pt x="7898" y="12263"/>
                </a:cubicBezTo>
                <a:cubicBezTo>
                  <a:pt x="8130" y="12256"/>
                  <a:pt x="8367" y="12259"/>
                  <a:pt x="8592" y="12244"/>
                </a:cubicBezTo>
                <a:cubicBezTo>
                  <a:pt x="8683" y="12238"/>
                  <a:pt x="8765" y="12224"/>
                  <a:pt x="8850" y="12204"/>
                </a:cubicBezTo>
                <a:cubicBezTo>
                  <a:pt x="8934" y="12184"/>
                  <a:pt x="9013" y="12148"/>
                  <a:pt x="9088" y="12105"/>
                </a:cubicBezTo>
                <a:cubicBezTo>
                  <a:pt x="9138" y="12076"/>
                  <a:pt x="9179" y="12074"/>
                  <a:pt x="9227" y="12045"/>
                </a:cubicBezTo>
                <a:cubicBezTo>
                  <a:pt x="9236" y="12040"/>
                  <a:pt x="9266" y="12003"/>
                  <a:pt x="9287" y="11986"/>
                </a:cubicBezTo>
                <a:cubicBezTo>
                  <a:pt x="9317" y="11963"/>
                  <a:pt x="9322" y="11957"/>
                  <a:pt x="9346" y="11946"/>
                </a:cubicBezTo>
                <a:cubicBezTo>
                  <a:pt x="9353" y="11946"/>
                  <a:pt x="9359" y="11946"/>
                  <a:pt x="9366" y="1194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28920" y="2886120"/>
            <a:ext cx="3193920" cy="2614680"/>
          </a:xfrm>
          <a:custGeom>
            <a:avLst/>
            <a:gdLst/>
            <a:ahLst/>
            <a:rect l="l" t="t" r="r" b="b"/>
            <a:pathLst>
              <a:path w="8871" h="7264">
                <a:moveTo>
                  <a:pt x="9545" y="8374"/>
                </a:moveTo>
                <a:cubicBezTo>
                  <a:pt x="9553" y="8368"/>
                  <a:pt x="9578" y="8320"/>
                  <a:pt x="9585" y="8315"/>
                </a:cubicBezTo>
                <a:cubicBezTo>
                  <a:pt x="9619" y="8288"/>
                  <a:pt x="9686" y="8244"/>
                  <a:pt x="9704" y="8235"/>
                </a:cubicBezTo>
                <a:cubicBezTo>
                  <a:pt x="9729" y="8223"/>
                  <a:pt x="9819" y="8137"/>
                  <a:pt x="9823" y="8136"/>
                </a:cubicBezTo>
                <a:cubicBezTo>
                  <a:pt x="9897" y="8127"/>
                  <a:pt x="9886" y="8200"/>
                  <a:pt x="9922" y="8195"/>
                </a:cubicBezTo>
                <a:cubicBezTo>
                  <a:pt x="10040" y="8178"/>
                  <a:pt x="10157" y="8194"/>
                  <a:pt x="10279" y="8176"/>
                </a:cubicBezTo>
                <a:cubicBezTo>
                  <a:pt x="10291" y="8174"/>
                  <a:pt x="10366" y="8140"/>
                  <a:pt x="10398" y="8136"/>
                </a:cubicBezTo>
                <a:cubicBezTo>
                  <a:pt x="10457" y="8129"/>
                  <a:pt x="10496" y="8117"/>
                  <a:pt x="10557" y="8116"/>
                </a:cubicBezTo>
                <a:cubicBezTo>
                  <a:pt x="10681" y="8114"/>
                  <a:pt x="10793" y="8128"/>
                  <a:pt x="10914" y="8136"/>
                </a:cubicBezTo>
                <a:cubicBezTo>
                  <a:pt x="11017" y="8143"/>
                  <a:pt x="11110" y="8147"/>
                  <a:pt x="11212" y="8156"/>
                </a:cubicBezTo>
                <a:cubicBezTo>
                  <a:pt x="11345" y="8167"/>
                  <a:pt x="11456" y="8217"/>
                  <a:pt x="11569" y="8235"/>
                </a:cubicBezTo>
                <a:cubicBezTo>
                  <a:pt x="11632" y="8245"/>
                  <a:pt x="11690" y="8234"/>
                  <a:pt x="11748" y="8255"/>
                </a:cubicBezTo>
                <a:cubicBezTo>
                  <a:pt x="11806" y="8276"/>
                  <a:pt x="11802" y="8268"/>
                  <a:pt x="11867" y="8295"/>
                </a:cubicBezTo>
                <a:cubicBezTo>
                  <a:pt x="11896" y="8307"/>
                  <a:pt x="11916" y="8341"/>
                  <a:pt x="11946" y="8354"/>
                </a:cubicBezTo>
                <a:cubicBezTo>
                  <a:pt x="11999" y="8377"/>
                  <a:pt x="12053" y="8387"/>
                  <a:pt x="12105" y="8414"/>
                </a:cubicBezTo>
                <a:cubicBezTo>
                  <a:pt x="12137" y="8431"/>
                  <a:pt x="12170" y="8457"/>
                  <a:pt x="12204" y="8473"/>
                </a:cubicBezTo>
                <a:cubicBezTo>
                  <a:pt x="12234" y="8487"/>
                  <a:pt x="12253" y="8519"/>
                  <a:pt x="12283" y="8533"/>
                </a:cubicBezTo>
                <a:cubicBezTo>
                  <a:pt x="12345" y="8561"/>
                  <a:pt x="12454" y="8599"/>
                  <a:pt x="12521" y="8612"/>
                </a:cubicBezTo>
                <a:cubicBezTo>
                  <a:pt x="12560" y="8619"/>
                  <a:pt x="12582" y="8582"/>
                  <a:pt x="12621" y="8592"/>
                </a:cubicBezTo>
                <a:cubicBezTo>
                  <a:pt x="12590" y="8542"/>
                  <a:pt x="12584" y="8477"/>
                  <a:pt x="12541" y="8414"/>
                </a:cubicBezTo>
                <a:cubicBezTo>
                  <a:pt x="12514" y="8375"/>
                  <a:pt x="12440" y="8256"/>
                  <a:pt x="12402" y="8235"/>
                </a:cubicBezTo>
                <a:cubicBezTo>
                  <a:pt x="12339" y="8200"/>
                  <a:pt x="12315" y="8215"/>
                  <a:pt x="12224" y="8195"/>
                </a:cubicBezTo>
                <a:cubicBezTo>
                  <a:pt x="12022" y="8152"/>
                  <a:pt x="11773" y="8277"/>
                  <a:pt x="11589" y="8195"/>
                </a:cubicBezTo>
                <a:cubicBezTo>
                  <a:pt x="11556" y="8180"/>
                  <a:pt x="11518" y="8096"/>
                  <a:pt x="11470" y="8076"/>
                </a:cubicBezTo>
                <a:cubicBezTo>
                  <a:pt x="11432" y="8060"/>
                  <a:pt x="11378" y="7977"/>
                  <a:pt x="11390" y="8017"/>
                </a:cubicBezTo>
                <a:cubicBezTo>
                  <a:pt x="11393" y="8029"/>
                  <a:pt x="11480" y="8086"/>
                  <a:pt x="11490" y="8096"/>
                </a:cubicBezTo>
                <a:cubicBezTo>
                  <a:pt x="11603" y="8215"/>
                  <a:pt x="11687" y="8276"/>
                  <a:pt x="11827" y="8334"/>
                </a:cubicBezTo>
                <a:cubicBezTo>
                  <a:pt x="11906" y="8367"/>
                  <a:pt x="12024" y="8377"/>
                  <a:pt x="12105" y="8394"/>
                </a:cubicBezTo>
                <a:cubicBezTo>
                  <a:pt x="12217" y="8418"/>
                  <a:pt x="12295" y="8396"/>
                  <a:pt x="12402" y="8453"/>
                </a:cubicBezTo>
                <a:cubicBezTo>
                  <a:pt x="12464" y="8486"/>
                  <a:pt x="12545" y="8567"/>
                  <a:pt x="12601" y="8612"/>
                </a:cubicBezTo>
                <a:cubicBezTo>
                  <a:pt x="12760" y="8738"/>
                  <a:pt x="12899" y="8853"/>
                  <a:pt x="13037" y="8950"/>
                </a:cubicBezTo>
                <a:cubicBezTo>
                  <a:pt x="12833" y="8880"/>
                  <a:pt x="12775" y="8923"/>
                  <a:pt x="12621" y="8731"/>
                </a:cubicBezTo>
                <a:cubicBezTo>
                  <a:pt x="12576" y="8675"/>
                  <a:pt x="12579" y="8605"/>
                  <a:pt x="12541" y="8553"/>
                </a:cubicBezTo>
                <a:cubicBezTo>
                  <a:pt x="12521" y="8533"/>
                  <a:pt x="12515" y="8527"/>
                  <a:pt x="12502" y="8513"/>
                </a:cubicBezTo>
                <a:cubicBezTo>
                  <a:pt x="12612" y="8531"/>
                  <a:pt x="12697" y="8517"/>
                  <a:pt x="12779" y="8553"/>
                </a:cubicBezTo>
                <a:cubicBezTo>
                  <a:pt x="12849" y="8584"/>
                  <a:pt x="12876" y="8559"/>
                  <a:pt x="12938" y="8632"/>
                </a:cubicBezTo>
                <a:cubicBezTo>
                  <a:pt x="12957" y="8654"/>
                  <a:pt x="12949" y="8694"/>
                  <a:pt x="12978" y="8731"/>
                </a:cubicBezTo>
                <a:cubicBezTo>
                  <a:pt x="13012" y="8775"/>
                  <a:pt x="13006" y="8833"/>
                  <a:pt x="13037" y="8870"/>
                </a:cubicBezTo>
                <a:cubicBezTo>
                  <a:pt x="13074" y="8913"/>
                  <a:pt x="13110" y="8952"/>
                  <a:pt x="13137" y="8969"/>
                </a:cubicBezTo>
                <a:cubicBezTo>
                  <a:pt x="13161" y="8985"/>
                  <a:pt x="13197" y="8998"/>
                  <a:pt x="13216" y="9009"/>
                </a:cubicBezTo>
                <a:cubicBezTo>
                  <a:pt x="13265" y="9037"/>
                  <a:pt x="13329" y="9027"/>
                  <a:pt x="13375" y="9049"/>
                </a:cubicBezTo>
                <a:cubicBezTo>
                  <a:pt x="13406" y="9064"/>
                  <a:pt x="13382" y="9056"/>
                  <a:pt x="13414" y="9069"/>
                </a:cubicBezTo>
                <a:cubicBezTo>
                  <a:pt x="13331" y="9010"/>
                  <a:pt x="13204" y="8952"/>
                  <a:pt x="13137" y="8890"/>
                </a:cubicBezTo>
                <a:cubicBezTo>
                  <a:pt x="13107" y="8862"/>
                  <a:pt x="13040" y="8817"/>
                  <a:pt x="13018" y="8791"/>
                </a:cubicBezTo>
                <a:cubicBezTo>
                  <a:pt x="13000" y="8770"/>
                  <a:pt x="13013" y="8708"/>
                  <a:pt x="12998" y="8692"/>
                </a:cubicBezTo>
                <a:cubicBezTo>
                  <a:pt x="13013" y="8699"/>
                  <a:pt x="13071" y="8659"/>
                  <a:pt x="13117" y="8692"/>
                </a:cubicBezTo>
                <a:cubicBezTo>
                  <a:pt x="13147" y="8713"/>
                  <a:pt x="13195" y="8761"/>
                  <a:pt x="13236" y="8791"/>
                </a:cubicBezTo>
                <a:cubicBezTo>
                  <a:pt x="13291" y="8832"/>
                  <a:pt x="13333" y="8895"/>
                  <a:pt x="13375" y="8930"/>
                </a:cubicBezTo>
                <a:cubicBezTo>
                  <a:pt x="13399" y="8950"/>
                  <a:pt x="13453" y="9014"/>
                  <a:pt x="13474" y="9029"/>
                </a:cubicBezTo>
                <a:cubicBezTo>
                  <a:pt x="13519" y="9062"/>
                  <a:pt x="13588" y="9092"/>
                  <a:pt x="13633" y="9128"/>
                </a:cubicBezTo>
                <a:cubicBezTo>
                  <a:pt x="13647" y="9139"/>
                  <a:pt x="13681" y="9167"/>
                  <a:pt x="13712" y="9188"/>
                </a:cubicBezTo>
                <a:cubicBezTo>
                  <a:pt x="13742" y="9208"/>
                  <a:pt x="13761" y="9222"/>
                  <a:pt x="13791" y="9247"/>
                </a:cubicBezTo>
                <a:cubicBezTo>
                  <a:pt x="13816" y="9268"/>
                  <a:pt x="13872" y="9269"/>
                  <a:pt x="13891" y="9287"/>
                </a:cubicBezTo>
                <a:cubicBezTo>
                  <a:pt x="13934" y="9327"/>
                  <a:pt x="13936" y="9372"/>
                  <a:pt x="13970" y="9406"/>
                </a:cubicBezTo>
                <a:cubicBezTo>
                  <a:pt x="14024" y="9460"/>
                  <a:pt x="14061" y="9508"/>
                  <a:pt x="14109" y="9565"/>
                </a:cubicBezTo>
                <a:cubicBezTo>
                  <a:pt x="14134" y="9595"/>
                  <a:pt x="14146" y="9615"/>
                  <a:pt x="14168" y="9644"/>
                </a:cubicBezTo>
                <a:cubicBezTo>
                  <a:pt x="14188" y="9670"/>
                  <a:pt x="14225" y="9707"/>
                  <a:pt x="14248" y="9743"/>
                </a:cubicBezTo>
                <a:cubicBezTo>
                  <a:pt x="14267" y="9773"/>
                  <a:pt x="14271" y="9809"/>
                  <a:pt x="14288" y="9842"/>
                </a:cubicBezTo>
                <a:cubicBezTo>
                  <a:pt x="14300" y="9865"/>
                  <a:pt x="14293" y="9873"/>
                  <a:pt x="14307" y="9902"/>
                </a:cubicBezTo>
                <a:cubicBezTo>
                  <a:pt x="14326" y="9941"/>
                  <a:pt x="14351" y="9956"/>
                  <a:pt x="14367" y="10001"/>
                </a:cubicBezTo>
                <a:cubicBezTo>
                  <a:pt x="14386" y="10055"/>
                  <a:pt x="14389" y="10109"/>
                  <a:pt x="14407" y="10160"/>
                </a:cubicBezTo>
                <a:cubicBezTo>
                  <a:pt x="14432" y="10229"/>
                  <a:pt x="14466" y="10291"/>
                  <a:pt x="14486" y="10358"/>
                </a:cubicBezTo>
                <a:cubicBezTo>
                  <a:pt x="14516" y="10461"/>
                  <a:pt x="14520" y="10554"/>
                  <a:pt x="14565" y="10656"/>
                </a:cubicBezTo>
                <a:cubicBezTo>
                  <a:pt x="14582" y="10693"/>
                  <a:pt x="14613" y="10729"/>
                  <a:pt x="14625" y="10755"/>
                </a:cubicBezTo>
                <a:cubicBezTo>
                  <a:pt x="14642" y="10791"/>
                  <a:pt x="14679" y="10872"/>
                  <a:pt x="14665" y="10835"/>
                </a:cubicBezTo>
                <a:cubicBezTo>
                  <a:pt x="14646" y="10785"/>
                  <a:pt x="14622" y="10746"/>
                  <a:pt x="14605" y="10696"/>
                </a:cubicBezTo>
                <a:cubicBezTo>
                  <a:pt x="14592" y="10657"/>
                  <a:pt x="14575" y="10645"/>
                  <a:pt x="14565" y="10597"/>
                </a:cubicBezTo>
                <a:cubicBezTo>
                  <a:pt x="14557" y="10560"/>
                  <a:pt x="14532" y="10523"/>
                  <a:pt x="14526" y="10478"/>
                </a:cubicBezTo>
                <a:cubicBezTo>
                  <a:pt x="14514" y="10387"/>
                  <a:pt x="14533" y="10292"/>
                  <a:pt x="14526" y="10200"/>
                </a:cubicBezTo>
                <a:cubicBezTo>
                  <a:pt x="14532" y="10229"/>
                  <a:pt x="14556" y="10317"/>
                  <a:pt x="14565" y="10378"/>
                </a:cubicBezTo>
                <a:cubicBezTo>
                  <a:pt x="14581" y="10486"/>
                  <a:pt x="14577" y="10556"/>
                  <a:pt x="14625" y="10656"/>
                </a:cubicBezTo>
                <a:cubicBezTo>
                  <a:pt x="14642" y="10693"/>
                  <a:pt x="14668" y="10718"/>
                  <a:pt x="14684" y="10755"/>
                </a:cubicBezTo>
                <a:cubicBezTo>
                  <a:pt x="14703" y="10799"/>
                  <a:pt x="14747" y="10760"/>
                  <a:pt x="14764" y="10815"/>
                </a:cubicBezTo>
                <a:cubicBezTo>
                  <a:pt x="14790" y="10901"/>
                  <a:pt x="14781" y="11001"/>
                  <a:pt x="14784" y="11093"/>
                </a:cubicBezTo>
                <a:cubicBezTo>
                  <a:pt x="14788" y="11191"/>
                  <a:pt x="14770" y="11276"/>
                  <a:pt x="14764" y="11370"/>
                </a:cubicBezTo>
                <a:cubicBezTo>
                  <a:pt x="14756" y="11494"/>
                  <a:pt x="14731" y="11635"/>
                  <a:pt x="14724" y="11748"/>
                </a:cubicBezTo>
                <a:cubicBezTo>
                  <a:pt x="14721" y="11787"/>
                  <a:pt x="14727" y="11828"/>
                  <a:pt x="14724" y="11867"/>
                </a:cubicBezTo>
                <a:cubicBezTo>
                  <a:pt x="14732" y="11852"/>
                  <a:pt x="14856" y="11830"/>
                  <a:pt x="14863" y="11787"/>
                </a:cubicBezTo>
                <a:cubicBezTo>
                  <a:pt x="14890" y="11619"/>
                  <a:pt x="14863" y="11422"/>
                  <a:pt x="14863" y="11251"/>
                </a:cubicBezTo>
                <a:cubicBezTo>
                  <a:pt x="14863" y="11640"/>
                  <a:pt x="14866" y="12046"/>
                  <a:pt x="14843" y="12422"/>
                </a:cubicBezTo>
                <a:cubicBezTo>
                  <a:pt x="14777" y="12488"/>
                  <a:pt x="14747" y="12441"/>
                  <a:pt x="14665" y="12561"/>
                </a:cubicBezTo>
                <a:cubicBezTo>
                  <a:pt x="14550" y="12731"/>
                  <a:pt x="14546" y="12939"/>
                  <a:pt x="14466" y="13097"/>
                </a:cubicBezTo>
                <a:cubicBezTo>
                  <a:pt x="14442" y="13144"/>
                  <a:pt x="14398" y="13192"/>
                  <a:pt x="14367" y="13236"/>
                </a:cubicBezTo>
                <a:cubicBezTo>
                  <a:pt x="14348" y="13263"/>
                  <a:pt x="14325" y="13315"/>
                  <a:pt x="14307" y="13335"/>
                </a:cubicBezTo>
                <a:cubicBezTo>
                  <a:pt x="14266" y="13381"/>
                  <a:pt x="14203" y="13432"/>
                  <a:pt x="14168" y="13454"/>
                </a:cubicBezTo>
                <a:cubicBezTo>
                  <a:pt x="14135" y="13475"/>
                  <a:pt x="14078" y="13476"/>
                  <a:pt x="14049" y="13494"/>
                </a:cubicBezTo>
                <a:cubicBezTo>
                  <a:pt x="14017" y="13514"/>
                  <a:pt x="13958" y="13513"/>
                  <a:pt x="13930" y="13533"/>
                </a:cubicBezTo>
                <a:cubicBezTo>
                  <a:pt x="13869" y="13578"/>
                  <a:pt x="13820" y="13649"/>
                  <a:pt x="13791" y="13692"/>
                </a:cubicBezTo>
                <a:cubicBezTo>
                  <a:pt x="13750" y="13752"/>
                  <a:pt x="13765" y="13800"/>
                  <a:pt x="13732" y="13871"/>
                </a:cubicBezTo>
                <a:cubicBezTo>
                  <a:pt x="13811" y="13853"/>
                  <a:pt x="13893" y="13884"/>
                  <a:pt x="13950" y="13851"/>
                </a:cubicBezTo>
                <a:cubicBezTo>
                  <a:pt x="13975" y="13837"/>
                  <a:pt x="14026" y="13855"/>
                  <a:pt x="14049" y="13831"/>
                </a:cubicBezTo>
                <a:cubicBezTo>
                  <a:pt x="14063" y="13816"/>
                  <a:pt x="14112" y="13786"/>
                  <a:pt x="14129" y="13752"/>
                </a:cubicBezTo>
                <a:cubicBezTo>
                  <a:pt x="14165" y="13680"/>
                  <a:pt x="14118" y="13538"/>
                  <a:pt x="14109" y="13474"/>
                </a:cubicBezTo>
                <a:cubicBezTo>
                  <a:pt x="14107" y="13463"/>
                  <a:pt x="14076" y="13361"/>
                  <a:pt x="14069" y="13335"/>
                </a:cubicBezTo>
                <a:cubicBezTo>
                  <a:pt x="14056" y="13288"/>
                  <a:pt x="13996" y="13199"/>
                  <a:pt x="13990" y="13176"/>
                </a:cubicBezTo>
                <a:cubicBezTo>
                  <a:pt x="13976" y="13126"/>
                  <a:pt x="13959" y="13044"/>
                  <a:pt x="13950" y="13018"/>
                </a:cubicBezTo>
                <a:cubicBezTo>
                  <a:pt x="13985" y="13168"/>
                  <a:pt x="14015" y="13305"/>
                  <a:pt x="14069" y="13454"/>
                </a:cubicBezTo>
                <a:cubicBezTo>
                  <a:pt x="14122" y="13599"/>
                  <a:pt x="14163" y="13734"/>
                  <a:pt x="14268" y="13851"/>
                </a:cubicBezTo>
                <a:cubicBezTo>
                  <a:pt x="14285" y="13870"/>
                  <a:pt x="14313" y="13917"/>
                  <a:pt x="14327" y="13930"/>
                </a:cubicBezTo>
                <a:cubicBezTo>
                  <a:pt x="14373" y="13973"/>
                  <a:pt x="14428" y="13958"/>
                  <a:pt x="14486" y="14010"/>
                </a:cubicBezTo>
                <a:cubicBezTo>
                  <a:pt x="14499" y="14022"/>
                  <a:pt x="14520" y="14050"/>
                  <a:pt x="14545" y="14069"/>
                </a:cubicBezTo>
                <a:cubicBezTo>
                  <a:pt x="14591" y="13994"/>
                  <a:pt x="14633" y="13906"/>
                  <a:pt x="14684" y="13831"/>
                </a:cubicBezTo>
                <a:cubicBezTo>
                  <a:pt x="14722" y="13774"/>
                  <a:pt x="14762" y="13705"/>
                  <a:pt x="14803" y="13652"/>
                </a:cubicBezTo>
                <a:cubicBezTo>
                  <a:pt x="14844" y="13598"/>
                  <a:pt x="14895" y="13573"/>
                  <a:pt x="14942" y="13514"/>
                </a:cubicBezTo>
                <a:cubicBezTo>
                  <a:pt x="15010" y="13429"/>
                  <a:pt x="15078" y="13345"/>
                  <a:pt x="15161" y="13275"/>
                </a:cubicBezTo>
                <a:cubicBezTo>
                  <a:pt x="15201" y="13242"/>
                  <a:pt x="15224" y="13227"/>
                  <a:pt x="15260" y="13196"/>
                </a:cubicBezTo>
                <a:cubicBezTo>
                  <a:pt x="15306" y="13156"/>
                  <a:pt x="15370" y="13136"/>
                  <a:pt x="15419" y="13097"/>
                </a:cubicBezTo>
                <a:cubicBezTo>
                  <a:pt x="15459" y="13066"/>
                  <a:pt x="15615" y="12968"/>
                  <a:pt x="15617" y="12918"/>
                </a:cubicBezTo>
                <a:cubicBezTo>
                  <a:pt x="15620" y="12826"/>
                  <a:pt x="15546" y="12811"/>
                  <a:pt x="15498" y="12740"/>
                </a:cubicBezTo>
                <a:cubicBezTo>
                  <a:pt x="15381" y="12567"/>
                  <a:pt x="15147" y="12502"/>
                  <a:pt x="15061" y="12442"/>
                </a:cubicBezTo>
                <a:cubicBezTo>
                  <a:pt x="15050" y="12434"/>
                  <a:pt x="14931" y="12334"/>
                  <a:pt x="14922" y="12323"/>
                </a:cubicBezTo>
                <a:cubicBezTo>
                  <a:pt x="14812" y="12175"/>
                  <a:pt x="14912" y="12094"/>
                  <a:pt x="14863" y="11966"/>
                </a:cubicBezTo>
                <a:cubicBezTo>
                  <a:pt x="14830" y="11880"/>
                  <a:pt x="14909" y="11909"/>
                  <a:pt x="14823" y="11827"/>
                </a:cubicBezTo>
                <a:cubicBezTo>
                  <a:pt x="14794" y="11799"/>
                  <a:pt x="14699" y="11850"/>
                  <a:pt x="14665" y="11827"/>
                </a:cubicBezTo>
                <a:cubicBezTo>
                  <a:pt x="14663" y="11866"/>
                  <a:pt x="14646" y="11898"/>
                  <a:pt x="14645" y="11946"/>
                </a:cubicBezTo>
                <a:cubicBezTo>
                  <a:pt x="14642" y="12146"/>
                  <a:pt x="14656" y="12341"/>
                  <a:pt x="14605" y="12521"/>
                </a:cubicBezTo>
                <a:cubicBezTo>
                  <a:pt x="14598" y="12547"/>
                  <a:pt x="14555" y="12638"/>
                  <a:pt x="14545" y="12660"/>
                </a:cubicBezTo>
                <a:cubicBezTo>
                  <a:pt x="14497" y="12764"/>
                  <a:pt x="14431" y="12847"/>
                  <a:pt x="14367" y="12938"/>
                </a:cubicBezTo>
                <a:cubicBezTo>
                  <a:pt x="14346" y="12968"/>
                  <a:pt x="14298" y="13002"/>
                  <a:pt x="14288" y="13018"/>
                </a:cubicBezTo>
                <a:cubicBezTo>
                  <a:pt x="14268" y="13049"/>
                  <a:pt x="14245" y="13089"/>
                  <a:pt x="14228" y="13117"/>
                </a:cubicBezTo>
                <a:cubicBezTo>
                  <a:pt x="14187" y="13181"/>
                  <a:pt x="14165" y="13257"/>
                  <a:pt x="14129" y="13315"/>
                </a:cubicBezTo>
                <a:cubicBezTo>
                  <a:pt x="14104" y="13356"/>
                  <a:pt x="14097" y="13350"/>
                  <a:pt x="14069" y="13395"/>
                </a:cubicBezTo>
                <a:cubicBezTo>
                  <a:pt x="14051" y="13424"/>
                  <a:pt x="14046" y="13473"/>
                  <a:pt x="14030" y="13494"/>
                </a:cubicBezTo>
                <a:cubicBezTo>
                  <a:pt x="14006" y="13525"/>
                  <a:pt x="13933" y="13587"/>
                  <a:pt x="13910" y="13613"/>
                </a:cubicBezTo>
                <a:cubicBezTo>
                  <a:pt x="13878" y="13649"/>
                  <a:pt x="13885" y="13661"/>
                  <a:pt x="13851" y="13692"/>
                </a:cubicBezTo>
                <a:cubicBezTo>
                  <a:pt x="13819" y="13721"/>
                  <a:pt x="13775" y="13727"/>
                  <a:pt x="13752" y="13752"/>
                </a:cubicBezTo>
                <a:cubicBezTo>
                  <a:pt x="13719" y="13787"/>
                  <a:pt x="13678" y="13828"/>
                  <a:pt x="13652" y="13851"/>
                </a:cubicBezTo>
                <a:cubicBezTo>
                  <a:pt x="13614" y="13885"/>
                  <a:pt x="13576" y="13929"/>
                  <a:pt x="13553" y="13950"/>
                </a:cubicBezTo>
                <a:cubicBezTo>
                  <a:pt x="13511" y="13988"/>
                  <a:pt x="13510" y="13973"/>
                  <a:pt x="13474" y="14010"/>
                </a:cubicBezTo>
                <a:cubicBezTo>
                  <a:pt x="13441" y="14044"/>
                  <a:pt x="13447" y="14055"/>
                  <a:pt x="13414" y="14089"/>
                </a:cubicBezTo>
                <a:cubicBezTo>
                  <a:pt x="13401" y="14102"/>
                  <a:pt x="13364" y="14119"/>
                  <a:pt x="13355" y="14129"/>
                </a:cubicBezTo>
                <a:cubicBezTo>
                  <a:pt x="13318" y="14167"/>
                  <a:pt x="13286" y="14219"/>
                  <a:pt x="13256" y="14248"/>
                </a:cubicBezTo>
                <a:cubicBezTo>
                  <a:pt x="13241" y="14262"/>
                  <a:pt x="13208" y="14279"/>
                  <a:pt x="13196" y="14288"/>
                </a:cubicBezTo>
                <a:cubicBezTo>
                  <a:pt x="13166" y="14311"/>
                  <a:pt x="13159" y="14335"/>
                  <a:pt x="13137" y="14347"/>
                </a:cubicBezTo>
                <a:cubicBezTo>
                  <a:pt x="13032" y="14402"/>
                  <a:pt x="13002" y="14387"/>
                  <a:pt x="12879" y="14407"/>
                </a:cubicBezTo>
                <a:cubicBezTo>
                  <a:pt x="12743" y="14429"/>
                  <a:pt x="12594" y="14449"/>
                  <a:pt x="12462" y="14466"/>
                </a:cubicBezTo>
                <a:cubicBezTo>
                  <a:pt x="12370" y="14478"/>
                  <a:pt x="12289" y="14489"/>
                  <a:pt x="12224" y="14506"/>
                </a:cubicBezTo>
                <a:cubicBezTo>
                  <a:pt x="12161" y="14523"/>
                  <a:pt x="12111" y="14552"/>
                  <a:pt x="12045" y="14565"/>
                </a:cubicBezTo>
                <a:cubicBezTo>
                  <a:pt x="11910" y="14592"/>
                  <a:pt x="11770" y="14583"/>
                  <a:pt x="11628" y="14585"/>
                </a:cubicBezTo>
                <a:cubicBezTo>
                  <a:pt x="11467" y="14588"/>
                  <a:pt x="11297" y="14603"/>
                  <a:pt x="11152" y="14545"/>
                </a:cubicBezTo>
                <a:cubicBezTo>
                  <a:pt x="11097" y="14523"/>
                  <a:pt x="11036" y="14498"/>
                  <a:pt x="10993" y="14466"/>
                </a:cubicBezTo>
                <a:cubicBezTo>
                  <a:pt x="10953" y="14437"/>
                  <a:pt x="10945" y="14416"/>
                  <a:pt x="10914" y="14387"/>
                </a:cubicBezTo>
                <a:cubicBezTo>
                  <a:pt x="10769" y="14251"/>
                  <a:pt x="10673" y="14088"/>
                  <a:pt x="10497" y="13970"/>
                </a:cubicBezTo>
                <a:cubicBezTo>
                  <a:pt x="10364" y="13881"/>
                  <a:pt x="10185" y="13824"/>
                  <a:pt x="10041" y="13752"/>
                </a:cubicBezTo>
                <a:cubicBezTo>
                  <a:pt x="9737" y="13601"/>
                  <a:pt x="9496" y="13437"/>
                  <a:pt x="9247" y="13216"/>
                </a:cubicBezTo>
                <a:cubicBezTo>
                  <a:pt x="9036" y="13029"/>
                  <a:pt x="8841" y="12820"/>
                  <a:pt x="8612" y="12660"/>
                </a:cubicBezTo>
                <a:cubicBezTo>
                  <a:pt x="8398" y="12510"/>
                  <a:pt x="8158" y="12435"/>
                  <a:pt x="7918" y="12343"/>
                </a:cubicBezTo>
                <a:cubicBezTo>
                  <a:pt x="7875" y="12327"/>
                  <a:pt x="7826" y="12276"/>
                  <a:pt x="7779" y="12263"/>
                </a:cubicBezTo>
                <a:cubicBezTo>
                  <a:pt x="7738" y="12251"/>
                  <a:pt x="7698" y="12256"/>
                  <a:pt x="7660" y="12244"/>
                </a:cubicBezTo>
                <a:cubicBezTo>
                  <a:pt x="7597" y="12224"/>
                  <a:pt x="7525" y="12228"/>
                  <a:pt x="7461" y="12204"/>
                </a:cubicBezTo>
                <a:cubicBezTo>
                  <a:pt x="7442" y="12197"/>
                  <a:pt x="7404" y="12165"/>
                  <a:pt x="7402" y="12164"/>
                </a:cubicBezTo>
                <a:cubicBezTo>
                  <a:pt x="7394" y="12127"/>
                  <a:pt x="7497" y="12117"/>
                  <a:pt x="7461" y="12065"/>
                </a:cubicBezTo>
                <a:cubicBezTo>
                  <a:pt x="7435" y="12027"/>
                  <a:pt x="7395" y="12013"/>
                  <a:pt x="7382" y="11986"/>
                </a:cubicBezTo>
                <a:cubicBezTo>
                  <a:pt x="7368" y="11958"/>
                  <a:pt x="7319" y="11930"/>
                  <a:pt x="7302" y="11906"/>
                </a:cubicBezTo>
                <a:cubicBezTo>
                  <a:pt x="7344" y="11902"/>
                  <a:pt x="7395" y="11869"/>
                  <a:pt x="7441" y="11867"/>
                </a:cubicBezTo>
                <a:cubicBezTo>
                  <a:pt x="7674" y="11858"/>
                  <a:pt x="7908" y="11876"/>
                  <a:pt x="8136" y="11886"/>
                </a:cubicBezTo>
                <a:cubicBezTo>
                  <a:pt x="8102" y="11888"/>
                  <a:pt x="8079" y="11863"/>
                  <a:pt x="8037" y="11867"/>
                </a:cubicBezTo>
                <a:cubicBezTo>
                  <a:pt x="7939" y="11877"/>
                  <a:pt x="7837" y="11884"/>
                  <a:pt x="7739" y="11906"/>
                </a:cubicBezTo>
                <a:cubicBezTo>
                  <a:pt x="7620" y="11932"/>
                  <a:pt x="7501" y="11992"/>
                  <a:pt x="7382" y="12005"/>
                </a:cubicBezTo>
                <a:cubicBezTo>
                  <a:pt x="7232" y="12022"/>
                  <a:pt x="7029" y="11963"/>
                  <a:pt x="6925" y="12045"/>
                </a:cubicBezTo>
                <a:cubicBezTo>
                  <a:pt x="6903" y="12063"/>
                  <a:pt x="6898" y="12124"/>
                  <a:pt x="6866" y="12164"/>
                </a:cubicBezTo>
                <a:cubicBezTo>
                  <a:pt x="6840" y="12196"/>
                  <a:pt x="6820" y="12249"/>
                  <a:pt x="6806" y="12283"/>
                </a:cubicBezTo>
                <a:cubicBezTo>
                  <a:pt x="6796" y="12306"/>
                  <a:pt x="6771" y="12321"/>
                  <a:pt x="6767" y="12363"/>
                </a:cubicBezTo>
                <a:cubicBezTo>
                  <a:pt x="6760" y="12430"/>
                  <a:pt x="6747" y="12468"/>
                  <a:pt x="6767" y="12521"/>
                </a:cubicBezTo>
                <a:cubicBezTo>
                  <a:pt x="6782" y="12561"/>
                  <a:pt x="6815" y="12570"/>
                  <a:pt x="6846" y="12601"/>
                </a:cubicBezTo>
                <a:cubicBezTo>
                  <a:pt x="7019" y="12773"/>
                  <a:pt x="7022" y="12611"/>
                  <a:pt x="7045" y="12541"/>
                </a:cubicBezTo>
                <a:cubicBezTo>
                  <a:pt x="7050" y="12526"/>
                  <a:pt x="7004" y="12472"/>
                  <a:pt x="7005" y="12462"/>
                </a:cubicBezTo>
                <a:cubicBezTo>
                  <a:pt x="6998" y="12455"/>
                  <a:pt x="6992" y="12449"/>
                  <a:pt x="6985" y="12442"/>
                </a:cubicBezTo>
                <a:cubicBezTo>
                  <a:pt x="6998" y="12459"/>
                  <a:pt x="7088" y="12467"/>
                  <a:pt x="7104" y="12502"/>
                </a:cubicBezTo>
                <a:cubicBezTo>
                  <a:pt x="7132" y="12564"/>
                  <a:pt x="7145" y="12593"/>
                  <a:pt x="7164" y="12660"/>
                </a:cubicBezTo>
                <a:cubicBezTo>
                  <a:pt x="7196" y="12773"/>
                  <a:pt x="7167" y="12890"/>
                  <a:pt x="7203" y="12998"/>
                </a:cubicBezTo>
                <a:cubicBezTo>
                  <a:pt x="7223" y="13059"/>
                  <a:pt x="7246" y="13120"/>
                  <a:pt x="7263" y="13176"/>
                </a:cubicBezTo>
                <a:cubicBezTo>
                  <a:pt x="7284" y="13243"/>
                  <a:pt x="7317" y="13326"/>
                  <a:pt x="7342" y="13395"/>
                </a:cubicBezTo>
                <a:cubicBezTo>
                  <a:pt x="7357" y="13437"/>
                  <a:pt x="7414" y="13466"/>
                  <a:pt x="7422" y="13494"/>
                </a:cubicBezTo>
                <a:cubicBezTo>
                  <a:pt x="7444" y="13572"/>
                  <a:pt x="7416" y="13657"/>
                  <a:pt x="7441" y="13732"/>
                </a:cubicBezTo>
                <a:cubicBezTo>
                  <a:pt x="7469" y="13815"/>
                  <a:pt x="7460" y="13852"/>
                  <a:pt x="7521" y="13930"/>
                </a:cubicBezTo>
                <a:cubicBezTo>
                  <a:pt x="7559" y="13978"/>
                  <a:pt x="7615" y="13943"/>
                  <a:pt x="7640" y="13970"/>
                </a:cubicBezTo>
                <a:cubicBezTo>
                  <a:pt x="7621" y="13910"/>
                  <a:pt x="7591" y="13796"/>
                  <a:pt x="7560" y="13712"/>
                </a:cubicBezTo>
                <a:cubicBezTo>
                  <a:pt x="7548" y="13681"/>
                  <a:pt x="7483" y="13583"/>
                  <a:pt x="7481" y="13573"/>
                </a:cubicBezTo>
                <a:cubicBezTo>
                  <a:pt x="7466" y="13492"/>
                  <a:pt x="7483" y="13291"/>
                  <a:pt x="7481" y="13275"/>
                </a:cubicBezTo>
                <a:cubicBezTo>
                  <a:pt x="7481" y="13282"/>
                  <a:pt x="7481" y="13288"/>
                  <a:pt x="7481" y="13295"/>
                </a:cubicBezTo>
                <a:cubicBezTo>
                  <a:pt x="7513" y="13384"/>
                  <a:pt x="7499" y="13448"/>
                  <a:pt x="7541" y="13533"/>
                </a:cubicBezTo>
                <a:cubicBezTo>
                  <a:pt x="7552" y="13556"/>
                  <a:pt x="7580" y="13582"/>
                  <a:pt x="7600" y="13613"/>
                </a:cubicBezTo>
                <a:cubicBezTo>
                  <a:pt x="7613" y="13633"/>
                  <a:pt x="7640" y="13689"/>
                  <a:pt x="7660" y="13712"/>
                </a:cubicBezTo>
                <a:cubicBezTo>
                  <a:pt x="7783" y="13856"/>
                  <a:pt x="7933" y="13956"/>
                  <a:pt x="8096" y="14010"/>
                </a:cubicBezTo>
                <a:cubicBezTo>
                  <a:pt x="8200" y="14044"/>
                  <a:pt x="8308" y="14031"/>
                  <a:pt x="8394" y="14069"/>
                </a:cubicBezTo>
                <a:cubicBezTo>
                  <a:pt x="8432" y="14086"/>
                  <a:pt x="8475" y="14110"/>
                  <a:pt x="8513" y="14129"/>
                </a:cubicBezTo>
                <a:cubicBezTo>
                  <a:pt x="8543" y="14144"/>
                  <a:pt x="8562" y="14174"/>
                  <a:pt x="8592" y="14188"/>
                </a:cubicBezTo>
                <a:cubicBezTo>
                  <a:pt x="8651" y="14216"/>
                  <a:pt x="8688" y="14242"/>
                  <a:pt x="8751" y="14268"/>
                </a:cubicBezTo>
                <a:cubicBezTo>
                  <a:pt x="8784" y="14282"/>
                  <a:pt x="8839" y="14273"/>
                  <a:pt x="8870" y="14288"/>
                </a:cubicBezTo>
                <a:cubicBezTo>
                  <a:pt x="8922" y="14313"/>
                  <a:pt x="8981" y="14336"/>
                  <a:pt x="9029" y="14367"/>
                </a:cubicBezTo>
                <a:cubicBezTo>
                  <a:pt x="9049" y="14380"/>
                  <a:pt x="9083" y="14446"/>
                  <a:pt x="9108" y="14466"/>
                </a:cubicBezTo>
                <a:cubicBezTo>
                  <a:pt x="9153" y="14503"/>
                  <a:pt x="9165" y="14489"/>
                  <a:pt x="9208" y="14526"/>
                </a:cubicBezTo>
                <a:cubicBezTo>
                  <a:pt x="9243" y="14557"/>
                  <a:pt x="9267" y="14608"/>
                  <a:pt x="9307" y="14645"/>
                </a:cubicBezTo>
                <a:cubicBezTo>
                  <a:pt x="9325" y="14661"/>
                  <a:pt x="9355" y="14681"/>
                  <a:pt x="9386" y="14704"/>
                </a:cubicBezTo>
                <a:cubicBezTo>
                  <a:pt x="9440" y="14745"/>
                  <a:pt x="9491" y="14788"/>
                  <a:pt x="9545" y="14823"/>
                </a:cubicBezTo>
                <a:cubicBezTo>
                  <a:pt x="9595" y="14856"/>
                  <a:pt x="9666" y="14858"/>
                  <a:pt x="9704" y="14883"/>
                </a:cubicBezTo>
                <a:cubicBezTo>
                  <a:pt x="9684" y="14883"/>
                  <a:pt x="9677" y="14883"/>
                  <a:pt x="9664" y="14883"/>
                </a:cubicBezTo>
                <a:cubicBezTo>
                  <a:pt x="9500" y="14873"/>
                  <a:pt x="9331" y="14893"/>
                  <a:pt x="9208" y="14843"/>
                </a:cubicBezTo>
                <a:cubicBezTo>
                  <a:pt x="9160" y="14823"/>
                  <a:pt x="9153" y="14810"/>
                  <a:pt x="9108" y="14784"/>
                </a:cubicBezTo>
                <a:cubicBezTo>
                  <a:pt x="9068" y="14761"/>
                  <a:pt x="9029" y="14733"/>
                  <a:pt x="8989" y="14704"/>
                </a:cubicBezTo>
                <a:cubicBezTo>
                  <a:pt x="8962" y="14685"/>
                  <a:pt x="8906" y="14639"/>
                  <a:pt x="8870" y="14605"/>
                </a:cubicBezTo>
                <a:cubicBezTo>
                  <a:pt x="8813" y="14551"/>
                  <a:pt x="8765" y="14497"/>
                  <a:pt x="8711" y="14446"/>
                </a:cubicBezTo>
                <a:cubicBezTo>
                  <a:pt x="8631" y="14370"/>
                  <a:pt x="8578" y="14303"/>
                  <a:pt x="8493" y="14248"/>
                </a:cubicBezTo>
                <a:cubicBezTo>
                  <a:pt x="8456" y="14224"/>
                  <a:pt x="8417" y="14203"/>
                  <a:pt x="8394" y="14188"/>
                </a:cubicBezTo>
                <a:cubicBezTo>
                  <a:pt x="8359" y="14166"/>
                  <a:pt x="8306" y="14156"/>
                  <a:pt x="8255" y="14129"/>
                </a:cubicBezTo>
                <a:cubicBezTo>
                  <a:pt x="8143" y="14071"/>
                  <a:pt x="8047" y="14011"/>
                  <a:pt x="7938" y="13950"/>
                </a:cubicBezTo>
                <a:cubicBezTo>
                  <a:pt x="7931" y="13943"/>
                  <a:pt x="7925" y="13937"/>
                  <a:pt x="7918" y="13930"/>
                </a:cubicBezTo>
                <a:cubicBezTo>
                  <a:pt x="8056" y="13952"/>
                  <a:pt x="8132" y="13930"/>
                  <a:pt x="8235" y="13990"/>
                </a:cubicBezTo>
                <a:cubicBezTo>
                  <a:pt x="8277" y="14014"/>
                  <a:pt x="8279" y="14024"/>
                  <a:pt x="8315" y="14049"/>
                </a:cubicBezTo>
                <a:cubicBezTo>
                  <a:pt x="8366" y="14085"/>
                  <a:pt x="8415" y="14157"/>
                  <a:pt x="8453" y="14188"/>
                </a:cubicBezTo>
                <a:cubicBezTo>
                  <a:pt x="8483" y="14213"/>
                  <a:pt x="8546" y="14245"/>
                  <a:pt x="8572" y="14268"/>
                </a:cubicBezTo>
                <a:cubicBezTo>
                  <a:pt x="8594" y="14287"/>
                  <a:pt x="8645" y="14343"/>
                  <a:pt x="8672" y="14367"/>
                </a:cubicBezTo>
                <a:cubicBezTo>
                  <a:pt x="8739" y="14426"/>
                  <a:pt x="8848" y="14549"/>
                  <a:pt x="8910" y="14585"/>
                </a:cubicBezTo>
                <a:cubicBezTo>
                  <a:pt x="8973" y="14622"/>
                  <a:pt x="9090" y="14650"/>
                  <a:pt x="9168" y="14684"/>
                </a:cubicBezTo>
                <a:cubicBezTo>
                  <a:pt x="9212" y="14703"/>
                  <a:pt x="9244" y="14750"/>
                  <a:pt x="9287" y="14764"/>
                </a:cubicBezTo>
                <a:cubicBezTo>
                  <a:pt x="9362" y="14788"/>
                  <a:pt x="9470" y="14789"/>
                  <a:pt x="9545" y="14803"/>
                </a:cubicBezTo>
                <a:cubicBezTo>
                  <a:pt x="9749" y="14842"/>
                  <a:pt x="10011" y="14800"/>
                  <a:pt x="10200" y="14863"/>
                </a:cubicBezTo>
                <a:cubicBezTo>
                  <a:pt x="10242" y="14877"/>
                  <a:pt x="10284" y="14902"/>
                  <a:pt x="10319" y="14922"/>
                </a:cubicBezTo>
                <a:cubicBezTo>
                  <a:pt x="10328" y="14927"/>
                  <a:pt x="10355" y="14968"/>
                  <a:pt x="10378" y="14982"/>
                </a:cubicBezTo>
                <a:cubicBezTo>
                  <a:pt x="10432" y="15014"/>
                  <a:pt x="10468" y="15071"/>
                  <a:pt x="10537" y="15101"/>
                </a:cubicBezTo>
                <a:cubicBezTo>
                  <a:pt x="10615" y="15135"/>
                  <a:pt x="10631" y="15145"/>
                  <a:pt x="10716" y="15161"/>
                </a:cubicBezTo>
                <a:cubicBezTo>
                  <a:pt x="11194" y="15253"/>
                  <a:pt x="11763" y="15134"/>
                  <a:pt x="12224" y="15042"/>
                </a:cubicBezTo>
                <a:cubicBezTo>
                  <a:pt x="12281" y="15031"/>
                  <a:pt x="12333" y="15020"/>
                  <a:pt x="12382" y="15002"/>
                </a:cubicBezTo>
                <a:cubicBezTo>
                  <a:pt x="12460" y="14973"/>
                  <a:pt x="12504" y="14938"/>
                  <a:pt x="12561" y="14903"/>
                </a:cubicBezTo>
                <a:cubicBezTo>
                  <a:pt x="12580" y="14891"/>
                  <a:pt x="12613" y="14868"/>
                  <a:pt x="12621" y="14863"/>
                </a:cubicBezTo>
                <a:cubicBezTo>
                  <a:pt x="12671" y="14831"/>
                  <a:pt x="12735" y="14778"/>
                  <a:pt x="12779" y="14744"/>
                </a:cubicBezTo>
                <a:cubicBezTo>
                  <a:pt x="12827" y="14707"/>
                  <a:pt x="12870" y="14681"/>
                  <a:pt x="12918" y="14645"/>
                </a:cubicBezTo>
                <a:cubicBezTo>
                  <a:pt x="12969" y="14606"/>
                  <a:pt x="13040" y="14530"/>
                  <a:pt x="13077" y="14506"/>
                </a:cubicBezTo>
                <a:cubicBezTo>
                  <a:pt x="13084" y="14506"/>
                  <a:pt x="13090" y="14506"/>
                  <a:pt x="13097" y="14506"/>
                </a:cubicBezTo>
                <a:cubicBezTo>
                  <a:pt x="12961" y="14541"/>
                  <a:pt x="12838" y="14577"/>
                  <a:pt x="12700" y="14625"/>
                </a:cubicBezTo>
                <a:cubicBezTo>
                  <a:pt x="12635" y="14648"/>
                  <a:pt x="12600" y="14654"/>
                  <a:pt x="12541" y="14684"/>
                </a:cubicBezTo>
                <a:cubicBezTo>
                  <a:pt x="12440" y="14734"/>
                  <a:pt x="12363" y="14765"/>
                  <a:pt x="12263" y="14843"/>
                </a:cubicBezTo>
                <a:cubicBezTo>
                  <a:pt x="12114" y="14960"/>
                  <a:pt x="11998" y="15112"/>
                  <a:pt x="11827" y="15200"/>
                </a:cubicBezTo>
                <a:cubicBezTo>
                  <a:pt x="11719" y="15255"/>
                  <a:pt x="11641" y="15263"/>
                  <a:pt x="11529" y="15280"/>
                </a:cubicBezTo>
                <a:cubicBezTo>
                  <a:pt x="11408" y="15298"/>
                  <a:pt x="11270" y="15286"/>
                  <a:pt x="11172" y="15240"/>
                </a:cubicBezTo>
                <a:cubicBezTo>
                  <a:pt x="11140" y="15225"/>
                  <a:pt x="11124" y="15199"/>
                  <a:pt x="11093" y="15180"/>
                </a:cubicBezTo>
                <a:cubicBezTo>
                  <a:pt x="11023" y="15136"/>
                  <a:pt x="11009" y="15068"/>
                  <a:pt x="10934" y="15022"/>
                </a:cubicBezTo>
                <a:cubicBezTo>
                  <a:pt x="10850" y="14969"/>
                  <a:pt x="10794" y="14934"/>
                  <a:pt x="10696" y="14903"/>
                </a:cubicBezTo>
                <a:cubicBezTo>
                  <a:pt x="10620" y="14879"/>
                  <a:pt x="10557" y="14874"/>
                  <a:pt x="10478" y="14863"/>
                </a:cubicBezTo>
                <a:cubicBezTo>
                  <a:pt x="10146" y="14817"/>
                  <a:pt x="9791" y="14960"/>
                  <a:pt x="9485" y="14922"/>
                </a:cubicBezTo>
                <a:cubicBezTo>
                  <a:pt x="9443" y="14917"/>
                  <a:pt x="9488" y="14867"/>
                  <a:pt x="9446" y="1486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64200" y="4506840"/>
            <a:ext cx="50760" cy="1800"/>
          </a:xfrm>
          <a:custGeom>
            <a:avLst/>
            <a:gdLst/>
            <a:ahLst/>
            <a:rect l="l" t="t" r="r" b="b"/>
            <a:pathLst>
              <a:path w="140" h="1">
                <a:moveTo>
                  <a:pt x="16986" y="12521"/>
                </a:moveTo>
                <a:cubicBezTo>
                  <a:pt x="16940" y="12521"/>
                  <a:pt x="16893" y="12521"/>
                  <a:pt x="16847" y="1252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37320" y="2406600"/>
            <a:ext cx="399960" cy="193680"/>
          </a:xfrm>
          <a:custGeom>
            <a:avLst/>
            <a:gdLst/>
            <a:ahLst/>
            <a:rect l="l" t="t" r="r" b="b"/>
            <a:pathLst>
              <a:path w="1112" h="537">
                <a:moveTo>
                  <a:pt x="19546" y="7183"/>
                </a:moveTo>
                <a:cubicBezTo>
                  <a:pt x="19486" y="7183"/>
                  <a:pt x="19421" y="7194"/>
                  <a:pt x="19368" y="7164"/>
                </a:cubicBezTo>
                <a:cubicBezTo>
                  <a:pt x="19359" y="7159"/>
                  <a:pt x="19331" y="7136"/>
                  <a:pt x="19308" y="7124"/>
                </a:cubicBezTo>
                <a:cubicBezTo>
                  <a:pt x="19262" y="7100"/>
                  <a:pt x="19246" y="7100"/>
                  <a:pt x="19209" y="7064"/>
                </a:cubicBezTo>
                <a:cubicBezTo>
                  <a:pt x="19190" y="7045"/>
                  <a:pt x="19203" y="7033"/>
                  <a:pt x="19189" y="7005"/>
                </a:cubicBezTo>
                <a:cubicBezTo>
                  <a:pt x="19174" y="6976"/>
                  <a:pt x="19116" y="6937"/>
                  <a:pt x="19090" y="6925"/>
                </a:cubicBezTo>
                <a:cubicBezTo>
                  <a:pt x="19044" y="6905"/>
                  <a:pt x="19045" y="6890"/>
                  <a:pt x="19010" y="6866"/>
                </a:cubicBezTo>
                <a:cubicBezTo>
                  <a:pt x="18992" y="6854"/>
                  <a:pt x="18935" y="6831"/>
                  <a:pt x="18911" y="6826"/>
                </a:cubicBezTo>
                <a:cubicBezTo>
                  <a:pt x="18840" y="6810"/>
                  <a:pt x="18752" y="6852"/>
                  <a:pt x="18693" y="6806"/>
                </a:cubicBezTo>
                <a:cubicBezTo>
                  <a:pt x="18662" y="6782"/>
                  <a:pt x="18653" y="6751"/>
                  <a:pt x="18613" y="6727"/>
                </a:cubicBezTo>
                <a:cubicBezTo>
                  <a:pt x="18600" y="6719"/>
                  <a:pt x="18567" y="6693"/>
                  <a:pt x="18534" y="6687"/>
                </a:cubicBezTo>
                <a:cubicBezTo>
                  <a:pt x="18509" y="6683"/>
                  <a:pt x="18446" y="6678"/>
                  <a:pt x="18435" y="6707"/>
                </a:cubicBezTo>
                <a:cubicBezTo>
                  <a:pt x="18424" y="6737"/>
                  <a:pt x="18438" y="6766"/>
                  <a:pt x="18455" y="6787"/>
                </a:cubicBezTo>
                <a:cubicBezTo>
                  <a:pt x="18472" y="6808"/>
                  <a:pt x="18503" y="6832"/>
                  <a:pt x="18514" y="6846"/>
                </a:cubicBezTo>
                <a:cubicBezTo>
                  <a:pt x="18540" y="6879"/>
                  <a:pt x="18574" y="6897"/>
                  <a:pt x="18594" y="6925"/>
                </a:cubicBezTo>
                <a:cubicBezTo>
                  <a:pt x="18610" y="6947"/>
                  <a:pt x="18636" y="6990"/>
                  <a:pt x="18653" y="7005"/>
                </a:cubicBezTo>
                <a:cubicBezTo>
                  <a:pt x="18672" y="7021"/>
                  <a:pt x="18716" y="7048"/>
                  <a:pt x="18732" y="7064"/>
                </a:cubicBezTo>
                <a:cubicBezTo>
                  <a:pt x="18764" y="7096"/>
                  <a:pt x="18754" y="7130"/>
                  <a:pt x="18812" y="7144"/>
                </a:cubicBezTo>
                <a:cubicBezTo>
                  <a:pt x="18968" y="7181"/>
                  <a:pt x="19197" y="7142"/>
                  <a:pt x="19328" y="7164"/>
                </a:cubicBezTo>
                <a:cubicBezTo>
                  <a:pt x="19366" y="7170"/>
                  <a:pt x="19375" y="7157"/>
                  <a:pt x="19407" y="7183"/>
                </a:cubicBezTo>
                <a:cubicBezTo>
                  <a:pt x="19428" y="7200"/>
                  <a:pt x="19459" y="7225"/>
                  <a:pt x="19487" y="7223"/>
                </a:cubicBezTo>
                <a:cubicBezTo>
                  <a:pt x="19516" y="7221"/>
                  <a:pt x="19525" y="7204"/>
                  <a:pt x="19546" y="7183"/>
                </a:cubicBezTo>
                <a:cubicBezTo>
                  <a:pt x="19505" y="7183"/>
                  <a:pt x="19479" y="7189"/>
                  <a:pt x="19447" y="7164"/>
                </a:cubicBezTo>
                <a:cubicBezTo>
                  <a:pt x="19427" y="7144"/>
                  <a:pt x="19420" y="7137"/>
                  <a:pt x="19407" y="712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00600" y="6315120"/>
            <a:ext cx="322200" cy="457200"/>
          </a:xfrm>
          <a:custGeom>
            <a:avLst/>
            <a:gdLst/>
            <a:ahLst/>
            <a:rect l="l" t="t" r="r" b="b"/>
            <a:pathLst>
              <a:path w="894" h="1271">
                <a:moveTo>
                  <a:pt x="15875" y="17720"/>
                </a:moveTo>
                <a:cubicBezTo>
                  <a:pt x="15907" y="17716"/>
                  <a:pt x="15926" y="17713"/>
                  <a:pt x="15954" y="17701"/>
                </a:cubicBezTo>
                <a:cubicBezTo>
                  <a:pt x="15987" y="17686"/>
                  <a:pt x="16021" y="17676"/>
                  <a:pt x="16054" y="17661"/>
                </a:cubicBezTo>
                <a:cubicBezTo>
                  <a:pt x="16074" y="17652"/>
                  <a:pt x="16113" y="17625"/>
                  <a:pt x="16133" y="17621"/>
                </a:cubicBezTo>
                <a:cubicBezTo>
                  <a:pt x="16176" y="17611"/>
                  <a:pt x="16173" y="17605"/>
                  <a:pt x="16212" y="17582"/>
                </a:cubicBezTo>
                <a:cubicBezTo>
                  <a:pt x="16238" y="17566"/>
                  <a:pt x="16267" y="17554"/>
                  <a:pt x="16292" y="17542"/>
                </a:cubicBezTo>
                <a:cubicBezTo>
                  <a:pt x="16285" y="17598"/>
                  <a:pt x="16246" y="17614"/>
                  <a:pt x="16232" y="17661"/>
                </a:cubicBezTo>
                <a:cubicBezTo>
                  <a:pt x="16191" y="17793"/>
                  <a:pt x="16176" y="17942"/>
                  <a:pt x="16153" y="18078"/>
                </a:cubicBezTo>
                <a:cubicBezTo>
                  <a:pt x="16141" y="18152"/>
                  <a:pt x="16133" y="18202"/>
                  <a:pt x="16133" y="18276"/>
                </a:cubicBezTo>
                <a:cubicBezTo>
                  <a:pt x="16105" y="18253"/>
                  <a:pt x="16084" y="18241"/>
                  <a:pt x="16073" y="18197"/>
                </a:cubicBezTo>
                <a:cubicBezTo>
                  <a:pt x="16057" y="18133"/>
                  <a:pt x="16020" y="18079"/>
                  <a:pt x="15994" y="18018"/>
                </a:cubicBezTo>
                <a:cubicBezTo>
                  <a:pt x="15973" y="17970"/>
                  <a:pt x="15956" y="17922"/>
                  <a:pt x="15935" y="17879"/>
                </a:cubicBezTo>
                <a:cubicBezTo>
                  <a:pt x="15957" y="17954"/>
                  <a:pt x="15972" y="18031"/>
                  <a:pt x="16014" y="18098"/>
                </a:cubicBezTo>
                <a:cubicBezTo>
                  <a:pt x="16047" y="18152"/>
                  <a:pt x="16089" y="18192"/>
                  <a:pt x="16133" y="18236"/>
                </a:cubicBezTo>
                <a:cubicBezTo>
                  <a:pt x="16140" y="18243"/>
                  <a:pt x="16146" y="18249"/>
                  <a:pt x="16153" y="18256"/>
                </a:cubicBezTo>
                <a:cubicBezTo>
                  <a:pt x="16186" y="18169"/>
                  <a:pt x="16156" y="18166"/>
                  <a:pt x="16113" y="18078"/>
                </a:cubicBezTo>
                <a:cubicBezTo>
                  <a:pt x="16083" y="18017"/>
                  <a:pt x="16034" y="17995"/>
                  <a:pt x="15994" y="17939"/>
                </a:cubicBezTo>
                <a:cubicBezTo>
                  <a:pt x="15945" y="17871"/>
                  <a:pt x="15878" y="17812"/>
                  <a:pt x="15835" y="17740"/>
                </a:cubicBezTo>
                <a:cubicBezTo>
                  <a:pt x="15835" y="17733"/>
                  <a:pt x="15835" y="17727"/>
                  <a:pt x="15835" y="17720"/>
                </a:cubicBezTo>
                <a:cubicBezTo>
                  <a:pt x="15903" y="17754"/>
                  <a:pt x="15925" y="17803"/>
                  <a:pt x="15994" y="17840"/>
                </a:cubicBezTo>
                <a:cubicBezTo>
                  <a:pt x="16050" y="17870"/>
                  <a:pt x="16087" y="17914"/>
                  <a:pt x="16133" y="17959"/>
                </a:cubicBezTo>
                <a:cubicBezTo>
                  <a:pt x="16149" y="17975"/>
                  <a:pt x="16211" y="17996"/>
                  <a:pt x="16232" y="18018"/>
                </a:cubicBezTo>
                <a:cubicBezTo>
                  <a:pt x="16273" y="18059"/>
                  <a:pt x="16284" y="18118"/>
                  <a:pt x="16351" y="18137"/>
                </a:cubicBezTo>
                <a:cubicBezTo>
                  <a:pt x="16403" y="18151"/>
                  <a:pt x="16403" y="18130"/>
                  <a:pt x="16411" y="18197"/>
                </a:cubicBezTo>
                <a:cubicBezTo>
                  <a:pt x="16418" y="18258"/>
                  <a:pt x="16452" y="18268"/>
                  <a:pt x="16470" y="18316"/>
                </a:cubicBezTo>
                <a:cubicBezTo>
                  <a:pt x="16502" y="18398"/>
                  <a:pt x="16454" y="18339"/>
                  <a:pt x="16530" y="18415"/>
                </a:cubicBezTo>
                <a:cubicBezTo>
                  <a:pt x="16533" y="18418"/>
                  <a:pt x="16566" y="18473"/>
                  <a:pt x="16570" y="18475"/>
                </a:cubicBezTo>
                <a:cubicBezTo>
                  <a:pt x="16596" y="18488"/>
                  <a:pt x="16641" y="18481"/>
                  <a:pt x="16669" y="18494"/>
                </a:cubicBezTo>
                <a:cubicBezTo>
                  <a:pt x="16685" y="18501"/>
                  <a:pt x="16718" y="18521"/>
                  <a:pt x="16728" y="18554"/>
                </a:cubicBezTo>
                <a:cubicBezTo>
                  <a:pt x="16745" y="18608"/>
                  <a:pt x="16728" y="18805"/>
                  <a:pt x="16728" y="18792"/>
                </a:cubicBezTo>
                <a:cubicBezTo>
                  <a:pt x="16728" y="18772"/>
                  <a:pt x="16728" y="18752"/>
                  <a:pt x="16728" y="1873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29040" y="3963960"/>
            <a:ext cx="1357200" cy="1130400"/>
          </a:xfrm>
          <a:custGeom>
            <a:avLst/>
            <a:gdLst/>
            <a:ahLst/>
            <a:rect l="l" t="t" r="r" b="b"/>
            <a:pathLst>
              <a:path w="3771" h="3137">
                <a:moveTo>
                  <a:pt x="11271" y="13772"/>
                </a:moveTo>
                <a:cubicBezTo>
                  <a:pt x="11154" y="13772"/>
                  <a:pt x="10999" y="13781"/>
                  <a:pt x="10914" y="13791"/>
                </a:cubicBezTo>
                <a:cubicBezTo>
                  <a:pt x="11009" y="13934"/>
                  <a:pt x="11090" y="14091"/>
                  <a:pt x="11271" y="14129"/>
                </a:cubicBezTo>
                <a:cubicBezTo>
                  <a:pt x="11395" y="14155"/>
                  <a:pt x="11486" y="14163"/>
                  <a:pt x="11589" y="14109"/>
                </a:cubicBezTo>
                <a:cubicBezTo>
                  <a:pt x="11633" y="14086"/>
                  <a:pt x="11623" y="14034"/>
                  <a:pt x="11688" y="14030"/>
                </a:cubicBezTo>
                <a:cubicBezTo>
                  <a:pt x="11776" y="14024"/>
                  <a:pt x="11806" y="14067"/>
                  <a:pt x="11886" y="14089"/>
                </a:cubicBezTo>
                <a:cubicBezTo>
                  <a:pt x="11925" y="14100"/>
                  <a:pt x="11957" y="14104"/>
                  <a:pt x="12005" y="14109"/>
                </a:cubicBezTo>
                <a:cubicBezTo>
                  <a:pt x="12087" y="14118"/>
                  <a:pt x="12185" y="14111"/>
                  <a:pt x="12263" y="14089"/>
                </a:cubicBezTo>
                <a:cubicBezTo>
                  <a:pt x="12270" y="14087"/>
                  <a:pt x="12336" y="14038"/>
                  <a:pt x="12363" y="14030"/>
                </a:cubicBezTo>
                <a:cubicBezTo>
                  <a:pt x="12398" y="14020"/>
                  <a:pt x="12429" y="14021"/>
                  <a:pt x="12462" y="14010"/>
                </a:cubicBezTo>
                <a:cubicBezTo>
                  <a:pt x="12511" y="13994"/>
                  <a:pt x="12559" y="13971"/>
                  <a:pt x="12601" y="13950"/>
                </a:cubicBezTo>
                <a:cubicBezTo>
                  <a:pt x="12654" y="13923"/>
                  <a:pt x="12700" y="13897"/>
                  <a:pt x="12760" y="13871"/>
                </a:cubicBezTo>
                <a:cubicBezTo>
                  <a:pt x="12825" y="13842"/>
                  <a:pt x="12875" y="13802"/>
                  <a:pt x="12938" y="13772"/>
                </a:cubicBezTo>
                <a:cubicBezTo>
                  <a:pt x="13089" y="13701"/>
                  <a:pt x="13253" y="13665"/>
                  <a:pt x="13395" y="13573"/>
                </a:cubicBezTo>
                <a:cubicBezTo>
                  <a:pt x="13494" y="13509"/>
                  <a:pt x="13591" y="13458"/>
                  <a:pt x="13692" y="13395"/>
                </a:cubicBezTo>
                <a:cubicBezTo>
                  <a:pt x="13749" y="13359"/>
                  <a:pt x="13795" y="13341"/>
                  <a:pt x="13851" y="13315"/>
                </a:cubicBezTo>
                <a:cubicBezTo>
                  <a:pt x="13915" y="13285"/>
                  <a:pt x="14013" y="13255"/>
                  <a:pt x="14069" y="13216"/>
                </a:cubicBezTo>
                <a:cubicBezTo>
                  <a:pt x="14115" y="13184"/>
                  <a:pt x="14170" y="13126"/>
                  <a:pt x="14188" y="13077"/>
                </a:cubicBezTo>
                <a:cubicBezTo>
                  <a:pt x="14206" y="13028"/>
                  <a:pt x="14169" y="12952"/>
                  <a:pt x="14168" y="12938"/>
                </a:cubicBezTo>
                <a:cubicBezTo>
                  <a:pt x="14165" y="12897"/>
                  <a:pt x="14156" y="12874"/>
                  <a:pt x="14149" y="12839"/>
                </a:cubicBezTo>
                <a:cubicBezTo>
                  <a:pt x="14137" y="12779"/>
                  <a:pt x="14118" y="12727"/>
                  <a:pt x="14129" y="12660"/>
                </a:cubicBezTo>
                <a:cubicBezTo>
                  <a:pt x="14138" y="12603"/>
                  <a:pt x="14170" y="12539"/>
                  <a:pt x="14188" y="12482"/>
                </a:cubicBezTo>
                <a:cubicBezTo>
                  <a:pt x="14242" y="12311"/>
                  <a:pt x="14333" y="12157"/>
                  <a:pt x="14387" y="11986"/>
                </a:cubicBezTo>
                <a:cubicBezTo>
                  <a:pt x="14467" y="11734"/>
                  <a:pt x="14498" y="11490"/>
                  <a:pt x="14526" y="11232"/>
                </a:cubicBezTo>
                <a:cubicBezTo>
                  <a:pt x="14477" y="11329"/>
                  <a:pt x="14520" y="11282"/>
                  <a:pt x="14506" y="11390"/>
                </a:cubicBezTo>
                <a:cubicBezTo>
                  <a:pt x="14452" y="11809"/>
                  <a:pt x="14446" y="12217"/>
                  <a:pt x="14446" y="12640"/>
                </a:cubicBezTo>
                <a:cubicBezTo>
                  <a:pt x="14389" y="12586"/>
                  <a:pt x="14351" y="12614"/>
                  <a:pt x="14307" y="12502"/>
                </a:cubicBezTo>
                <a:cubicBezTo>
                  <a:pt x="14229" y="12301"/>
                  <a:pt x="14268" y="12035"/>
                  <a:pt x="14268" y="11827"/>
                </a:cubicBezTo>
                <a:cubicBezTo>
                  <a:pt x="14268" y="11677"/>
                  <a:pt x="14244" y="11440"/>
                  <a:pt x="14288" y="11291"/>
                </a:cubicBezTo>
                <a:cubicBezTo>
                  <a:pt x="14295" y="11266"/>
                  <a:pt x="14322" y="11277"/>
                  <a:pt x="14327" y="11251"/>
                </a:cubicBezTo>
                <a:cubicBezTo>
                  <a:pt x="14478" y="11394"/>
                  <a:pt x="14482" y="11511"/>
                  <a:pt x="14486" y="11728"/>
                </a:cubicBezTo>
                <a:cubicBezTo>
                  <a:pt x="14487" y="11803"/>
                  <a:pt x="14486" y="11856"/>
                  <a:pt x="14506" y="11926"/>
                </a:cubicBezTo>
                <a:cubicBezTo>
                  <a:pt x="14529" y="12003"/>
                  <a:pt x="14567" y="12049"/>
                  <a:pt x="14605" y="12105"/>
                </a:cubicBezTo>
                <a:cubicBezTo>
                  <a:pt x="14637" y="12153"/>
                  <a:pt x="14642" y="12121"/>
                  <a:pt x="14665" y="12184"/>
                </a:cubicBezTo>
                <a:cubicBezTo>
                  <a:pt x="14682" y="12230"/>
                  <a:pt x="14677" y="12271"/>
                  <a:pt x="14684" y="12323"/>
                </a:cubicBezTo>
                <a:cubicBezTo>
                  <a:pt x="14598" y="12261"/>
                  <a:pt x="14705" y="12458"/>
                  <a:pt x="14545" y="12244"/>
                </a:cubicBezTo>
                <a:cubicBezTo>
                  <a:pt x="14454" y="12122"/>
                  <a:pt x="14450" y="12026"/>
                  <a:pt x="14407" y="11886"/>
                </a:cubicBezTo>
                <a:cubicBezTo>
                  <a:pt x="14350" y="11699"/>
                  <a:pt x="14323" y="11524"/>
                  <a:pt x="14288" y="11331"/>
                </a:cubicBezTo>
                <a:cubicBezTo>
                  <a:pt x="14262" y="11185"/>
                  <a:pt x="14236" y="11248"/>
                  <a:pt x="14288" y="11271"/>
                </a:cubicBezTo>
                <a:cubicBezTo>
                  <a:pt x="14334" y="11569"/>
                  <a:pt x="14327" y="11861"/>
                  <a:pt x="14327" y="12164"/>
                </a:cubicBezTo>
                <a:cubicBezTo>
                  <a:pt x="14327" y="12471"/>
                  <a:pt x="14333" y="12780"/>
                  <a:pt x="14248" y="13077"/>
                </a:cubicBezTo>
                <a:cubicBezTo>
                  <a:pt x="14199" y="13248"/>
                  <a:pt x="14172" y="13191"/>
                  <a:pt x="14129" y="13256"/>
                </a:cubicBezTo>
                <a:cubicBezTo>
                  <a:pt x="14122" y="13256"/>
                  <a:pt x="14116" y="13256"/>
                  <a:pt x="14109" y="13256"/>
                </a:cubicBezTo>
                <a:cubicBezTo>
                  <a:pt x="14059" y="13126"/>
                  <a:pt x="14005" y="13012"/>
                  <a:pt x="13990" y="12859"/>
                </a:cubicBezTo>
                <a:cubicBezTo>
                  <a:pt x="13948" y="12437"/>
                  <a:pt x="14068" y="11952"/>
                  <a:pt x="13970" y="11549"/>
                </a:cubicBezTo>
                <a:cubicBezTo>
                  <a:pt x="13963" y="11542"/>
                  <a:pt x="13957" y="11536"/>
                  <a:pt x="13950" y="11529"/>
                </a:cubicBezTo>
                <a:cubicBezTo>
                  <a:pt x="13950" y="11947"/>
                  <a:pt x="13960" y="12351"/>
                  <a:pt x="13891" y="12760"/>
                </a:cubicBezTo>
                <a:cubicBezTo>
                  <a:pt x="13863" y="12927"/>
                  <a:pt x="13825" y="13112"/>
                  <a:pt x="13692" y="13216"/>
                </a:cubicBezTo>
                <a:cubicBezTo>
                  <a:pt x="13650" y="13249"/>
                  <a:pt x="13641" y="13219"/>
                  <a:pt x="13593" y="13236"/>
                </a:cubicBezTo>
                <a:cubicBezTo>
                  <a:pt x="13567" y="13245"/>
                  <a:pt x="13540" y="13249"/>
                  <a:pt x="13514" y="13256"/>
                </a:cubicBezTo>
                <a:cubicBezTo>
                  <a:pt x="13460" y="13272"/>
                  <a:pt x="13432" y="13269"/>
                  <a:pt x="13375" y="13295"/>
                </a:cubicBezTo>
                <a:cubicBezTo>
                  <a:pt x="13304" y="13328"/>
                  <a:pt x="13292" y="13348"/>
                  <a:pt x="13216" y="13355"/>
                </a:cubicBezTo>
                <a:cubicBezTo>
                  <a:pt x="13075" y="13369"/>
                  <a:pt x="12933" y="13342"/>
                  <a:pt x="12799" y="13335"/>
                </a:cubicBezTo>
                <a:cubicBezTo>
                  <a:pt x="12710" y="13330"/>
                  <a:pt x="12619" y="13326"/>
                  <a:pt x="12541" y="13315"/>
                </a:cubicBezTo>
                <a:cubicBezTo>
                  <a:pt x="12641" y="13283"/>
                  <a:pt x="12750" y="13240"/>
                  <a:pt x="12859" y="13216"/>
                </a:cubicBezTo>
                <a:cubicBezTo>
                  <a:pt x="12952" y="13195"/>
                  <a:pt x="13204" y="13152"/>
                  <a:pt x="13275" y="13097"/>
                </a:cubicBezTo>
                <a:cubicBezTo>
                  <a:pt x="13308" y="13071"/>
                  <a:pt x="13314" y="13069"/>
                  <a:pt x="13335" y="13037"/>
                </a:cubicBezTo>
                <a:cubicBezTo>
                  <a:pt x="13380" y="12968"/>
                  <a:pt x="13345" y="12812"/>
                  <a:pt x="13395" y="12720"/>
                </a:cubicBezTo>
                <a:cubicBezTo>
                  <a:pt x="13420" y="12674"/>
                  <a:pt x="13467" y="12652"/>
                  <a:pt x="13514" y="12621"/>
                </a:cubicBezTo>
                <a:cubicBezTo>
                  <a:pt x="13574" y="12582"/>
                  <a:pt x="13718" y="12545"/>
                  <a:pt x="13752" y="12482"/>
                </a:cubicBezTo>
                <a:cubicBezTo>
                  <a:pt x="13783" y="12424"/>
                  <a:pt x="13772" y="12386"/>
                  <a:pt x="13791" y="12323"/>
                </a:cubicBezTo>
                <a:cubicBezTo>
                  <a:pt x="13794" y="12312"/>
                  <a:pt x="13802" y="12214"/>
                  <a:pt x="13811" y="12204"/>
                </a:cubicBezTo>
                <a:cubicBezTo>
                  <a:pt x="13858" y="12149"/>
                  <a:pt x="13936" y="12100"/>
                  <a:pt x="13990" y="12025"/>
                </a:cubicBezTo>
                <a:cubicBezTo>
                  <a:pt x="14094" y="11881"/>
                  <a:pt x="14161" y="11718"/>
                  <a:pt x="14208" y="11549"/>
                </a:cubicBezTo>
                <a:cubicBezTo>
                  <a:pt x="14235" y="11451"/>
                  <a:pt x="14240" y="11344"/>
                  <a:pt x="14268" y="11251"/>
                </a:cubicBezTo>
                <a:cubicBezTo>
                  <a:pt x="14280" y="11211"/>
                  <a:pt x="14303" y="11194"/>
                  <a:pt x="14307" y="11152"/>
                </a:cubicBezTo>
                <a:cubicBezTo>
                  <a:pt x="14307" y="11132"/>
                  <a:pt x="14307" y="11126"/>
                  <a:pt x="14288" y="11132"/>
                </a:cubicBezTo>
                <a:cubicBezTo>
                  <a:pt x="14272" y="11182"/>
                  <a:pt x="14249" y="11318"/>
                  <a:pt x="14228" y="11390"/>
                </a:cubicBezTo>
                <a:cubicBezTo>
                  <a:pt x="14168" y="11593"/>
                  <a:pt x="14157" y="11795"/>
                  <a:pt x="14129" y="12005"/>
                </a:cubicBezTo>
                <a:cubicBezTo>
                  <a:pt x="14107" y="12168"/>
                  <a:pt x="14071" y="12385"/>
                  <a:pt x="13970" y="12502"/>
                </a:cubicBezTo>
                <a:cubicBezTo>
                  <a:pt x="13929" y="12549"/>
                  <a:pt x="13929" y="12534"/>
                  <a:pt x="13891" y="12561"/>
                </a:cubicBezTo>
                <a:cubicBezTo>
                  <a:pt x="13884" y="12561"/>
                  <a:pt x="13878" y="12561"/>
                  <a:pt x="13871" y="12561"/>
                </a:cubicBezTo>
                <a:cubicBezTo>
                  <a:pt x="13826" y="12498"/>
                  <a:pt x="13767" y="12439"/>
                  <a:pt x="13752" y="12323"/>
                </a:cubicBezTo>
                <a:cubicBezTo>
                  <a:pt x="13704" y="11949"/>
                  <a:pt x="13897" y="11370"/>
                  <a:pt x="13732" y="11033"/>
                </a:cubicBezTo>
                <a:cubicBezTo>
                  <a:pt x="13714" y="10997"/>
                  <a:pt x="13683" y="11030"/>
                  <a:pt x="13672" y="11013"/>
                </a:cubicBezTo>
                <a:cubicBezTo>
                  <a:pt x="13581" y="11113"/>
                  <a:pt x="13539" y="11161"/>
                  <a:pt x="13474" y="11331"/>
                </a:cubicBezTo>
                <a:cubicBezTo>
                  <a:pt x="13426" y="11456"/>
                  <a:pt x="13406" y="11583"/>
                  <a:pt x="13375" y="11708"/>
                </a:cubicBezTo>
                <a:cubicBezTo>
                  <a:pt x="13281" y="12088"/>
                  <a:pt x="13286" y="12481"/>
                  <a:pt x="13176" y="12859"/>
                </a:cubicBezTo>
                <a:cubicBezTo>
                  <a:pt x="13165" y="12897"/>
                  <a:pt x="13148" y="12940"/>
                  <a:pt x="13137" y="12978"/>
                </a:cubicBezTo>
                <a:cubicBezTo>
                  <a:pt x="13137" y="12628"/>
                  <a:pt x="13294" y="11859"/>
                  <a:pt x="13117" y="11549"/>
                </a:cubicBezTo>
                <a:cubicBezTo>
                  <a:pt x="13107" y="11532"/>
                  <a:pt x="13036" y="11496"/>
                  <a:pt x="13018" y="11490"/>
                </a:cubicBezTo>
                <a:cubicBezTo>
                  <a:pt x="12955" y="11470"/>
                  <a:pt x="12866" y="11492"/>
                  <a:pt x="12799" y="11490"/>
                </a:cubicBezTo>
                <a:cubicBezTo>
                  <a:pt x="12810" y="11568"/>
                  <a:pt x="12831" y="11727"/>
                  <a:pt x="12839" y="11827"/>
                </a:cubicBezTo>
                <a:cubicBezTo>
                  <a:pt x="12853" y="11990"/>
                  <a:pt x="12818" y="12187"/>
                  <a:pt x="12879" y="12283"/>
                </a:cubicBezTo>
                <a:cubicBezTo>
                  <a:pt x="12912" y="12283"/>
                  <a:pt x="12918" y="12283"/>
                  <a:pt x="12938" y="12283"/>
                </a:cubicBezTo>
                <a:cubicBezTo>
                  <a:pt x="12994" y="12248"/>
                  <a:pt x="13013" y="12220"/>
                  <a:pt x="13057" y="12184"/>
                </a:cubicBezTo>
                <a:cubicBezTo>
                  <a:pt x="13077" y="12167"/>
                  <a:pt x="13113" y="12164"/>
                  <a:pt x="13137" y="12144"/>
                </a:cubicBezTo>
                <a:cubicBezTo>
                  <a:pt x="13168" y="12118"/>
                  <a:pt x="13216" y="12051"/>
                  <a:pt x="13236" y="12025"/>
                </a:cubicBezTo>
                <a:cubicBezTo>
                  <a:pt x="13236" y="12018"/>
                  <a:pt x="13236" y="12012"/>
                  <a:pt x="13236" y="12005"/>
                </a:cubicBezTo>
                <a:cubicBezTo>
                  <a:pt x="13162" y="11950"/>
                  <a:pt x="13233" y="11938"/>
                  <a:pt x="13097" y="11926"/>
                </a:cubicBezTo>
                <a:cubicBezTo>
                  <a:pt x="12930" y="11911"/>
                  <a:pt x="12786" y="11920"/>
                  <a:pt x="12621" y="11886"/>
                </a:cubicBezTo>
                <a:cubicBezTo>
                  <a:pt x="12563" y="11874"/>
                  <a:pt x="12135" y="11743"/>
                  <a:pt x="12085" y="11767"/>
                </a:cubicBezTo>
                <a:cubicBezTo>
                  <a:pt x="12016" y="11799"/>
                  <a:pt x="12128" y="11811"/>
                  <a:pt x="12105" y="11867"/>
                </a:cubicBezTo>
                <a:cubicBezTo>
                  <a:pt x="12291" y="11997"/>
                  <a:pt x="12467" y="12019"/>
                  <a:pt x="12700" y="11986"/>
                </a:cubicBezTo>
                <a:cubicBezTo>
                  <a:pt x="12809" y="11971"/>
                  <a:pt x="12952" y="11918"/>
                  <a:pt x="13057" y="11886"/>
                </a:cubicBezTo>
                <a:cubicBezTo>
                  <a:pt x="13114" y="11868"/>
                  <a:pt x="13120" y="11872"/>
                  <a:pt x="13176" y="11847"/>
                </a:cubicBezTo>
                <a:cubicBezTo>
                  <a:pt x="13204" y="11835"/>
                  <a:pt x="13233" y="11832"/>
                  <a:pt x="13256" y="11807"/>
                </a:cubicBezTo>
                <a:cubicBezTo>
                  <a:pt x="13286" y="11775"/>
                  <a:pt x="13283" y="11722"/>
                  <a:pt x="13315" y="11688"/>
                </a:cubicBezTo>
                <a:cubicBezTo>
                  <a:pt x="13356" y="11644"/>
                  <a:pt x="13339" y="11640"/>
                  <a:pt x="13414" y="11609"/>
                </a:cubicBezTo>
                <a:cubicBezTo>
                  <a:pt x="13661" y="11505"/>
                  <a:pt x="13952" y="11482"/>
                  <a:pt x="14208" y="11410"/>
                </a:cubicBezTo>
                <a:cubicBezTo>
                  <a:pt x="14267" y="11381"/>
                  <a:pt x="14270" y="11367"/>
                  <a:pt x="14307" y="11370"/>
                </a:cubicBezTo>
                <a:cubicBezTo>
                  <a:pt x="14252" y="11348"/>
                  <a:pt x="14283" y="11324"/>
                  <a:pt x="14208" y="11311"/>
                </a:cubicBezTo>
                <a:cubicBezTo>
                  <a:pt x="14116" y="11295"/>
                  <a:pt x="14096" y="11305"/>
                  <a:pt x="14049" y="11271"/>
                </a:cubicBezTo>
                <a:cubicBezTo>
                  <a:pt x="14021" y="11251"/>
                  <a:pt x="14083" y="11197"/>
                  <a:pt x="14030" y="11192"/>
                </a:cubicBezTo>
                <a:cubicBezTo>
                  <a:pt x="13939" y="11183"/>
                  <a:pt x="13937" y="11313"/>
                  <a:pt x="13910" y="1137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65160" y="5378400"/>
            <a:ext cx="500040" cy="336600"/>
          </a:xfrm>
          <a:custGeom>
            <a:avLst/>
            <a:gdLst/>
            <a:ahLst/>
            <a:rect l="l" t="t" r="r" b="b"/>
            <a:pathLst>
              <a:path w="1390" h="934">
                <a:moveTo>
                  <a:pt x="2957" y="15637"/>
                </a:moveTo>
                <a:cubicBezTo>
                  <a:pt x="2930" y="15637"/>
                  <a:pt x="2917" y="15637"/>
                  <a:pt x="2897" y="15637"/>
                </a:cubicBezTo>
                <a:cubicBezTo>
                  <a:pt x="2917" y="15630"/>
                  <a:pt x="2958" y="15626"/>
                  <a:pt x="2977" y="15617"/>
                </a:cubicBezTo>
                <a:cubicBezTo>
                  <a:pt x="3003" y="15605"/>
                  <a:pt x="3002" y="15609"/>
                  <a:pt x="3036" y="15597"/>
                </a:cubicBezTo>
                <a:cubicBezTo>
                  <a:pt x="3069" y="15585"/>
                  <a:pt x="3096" y="15565"/>
                  <a:pt x="3135" y="15558"/>
                </a:cubicBezTo>
                <a:cubicBezTo>
                  <a:pt x="3179" y="15550"/>
                  <a:pt x="3237" y="15544"/>
                  <a:pt x="3274" y="15538"/>
                </a:cubicBezTo>
                <a:cubicBezTo>
                  <a:pt x="3306" y="15533"/>
                  <a:pt x="3324" y="15523"/>
                  <a:pt x="3354" y="15518"/>
                </a:cubicBezTo>
                <a:cubicBezTo>
                  <a:pt x="3393" y="15511"/>
                  <a:pt x="3420" y="15488"/>
                  <a:pt x="3453" y="15478"/>
                </a:cubicBezTo>
                <a:cubicBezTo>
                  <a:pt x="3502" y="15464"/>
                  <a:pt x="3506" y="15485"/>
                  <a:pt x="3512" y="15419"/>
                </a:cubicBezTo>
                <a:cubicBezTo>
                  <a:pt x="3516" y="15374"/>
                  <a:pt x="3519" y="15334"/>
                  <a:pt x="3492" y="15300"/>
                </a:cubicBezTo>
                <a:cubicBezTo>
                  <a:pt x="3467" y="15269"/>
                  <a:pt x="3430" y="15280"/>
                  <a:pt x="3393" y="15280"/>
                </a:cubicBezTo>
                <a:cubicBezTo>
                  <a:pt x="3301" y="15280"/>
                  <a:pt x="3235" y="15269"/>
                  <a:pt x="3155" y="15319"/>
                </a:cubicBezTo>
                <a:cubicBezTo>
                  <a:pt x="3045" y="15387"/>
                  <a:pt x="2918" y="15459"/>
                  <a:pt x="2818" y="15538"/>
                </a:cubicBezTo>
                <a:cubicBezTo>
                  <a:pt x="2779" y="15569"/>
                  <a:pt x="2718" y="15629"/>
                  <a:pt x="2699" y="15657"/>
                </a:cubicBezTo>
                <a:cubicBezTo>
                  <a:pt x="2681" y="15683"/>
                  <a:pt x="2671" y="15701"/>
                  <a:pt x="2679" y="15736"/>
                </a:cubicBezTo>
                <a:cubicBezTo>
                  <a:pt x="2694" y="15801"/>
                  <a:pt x="2748" y="15811"/>
                  <a:pt x="2798" y="15835"/>
                </a:cubicBezTo>
                <a:cubicBezTo>
                  <a:pt x="2845" y="15857"/>
                  <a:pt x="2883" y="15886"/>
                  <a:pt x="2937" y="15875"/>
                </a:cubicBezTo>
                <a:cubicBezTo>
                  <a:pt x="2986" y="15865"/>
                  <a:pt x="3040" y="15773"/>
                  <a:pt x="3076" y="15736"/>
                </a:cubicBezTo>
                <a:cubicBezTo>
                  <a:pt x="3130" y="15681"/>
                  <a:pt x="3192" y="15593"/>
                  <a:pt x="3215" y="15518"/>
                </a:cubicBezTo>
                <a:cubicBezTo>
                  <a:pt x="3226" y="15481"/>
                  <a:pt x="3215" y="15419"/>
                  <a:pt x="3215" y="15379"/>
                </a:cubicBezTo>
                <a:cubicBezTo>
                  <a:pt x="3142" y="15387"/>
                  <a:pt x="3127" y="15423"/>
                  <a:pt x="3076" y="15518"/>
                </a:cubicBezTo>
                <a:cubicBezTo>
                  <a:pt x="3048" y="15570"/>
                  <a:pt x="3018" y="15614"/>
                  <a:pt x="2977" y="15657"/>
                </a:cubicBezTo>
                <a:cubicBezTo>
                  <a:pt x="2946" y="15690"/>
                  <a:pt x="2939" y="15691"/>
                  <a:pt x="2897" y="15696"/>
                </a:cubicBezTo>
                <a:cubicBezTo>
                  <a:pt x="2851" y="15701"/>
                  <a:pt x="2853" y="15678"/>
                  <a:pt x="2818" y="15657"/>
                </a:cubicBezTo>
                <a:cubicBezTo>
                  <a:pt x="2789" y="15640"/>
                  <a:pt x="2751" y="15605"/>
                  <a:pt x="2738" y="15597"/>
                </a:cubicBezTo>
                <a:cubicBezTo>
                  <a:pt x="2716" y="15597"/>
                  <a:pt x="2707" y="15595"/>
                  <a:pt x="2699" y="15577"/>
                </a:cubicBezTo>
                <a:cubicBezTo>
                  <a:pt x="2739" y="15582"/>
                  <a:pt x="2744" y="15582"/>
                  <a:pt x="2778" y="15597"/>
                </a:cubicBezTo>
                <a:cubicBezTo>
                  <a:pt x="2812" y="15612"/>
                  <a:pt x="2817" y="15615"/>
                  <a:pt x="2858" y="15617"/>
                </a:cubicBezTo>
                <a:cubicBezTo>
                  <a:pt x="2924" y="15620"/>
                  <a:pt x="3023" y="15635"/>
                  <a:pt x="3076" y="15597"/>
                </a:cubicBezTo>
                <a:cubicBezTo>
                  <a:pt x="3100" y="15580"/>
                  <a:pt x="3137" y="15554"/>
                  <a:pt x="3175" y="15538"/>
                </a:cubicBezTo>
                <a:cubicBezTo>
                  <a:pt x="3211" y="15523"/>
                  <a:pt x="3240" y="15505"/>
                  <a:pt x="3274" y="15498"/>
                </a:cubicBezTo>
                <a:cubicBezTo>
                  <a:pt x="3339" y="15484"/>
                  <a:pt x="3311" y="15548"/>
                  <a:pt x="3354" y="15577"/>
                </a:cubicBezTo>
                <a:cubicBezTo>
                  <a:pt x="3394" y="15604"/>
                  <a:pt x="3391" y="15543"/>
                  <a:pt x="3413" y="15577"/>
                </a:cubicBezTo>
                <a:cubicBezTo>
                  <a:pt x="3437" y="15613"/>
                  <a:pt x="3440" y="15677"/>
                  <a:pt x="3453" y="15716"/>
                </a:cubicBezTo>
                <a:cubicBezTo>
                  <a:pt x="3482" y="15802"/>
                  <a:pt x="3497" y="15742"/>
                  <a:pt x="3453" y="15776"/>
                </a:cubicBezTo>
                <a:cubicBezTo>
                  <a:pt x="3416" y="15767"/>
                  <a:pt x="3403" y="15785"/>
                  <a:pt x="3453" y="15756"/>
                </a:cubicBezTo>
                <a:cubicBezTo>
                  <a:pt x="3481" y="15739"/>
                  <a:pt x="3521" y="15729"/>
                  <a:pt x="3552" y="15716"/>
                </a:cubicBezTo>
                <a:cubicBezTo>
                  <a:pt x="3579" y="15705"/>
                  <a:pt x="3584" y="15684"/>
                  <a:pt x="3612" y="15677"/>
                </a:cubicBezTo>
                <a:cubicBezTo>
                  <a:pt x="3649" y="15667"/>
                  <a:pt x="3644" y="15671"/>
                  <a:pt x="3671" y="15657"/>
                </a:cubicBezTo>
                <a:cubicBezTo>
                  <a:pt x="3696" y="15644"/>
                  <a:pt x="3719" y="15639"/>
                  <a:pt x="3750" y="15637"/>
                </a:cubicBezTo>
                <a:cubicBezTo>
                  <a:pt x="3770" y="15636"/>
                  <a:pt x="3790" y="15637"/>
                  <a:pt x="3810" y="15637"/>
                </a:cubicBezTo>
                <a:cubicBezTo>
                  <a:pt x="3800" y="15663"/>
                  <a:pt x="3799" y="15688"/>
                  <a:pt x="3790" y="15716"/>
                </a:cubicBezTo>
                <a:cubicBezTo>
                  <a:pt x="3770" y="15774"/>
                  <a:pt x="3757" y="15751"/>
                  <a:pt x="3711" y="15756"/>
                </a:cubicBezTo>
                <a:cubicBezTo>
                  <a:pt x="3648" y="15763"/>
                  <a:pt x="3649" y="15756"/>
                  <a:pt x="3612" y="15716"/>
                </a:cubicBezTo>
                <a:cubicBezTo>
                  <a:pt x="3583" y="15685"/>
                  <a:pt x="3529" y="15640"/>
                  <a:pt x="3512" y="15617"/>
                </a:cubicBezTo>
                <a:cubicBezTo>
                  <a:pt x="3498" y="15597"/>
                  <a:pt x="3483" y="15574"/>
                  <a:pt x="3473" y="15558"/>
                </a:cubicBezTo>
                <a:cubicBezTo>
                  <a:pt x="3442" y="15505"/>
                  <a:pt x="3420" y="15455"/>
                  <a:pt x="3393" y="15399"/>
                </a:cubicBezTo>
                <a:cubicBezTo>
                  <a:pt x="3386" y="15385"/>
                  <a:pt x="3359" y="15339"/>
                  <a:pt x="3373" y="15319"/>
                </a:cubicBezTo>
                <a:cubicBezTo>
                  <a:pt x="3396" y="15286"/>
                  <a:pt x="3443" y="15281"/>
                  <a:pt x="3473" y="15240"/>
                </a:cubicBezTo>
                <a:cubicBezTo>
                  <a:pt x="3494" y="15212"/>
                  <a:pt x="3504" y="15196"/>
                  <a:pt x="3512" y="15161"/>
                </a:cubicBezTo>
                <a:cubicBezTo>
                  <a:pt x="3521" y="15119"/>
                  <a:pt x="3515" y="15099"/>
                  <a:pt x="3532" y="15061"/>
                </a:cubicBezTo>
                <a:cubicBezTo>
                  <a:pt x="3549" y="15024"/>
                  <a:pt x="3560" y="15029"/>
                  <a:pt x="3592" y="15002"/>
                </a:cubicBezTo>
                <a:cubicBezTo>
                  <a:pt x="3614" y="14984"/>
                  <a:pt x="3618" y="14994"/>
                  <a:pt x="3651" y="14982"/>
                </a:cubicBezTo>
                <a:cubicBezTo>
                  <a:pt x="3684" y="14970"/>
                  <a:pt x="3714" y="14948"/>
                  <a:pt x="3750" y="14942"/>
                </a:cubicBezTo>
                <a:cubicBezTo>
                  <a:pt x="3787" y="14936"/>
                  <a:pt x="3802" y="14945"/>
                  <a:pt x="3830" y="14962"/>
                </a:cubicBezTo>
                <a:cubicBezTo>
                  <a:pt x="3849" y="14974"/>
                  <a:pt x="3847" y="14980"/>
                  <a:pt x="3889" y="14982"/>
                </a:cubicBezTo>
                <a:cubicBezTo>
                  <a:pt x="3942" y="14985"/>
                  <a:pt x="4005" y="14967"/>
                  <a:pt x="4028" y="14962"/>
                </a:cubicBezTo>
                <a:cubicBezTo>
                  <a:pt x="4048" y="14962"/>
                  <a:pt x="4055" y="14962"/>
                  <a:pt x="4068" y="14962"/>
                </a:cubicBezTo>
              </a:path>
            </a:pathLst>
          </a:custGeom>
          <a:noFill/>
          <a:ln cap="sq" w="228600">
            <a:solidFill>
              <a:srgbClr val="ff99cc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36760" y="5494320"/>
            <a:ext cx="49320" cy="42840"/>
          </a:xfrm>
          <a:custGeom>
            <a:avLst/>
            <a:gdLst/>
            <a:ahLst/>
            <a:rect l="l" t="t" r="r" b="b"/>
            <a:pathLst>
              <a:path w="140" h="120">
                <a:moveTo>
                  <a:pt x="4128" y="15260"/>
                </a:moveTo>
                <a:cubicBezTo>
                  <a:pt x="4108" y="15260"/>
                  <a:pt x="4101" y="15260"/>
                  <a:pt x="4088" y="15260"/>
                </a:cubicBezTo>
                <a:cubicBezTo>
                  <a:pt x="4078" y="15298"/>
                  <a:pt x="4043" y="15304"/>
                  <a:pt x="4028" y="15339"/>
                </a:cubicBezTo>
                <a:cubicBezTo>
                  <a:pt x="4016" y="15365"/>
                  <a:pt x="4019" y="15356"/>
                  <a:pt x="3989" y="15379"/>
                </a:cubicBezTo>
              </a:path>
            </a:pathLst>
          </a:custGeom>
          <a:noFill/>
          <a:ln cap="sq" w="228600">
            <a:solidFill>
              <a:srgbClr val="ff99cc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5720" y="5335560"/>
            <a:ext cx="750960" cy="365040"/>
          </a:xfrm>
          <a:custGeom>
            <a:avLst/>
            <a:gdLst/>
            <a:ahLst/>
            <a:rect l="l" t="t" r="r" b="b"/>
            <a:pathLst>
              <a:path w="2085" h="1013">
                <a:moveTo>
                  <a:pt x="3711" y="15180"/>
                </a:moveTo>
                <a:cubicBezTo>
                  <a:pt x="3687" y="15175"/>
                  <a:pt x="3643" y="15195"/>
                  <a:pt x="3631" y="15161"/>
                </a:cubicBezTo>
                <a:cubicBezTo>
                  <a:pt x="3614" y="15112"/>
                  <a:pt x="3667" y="14970"/>
                  <a:pt x="3612" y="14942"/>
                </a:cubicBezTo>
                <a:cubicBezTo>
                  <a:pt x="3574" y="14923"/>
                  <a:pt x="3549" y="14956"/>
                  <a:pt x="3512" y="14922"/>
                </a:cubicBezTo>
                <a:cubicBezTo>
                  <a:pt x="3502" y="14913"/>
                  <a:pt x="3488" y="14894"/>
                  <a:pt x="3473" y="14883"/>
                </a:cubicBezTo>
                <a:cubicBezTo>
                  <a:pt x="3473" y="14929"/>
                  <a:pt x="3458" y="15005"/>
                  <a:pt x="3492" y="15022"/>
                </a:cubicBezTo>
                <a:cubicBezTo>
                  <a:pt x="3526" y="15039"/>
                  <a:pt x="3584" y="15012"/>
                  <a:pt x="3612" y="15002"/>
                </a:cubicBezTo>
                <a:cubicBezTo>
                  <a:pt x="3633" y="14994"/>
                  <a:pt x="3671" y="14992"/>
                  <a:pt x="3691" y="14982"/>
                </a:cubicBezTo>
                <a:cubicBezTo>
                  <a:pt x="3711" y="14982"/>
                  <a:pt x="3718" y="14982"/>
                  <a:pt x="3711" y="14962"/>
                </a:cubicBezTo>
                <a:cubicBezTo>
                  <a:pt x="3678" y="14951"/>
                  <a:pt x="3671" y="14944"/>
                  <a:pt x="3631" y="14942"/>
                </a:cubicBezTo>
                <a:cubicBezTo>
                  <a:pt x="3447" y="14935"/>
                  <a:pt x="3260" y="14942"/>
                  <a:pt x="3076" y="14942"/>
                </a:cubicBezTo>
                <a:cubicBezTo>
                  <a:pt x="3142" y="14942"/>
                  <a:pt x="3193" y="14944"/>
                  <a:pt x="3254" y="14922"/>
                </a:cubicBezTo>
                <a:cubicBezTo>
                  <a:pt x="3267" y="14917"/>
                  <a:pt x="3325" y="14883"/>
                  <a:pt x="3334" y="14883"/>
                </a:cubicBezTo>
                <a:cubicBezTo>
                  <a:pt x="3400" y="14886"/>
                  <a:pt x="3426" y="14945"/>
                  <a:pt x="3473" y="14982"/>
                </a:cubicBezTo>
                <a:cubicBezTo>
                  <a:pt x="3538" y="15034"/>
                  <a:pt x="3586" y="15028"/>
                  <a:pt x="3651" y="15081"/>
                </a:cubicBezTo>
                <a:cubicBezTo>
                  <a:pt x="3658" y="15088"/>
                  <a:pt x="3664" y="15094"/>
                  <a:pt x="3671" y="15101"/>
                </a:cubicBezTo>
                <a:cubicBezTo>
                  <a:pt x="3671" y="15050"/>
                  <a:pt x="3675" y="15008"/>
                  <a:pt x="3651" y="14982"/>
                </a:cubicBezTo>
                <a:cubicBezTo>
                  <a:pt x="3625" y="14954"/>
                  <a:pt x="3607" y="14963"/>
                  <a:pt x="3572" y="14962"/>
                </a:cubicBezTo>
                <a:cubicBezTo>
                  <a:pt x="3534" y="14961"/>
                  <a:pt x="3483" y="14973"/>
                  <a:pt x="3453" y="14942"/>
                </a:cubicBezTo>
                <a:cubicBezTo>
                  <a:pt x="3435" y="14923"/>
                  <a:pt x="3458" y="14881"/>
                  <a:pt x="3413" y="14863"/>
                </a:cubicBezTo>
                <a:cubicBezTo>
                  <a:pt x="3392" y="14855"/>
                  <a:pt x="3310" y="14845"/>
                  <a:pt x="3294" y="14843"/>
                </a:cubicBezTo>
                <a:cubicBezTo>
                  <a:pt x="3252" y="14838"/>
                  <a:pt x="3169" y="14825"/>
                  <a:pt x="3155" y="14823"/>
                </a:cubicBezTo>
                <a:cubicBezTo>
                  <a:pt x="3052" y="14810"/>
                  <a:pt x="2886" y="14806"/>
                  <a:pt x="2798" y="14843"/>
                </a:cubicBezTo>
                <a:cubicBezTo>
                  <a:pt x="2769" y="14855"/>
                  <a:pt x="2749" y="14853"/>
                  <a:pt x="2719" y="14863"/>
                </a:cubicBezTo>
                <a:cubicBezTo>
                  <a:pt x="2693" y="14872"/>
                  <a:pt x="2665" y="14873"/>
                  <a:pt x="2639" y="14883"/>
                </a:cubicBezTo>
                <a:cubicBezTo>
                  <a:pt x="2591" y="14901"/>
                  <a:pt x="2597" y="14887"/>
                  <a:pt x="2540" y="14903"/>
                </a:cubicBezTo>
                <a:cubicBezTo>
                  <a:pt x="2515" y="14910"/>
                  <a:pt x="2504" y="14912"/>
                  <a:pt x="2480" y="14922"/>
                </a:cubicBezTo>
                <a:cubicBezTo>
                  <a:pt x="2443" y="14938"/>
                  <a:pt x="2414" y="14948"/>
                  <a:pt x="2381" y="14962"/>
                </a:cubicBezTo>
                <a:cubicBezTo>
                  <a:pt x="2363" y="14970"/>
                  <a:pt x="2325" y="15001"/>
                  <a:pt x="2322" y="15002"/>
                </a:cubicBezTo>
                <a:cubicBezTo>
                  <a:pt x="2276" y="15020"/>
                  <a:pt x="2273" y="15028"/>
                  <a:pt x="2242" y="15061"/>
                </a:cubicBezTo>
                <a:cubicBezTo>
                  <a:pt x="2222" y="15082"/>
                  <a:pt x="2175" y="15107"/>
                  <a:pt x="2163" y="15121"/>
                </a:cubicBezTo>
                <a:cubicBezTo>
                  <a:pt x="2147" y="15140"/>
                  <a:pt x="2126" y="15176"/>
                  <a:pt x="2103" y="15200"/>
                </a:cubicBezTo>
                <a:cubicBezTo>
                  <a:pt x="2080" y="15224"/>
                  <a:pt x="2035" y="15265"/>
                  <a:pt x="2024" y="15280"/>
                </a:cubicBezTo>
                <a:cubicBezTo>
                  <a:pt x="2006" y="15305"/>
                  <a:pt x="2007" y="15323"/>
                  <a:pt x="1984" y="15359"/>
                </a:cubicBezTo>
                <a:cubicBezTo>
                  <a:pt x="1965" y="15388"/>
                  <a:pt x="1945" y="15408"/>
                  <a:pt x="1925" y="15438"/>
                </a:cubicBezTo>
                <a:cubicBezTo>
                  <a:pt x="1903" y="15471"/>
                  <a:pt x="1889" y="15501"/>
                  <a:pt x="1865" y="15538"/>
                </a:cubicBezTo>
                <a:cubicBezTo>
                  <a:pt x="1855" y="15553"/>
                  <a:pt x="1841" y="15600"/>
                  <a:pt x="1826" y="15617"/>
                </a:cubicBezTo>
                <a:cubicBezTo>
                  <a:pt x="1819" y="15625"/>
                  <a:pt x="1757" y="15687"/>
                  <a:pt x="1746" y="15696"/>
                </a:cubicBezTo>
                <a:cubicBezTo>
                  <a:pt x="1714" y="15722"/>
                  <a:pt x="1718" y="15731"/>
                  <a:pt x="1687" y="15756"/>
                </a:cubicBezTo>
                <a:cubicBezTo>
                  <a:pt x="1647" y="15788"/>
                  <a:pt x="1670" y="15785"/>
                  <a:pt x="1647" y="15815"/>
                </a:cubicBezTo>
                <a:cubicBezTo>
                  <a:pt x="1640" y="15822"/>
                  <a:pt x="1634" y="15828"/>
                  <a:pt x="1627" y="15835"/>
                </a:cubicBezTo>
                <a:cubicBezTo>
                  <a:pt x="1669" y="15824"/>
                  <a:pt x="1722" y="15802"/>
                  <a:pt x="1766" y="15796"/>
                </a:cubicBezTo>
                <a:cubicBezTo>
                  <a:pt x="1851" y="15784"/>
                  <a:pt x="1902" y="15747"/>
                  <a:pt x="1984" y="15716"/>
                </a:cubicBezTo>
                <a:cubicBezTo>
                  <a:pt x="2050" y="15691"/>
                  <a:pt x="2114" y="15666"/>
                  <a:pt x="2183" y="15657"/>
                </a:cubicBezTo>
                <a:cubicBezTo>
                  <a:pt x="2237" y="15650"/>
                  <a:pt x="2257" y="15661"/>
                  <a:pt x="2302" y="15637"/>
                </a:cubicBezTo>
                <a:cubicBezTo>
                  <a:pt x="2324" y="15625"/>
                  <a:pt x="2347" y="15594"/>
                  <a:pt x="2381" y="15577"/>
                </a:cubicBezTo>
                <a:cubicBezTo>
                  <a:pt x="2422" y="15557"/>
                  <a:pt x="2439" y="15556"/>
                  <a:pt x="2461" y="15538"/>
                </a:cubicBezTo>
                <a:cubicBezTo>
                  <a:pt x="2485" y="15519"/>
                  <a:pt x="2531" y="15470"/>
                  <a:pt x="2540" y="15458"/>
                </a:cubicBezTo>
                <a:cubicBezTo>
                  <a:pt x="2573" y="15413"/>
                  <a:pt x="2562" y="15442"/>
                  <a:pt x="2600" y="15419"/>
                </a:cubicBezTo>
                <a:cubicBezTo>
                  <a:pt x="2612" y="15412"/>
                  <a:pt x="2650" y="15373"/>
                  <a:pt x="2679" y="15359"/>
                </a:cubicBezTo>
                <a:cubicBezTo>
                  <a:pt x="2733" y="15333"/>
                  <a:pt x="2798" y="15308"/>
                  <a:pt x="2858" y="15300"/>
                </a:cubicBezTo>
                <a:cubicBezTo>
                  <a:pt x="2897" y="15295"/>
                  <a:pt x="2903" y="15294"/>
                  <a:pt x="2937" y="15280"/>
                </a:cubicBezTo>
                <a:cubicBezTo>
                  <a:pt x="2980" y="15262"/>
                  <a:pt x="2968" y="15264"/>
                  <a:pt x="2977" y="15220"/>
                </a:cubicBezTo>
                <a:cubicBezTo>
                  <a:pt x="2997" y="15122"/>
                  <a:pt x="2977" y="15004"/>
                  <a:pt x="2977" y="14903"/>
                </a:cubicBezTo>
                <a:cubicBezTo>
                  <a:pt x="3034" y="14919"/>
                  <a:pt x="3063" y="14931"/>
                  <a:pt x="3115" y="14962"/>
                </a:cubicBezTo>
                <a:cubicBezTo>
                  <a:pt x="3157" y="14987"/>
                  <a:pt x="3204" y="15015"/>
                  <a:pt x="3254" y="15022"/>
                </a:cubicBezTo>
                <a:cubicBezTo>
                  <a:pt x="3304" y="15029"/>
                  <a:pt x="3362" y="15022"/>
                  <a:pt x="3413" y="15022"/>
                </a:cubicBezTo>
                <a:cubicBezTo>
                  <a:pt x="3392" y="14985"/>
                  <a:pt x="3378" y="14938"/>
                  <a:pt x="3354" y="14903"/>
                </a:cubicBezTo>
                <a:cubicBezTo>
                  <a:pt x="3334" y="14874"/>
                  <a:pt x="3305" y="14850"/>
                  <a:pt x="3274" y="14843"/>
                </a:cubicBezTo>
                <a:cubicBezTo>
                  <a:pt x="3213" y="14830"/>
                  <a:pt x="3125" y="14840"/>
                  <a:pt x="3076" y="14863"/>
                </a:cubicBezTo>
                <a:cubicBezTo>
                  <a:pt x="3002" y="14897"/>
                  <a:pt x="2935" y="14966"/>
                  <a:pt x="2877" y="15022"/>
                </a:cubicBezTo>
                <a:cubicBezTo>
                  <a:pt x="2825" y="15072"/>
                  <a:pt x="2828" y="15068"/>
                  <a:pt x="2818" y="15141"/>
                </a:cubicBezTo>
                <a:cubicBezTo>
                  <a:pt x="2818" y="15161"/>
                  <a:pt x="2818" y="15167"/>
                  <a:pt x="2818" y="15180"/>
                </a:cubicBezTo>
                <a:cubicBezTo>
                  <a:pt x="2896" y="15180"/>
                  <a:pt x="2963" y="15178"/>
                  <a:pt x="3036" y="15200"/>
                </a:cubicBezTo>
                <a:cubicBezTo>
                  <a:pt x="3069" y="15216"/>
                  <a:pt x="3074" y="15223"/>
                  <a:pt x="3096" y="15220"/>
                </a:cubicBezTo>
                <a:cubicBezTo>
                  <a:pt x="3122" y="15141"/>
                  <a:pt x="3132" y="15112"/>
                  <a:pt x="3135" y="15022"/>
                </a:cubicBezTo>
                <a:cubicBezTo>
                  <a:pt x="3135" y="15011"/>
                  <a:pt x="3150" y="14885"/>
                  <a:pt x="3115" y="14883"/>
                </a:cubicBezTo>
                <a:cubicBezTo>
                  <a:pt x="3084" y="14883"/>
                  <a:pt x="3069" y="14892"/>
                  <a:pt x="3056" y="14922"/>
                </a:cubicBezTo>
              </a:path>
            </a:pathLst>
          </a:custGeom>
          <a:noFill/>
          <a:ln cap="sq" w="228600">
            <a:solidFill>
              <a:srgbClr val="ff99cc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8040" y="5229360"/>
            <a:ext cx="592200" cy="714240"/>
          </a:xfrm>
          <a:custGeom>
            <a:avLst/>
            <a:gdLst/>
            <a:ahLst/>
            <a:rect l="l" t="t" r="r" b="b"/>
            <a:pathLst>
              <a:path w="1648" h="1985">
                <a:moveTo>
                  <a:pt x="3036" y="15042"/>
                </a:moveTo>
                <a:cubicBezTo>
                  <a:pt x="3014" y="15009"/>
                  <a:pt x="3050" y="14997"/>
                  <a:pt x="2996" y="14982"/>
                </a:cubicBezTo>
                <a:cubicBezTo>
                  <a:pt x="2959" y="14972"/>
                  <a:pt x="2925" y="14984"/>
                  <a:pt x="2897" y="15002"/>
                </a:cubicBezTo>
                <a:cubicBezTo>
                  <a:pt x="2847" y="15035"/>
                  <a:pt x="2763" y="15092"/>
                  <a:pt x="2719" y="15141"/>
                </a:cubicBezTo>
                <a:cubicBezTo>
                  <a:pt x="2688" y="15176"/>
                  <a:pt x="2670" y="15214"/>
                  <a:pt x="2659" y="15260"/>
                </a:cubicBezTo>
                <a:cubicBezTo>
                  <a:pt x="2659" y="15280"/>
                  <a:pt x="2659" y="15287"/>
                  <a:pt x="2659" y="15300"/>
                </a:cubicBezTo>
                <a:cubicBezTo>
                  <a:pt x="2725" y="15269"/>
                  <a:pt x="2769" y="15258"/>
                  <a:pt x="2838" y="15200"/>
                </a:cubicBezTo>
                <a:cubicBezTo>
                  <a:pt x="2906" y="15143"/>
                  <a:pt x="2978" y="15054"/>
                  <a:pt x="3016" y="14982"/>
                </a:cubicBezTo>
                <a:cubicBezTo>
                  <a:pt x="3052" y="14915"/>
                  <a:pt x="3041" y="14874"/>
                  <a:pt x="3056" y="14803"/>
                </a:cubicBezTo>
                <a:cubicBezTo>
                  <a:pt x="3070" y="14734"/>
                  <a:pt x="3088" y="14724"/>
                  <a:pt x="3056" y="14665"/>
                </a:cubicBezTo>
                <a:cubicBezTo>
                  <a:pt x="3049" y="14665"/>
                  <a:pt x="3043" y="14665"/>
                  <a:pt x="3036" y="14665"/>
                </a:cubicBezTo>
                <a:cubicBezTo>
                  <a:pt x="2957" y="14824"/>
                  <a:pt x="2866" y="15002"/>
                  <a:pt x="2838" y="15180"/>
                </a:cubicBezTo>
                <a:cubicBezTo>
                  <a:pt x="2826" y="15256"/>
                  <a:pt x="2838" y="15341"/>
                  <a:pt x="2838" y="15419"/>
                </a:cubicBezTo>
                <a:cubicBezTo>
                  <a:pt x="2895" y="15380"/>
                  <a:pt x="2948" y="15353"/>
                  <a:pt x="2996" y="15280"/>
                </a:cubicBezTo>
                <a:cubicBezTo>
                  <a:pt x="3063" y="15180"/>
                  <a:pt x="3093" y="15080"/>
                  <a:pt x="3096" y="14962"/>
                </a:cubicBezTo>
                <a:cubicBezTo>
                  <a:pt x="3100" y="14817"/>
                  <a:pt x="3096" y="14671"/>
                  <a:pt x="3096" y="14526"/>
                </a:cubicBezTo>
                <a:cubicBezTo>
                  <a:pt x="3006" y="14553"/>
                  <a:pt x="3071" y="14469"/>
                  <a:pt x="2957" y="14605"/>
                </a:cubicBezTo>
                <a:cubicBezTo>
                  <a:pt x="2814" y="14776"/>
                  <a:pt x="2734" y="15009"/>
                  <a:pt x="2619" y="15200"/>
                </a:cubicBezTo>
                <a:cubicBezTo>
                  <a:pt x="2562" y="15294"/>
                  <a:pt x="2475" y="15431"/>
                  <a:pt x="2461" y="15518"/>
                </a:cubicBezTo>
                <a:cubicBezTo>
                  <a:pt x="2457" y="15544"/>
                  <a:pt x="2476" y="15551"/>
                  <a:pt x="2480" y="15577"/>
                </a:cubicBezTo>
                <a:cubicBezTo>
                  <a:pt x="2533" y="15501"/>
                  <a:pt x="2537" y="15550"/>
                  <a:pt x="2540" y="15399"/>
                </a:cubicBezTo>
                <a:cubicBezTo>
                  <a:pt x="2542" y="15313"/>
                  <a:pt x="2559" y="15194"/>
                  <a:pt x="2520" y="15121"/>
                </a:cubicBezTo>
                <a:cubicBezTo>
                  <a:pt x="2513" y="15121"/>
                  <a:pt x="2507" y="15121"/>
                  <a:pt x="2500" y="15121"/>
                </a:cubicBezTo>
                <a:cubicBezTo>
                  <a:pt x="2432" y="15216"/>
                  <a:pt x="2364" y="15315"/>
                  <a:pt x="2322" y="15438"/>
                </a:cubicBezTo>
                <a:cubicBezTo>
                  <a:pt x="2298" y="15510"/>
                  <a:pt x="2285" y="15582"/>
                  <a:pt x="2282" y="15657"/>
                </a:cubicBezTo>
                <a:cubicBezTo>
                  <a:pt x="2282" y="15677"/>
                  <a:pt x="2282" y="15683"/>
                  <a:pt x="2282" y="15696"/>
                </a:cubicBezTo>
                <a:cubicBezTo>
                  <a:pt x="2381" y="15585"/>
                  <a:pt x="2416" y="15455"/>
                  <a:pt x="2480" y="15319"/>
                </a:cubicBezTo>
                <a:cubicBezTo>
                  <a:pt x="2536" y="15199"/>
                  <a:pt x="2605" y="15076"/>
                  <a:pt x="2699" y="14982"/>
                </a:cubicBezTo>
                <a:cubicBezTo>
                  <a:pt x="2723" y="14958"/>
                  <a:pt x="2721" y="14979"/>
                  <a:pt x="2758" y="14962"/>
                </a:cubicBezTo>
                <a:cubicBezTo>
                  <a:pt x="2791" y="15068"/>
                  <a:pt x="2828" y="15173"/>
                  <a:pt x="2858" y="15280"/>
                </a:cubicBezTo>
                <a:cubicBezTo>
                  <a:pt x="2878" y="15352"/>
                  <a:pt x="2918" y="15432"/>
                  <a:pt x="2937" y="15498"/>
                </a:cubicBezTo>
                <a:cubicBezTo>
                  <a:pt x="2937" y="15518"/>
                  <a:pt x="2937" y="15525"/>
                  <a:pt x="2937" y="15538"/>
                </a:cubicBezTo>
                <a:cubicBezTo>
                  <a:pt x="2892" y="15513"/>
                  <a:pt x="2880" y="15525"/>
                  <a:pt x="2838" y="15478"/>
                </a:cubicBezTo>
                <a:cubicBezTo>
                  <a:pt x="2768" y="15400"/>
                  <a:pt x="2727" y="15300"/>
                  <a:pt x="2659" y="15220"/>
                </a:cubicBezTo>
                <a:cubicBezTo>
                  <a:pt x="2598" y="15149"/>
                  <a:pt x="2590" y="15164"/>
                  <a:pt x="2520" y="15141"/>
                </a:cubicBezTo>
                <a:cubicBezTo>
                  <a:pt x="2513" y="15141"/>
                  <a:pt x="2507" y="15141"/>
                  <a:pt x="2500" y="15141"/>
                </a:cubicBezTo>
                <a:cubicBezTo>
                  <a:pt x="2516" y="15187"/>
                  <a:pt x="2543" y="15237"/>
                  <a:pt x="2560" y="15280"/>
                </a:cubicBezTo>
                <a:cubicBezTo>
                  <a:pt x="2580" y="15329"/>
                  <a:pt x="2565" y="15338"/>
                  <a:pt x="2619" y="15359"/>
                </a:cubicBezTo>
                <a:cubicBezTo>
                  <a:pt x="2698" y="15391"/>
                  <a:pt x="2731" y="15391"/>
                  <a:pt x="2798" y="15458"/>
                </a:cubicBezTo>
                <a:cubicBezTo>
                  <a:pt x="2859" y="15519"/>
                  <a:pt x="2874" y="15571"/>
                  <a:pt x="2877" y="15657"/>
                </a:cubicBezTo>
                <a:cubicBezTo>
                  <a:pt x="2878" y="15685"/>
                  <a:pt x="2863" y="15716"/>
                  <a:pt x="2897" y="15716"/>
                </a:cubicBezTo>
                <a:cubicBezTo>
                  <a:pt x="2912" y="15716"/>
                  <a:pt x="2958" y="15682"/>
                  <a:pt x="2977" y="15677"/>
                </a:cubicBezTo>
                <a:cubicBezTo>
                  <a:pt x="3007" y="15669"/>
                  <a:pt x="3050" y="15674"/>
                  <a:pt x="3076" y="15657"/>
                </a:cubicBezTo>
                <a:cubicBezTo>
                  <a:pt x="3076" y="15650"/>
                  <a:pt x="3076" y="15644"/>
                  <a:pt x="3076" y="15637"/>
                </a:cubicBezTo>
                <a:cubicBezTo>
                  <a:pt x="3070" y="15584"/>
                  <a:pt x="3090" y="15624"/>
                  <a:pt x="3056" y="15577"/>
                </a:cubicBezTo>
                <a:cubicBezTo>
                  <a:pt x="3054" y="15587"/>
                  <a:pt x="3016" y="15614"/>
                  <a:pt x="3036" y="15657"/>
                </a:cubicBezTo>
                <a:cubicBezTo>
                  <a:pt x="3055" y="15698"/>
                  <a:pt x="3083" y="15709"/>
                  <a:pt x="3115" y="15716"/>
                </a:cubicBezTo>
                <a:cubicBezTo>
                  <a:pt x="3149" y="15723"/>
                  <a:pt x="3187" y="15729"/>
                  <a:pt x="3215" y="15736"/>
                </a:cubicBezTo>
                <a:cubicBezTo>
                  <a:pt x="3205" y="15774"/>
                  <a:pt x="3225" y="15782"/>
                  <a:pt x="3195" y="15815"/>
                </a:cubicBezTo>
                <a:cubicBezTo>
                  <a:pt x="3176" y="15836"/>
                  <a:pt x="3111" y="15846"/>
                  <a:pt x="3096" y="15875"/>
                </a:cubicBezTo>
                <a:cubicBezTo>
                  <a:pt x="3066" y="15933"/>
                  <a:pt x="3125" y="16017"/>
                  <a:pt x="3076" y="16054"/>
                </a:cubicBezTo>
                <a:cubicBezTo>
                  <a:pt x="3045" y="16078"/>
                  <a:pt x="3034" y="16070"/>
                  <a:pt x="2996" y="16073"/>
                </a:cubicBezTo>
                <a:cubicBezTo>
                  <a:pt x="2875" y="16082"/>
                  <a:pt x="2641" y="16106"/>
                  <a:pt x="2540" y="16054"/>
                </a:cubicBezTo>
                <a:cubicBezTo>
                  <a:pt x="2514" y="16041"/>
                  <a:pt x="2482" y="16012"/>
                  <a:pt x="2461" y="15994"/>
                </a:cubicBezTo>
                <a:cubicBezTo>
                  <a:pt x="2443" y="15978"/>
                  <a:pt x="2416" y="15925"/>
                  <a:pt x="2401" y="15915"/>
                </a:cubicBezTo>
                <a:cubicBezTo>
                  <a:pt x="2394" y="15915"/>
                  <a:pt x="2388" y="15915"/>
                  <a:pt x="2381" y="15915"/>
                </a:cubicBezTo>
                <a:cubicBezTo>
                  <a:pt x="2372" y="15942"/>
                  <a:pt x="2369" y="15967"/>
                  <a:pt x="2361" y="15994"/>
                </a:cubicBezTo>
                <a:cubicBezTo>
                  <a:pt x="2352" y="16023"/>
                  <a:pt x="2347" y="16041"/>
                  <a:pt x="2342" y="16073"/>
                </a:cubicBezTo>
                <a:cubicBezTo>
                  <a:pt x="2337" y="16109"/>
                  <a:pt x="2338" y="16121"/>
                  <a:pt x="2361" y="16133"/>
                </a:cubicBezTo>
                <a:cubicBezTo>
                  <a:pt x="2398" y="16151"/>
                  <a:pt x="2501" y="16150"/>
                  <a:pt x="2540" y="16153"/>
                </a:cubicBezTo>
                <a:cubicBezTo>
                  <a:pt x="2621" y="16160"/>
                  <a:pt x="2729" y="16139"/>
                  <a:pt x="2778" y="16133"/>
                </a:cubicBezTo>
                <a:cubicBezTo>
                  <a:pt x="2816" y="16128"/>
                  <a:pt x="2826" y="16124"/>
                  <a:pt x="2858" y="16113"/>
                </a:cubicBezTo>
                <a:cubicBezTo>
                  <a:pt x="2893" y="16101"/>
                  <a:pt x="2927" y="16087"/>
                  <a:pt x="2957" y="16073"/>
                </a:cubicBezTo>
                <a:cubicBezTo>
                  <a:pt x="2989" y="16058"/>
                  <a:pt x="3023" y="16032"/>
                  <a:pt x="3056" y="16014"/>
                </a:cubicBezTo>
                <a:cubicBezTo>
                  <a:pt x="3087" y="15997"/>
                  <a:pt x="3122" y="15976"/>
                  <a:pt x="3155" y="15954"/>
                </a:cubicBezTo>
                <a:cubicBezTo>
                  <a:pt x="3184" y="15935"/>
                  <a:pt x="3222" y="15909"/>
                  <a:pt x="3235" y="15895"/>
                </a:cubicBezTo>
                <a:cubicBezTo>
                  <a:pt x="3245" y="15884"/>
                  <a:pt x="3293" y="15837"/>
                  <a:pt x="3294" y="15835"/>
                </a:cubicBezTo>
                <a:cubicBezTo>
                  <a:pt x="3314" y="15799"/>
                  <a:pt x="3321" y="15754"/>
                  <a:pt x="3334" y="15716"/>
                </a:cubicBezTo>
                <a:cubicBezTo>
                  <a:pt x="3299" y="15700"/>
                  <a:pt x="3278" y="15676"/>
                  <a:pt x="3235" y="15677"/>
                </a:cubicBezTo>
                <a:cubicBezTo>
                  <a:pt x="3175" y="15679"/>
                  <a:pt x="3111" y="15711"/>
                  <a:pt x="3056" y="15736"/>
                </a:cubicBezTo>
                <a:cubicBezTo>
                  <a:pt x="2989" y="15767"/>
                  <a:pt x="2946" y="15787"/>
                  <a:pt x="2877" y="15796"/>
                </a:cubicBezTo>
                <a:cubicBezTo>
                  <a:pt x="2799" y="15806"/>
                  <a:pt x="2737" y="15792"/>
                  <a:pt x="2659" y="15815"/>
                </a:cubicBezTo>
                <a:cubicBezTo>
                  <a:pt x="2596" y="15834"/>
                  <a:pt x="2545" y="15835"/>
                  <a:pt x="2480" y="15835"/>
                </a:cubicBezTo>
                <a:cubicBezTo>
                  <a:pt x="2387" y="15835"/>
                  <a:pt x="2359" y="15840"/>
                  <a:pt x="2282" y="15875"/>
                </a:cubicBezTo>
                <a:cubicBezTo>
                  <a:pt x="2221" y="15903"/>
                  <a:pt x="2201" y="15884"/>
                  <a:pt x="2143" y="15895"/>
                </a:cubicBezTo>
                <a:cubicBezTo>
                  <a:pt x="2105" y="15902"/>
                  <a:pt x="2061" y="15906"/>
                  <a:pt x="2024" y="15915"/>
                </a:cubicBezTo>
                <a:cubicBezTo>
                  <a:pt x="1975" y="15927"/>
                  <a:pt x="1961" y="15923"/>
                  <a:pt x="1945" y="15974"/>
                </a:cubicBezTo>
                <a:cubicBezTo>
                  <a:pt x="1932" y="16018"/>
                  <a:pt x="1937" y="16073"/>
                  <a:pt x="1925" y="16113"/>
                </a:cubicBezTo>
                <a:cubicBezTo>
                  <a:pt x="1909" y="16168"/>
                  <a:pt x="1903" y="16202"/>
                  <a:pt x="1865" y="16252"/>
                </a:cubicBezTo>
                <a:cubicBezTo>
                  <a:pt x="1846" y="16277"/>
                  <a:pt x="1818" y="16299"/>
                  <a:pt x="1806" y="16312"/>
                </a:cubicBezTo>
                <a:cubicBezTo>
                  <a:pt x="1783" y="16336"/>
                  <a:pt x="1759" y="16358"/>
                  <a:pt x="1746" y="16371"/>
                </a:cubicBezTo>
                <a:cubicBezTo>
                  <a:pt x="1713" y="16404"/>
                  <a:pt x="1708" y="16404"/>
                  <a:pt x="1687" y="16450"/>
                </a:cubicBezTo>
                <a:cubicBezTo>
                  <a:pt x="1696" y="16355"/>
                  <a:pt x="1710" y="16266"/>
                  <a:pt x="1726" y="16173"/>
                </a:cubicBezTo>
                <a:cubicBezTo>
                  <a:pt x="1742" y="16083"/>
                  <a:pt x="1756" y="15994"/>
                  <a:pt x="1726" y="15935"/>
                </a:cubicBezTo>
                <a:cubicBezTo>
                  <a:pt x="1708" y="15900"/>
                  <a:pt x="1703" y="15870"/>
                  <a:pt x="1687" y="15835"/>
                </a:cubicBezTo>
                <a:cubicBezTo>
                  <a:pt x="1709" y="15879"/>
                  <a:pt x="1719" y="15873"/>
                  <a:pt x="1746" y="15915"/>
                </a:cubicBezTo>
                <a:cubicBezTo>
                  <a:pt x="1787" y="15980"/>
                  <a:pt x="1786" y="15999"/>
                  <a:pt x="1806" y="16054"/>
                </a:cubicBezTo>
                <a:cubicBezTo>
                  <a:pt x="1818" y="16087"/>
                  <a:pt x="1824" y="16093"/>
                  <a:pt x="1826" y="16133"/>
                </a:cubicBezTo>
                <a:cubicBezTo>
                  <a:pt x="1831" y="16258"/>
                  <a:pt x="1826" y="16385"/>
                  <a:pt x="1826" y="16510"/>
                </a:cubicBezTo>
                <a:cubicBezTo>
                  <a:pt x="1860" y="16503"/>
                  <a:pt x="1892" y="16500"/>
                  <a:pt x="1925" y="16490"/>
                </a:cubicBezTo>
                <a:cubicBezTo>
                  <a:pt x="1944" y="16484"/>
                  <a:pt x="2008" y="16483"/>
                  <a:pt x="2024" y="16470"/>
                </a:cubicBezTo>
                <a:cubicBezTo>
                  <a:pt x="2036" y="16460"/>
                  <a:pt x="2066" y="16409"/>
                  <a:pt x="2084" y="16391"/>
                </a:cubicBezTo>
                <a:cubicBezTo>
                  <a:pt x="2110" y="16365"/>
                  <a:pt x="2130" y="16349"/>
                  <a:pt x="2143" y="16331"/>
                </a:cubicBezTo>
                <a:cubicBezTo>
                  <a:pt x="2166" y="16299"/>
                  <a:pt x="2143" y="16305"/>
                  <a:pt x="2183" y="16272"/>
                </a:cubicBezTo>
                <a:cubicBezTo>
                  <a:pt x="2196" y="16261"/>
                  <a:pt x="2231" y="16236"/>
                  <a:pt x="2242" y="16212"/>
                </a:cubicBezTo>
                <a:cubicBezTo>
                  <a:pt x="2262" y="16192"/>
                  <a:pt x="2269" y="16186"/>
                  <a:pt x="2242" y="16173"/>
                </a:cubicBezTo>
                <a:cubicBezTo>
                  <a:pt x="2206" y="16195"/>
                  <a:pt x="2220" y="16178"/>
                  <a:pt x="2183" y="16212"/>
                </a:cubicBezTo>
                <a:cubicBezTo>
                  <a:pt x="2169" y="16225"/>
                  <a:pt x="2147" y="16248"/>
                  <a:pt x="2123" y="16272"/>
                </a:cubicBezTo>
                <a:cubicBezTo>
                  <a:pt x="2091" y="16305"/>
                  <a:pt x="2098" y="16315"/>
                  <a:pt x="2064" y="16351"/>
                </a:cubicBezTo>
                <a:cubicBezTo>
                  <a:pt x="2054" y="16361"/>
                  <a:pt x="2031" y="16400"/>
                  <a:pt x="2004" y="16411"/>
                </a:cubicBezTo>
                <a:cubicBezTo>
                  <a:pt x="1944" y="16434"/>
                  <a:pt x="1963" y="16386"/>
                  <a:pt x="1945" y="16371"/>
                </a:cubicBezTo>
              </a:path>
            </a:pathLst>
          </a:custGeom>
          <a:noFill/>
          <a:ln cap="sq" w="228600">
            <a:solidFill>
              <a:srgbClr val="ff99cc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86040" y="5200560"/>
            <a:ext cx="1114200" cy="965160"/>
          </a:xfrm>
          <a:custGeom>
            <a:avLst/>
            <a:gdLst/>
            <a:ahLst/>
            <a:rect l="l" t="t" r="r" b="b"/>
            <a:pathLst>
              <a:path w="3096" h="2680">
                <a:moveTo>
                  <a:pt x="7501" y="15379"/>
                </a:moveTo>
                <a:cubicBezTo>
                  <a:pt x="7461" y="15379"/>
                  <a:pt x="7436" y="15366"/>
                  <a:pt x="7402" y="15379"/>
                </a:cubicBezTo>
                <a:cubicBezTo>
                  <a:pt x="7349" y="15398"/>
                  <a:pt x="7332" y="15416"/>
                  <a:pt x="7283" y="15458"/>
                </a:cubicBezTo>
                <a:cubicBezTo>
                  <a:pt x="7185" y="15543"/>
                  <a:pt x="7097" y="15644"/>
                  <a:pt x="7005" y="15736"/>
                </a:cubicBezTo>
                <a:cubicBezTo>
                  <a:pt x="7083" y="15698"/>
                  <a:pt x="7145" y="15657"/>
                  <a:pt x="7223" y="15617"/>
                </a:cubicBezTo>
                <a:cubicBezTo>
                  <a:pt x="7305" y="15575"/>
                  <a:pt x="7446" y="15512"/>
                  <a:pt x="7501" y="15438"/>
                </a:cubicBezTo>
                <a:cubicBezTo>
                  <a:pt x="7514" y="15420"/>
                  <a:pt x="7527" y="15366"/>
                  <a:pt x="7521" y="15339"/>
                </a:cubicBezTo>
                <a:cubicBezTo>
                  <a:pt x="7514" y="15310"/>
                  <a:pt x="7450" y="15232"/>
                  <a:pt x="7422" y="15220"/>
                </a:cubicBezTo>
                <a:cubicBezTo>
                  <a:pt x="7283" y="15161"/>
                  <a:pt x="7169" y="15267"/>
                  <a:pt x="7084" y="15339"/>
                </a:cubicBezTo>
                <a:cubicBezTo>
                  <a:pt x="7012" y="15400"/>
                  <a:pt x="6907" y="15466"/>
                  <a:pt x="6846" y="15538"/>
                </a:cubicBezTo>
                <a:cubicBezTo>
                  <a:pt x="6794" y="15598"/>
                  <a:pt x="6751" y="15749"/>
                  <a:pt x="6787" y="15835"/>
                </a:cubicBezTo>
                <a:cubicBezTo>
                  <a:pt x="6810" y="15889"/>
                  <a:pt x="6925" y="15968"/>
                  <a:pt x="6985" y="15954"/>
                </a:cubicBezTo>
                <a:cubicBezTo>
                  <a:pt x="7108" y="15924"/>
                  <a:pt x="6985" y="15997"/>
                  <a:pt x="7144" y="15855"/>
                </a:cubicBezTo>
                <a:cubicBezTo>
                  <a:pt x="7248" y="15762"/>
                  <a:pt x="7350" y="15626"/>
                  <a:pt x="7422" y="15518"/>
                </a:cubicBezTo>
                <a:cubicBezTo>
                  <a:pt x="7422" y="15511"/>
                  <a:pt x="7422" y="15505"/>
                  <a:pt x="7422" y="15498"/>
                </a:cubicBezTo>
                <a:cubicBezTo>
                  <a:pt x="7389" y="15471"/>
                  <a:pt x="7340" y="15432"/>
                  <a:pt x="7302" y="15399"/>
                </a:cubicBezTo>
                <a:cubicBezTo>
                  <a:pt x="7228" y="15335"/>
                  <a:pt x="7150" y="15274"/>
                  <a:pt x="7084" y="15200"/>
                </a:cubicBezTo>
                <a:cubicBezTo>
                  <a:pt x="7009" y="15116"/>
                  <a:pt x="7047" y="15139"/>
                  <a:pt x="6945" y="15121"/>
                </a:cubicBezTo>
                <a:cubicBezTo>
                  <a:pt x="6817" y="15098"/>
                  <a:pt x="6709" y="15235"/>
                  <a:pt x="6628" y="15319"/>
                </a:cubicBezTo>
                <a:cubicBezTo>
                  <a:pt x="6441" y="15512"/>
                  <a:pt x="6271" y="15705"/>
                  <a:pt x="6171" y="15954"/>
                </a:cubicBezTo>
                <a:cubicBezTo>
                  <a:pt x="6126" y="16066"/>
                  <a:pt x="6175" y="15985"/>
                  <a:pt x="6171" y="16014"/>
                </a:cubicBezTo>
                <a:cubicBezTo>
                  <a:pt x="6211" y="15990"/>
                  <a:pt x="6251" y="15977"/>
                  <a:pt x="6271" y="15954"/>
                </a:cubicBezTo>
                <a:cubicBezTo>
                  <a:pt x="6302" y="15919"/>
                  <a:pt x="6303" y="15918"/>
                  <a:pt x="6310" y="15875"/>
                </a:cubicBezTo>
                <a:cubicBezTo>
                  <a:pt x="6316" y="15842"/>
                  <a:pt x="6268" y="15820"/>
                  <a:pt x="6290" y="15796"/>
                </a:cubicBezTo>
                <a:cubicBezTo>
                  <a:pt x="6337" y="15746"/>
                  <a:pt x="6427" y="15744"/>
                  <a:pt x="6489" y="15716"/>
                </a:cubicBezTo>
                <a:cubicBezTo>
                  <a:pt x="6517" y="15704"/>
                  <a:pt x="6554" y="15666"/>
                  <a:pt x="6568" y="15657"/>
                </a:cubicBezTo>
                <a:cubicBezTo>
                  <a:pt x="6613" y="15630"/>
                  <a:pt x="6630" y="15616"/>
                  <a:pt x="6668" y="15577"/>
                </a:cubicBezTo>
                <a:cubicBezTo>
                  <a:pt x="6681" y="15563"/>
                  <a:pt x="6708" y="15534"/>
                  <a:pt x="6727" y="15518"/>
                </a:cubicBezTo>
                <a:cubicBezTo>
                  <a:pt x="6734" y="15512"/>
                  <a:pt x="6781" y="15487"/>
                  <a:pt x="6787" y="15478"/>
                </a:cubicBezTo>
                <a:cubicBezTo>
                  <a:pt x="6793" y="15458"/>
                  <a:pt x="6800" y="15439"/>
                  <a:pt x="6806" y="15419"/>
                </a:cubicBezTo>
                <a:cubicBezTo>
                  <a:pt x="6774" y="15413"/>
                  <a:pt x="6760" y="15402"/>
                  <a:pt x="6727" y="15399"/>
                </a:cubicBezTo>
                <a:cubicBezTo>
                  <a:pt x="6613" y="15390"/>
                  <a:pt x="6547" y="15416"/>
                  <a:pt x="6449" y="15458"/>
                </a:cubicBezTo>
                <a:cubicBezTo>
                  <a:pt x="6414" y="15473"/>
                  <a:pt x="6376" y="15473"/>
                  <a:pt x="6350" y="15498"/>
                </a:cubicBezTo>
                <a:cubicBezTo>
                  <a:pt x="6330" y="15517"/>
                  <a:pt x="6306" y="15587"/>
                  <a:pt x="6290" y="15617"/>
                </a:cubicBezTo>
                <a:cubicBezTo>
                  <a:pt x="6268" y="15659"/>
                  <a:pt x="6252" y="15720"/>
                  <a:pt x="6231" y="15756"/>
                </a:cubicBezTo>
                <a:cubicBezTo>
                  <a:pt x="6215" y="15783"/>
                  <a:pt x="6186" y="15811"/>
                  <a:pt x="6171" y="15835"/>
                </a:cubicBezTo>
                <a:cubicBezTo>
                  <a:pt x="6127" y="15906"/>
                  <a:pt x="6089" y="15954"/>
                  <a:pt x="6032" y="16014"/>
                </a:cubicBezTo>
                <a:cubicBezTo>
                  <a:pt x="6011" y="16037"/>
                  <a:pt x="6008" y="16054"/>
                  <a:pt x="5973" y="16073"/>
                </a:cubicBezTo>
                <a:cubicBezTo>
                  <a:pt x="5912" y="16105"/>
                  <a:pt x="5880" y="16095"/>
                  <a:pt x="5814" y="16153"/>
                </a:cubicBezTo>
                <a:cubicBezTo>
                  <a:pt x="5772" y="16189"/>
                  <a:pt x="5719" y="16233"/>
                  <a:pt x="5675" y="16272"/>
                </a:cubicBezTo>
                <a:cubicBezTo>
                  <a:pt x="5661" y="16284"/>
                  <a:pt x="5628" y="16320"/>
                  <a:pt x="5616" y="16331"/>
                </a:cubicBezTo>
                <a:cubicBezTo>
                  <a:pt x="5616" y="16296"/>
                  <a:pt x="5616" y="16347"/>
                  <a:pt x="5616" y="16312"/>
                </a:cubicBezTo>
                <a:cubicBezTo>
                  <a:pt x="5616" y="16276"/>
                  <a:pt x="5637" y="16278"/>
                  <a:pt x="5616" y="16232"/>
                </a:cubicBezTo>
                <a:cubicBezTo>
                  <a:pt x="5614" y="16228"/>
                  <a:pt x="5574" y="16166"/>
                  <a:pt x="5556" y="16153"/>
                </a:cubicBezTo>
                <a:cubicBezTo>
                  <a:pt x="5536" y="16139"/>
                  <a:pt x="5459" y="16098"/>
                  <a:pt x="5437" y="16093"/>
                </a:cubicBezTo>
                <a:cubicBezTo>
                  <a:pt x="5398" y="16084"/>
                  <a:pt x="5302" y="16083"/>
                  <a:pt x="5278" y="16113"/>
                </a:cubicBezTo>
                <a:cubicBezTo>
                  <a:pt x="5253" y="16144"/>
                  <a:pt x="5219" y="16322"/>
                  <a:pt x="5239" y="16371"/>
                </a:cubicBezTo>
                <a:cubicBezTo>
                  <a:pt x="5239" y="16371"/>
                  <a:pt x="5337" y="16410"/>
                  <a:pt x="5338" y="16411"/>
                </a:cubicBezTo>
                <a:cubicBezTo>
                  <a:pt x="5371" y="16464"/>
                  <a:pt x="5369" y="16445"/>
                  <a:pt x="5378" y="16510"/>
                </a:cubicBezTo>
                <a:cubicBezTo>
                  <a:pt x="5387" y="16574"/>
                  <a:pt x="5378" y="16643"/>
                  <a:pt x="5378" y="16708"/>
                </a:cubicBezTo>
                <a:cubicBezTo>
                  <a:pt x="5414" y="16705"/>
                  <a:pt x="5401" y="16714"/>
                  <a:pt x="5437" y="16708"/>
                </a:cubicBezTo>
                <a:cubicBezTo>
                  <a:pt x="5446" y="16707"/>
                  <a:pt x="5502" y="16697"/>
                  <a:pt x="5517" y="16689"/>
                </a:cubicBezTo>
                <a:cubicBezTo>
                  <a:pt x="5565" y="16664"/>
                  <a:pt x="5607" y="16616"/>
                  <a:pt x="5655" y="16589"/>
                </a:cubicBezTo>
                <a:cubicBezTo>
                  <a:pt x="5719" y="16553"/>
                  <a:pt x="5762" y="16526"/>
                  <a:pt x="5814" y="16470"/>
                </a:cubicBezTo>
                <a:cubicBezTo>
                  <a:pt x="5844" y="16437"/>
                  <a:pt x="5889" y="16368"/>
                  <a:pt x="5913" y="16351"/>
                </a:cubicBezTo>
                <a:cubicBezTo>
                  <a:pt x="5945" y="16328"/>
                  <a:pt x="5979" y="16328"/>
                  <a:pt x="6013" y="16312"/>
                </a:cubicBezTo>
                <a:cubicBezTo>
                  <a:pt x="6048" y="16296"/>
                  <a:pt x="6075" y="16284"/>
                  <a:pt x="6112" y="16272"/>
                </a:cubicBezTo>
                <a:cubicBezTo>
                  <a:pt x="6153" y="16259"/>
                  <a:pt x="6183" y="16254"/>
                  <a:pt x="6231" y="16252"/>
                </a:cubicBezTo>
                <a:cubicBezTo>
                  <a:pt x="6653" y="16235"/>
                  <a:pt x="7137" y="16318"/>
                  <a:pt x="7541" y="16232"/>
                </a:cubicBezTo>
                <a:cubicBezTo>
                  <a:pt x="7576" y="16225"/>
                  <a:pt x="7608" y="16201"/>
                  <a:pt x="7640" y="16192"/>
                </a:cubicBezTo>
                <a:cubicBezTo>
                  <a:pt x="7688" y="16178"/>
                  <a:pt x="7726" y="16177"/>
                  <a:pt x="7779" y="16173"/>
                </a:cubicBezTo>
                <a:cubicBezTo>
                  <a:pt x="7955" y="16159"/>
                  <a:pt x="8138" y="16173"/>
                  <a:pt x="8315" y="16173"/>
                </a:cubicBezTo>
                <a:cubicBezTo>
                  <a:pt x="8328" y="16065"/>
                  <a:pt x="8334" y="15935"/>
                  <a:pt x="8334" y="15815"/>
                </a:cubicBezTo>
                <a:cubicBezTo>
                  <a:pt x="8334" y="15728"/>
                  <a:pt x="8326" y="15642"/>
                  <a:pt x="8235" y="15597"/>
                </a:cubicBezTo>
                <a:cubicBezTo>
                  <a:pt x="8132" y="15545"/>
                  <a:pt x="7938" y="15619"/>
                  <a:pt x="7838" y="15637"/>
                </a:cubicBezTo>
                <a:cubicBezTo>
                  <a:pt x="7780" y="15648"/>
                  <a:pt x="7716" y="15639"/>
                  <a:pt x="7660" y="15657"/>
                </a:cubicBezTo>
                <a:cubicBezTo>
                  <a:pt x="7603" y="15676"/>
                  <a:pt x="7585" y="15677"/>
                  <a:pt x="7541" y="15716"/>
                </a:cubicBezTo>
                <a:cubicBezTo>
                  <a:pt x="7485" y="15766"/>
                  <a:pt x="7467" y="15820"/>
                  <a:pt x="7481" y="15895"/>
                </a:cubicBezTo>
                <a:cubicBezTo>
                  <a:pt x="7493" y="15959"/>
                  <a:pt x="7552" y="16028"/>
                  <a:pt x="7620" y="16054"/>
                </a:cubicBezTo>
                <a:cubicBezTo>
                  <a:pt x="7654" y="16067"/>
                  <a:pt x="7702" y="16048"/>
                  <a:pt x="7739" y="16054"/>
                </a:cubicBezTo>
                <a:cubicBezTo>
                  <a:pt x="7768" y="15921"/>
                  <a:pt x="7779" y="15775"/>
                  <a:pt x="7779" y="15617"/>
                </a:cubicBezTo>
                <a:cubicBezTo>
                  <a:pt x="7779" y="15474"/>
                  <a:pt x="7798" y="15389"/>
                  <a:pt x="7739" y="15280"/>
                </a:cubicBezTo>
                <a:cubicBezTo>
                  <a:pt x="7703" y="15213"/>
                  <a:pt x="7658" y="15230"/>
                  <a:pt x="7600" y="15200"/>
                </a:cubicBezTo>
                <a:cubicBezTo>
                  <a:pt x="7541" y="15170"/>
                  <a:pt x="7486" y="15135"/>
                  <a:pt x="7422" y="15101"/>
                </a:cubicBezTo>
                <a:cubicBezTo>
                  <a:pt x="7365" y="15071"/>
                  <a:pt x="7307" y="15022"/>
                  <a:pt x="7263" y="15002"/>
                </a:cubicBezTo>
                <a:cubicBezTo>
                  <a:pt x="7233" y="14989"/>
                  <a:pt x="7193" y="14996"/>
                  <a:pt x="7164" y="14982"/>
                </a:cubicBezTo>
                <a:cubicBezTo>
                  <a:pt x="7143" y="14972"/>
                  <a:pt x="7121" y="14947"/>
                  <a:pt x="7104" y="14942"/>
                </a:cubicBezTo>
                <a:cubicBezTo>
                  <a:pt x="7091" y="14942"/>
                  <a:pt x="7077" y="14942"/>
                  <a:pt x="7064" y="14942"/>
                </a:cubicBezTo>
                <a:cubicBezTo>
                  <a:pt x="7079" y="14831"/>
                  <a:pt x="7068" y="14843"/>
                  <a:pt x="7124" y="14724"/>
                </a:cubicBezTo>
                <a:cubicBezTo>
                  <a:pt x="7141" y="14687"/>
                  <a:pt x="7191" y="14627"/>
                  <a:pt x="7183" y="14585"/>
                </a:cubicBezTo>
                <a:cubicBezTo>
                  <a:pt x="7177" y="14554"/>
                  <a:pt x="7131" y="14596"/>
                  <a:pt x="7124" y="14565"/>
                </a:cubicBezTo>
                <a:cubicBezTo>
                  <a:pt x="7116" y="14527"/>
                  <a:pt x="7129" y="14484"/>
                  <a:pt x="7124" y="14446"/>
                </a:cubicBezTo>
                <a:cubicBezTo>
                  <a:pt x="7099" y="14478"/>
                  <a:pt x="7046" y="14511"/>
                  <a:pt x="7025" y="14565"/>
                </a:cubicBezTo>
                <a:cubicBezTo>
                  <a:pt x="7008" y="14608"/>
                  <a:pt x="7012" y="14646"/>
                  <a:pt x="6985" y="14684"/>
                </a:cubicBezTo>
                <a:cubicBezTo>
                  <a:pt x="6978" y="14693"/>
                  <a:pt x="6940" y="14728"/>
                  <a:pt x="6925" y="14744"/>
                </a:cubicBezTo>
                <a:cubicBezTo>
                  <a:pt x="6916" y="14753"/>
                  <a:pt x="6872" y="14796"/>
                  <a:pt x="6866" y="14803"/>
                </a:cubicBezTo>
                <a:cubicBezTo>
                  <a:pt x="6844" y="14830"/>
                  <a:pt x="6834" y="14852"/>
                  <a:pt x="6806" y="14883"/>
                </a:cubicBezTo>
                <a:cubicBezTo>
                  <a:pt x="6797" y="14893"/>
                  <a:pt x="6758" y="14954"/>
                  <a:pt x="6747" y="14962"/>
                </a:cubicBezTo>
                <a:cubicBezTo>
                  <a:pt x="6737" y="14969"/>
                  <a:pt x="6681" y="14996"/>
                  <a:pt x="6668" y="15002"/>
                </a:cubicBezTo>
                <a:cubicBezTo>
                  <a:pt x="6618" y="15023"/>
                  <a:pt x="6559" y="15019"/>
                  <a:pt x="6509" y="15042"/>
                </a:cubicBezTo>
                <a:cubicBezTo>
                  <a:pt x="6487" y="15052"/>
                  <a:pt x="6452" y="15074"/>
                  <a:pt x="6429" y="15081"/>
                </a:cubicBezTo>
                <a:cubicBezTo>
                  <a:pt x="6397" y="15091"/>
                  <a:pt x="6341" y="15116"/>
                  <a:pt x="6330" y="15121"/>
                </a:cubicBezTo>
                <a:cubicBezTo>
                  <a:pt x="6285" y="15142"/>
                  <a:pt x="6271" y="15154"/>
                  <a:pt x="6231" y="15180"/>
                </a:cubicBezTo>
                <a:cubicBezTo>
                  <a:pt x="6185" y="15210"/>
                  <a:pt x="6159" y="15250"/>
                  <a:pt x="6112" y="15280"/>
                </a:cubicBezTo>
                <a:cubicBezTo>
                  <a:pt x="6085" y="15297"/>
                  <a:pt x="5992" y="15322"/>
                  <a:pt x="5973" y="15339"/>
                </a:cubicBezTo>
                <a:cubicBezTo>
                  <a:pt x="5941" y="15368"/>
                  <a:pt x="5919" y="15396"/>
                  <a:pt x="5894" y="15419"/>
                </a:cubicBezTo>
                <a:cubicBezTo>
                  <a:pt x="5877" y="15435"/>
                  <a:pt x="5838" y="15471"/>
                  <a:pt x="5814" y="15498"/>
                </a:cubicBezTo>
                <a:cubicBezTo>
                  <a:pt x="5784" y="15531"/>
                  <a:pt x="5786" y="15543"/>
                  <a:pt x="5755" y="15577"/>
                </a:cubicBezTo>
                <a:cubicBezTo>
                  <a:pt x="5743" y="15590"/>
                  <a:pt x="5716" y="15611"/>
                  <a:pt x="5695" y="15637"/>
                </a:cubicBezTo>
                <a:cubicBezTo>
                  <a:pt x="5673" y="15664"/>
                  <a:pt x="5659" y="15686"/>
                  <a:pt x="5636" y="15716"/>
                </a:cubicBezTo>
                <a:cubicBezTo>
                  <a:pt x="5615" y="15744"/>
                  <a:pt x="5599" y="15766"/>
                  <a:pt x="5576" y="15796"/>
                </a:cubicBezTo>
                <a:cubicBezTo>
                  <a:pt x="5562" y="15815"/>
                  <a:pt x="5540" y="15846"/>
                  <a:pt x="5517" y="15875"/>
                </a:cubicBezTo>
                <a:cubicBezTo>
                  <a:pt x="5491" y="15907"/>
                  <a:pt x="5474" y="15934"/>
                  <a:pt x="5457" y="15954"/>
                </a:cubicBezTo>
                <a:cubicBezTo>
                  <a:pt x="5431" y="15985"/>
                  <a:pt x="5433" y="15968"/>
                  <a:pt x="5417" y="15994"/>
                </a:cubicBezTo>
                <a:cubicBezTo>
                  <a:pt x="5454" y="15989"/>
                  <a:pt x="5441" y="16003"/>
                  <a:pt x="5477" y="15994"/>
                </a:cubicBezTo>
                <a:cubicBezTo>
                  <a:pt x="5636" y="15953"/>
                  <a:pt x="5792" y="15895"/>
                  <a:pt x="5953" y="15855"/>
                </a:cubicBezTo>
                <a:cubicBezTo>
                  <a:pt x="6031" y="15835"/>
                  <a:pt x="6112" y="15806"/>
                  <a:pt x="6191" y="15796"/>
                </a:cubicBezTo>
                <a:cubicBezTo>
                  <a:pt x="6582" y="15744"/>
                  <a:pt x="7022" y="15805"/>
                  <a:pt x="7402" y="15835"/>
                </a:cubicBezTo>
                <a:cubicBezTo>
                  <a:pt x="7563" y="15847"/>
                  <a:pt x="7788" y="15787"/>
                  <a:pt x="7938" y="15855"/>
                </a:cubicBezTo>
                <a:cubicBezTo>
                  <a:pt x="7980" y="15874"/>
                  <a:pt x="8023" y="15907"/>
                  <a:pt x="8037" y="15954"/>
                </a:cubicBezTo>
                <a:cubicBezTo>
                  <a:pt x="8057" y="16021"/>
                  <a:pt x="8054" y="16101"/>
                  <a:pt x="8076" y="16153"/>
                </a:cubicBezTo>
                <a:cubicBezTo>
                  <a:pt x="8100" y="16207"/>
                  <a:pt x="8160" y="16276"/>
                  <a:pt x="8176" y="16331"/>
                </a:cubicBezTo>
                <a:cubicBezTo>
                  <a:pt x="8190" y="16382"/>
                  <a:pt x="8170" y="16375"/>
                  <a:pt x="8176" y="16411"/>
                </a:cubicBezTo>
                <a:cubicBezTo>
                  <a:pt x="8096" y="16384"/>
                  <a:pt x="8043" y="16360"/>
                  <a:pt x="7957" y="16351"/>
                </a:cubicBezTo>
                <a:cubicBezTo>
                  <a:pt x="7848" y="16340"/>
                  <a:pt x="7737" y="16365"/>
                  <a:pt x="7640" y="16331"/>
                </a:cubicBezTo>
                <a:cubicBezTo>
                  <a:pt x="7602" y="16318"/>
                  <a:pt x="7557" y="16289"/>
                  <a:pt x="7521" y="16272"/>
                </a:cubicBezTo>
                <a:cubicBezTo>
                  <a:pt x="7464" y="16246"/>
                  <a:pt x="7422" y="16222"/>
                  <a:pt x="7362" y="16212"/>
                </a:cubicBezTo>
                <a:cubicBezTo>
                  <a:pt x="7239" y="16191"/>
                  <a:pt x="7072" y="16202"/>
                  <a:pt x="6985" y="16252"/>
                </a:cubicBezTo>
                <a:cubicBezTo>
                  <a:pt x="6952" y="16271"/>
                  <a:pt x="6934" y="16284"/>
                  <a:pt x="6906" y="16312"/>
                </a:cubicBezTo>
                <a:cubicBezTo>
                  <a:pt x="6889" y="16329"/>
                  <a:pt x="6881" y="16339"/>
                  <a:pt x="6866" y="16371"/>
                </a:cubicBezTo>
                <a:cubicBezTo>
                  <a:pt x="6853" y="16398"/>
                  <a:pt x="6857" y="16442"/>
                  <a:pt x="6846" y="16470"/>
                </a:cubicBezTo>
                <a:cubicBezTo>
                  <a:pt x="6825" y="16525"/>
                  <a:pt x="6819" y="16552"/>
                  <a:pt x="6806" y="16609"/>
                </a:cubicBezTo>
                <a:cubicBezTo>
                  <a:pt x="6805" y="16613"/>
                  <a:pt x="6773" y="16686"/>
                  <a:pt x="6787" y="16689"/>
                </a:cubicBezTo>
                <a:cubicBezTo>
                  <a:pt x="6823" y="16696"/>
                  <a:pt x="6840" y="16646"/>
                  <a:pt x="6866" y="16629"/>
                </a:cubicBezTo>
                <a:cubicBezTo>
                  <a:pt x="6905" y="16604"/>
                  <a:pt x="6929" y="16578"/>
                  <a:pt x="6965" y="16550"/>
                </a:cubicBezTo>
                <a:cubicBezTo>
                  <a:pt x="6927" y="16552"/>
                  <a:pt x="6853" y="16569"/>
                  <a:pt x="6846" y="16570"/>
                </a:cubicBezTo>
                <a:cubicBezTo>
                  <a:pt x="6813" y="16573"/>
                  <a:pt x="6820" y="16566"/>
                  <a:pt x="6787" y="16570"/>
                </a:cubicBezTo>
                <a:cubicBezTo>
                  <a:pt x="6793" y="16570"/>
                  <a:pt x="6800" y="16570"/>
                  <a:pt x="6806" y="16570"/>
                </a:cubicBezTo>
                <a:cubicBezTo>
                  <a:pt x="6835" y="16557"/>
                  <a:pt x="6856" y="16541"/>
                  <a:pt x="6886" y="16530"/>
                </a:cubicBezTo>
                <a:cubicBezTo>
                  <a:pt x="6917" y="16519"/>
                  <a:pt x="6903" y="16515"/>
                  <a:pt x="6945" y="16510"/>
                </a:cubicBezTo>
                <a:cubicBezTo>
                  <a:pt x="7114" y="16489"/>
                  <a:pt x="7389" y="16483"/>
                  <a:pt x="7541" y="16530"/>
                </a:cubicBezTo>
                <a:cubicBezTo>
                  <a:pt x="7601" y="16549"/>
                  <a:pt x="7585" y="16536"/>
                  <a:pt x="7640" y="16570"/>
                </a:cubicBezTo>
                <a:cubicBezTo>
                  <a:pt x="7668" y="16587"/>
                  <a:pt x="7700" y="16636"/>
                  <a:pt x="7719" y="16649"/>
                </a:cubicBezTo>
                <a:cubicBezTo>
                  <a:pt x="7747" y="16669"/>
                  <a:pt x="7793" y="16681"/>
                  <a:pt x="7818" y="16708"/>
                </a:cubicBezTo>
                <a:cubicBezTo>
                  <a:pt x="7836" y="16727"/>
                  <a:pt x="7865" y="16764"/>
                  <a:pt x="7878" y="16788"/>
                </a:cubicBezTo>
                <a:cubicBezTo>
                  <a:pt x="7898" y="16828"/>
                  <a:pt x="7887" y="16861"/>
                  <a:pt x="7918" y="16907"/>
                </a:cubicBezTo>
                <a:cubicBezTo>
                  <a:pt x="7956" y="16963"/>
                  <a:pt x="8009" y="17003"/>
                  <a:pt x="8057" y="17046"/>
                </a:cubicBezTo>
                <a:cubicBezTo>
                  <a:pt x="8087" y="17073"/>
                  <a:pt x="8097" y="17118"/>
                  <a:pt x="8136" y="17125"/>
                </a:cubicBezTo>
                <a:cubicBezTo>
                  <a:pt x="8162" y="17130"/>
                  <a:pt x="8220" y="17134"/>
                  <a:pt x="8235" y="17105"/>
                </a:cubicBezTo>
                <a:cubicBezTo>
                  <a:pt x="8250" y="17076"/>
                  <a:pt x="8218" y="17034"/>
                  <a:pt x="8215" y="17006"/>
                </a:cubicBezTo>
                <a:cubicBezTo>
                  <a:pt x="8197" y="16988"/>
                  <a:pt x="8190" y="16984"/>
                  <a:pt x="8195" y="16966"/>
                </a:cubicBezTo>
              </a:path>
            </a:pathLst>
          </a:custGeom>
          <a:noFill/>
          <a:ln cap="sq" w="228600">
            <a:solidFill>
              <a:srgbClr val="ff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00480" y="6315120"/>
            <a:ext cx="457200" cy="156960"/>
          </a:xfrm>
          <a:custGeom>
            <a:avLst/>
            <a:gdLst/>
            <a:ahLst/>
            <a:rect l="l" t="t" r="r" b="b"/>
            <a:pathLst>
              <a:path w="1271" h="437">
                <a:moveTo>
                  <a:pt x="6668" y="17542"/>
                </a:moveTo>
                <a:cubicBezTo>
                  <a:pt x="6717" y="17542"/>
                  <a:pt x="6769" y="17532"/>
                  <a:pt x="6806" y="17562"/>
                </a:cubicBezTo>
                <a:cubicBezTo>
                  <a:pt x="6827" y="17579"/>
                  <a:pt x="6822" y="17579"/>
                  <a:pt x="6866" y="17582"/>
                </a:cubicBezTo>
                <a:cubicBezTo>
                  <a:pt x="6903" y="17584"/>
                  <a:pt x="6935" y="17595"/>
                  <a:pt x="6965" y="17601"/>
                </a:cubicBezTo>
                <a:cubicBezTo>
                  <a:pt x="7005" y="17609"/>
                  <a:pt x="7051" y="17614"/>
                  <a:pt x="7084" y="17621"/>
                </a:cubicBezTo>
                <a:cubicBezTo>
                  <a:pt x="7125" y="17629"/>
                  <a:pt x="7141" y="17651"/>
                  <a:pt x="7183" y="17661"/>
                </a:cubicBezTo>
                <a:cubicBezTo>
                  <a:pt x="7312" y="17692"/>
                  <a:pt x="7556" y="17598"/>
                  <a:pt x="7660" y="17681"/>
                </a:cubicBezTo>
                <a:cubicBezTo>
                  <a:pt x="7688" y="17703"/>
                  <a:pt x="7721" y="17745"/>
                  <a:pt x="7739" y="17760"/>
                </a:cubicBezTo>
                <a:cubicBezTo>
                  <a:pt x="7757" y="17774"/>
                  <a:pt x="7809" y="17786"/>
                  <a:pt x="7818" y="17820"/>
                </a:cubicBezTo>
                <a:cubicBezTo>
                  <a:pt x="7829" y="17859"/>
                  <a:pt x="7818" y="17918"/>
                  <a:pt x="7818" y="17959"/>
                </a:cubicBezTo>
                <a:cubicBezTo>
                  <a:pt x="7859" y="17944"/>
                  <a:pt x="7877" y="17927"/>
                  <a:pt x="7918" y="17959"/>
                </a:cubicBezTo>
                <a:cubicBezTo>
                  <a:pt x="7918" y="17978"/>
                  <a:pt x="7918" y="17985"/>
                  <a:pt x="7938" y="17978"/>
                </a:cubicBezTo>
                <a:cubicBezTo>
                  <a:pt x="7913" y="17949"/>
                  <a:pt x="7927" y="17942"/>
                  <a:pt x="7878" y="17939"/>
                </a:cubicBezTo>
                <a:cubicBezTo>
                  <a:pt x="7743" y="17931"/>
                  <a:pt x="7610" y="17941"/>
                  <a:pt x="7481" y="17919"/>
                </a:cubicBezTo>
                <a:cubicBezTo>
                  <a:pt x="7440" y="17912"/>
                  <a:pt x="7395" y="17906"/>
                  <a:pt x="7362" y="17899"/>
                </a:cubicBezTo>
                <a:cubicBezTo>
                  <a:pt x="7319" y="17890"/>
                  <a:pt x="7306" y="17906"/>
                  <a:pt x="7263" y="17879"/>
                </a:cubicBezTo>
                <a:cubicBezTo>
                  <a:pt x="7230" y="17858"/>
                  <a:pt x="7204" y="17857"/>
                  <a:pt x="7183" y="17840"/>
                </a:cubicBezTo>
                <a:cubicBezTo>
                  <a:pt x="7149" y="17813"/>
                  <a:pt x="7138" y="17836"/>
                  <a:pt x="7104" y="17820"/>
                </a:cubicBezTo>
                <a:cubicBezTo>
                  <a:pt x="7085" y="17811"/>
                  <a:pt x="7048" y="17761"/>
                  <a:pt x="7045" y="17760"/>
                </a:cubicBezTo>
                <a:cubicBezTo>
                  <a:pt x="7006" y="17749"/>
                  <a:pt x="6990" y="17745"/>
                  <a:pt x="6965" y="17740"/>
                </a:cubicBezTo>
                <a:cubicBezTo>
                  <a:pt x="6916" y="17731"/>
                  <a:pt x="6856" y="17740"/>
                  <a:pt x="6806" y="17740"/>
                </a:cubicBezTo>
              </a:path>
            </a:pathLst>
          </a:custGeom>
          <a:noFill/>
          <a:ln cap="sq" w="228600">
            <a:solidFill>
              <a:srgbClr val="ff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57440" y="5129280"/>
            <a:ext cx="1579680" cy="1136520"/>
          </a:xfrm>
          <a:custGeom>
            <a:avLst/>
            <a:gdLst/>
            <a:ahLst/>
            <a:rect l="l" t="t" r="r" b="b"/>
            <a:pathLst>
              <a:path w="4387" h="3156">
                <a:moveTo>
                  <a:pt x="8096" y="15478"/>
                </a:moveTo>
                <a:cubicBezTo>
                  <a:pt x="8149" y="15474"/>
                  <a:pt x="8163" y="15488"/>
                  <a:pt x="8215" y="15478"/>
                </a:cubicBezTo>
                <a:cubicBezTo>
                  <a:pt x="8258" y="15469"/>
                  <a:pt x="8298" y="15447"/>
                  <a:pt x="8334" y="15438"/>
                </a:cubicBezTo>
                <a:cubicBezTo>
                  <a:pt x="8245" y="15442"/>
                  <a:pt x="8164" y="15453"/>
                  <a:pt x="8076" y="15458"/>
                </a:cubicBezTo>
                <a:cubicBezTo>
                  <a:pt x="8027" y="15461"/>
                  <a:pt x="8016" y="15494"/>
                  <a:pt x="7957" y="15458"/>
                </a:cubicBezTo>
                <a:cubicBezTo>
                  <a:pt x="7907" y="15428"/>
                  <a:pt x="7902" y="15380"/>
                  <a:pt x="7878" y="15339"/>
                </a:cubicBezTo>
                <a:cubicBezTo>
                  <a:pt x="7860" y="15308"/>
                  <a:pt x="7846" y="15237"/>
                  <a:pt x="7838" y="15200"/>
                </a:cubicBezTo>
                <a:cubicBezTo>
                  <a:pt x="7825" y="15136"/>
                  <a:pt x="7834" y="15066"/>
                  <a:pt x="7818" y="15002"/>
                </a:cubicBezTo>
                <a:cubicBezTo>
                  <a:pt x="7807" y="14957"/>
                  <a:pt x="7797" y="14920"/>
                  <a:pt x="7779" y="14883"/>
                </a:cubicBezTo>
                <a:cubicBezTo>
                  <a:pt x="7761" y="14846"/>
                  <a:pt x="7740" y="14856"/>
                  <a:pt x="7719" y="14823"/>
                </a:cubicBezTo>
                <a:cubicBezTo>
                  <a:pt x="7702" y="14797"/>
                  <a:pt x="7687" y="14771"/>
                  <a:pt x="7660" y="14744"/>
                </a:cubicBezTo>
                <a:cubicBezTo>
                  <a:pt x="7644" y="14728"/>
                  <a:pt x="7626" y="14728"/>
                  <a:pt x="7600" y="14704"/>
                </a:cubicBezTo>
                <a:cubicBezTo>
                  <a:pt x="7559" y="14666"/>
                  <a:pt x="7524" y="14630"/>
                  <a:pt x="7481" y="14605"/>
                </a:cubicBezTo>
                <a:cubicBezTo>
                  <a:pt x="7460" y="14593"/>
                  <a:pt x="7427" y="14578"/>
                  <a:pt x="7402" y="14565"/>
                </a:cubicBezTo>
                <a:cubicBezTo>
                  <a:pt x="7376" y="14551"/>
                  <a:pt x="7349" y="14542"/>
                  <a:pt x="7322" y="14526"/>
                </a:cubicBezTo>
                <a:cubicBezTo>
                  <a:pt x="7278" y="14500"/>
                  <a:pt x="7244" y="14474"/>
                  <a:pt x="7203" y="14446"/>
                </a:cubicBezTo>
                <a:cubicBezTo>
                  <a:pt x="7157" y="14414"/>
                  <a:pt x="7161" y="14415"/>
                  <a:pt x="7124" y="14387"/>
                </a:cubicBezTo>
                <a:cubicBezTo>
                  <a:pt x="7151" y="14388"/>
                  <a:pt x="7138" y="14383"/>
                  <a:pt x="7164" y="14387"/>
                </a:cubicBezTo>
                <a:cubicBezTo>
                  <a:pt x="7199" y="14392"/>
                  <a:pt x="7228" y="14412"/>
                  <a:pt x="7263" y="14407"/>
                </a:cubicBezTo>
                <a:cubicBezTo>
                  <a:pt x="7303" y="14401"/>
                  <a:pt x="7326" y="14398"/>
                  <a:pt x="7362" y="14387"/>
                </a:cubicBezTo>
                <a:cubicBezTo>
                  <a:pt x="7393" y="14377"/>
                  <a:pt x="7413" y="14347"/>
                  <a:pt x="7441" y="14327"/>
                </a:cubicBezTo>
                <a:cubicBezTo>
                  <a:pt x="7453" y="14318"/>
                  <a:pt x="7476" y="14277"/>
                  <a:pt x="7501" y="14268"/>
                </a:cubicBezTo>
                <a:cubicBezTo>
                  <a:pt x="7537" y="14255"/>
                  <a:pt x="7573" y="14295"/>
                  <a:pt x="7600" y="14268"/>
                </a:cubicBezTo>
                <a:cubicBezTo>
                  <a:pt x="7614" y="14254"/>
                  <a:pt x="7581" y="14356"/>
                  <a:pt x="7580" y="14268"/>
                </a:cubicBezTo>
                <a:cubicBezTo>
                  <a:pt x="7573" y="14261"/>
                  <a:pt x="7567" y="14255"/>
                  <a:pt x="7560" y="14248"/>
                </a:cubicBezTo>
                <a:cubicBezTo>
                  <a:pt x="7575" y="14262"/>
                  <a:pt x="7620" y="14268"/>
                  <a:pt x="7640" y="14288"/>
                </a:cubicBezTo>
                <a:cubicBezTo>
                  <a:pt x="7654" y="14302"/>
                  <a:pt x="7691" y="14352"/>
                  <a:pt x="7699" y="14367"/>
                </a:cubicBezTo>
                <a:cubicBezTo>
                  <a:pt x="7717" y="14399"/>
                  <a:pt x="7726" y="14403"/>
                  <a:pt x="7739" y="14426"/>
                </a:cubicBezTo>
                <a:cubicBezTo>
                  <a:pt x="7755" y="14454"/>
                  <a:pt x="7761" y="14493"/>
                  <a:pt x="7779" y="14526"/>
                </a:cubicBezTo>
                <a:cubicBezTo>
                  <a:pt x="7808" y="14579"/>
                  <a:pt x="7812" y="14564"/>
                  <a:pt x="7838" y="14605"/>
                </a:cubicBezTo>
                <a:cubicBezTo>
                  <a:pt x="7869" y="14652"/>
                  <a:pt x="7869" y="14676"/>
                  <a:pt x="7898" y="14724"/>
                </a:cubicBezTo>
                <a:cubicBezTo>
                  <a:pt x="7875" y="14704"/>
                  <a:pt x="7862" y="14691"/>
                  <a:pt x="7838" y="14665"/>
                </a:cubicBezTo>
                <a:cubicBezTo>
                  <a:pt x="7824" y="14650"/>
                  <a:pt x="7780" y="14628"/>
                  <a:pt x="7759" y="14605"/>
                </a:cubicBezTo>
                <a:cubicBezTo>
                  <a:pt x="7759" y="14598"/>
                  <a:pt x="7759" y="14592"/>
                  <a:pt x="7759" y="14585"/>
                </a:cubicBezTo>
                <a:cubicBezTo>
                  <a:pt x="7775" y="14613"/>
                  <a:pt x="7811" y="14635"/>
                  <a:pt x="7838" y="14704"/>
                </a:cubicBezTo>
                <a:cubicBezTo>
                  <a:pt x="7870" y="14785"/>
                  <a:pt x="7903" y="14862"/>
                  <a:pt x="7938" y="14942"/>
                </a:cubicBezTo>
                <a:cubicBezTo>
                  <a:pt x="7967" y="15009"/>
                  <a:pt x="8003" y="15079"/>
                  <a:pt x="8037" y="15141"/>
                </a:cubicBezTo>
                <a:cubicBezTo>
                  <a:pt x="8065" y="15191"/>
                  <a:pt x="8068" y="15208"/>
                  <a:pt x="8096" y="15240"/>
                </a:cubicBezTo>
                <a:cubicBezTo>
                  <a:pt x="8126" y="15273"/>
                  <a:pt x="8153" y="15266"/>
                  <a:pt x="8176" y="15300"/>
                </a:cubicBezTo>
                <a:cubicBezTo>
                  <a:pt x="8198" y="15332"/>
                  <a:pt x="8215" y="15394"/>
                  <a:pt x="8235" y="15419"/>
                </a:cubicBezTo>
                <a:cubicBezTo>
                  <a:pt x="8254" y="15442"/>
                  <a:pt x="8280" y="15482"/>
                  <a:pt x="8295" y="15498"/>
                </a:cubicBezTo>
                <a:cubicBezTo>
                  <a:pt x="8307" y="15512"/>
                  <a:pt x="8354" y="15537"/>
                  <a:pt x="8374" y="15558"/>
                </a:cubicBezTo>
                <a:cubicBezTo>
                  <a:pt x="8403" y="15589"/>
                  <a:pt x="8404" y="15587"/>
                  <a:pt x="8434" y="15617"/>
                </a:cubicBezTo>
                <a:cubicBezTo>
                  <a:pt x="8468" y="15651"/>
                  <a:pt x="8482" y="15660"/>
                  <a:pt x="8513" y="15696"/>
                </a:cubicBezTo>
                <a:cubicBezTo>
                  <a:pt x="8545" y="15734"/>
                  <a:pt x="8559" y="15710"/>
                  <a:pt x="8572" y="15776"/>
                </a:cubicBezTo>
                <a:cubicBezTo>
                  <a:pt x="8580" y="15818"/>
                  <a:pt x="8573" y="15859"/>
                  <a:pt x="8553" y="15875"/>
                </a:cubicBezTo>
                <a:cubicBezTo>
                  <a:pt x="8514" y="15907"/>
                  <a:pt x="8502" y="15885"/>
                  <a:pt x="8453" y="15895"/>
                </a:cubicBezTo>
                <a:cubicBezTo>
                  <a:pt x="8410" y="15904"/>
                  <a:pt x="8359" y="15893"/>
                  <a:pt x="8315" y="15895"/>
                </a:cubicBezTo>
                <a:cubicBezTo>
                  <a:pt x="8347" y="15873"/>
                  <a:pt x="8405" y="15893"/>
                  <a:pt x="8414" y="15855"/>
                </a:cubicBezTo>
                <a:cubicBezTo>
                  <a:pt x="8414" y="15853"/>
                  <a:pt x="8372" y="15805"/>
                  <a:pt x="8374" y="15796"/>
                </a:cubicBezTo>
                <a:cubicBezTo>
                  <a:pt x="8395" y="15812"/>
                  <a:pt x="8441" y="15788"/>
                  <a:pt x="8453" y="15835"/>
                </a:cubicBezTo>
                <a:cubicBezTo>
                  <a:pt x="8459" y="15858"/>
                  <a:pt x="8474" y="15858"/>
                  <a:pt x="8473" y="15915"/>
                </a:cubicBezTo>
                <a:cubicBezTo>
                  <a:pt x="8472" y="15963"/>
                  <a:pt x="8427" y="16039"/>
                  <a:pt x="8414" y="16093"/>
                </a:cubicBezTo>
                <a:cubicBezTo>
                  <a:pt x="8378" y="16239"/>
                  <a:pt x="8307" y="16351"/>
                  <a:pt x="8255" y="16490"/>
                </a:cubicBezTo>
                <a:cubicBezTo>
                  <a:pt x="8204" y="16625"/>
                  <a:pt x="8142" y="16750"/>
                  <a:pt x="8096" y="16887"/>
                </a:cubicBezTo>
                <a:cubicBezTo>
                  <a:pt x="8096" y="16894"/>
                  <a:pt x="8096" y="16900"/>
                  <a:pt x="8096" y="16907"/>
                </a:cubicBezTo>
                <a:cubicBezTo>
                  <a:pt x="8169" y="16825"/>
                  <a:pt x="8242" y="16754"/>
                  <a:pt x="8295" y="16649"/>
                </a:cubicBezTo>
                <a:cubicBezTo>
                  <a:pt x="8324" y="16591"/>
                  <a:pt x="8361" y="16495"/>
                  <a:pt x="8374" y="16431"/>
                </a:cubicBezTo>
                <a:cubicBezTo>
                  <a:pt x="8388" y="16359"/>
                  <a:pt x="8401" y="16284"/>
                  <a:pt x="8414" y="16212"/>
                </a:cubicBezTo>
                <a:cubicBezTo>
                  <a:pt x="8414" y="16192"/>
                  <a:pt x="8414" y="16186"/>
                  <a:pt x="8414" y="16173"/>
                </a:cubicBezTo>
                <a:cubicBezTo>
                  <a:pt x="8455" y="16387"/>
                  <a:pt x="8435" y="16591"/>
                  <a:pt x="8453" y="16808"/>
                </a:cubicBezTo>
                <a:cubicBezTo>
                  <a:pt x="8455" y="16832"/>
                  <a:pt x="8492" y="16870"/>
                  <a:pt x="8473" y="16907"/>
                </a:cubicBezTo>
                <a:cubicBezTo>
                  <a:pt x="8445" y="16962"/>
                  <a:pt x="8454" y="16931"/>
                  <a:pt x="8394" y="16947"/>
                </a:cubicBezTo>
                <a:cubicBezTo>
                  <a:pt x="8356" y="16957"/>
                  <a:pt x="8331" y="16925"/>
                  <a:pt x="8295" y="16927"/>
                </a:cubicBezTo>
                <a:cubicBezTo>
                  <a:pt x="8276" y="16928"/>
                  <a:pt x="8254" y="16929"/>
                  <a:pt x="8235" y="16927"/>
                </a:cubicBezTo>
                <a:cubicBezTo>
                  <a:pt x="8258" y="16955"/>
                  <a:pt x="8267" y="16977"/>
                  <a:pt x="8295" y="17006"/>
                </a:cubicBezTo>
                <a:cubicBezTo>
                  <a:pt x="8333" y="17045"/>
                  <a:pt x="8370" y="17062"/>
                  <a:pt x="8394" y="17105"/>
                </a:cubicBezTo>
                <a:cubicBezTo>
                  <a:pt x="8436" y="17181"/>
                  <a:pt x="8433" y="17252"/>
                  <a:pt x="8473" y="17324"/>
                </a:cubicBezTo>
                <a:cubicBezTo>
                  <a:pt x="8488" y="17351"/>
                  <a:pt x="8517" y="17376"/>
                  <a:pt x="8533" y="17403"/>
                </a:cubicBezTo>
                <a:cubicBezTo>
                  <a:pt x="8558" y="17359"/>
                  <a:pt x="8577" y="17391"/>
                  <a:pt x="8592" y="17324"/>
                </a:cubicBezTo>
                <a:cubicBezTo>
                  <a:pt x="8602" y="17281"/>
                  <a:pt x="8608" y="17237"/>
                  <a:pt x="8612" y="17185"/>
                </a:cubicBezTo>
                <a:cubicBezTo>
                  <a:pt x="8616" y="17128"/>
                  <a:pt x="8628" y="17030"/>
                  <a:pt x="8592" y="16986"/>
                </a:cubicBezTo>
                <a:cubicBezTo>
                  <a:pt x="8582" y="16974"/>
                  <a:pt x="8523" y="16997"/>
                  <a:pt x="8513" y="16986"/>
                </a:cubicBezTo>
                <a:cubicBezTo>
                  <a:pt x="8517" y="16993"/>
                  <a:pt x="8569" y="17020"/>
                  <a:pt x="8572" y="17026"/>
                </a:cubicBezTo>
                <a:cubicBezTo>
                  <a:pt x="8586" y="17053"/>
                  <a:pt x="8582" y="17063"/>
                  <a:pt x="8592" y="17085"/>
                </a:cubicBezTo>
                <a:cubicBezTo>
                  <a:pt x="8615" y="17134"/>
                  <a:pt x="8608" y="17129"/>
                  <a:pt x="8632" y="17185"/>
                </a:cubicBezTo>
                <a:cubicBezTo>
                  <a:pt x="8711" y="17188"/>
                  <a:pt x="8782" y="17187"/>
                  <a:pt x="8850" y="17205"/>
                </a:cubicBezTo>
                <a:cubicBezTo>
                  <a:pt x="8890" y="17216"/>
                  <a:pt x="8893" y="17225"/>
                  <a:pt x="8930" y="17244"/>
                </a:cubicBezTo>
                <a:cubicBezTo>
                  <a:pt x="8959" y="17259"/>
                  <a:pt x="8979" y="17284"/>
                  <a:pt x="9009" y="17304"/>
                </a:cubicBezTo>
                <a:cubicBezTo>
                  <a:pt x="9039" y="17324"/>
                  <a:pt x="9036" y="17318"/>
                  <a:pt x="9069" y="17343"/>
                </a:cubicBezTo>
                <a:cubicBezTo>
                  <a:pt x="9088" y="17357"/>
                  <a:pt x="9111" y="17377"/>
                  <a:pt x="9128" y="17383"/>
                </a:cubicBezTo>
                <a:cubicBezTo>
                  <a:pt x="9168" y="17398"/>
                  <a:pt x="9216" y="17415"/>
                  <a:pt x="9267" y="17403"/>
                </a:cubicBezTo>
                <a:cubicBezTo>
                  <a:pt x="9288" y="17398"/>
                  <a:pt x="9346" y="17373"/>
                  <a:pt x="9366" y="17363"/>
                </a:cubicBezTo>
                <a:cubicBezTo>
                  <a:pt x="9398" y="17346"/>
                  <a:pt x="9427" y="17317"/>
                  <a:pt x="9446" y="17304"/>
                </a:cubicBezTo>
                <a:cubicBezTo>
                  <a:pt x="9496" y="17270"/>
                  <a:pt x="9511" y="17259"/>
                  <a:pt x="9545" y="17224"/>
                </a:cubicBezTo>
                <a:cubicBezTo>
                  <a:pt x="9563" y="17206"/>
                  <a:pt x="9601" y="17153"/>
                  <a:pt x="9624" y="17125"/>
                </a:cubicBezTo>
                <a:cubicBezTo>
                  <a:pt x="9635" y="17111"/>
                  <a:pt x="9649" y="17084"/>
                  <a:pt x="9664" y="17066"/>
                </a:cubicBezTo>
                <a:cubicBezTo>
                  <a:pt x="9705" y="17015"/>
                  <a:pt x="9759" y="16961"/>
                  <a:pt x="9803" y="16927"/>
                </a:cubicBezTo>
                <a:cubicBezTo>
                  <a:pt x="9827" y="16908"/>
                  <a:pt x="9869" y="16898"/>
                  <a:pt x="9902" y="16867"/>
                </a:cubicBezTo>
                <a:cubicBezTo>
                  <a:pt x="9902" y="16860"/>
                  <a:pt x="9902" y="16854"/>
                  <a:pt x="9902" y="16847"/>
                </a:cubicBezTo>
                <a:cubicBezTo>
                  <a:pt x="9863" y="16857"/>
                  <a:pt x="9836" y="16823"/>
                  <a:pt x="9803" y="16847"/>
                </a:cubicBezTo>
                <a:cubicBezTo>
                  <a:pt x="9750" y="16885"/>
                  <a:pt x="9700" y="16968"/>
                  <a:pt x="9644" y="17006"/>
                </a:cubicBezTo>
                <a:cubicBezTo>
                  <a:pt x="9611" y="17006"/>
                  <a:pt x="9591" y="17006"/>
                  <a:pt x="9624" y="17006"/>
                </a:cubicBezTo>
                <a:cubicBezTo>
                  <a:pt x="9656" y="16992"/>
                  <a:pt x="9687" y="16982"/>
                  <a:pt x="9723" y="16966"/>
                </a:cubicBezTo>
                <a:cubicBezTo>
                  <a:pt x="9786" y="16937"/>
                  <a:pt x="9825" y="16913"/>
                  <a:pt x="9862" y="16867"/>
                </a:cubicBezTo>
                <a:cubicBezTo>
                  <a:pt x="9894" y="16827"/>
                  <a:pt x="9892" y="16781"/>
                  <a:pt x="9922" y="16748"/>
                </a:cubicBezTo>
                <a:cubicBezTo>
                  <a:pt x="9944" y="16724"/>
                  <a:pt x="9982" y="16726"/>
                  <a:pt x="10001" y="16708"/>
                </a:cubicBezTo>
                <a:cubicBezTo>
                  <a:pt x="10026" y="16684"/>
                  <a:pt x="10060" y="16632"/>
                  <a:pt x="10100" y="16609"/>
                </a:cubicBezTo>
                <a:cubicBezTo>
                  <a:pt x="10122" y="16597"/>
                  <a:pt x="10151" y="16575"/>
                  <a:pt x="10160" y="16570"/>
                </a:cubicBezTo>
                <a:cubicBezTo>
                  <a:pt x="10179" y="16559"/>
                  <a:pt x="10235" y="16539"/>
                  <a:pt x="10259" y="16530"/>
                </a:cubicBezTo>
                <a:cubicBezTo>
                  <a:pt x="10302" y="16513"/>
                  <a:pt x="10332" y="16510"/>
                  <a:pt x="10378" y="16490"/>
                </a:cubicBezTo>
                <a:cubicBezTo>
                  <a:pt x="10414" y="16474"/>
                  <a:pt x="10509" y="16450"/>
                  <a:pt x="10537" y="16431"/>
                </a:cubicBezTo>
                <a:cubicBezTo>
                  <a:pt x="10539" y="16429"/>
                  <a:pt x="10590" y="16404"/>
                  <a:pt x="10597" y="16391"/>
                </a:cubicBezTo>
                <a:cubicBezTo>
                  <a:pt x="10632" y="16326"/>
                  <a:pt x="10584" y="16292"/>
                  <a:pt x="10636" y="16232"/>
                </a:cubicBezTo>
                <a:cubicBezTo>
                  <a:pt x="10651" y="16214"/>
                  <a:pt x="10672" y="16210"/>
                  <a:pt x="10696" y="16192"/>
                </a:cubicBezTo>
                <a:cubicBezTo>
                  <a:pt x="10717" y="16176"/>
                  <a:pt x="10747" y="16138"/>
                  <a:pt x="10755" y="16133"/>
                </a:cubicBezTo>
                <a:cubicBezTo>
                  <a:pt x="10788" y="16114"/>
                  <a:pt x="10837" y="16108"/>
                  <a:pt x="10874" y="16093"/>
                </a:cubicBezTo>
                <a:cubicBezTo>
                  <a:pt x="10902" y="16082"/>
                  <a:pt x="10949" y="16068"/>
                  <a:pt x="10974" y="16054"/>
                </a:cubicBezTo>
                <a:cubicBezTo>
                  <a:pt x="10996" y="16042"/>
                  <a:pt x="11002" y="16013"/>
                  <a:pt x="11033" y="15994"/>
                </a:cubicBezTo>
                <a:cubicBezTo>
                  <a:pt x="11053" y="15982"/>
                  <a:pt x="11109" y="15941"/>
                  <a:pt x="11132" y="15935"/>
                </a:cubicBezTo>
                <a:cubicBezTo>
                  <a:pt x="11237" y="15909"/>
                  <a:pt x="11343" y="15955"/>
                  <a:pt x="11410" y="15994"/>
                </a:cubicBezTo>
                <a:cubicBezTo>
                  <a:pt x="11448" y="16016"/>
                  <a:pt x="11436" y="16031"/>
                  <a:pt x="11470" y="16054"/>
                </a:cubicBezTo>
                <a:cubicBezTo>
                  <a:pt x="11477" y="16054"/>
                  <a:pt x="11483" y="16054"/>
                  <a:pt x="11490" y="16054"/>
                </a:cubicBezTo>
              </a:path>
            </a:pathLst>
          </a:custGeom>
          <a:noFill/>
          <a:ln cap="sq" w="228600">
            <a:solidFill>
              <a:srgbClr val="ff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86080" y="5850000"/>
            <a:ext cx="65160" cy="58680"/>
          </a:xfrm>
          <a:custGeom>
            <a:avLst/>
            <a:gdLst/>
            <a:ahLst/>
            <a:rect l="l" t="t" r="r" b="b"/>
            <a:pathLst>
              <a:path w="180" h="160">
                <a:moveTo>
                  <a:pt x="11648" y="16252"/>
                </a:moveTo>
                <a:cubicBezTo>
                  <a:pt x="11641" y="16252"/>
                  <a:pt x="11635" y="16252"/>
                  <a:pt x="11628" y="16252"/>
                </a:cubicBezTo>
                <a:cubicBezTo>
                  <a:pt x="11641" y="16305"/>
                  <a:pt x="11653" y="16273"/>
                  <a:pt x="11688" y="16292"/>
                </a:cubicBezTo>
                <a:cubicBezTo>
                  <a:pt x="11717" y="16308"/>
                  <a:pt x="11744" y="16348"/>
                  <a:pt x="11767" y="16371"/>
                </a:cubicBezTo>
                <a:cubicBezTo>
                  <a:pt x="11787" y="16391"/>
                  <a:pt x="11794" y="16398"/>
                  <a:pt x="11807" y="16411"/>
                </a:cubicBezTo>
              </a:path>
            </a:pathLst>
          </a:custGeom>
          <a:noFill/>
          <a:ln cap="sq" w="228600">
            <a:solidFill>
              <a:srgbClr val="ff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93960" y="5235480"/>
            <a:ext cx="1049400" cy="773280"/>
          </a:xfrm>
          <a:custGeom>
            <a:avLst/>
            <a:gdLst/>
            <a:ahLst/>
            <a:rect l="l" t="t" r="r" b="b"/>
            <a:pathLst>
              <a:path w="2918" h="2145">
                <a:moveTo>
                  <a:pt x="10676" y="15974"/>
                </a:moveTo>
                <a:cubicBezTo>
                  <a:pt x="10676" y="15968"/>
                  <a:pt x="10670" y="15896"/>
                  <a:pt x="10676" y="15855"/>
                </a:cubicBezTo>
                <a:cubicBezTo>
                  <a:pt x="10617" y="15894"/>
                  <a:pt x="10613" y="15892"/>
                  <a:pt x="10557" y="15954"/>
                </a:cubicBezTo>
                <a:cubicBezTo>
                  <a:pt x="10513" y="16003"/>
                  <a:pt x="10484" y="16050"/>
                  <a:pt x="10418" y="16073"/>
                </a:cubicBezTo>
                <a:cubicBezTo>
                  <a:pt x="10274" y="16123"/>
                  <a:pt x="10089" y="16041"/>
                  <a:pt x="9942" y="16093"/>
                </a:cubicBezTo>
                <a:cubicBezTo>
                  <a:pt x="9902" y="16107"/>
                  <a:pt x="9863" y="16128"/>
                  <a:pt x="9823" y="16153"/>
                </a:cubicBezTo>
                <a:cubicBezTo>
                  <a:pt x="9797" y="16169"/>
                  <a:pt x="9763" y="16192"/>
                  <a:pt x="9743" y="16212"/>
                </a:cubicBezTo>
                <a:cubicBezTo>
                  <a:pt x="9712" y="16244"/>
                  <a:pt x="9702" y="16273"/>
                  <a:pt x="9684" y="16292"/>
                </a:cubicBezTo>
                <a:cubicBezTo>
                  <a:pt x="9640" y="16339"/>
                  <a:pt x="9610" y="16360"/>
                  <a:pt x="9565" y="16411"/>
                </a:cubicBezTo>
                <a:cubicBezTo>
                  <a:pt x="9540" y="16440"/>
                  <a:pt x="9508" y="16482"/>
                  <a:pt x="9485" y="16510"/>
                </a:cubicBezTo>
                <a:cubicBezTo>
                  <a:pt x="9465" y="16535"/>
                  <a:pt x="9442" y="16542"/>
                  <a:pt x="9426" y="16570"/>
                </a:cubicBezTo>
                <a:cubicBezTo>
                  <a:pt x="9411" y="16596"/>
                  <a:pt x="9424" y="16610"/>
                  <a:pt x="9406" y="16629"/>
                </a:cubicBezTo>
                <a:cubicBezTo>
                  <a:pt x="9369" y="16668"/>
                  <a:pt x="9370" y="16679"/>
                  <a:pt x="9307" y="16689"/>
                </a:cubicBezTo>
                <a:cubicBezTo>
                  <a:pt x="9184" y="16708"/>
                  <a:pt x="9009" y="16700"/>
                  <a:pt x="8910" y="16649"/>
                </a:cubicBezTo>
                <a:cubicBezTo>
                  <a:pt x="8858" y="16622"/>
                  <a:pt x="8807" y="16595"/>
                  <a:pt x="8751" y="16570"/>
                </a:cubicBezTo>
                <a:cubicBezTo>
                  <a:pt x="8677" y="16537"/>
                  <a:pt x="8632" y="16534"/>
                  <a:pt x="8553" y="16530"/>
                </a:cubicBezTo>
                <a:cubicBezTo>
                  <a:pt x="8475" y="16527"/>
                  <a:pt x="8385" y="16547"/>
                  <a:pt x="8315" y="16510"/>
                </a:cubicBezTo>
                <a:cubicBezTo>
                  <a:pt x="8281" y="16492"/>
                  <a:pt x="8216" y="16452"/>
                  <a:pt x="8195" y="16431"/>
                </a:cubicBezTo>
                <a:cubicBezTo>
                  <a:pt x="8195" y="16424"/>
                  <a:pt x="8195" y="16418"/>
                  <a:pt x="8195" y="16411"/>
                </a:cubicBezTo>
                <a:cubicBezTo>
                  <a:pt x="8329" y="16411"/>
                  <a:pt x="8459" y="16424"/>
                  <a:pt x="8592" y="16431"/>
                </a:cubicBezTo>
                <a:cubicBezTo>
                  <a:pt x="8702" y="16437"/>
                  <a:pt x="8814" y="16431"/>
                  <a:pt x="8910" y="16411"/>
                </a:cubicBezTo>
                <a:cubicBezTo>
                  <a:pt x="8950" y="16403"/>
                  <a:pt x="8969" y="16395"/>
                  <a:pt x="9009" y="16391"/>
                </a:cubicBezTo>
                <a:cubicBezTo>
                  <a:pt x="9059" y="16386"/>
                  <a:pt x="9100" y="16384"/>
                  <a:pt x="9148" y="16371"/>
                </a:cubicBezTo>
                <a:cubicBezTo>
                  <a:pt x="9167" y="16366"/>
                  <a:pt x="9169" y="16357"/>
                  <a:pt x="9188" y="16351"/>
                </a:cubicBezTo>
                <a:cubicBezTo>
                  <a:pt x="9157" y="16318"/>
                  <a:pt x="9125" y="16262"/>
                  <a:pt x="9088" y="16232"/>
                </a:cubicBezTo>
                <a:cubicBezTo>
                  <a:pt x="9003" y="16164"/>
                  <a:pt x="8901" y="16162"/>
                  <a:pt x="8791" y="16173"/>
                </a:cubicBezTo>
                <a:cubicBezTo>
                  <a:pt x="8711" y="16181"/>
                  <a:pt x="8636" y="16190"/>
                  <a:pt x="8553" y="16192"/>
                </a:cubicBezTo>
                <a:cubicBezTo>
                  <a:pt x="8487" y="16193"/>
                  <a:pt x="8471" y="16171"/>
                  <a:pt x="8434" y="16153"/>
                </a:cubicBezTo>
                <a:cubicBezTo>
                  <a:pt x="8427" y="16146"/>
                  <a:pt x="8421" y="16140"/>
                  <a:pt x="8414" y="16133"/>
                </a:cubicBezTo>
                <a:cubicBezTo>
                  <a:pt x="8496" y="16123"/>
                  <a:pt x="8560" y="16145"/>
                  <a:pt x="8652" y="16153"/>
                </a:cubicBezTo>
                <a:cubicBezTo>
                  <a:pt x="8773" y="16164"/>
                  <a:pt x="8893" y="16152"/>
                  <a:pt x="9009" y="16133"/>
                </a:cubicBezTo>
                <a:cubicBezTo>
                  <a:pt x="9063" y="16124"/>
                  <a:pt x="9110" y="16116"/>
                  <a:pt x="9168" y="16113"/>
                </a:cubicBezTo>
                <a:cubicBezTo>
                  <a:pt x="9317" y="16106"/>
                  <a:pt x="9583" y="16113"/>
                  <a:pt x="9664" y="16113"/>
                </a:cubicBezTo>
                <a:cubicBezTo>
                  <a:pt x="9460" y="16113"/>
                  <a:pt x="9272" y="16134"/>
                  <a:pt x="9088" y="16054"/>
                </a:cubicBezTo>
                <a:cubicBezTo>
                  <a:pt x="9038" y="16032"/>
                  <a:pt x="8957" y="15988"/>
                  <a:pt x="8930" y="15974"/>
                </a:cubicBezTo>
                <a:cubicBezTo>
                  <a:pt x="8867" y="15941"/>
                  <a:pt x="8813" y="15896"/>
                  <a:pt x="8751" y="15855"/>
                </a:cubicBezTo>
                <a:cubicBezTo>
                  <a:pt x="8719" y="15834"/>
                  <a:pt x="8672" y="15792"/>
                  <a:pt x="8652" y="15776"/>
                </a:cubicBezTo>
                <a:cubicBezTo>
                  <a:pt x="8675" y="15764"/>
                  <a:pt x="8707" y="15745"/>
                  <a:pt x="8751" y="15736"/>
                </a:cubicBezTo>
                <a:cubicBezTo>
                  <a:pt x="8802" y="15726"/>
                  <a:pt x="8832" y="15718"/>
                  <a:pt x="8890" y="15716"/>
                </a:cubicBezTo>
                <a:cubicBezTo>
                  <a:pt x="8950" y="15714"/>
                  <a:pt x="8998" y="15718"/>
                  <a:pt x="9049" y="15736"/>
                </a:cubicBezTo>
                <a:cubicBezTo>
                  <a:pt x="9080" y="15747"/>
                  <a:pt x="9114" y="15765"/>
                  <a:pt x="9148" y="15776"/>
                </a:cubicBezTo>
                <a:cubicBezTo>
                  <a:pt x="9198" y="15792"/>
                  <a:pt x="9250" y="15809"/>
                  <a:pt x="9307" y="15815"/>
                </a:cubicBezTo>
                <a:cubicBezTo>
                  <a:pt x="9460" y="15830"/>
                  <a:pt x="9661" y="15810"/>
                  <a:pt x="9783" y="15835"/>
                </a:cubicBezTo>
                <a:cubicBezTo>
                  <a:pt x="9754" y="15835"/>
                  <a:pt x="9728" y="15874"/>
                  <a:pt x="9684" y="15855"/>
                </a:cubicBezTo>
                <a:cubicBezTo>
                  <a:pt x="9637" y="15835"/>
                  <a:pt x="9594" y="15795"/>
                  <a:pt x="9565" y="15776"/>
                </a:cubicBezTo>
                <a:cubicBezTo>
                  <a:pt x="9558" y="15771"/>
                  <a:pt x="9487" y="15716"/>
                  <a:pt x="9485" y="15716"/>
                </a:cubicBezTo>
                <a:cubicBezTo>
                  <a:pt x="9452" y="15711"/>
                  <a:pt x="9426" y="15736"/>
                  <a:pt x="9406" y="15736"/>
                </a:cubicBezTo>
                <a:cubicBezTo>
                  <a:pt x="9266" y="15736"/>
                  <a:pt x="9133" y="15747"/>
                  <a:pt x="9009" y="15696"/>
                </a:cubicBezTo>
                <a:cubicBezTo>
                  <a:pt x="8973" y="15681"/>
                  <a:pt x="8945" y="15653"/>
                  <a:pt x="8910" y="15637"/>
                </a:cubicBezTo>
                <a:cubicBezTo>
                  <a:pt x="8878" y="15623"/>
                  <a:pt x="8847" y="15611"/>
                  <a:pt x="8830" y="15597"/>
                </a:cubicBezTo>
                <a:cubicBezTo>
                  <a:pt x="8806" y="15578"/>
                  <a:pt x="8783" y="15548"/>
                  <a:pt x="8771" y="15538"/>
                </a:cubicBezTo>
                <a:cubicBezTo>
                  <a:pt x="8738" y="15511"/>
                  <a:pt x="8706" y="15484"/>
                  <a:pt x="8672" y="15458"/>
                </a:cubicBezTo>
                <a:cubicBezTo>
                  <a:pt x="8638" y="15432"/>
                  <a:pt x="8606" y="15404"/>
                  <a:pt x="8572" y="15379"/>
                </a:cubicBezTo>
                <a:cubicBezTo>
                  <a:pt x="8530" y="15348"/>
                  <a:pt x="8531" y="15348"/>
                  <a:pt x="8493" y="15319"/>
                </a:cubicBezTo>
                <a:cubicBezTo>
                  <a:pt x="8463" y="15296"/>
                  <a:pt x="8443" y="15280"/>
                  <a:pt x="8414" y="15260"/>
                </a:cubicBezTo>
                <a:cubicBezTo>
                  <a:pt x="8389" y="15242"/>
                  <a:pt x="8346" y="15218"/>
                  <a:pt x="8315" y="15200"/>
                </a:cubicBezTo>
                <a:cubicBezTo>
                  <a:pt x="8290" y="15186"/>
                  <a:pt x="8262" y="15177"/>
                  <a:pt x="8235" y="15161"/>
                </a:cubicBezTo>
                <a:cubicBezTo>
                  <a:pt x="8225" y="15155"/>
                  <a:pt x="8185" y="15109"/>
                  <a:pt x="8176" y="15101"/>
                </a:cubicBezTo>
                <a:cubicBezTo>
                  <a:pt x="8108" y="15041"/>
                  <a:pt x="8013" y="14963"/>
                  <a:pt x="7957" y="14903"/>
                </a:cubicBezTo>
                <a:cubicBezTo>
                  <a:pt x="7943" y="14888"/>
                  <a:pt x="7917" y="14845"/>
                  <a:pt x="7898" y="14823"/>
                </a:cubicBezTo>
                <a:cubicBezTo>
                  <a:pt x="7861" y="14779"/>
                  <a:pt x="7867" y="14809"/>
                  <a:pt x="7838" y="14744"/>
                </a:cubicBezTo>
                <a:cubicBezTo>
                  <a:pt x="7828" y="14721"/>
                  <a:pt x="7826" y="14688"/>
                  <a:pt x="7818" y="14665"/>
                </a:cubicBezTo>
                <a:cubicBezTo>
                  <a:pt x="7811" y="14644"/>
                  <a:pt x="7811" y="14630"/>
                  <a:pt x="7799" y="14605"/>
                </a:cubicBezTo>
                <a:cubicBezTo>
                  <a:pt x="7787" y="14581"/>
                  <a:pt x="7772" y="14568"/>
                  <a:pt x="7759" y="14545"/>
                </a:cubicBezTo>
              </a:path>
            </a:pathLst>
          </a:custGeom>
          <a:noFill/>
          <a:ln cap="sq" w="228600">
            <a:solidFill>
              <a:srgbClr val="ff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65520" y="5214960"/>
            <a:ext cx="1357200" cy="436680"/>
          </a:xfrm>
          <a:custGeom>
            <a:avLst/>
            <a:gdLst/>
            <a:ahLst/>
            <a:rect l="l" t="t" r="r" b="b"/>
            <a:pathLst>
              <a:path w="3771" h="1211">
                <a:moveTo>
                  <a:pt x="7680" y="14506"/>
                </a:moveTo>
                <a:cubicBezTo>
                  <a:pt x="7702" y="14506"/>
                  <a:pt x="7711" y="14504"/>
                  <a:pt x="7719" y="14486"/>
                </a:cubicBezTo>
                <a:cubicBezTo>
                  <a:pt x="7742" y="14506"/>
                  <a:pt x="7709" y="14528"/>
                  <a:pt x="7759" y="14545"/>
                </a:cubicBezTo>
                <a:cubicBezTo>
                  <a:pt x="7807" y="14561"/>
                  <a:pt x="7852" y="14544"/>
                  <a:pt x="7898" y="14565"/>
                </a:cubicBezTo>
                <a:cubicBezTo>
                  <a:pt x="7928" y="14579"/>
                  <a:pt x="7953" y="14594"/>
                  <a:pt x="7977" y="14625"/>
                </a:cubicBezTo>
                <a:cubicBezTo>
                  <a:pt x="7997" y="14650"/>
                  <a:pt x="8024" y="14686"/>
                  <a:pt x="8037" y="14704"/>
                </a:cubicBezTo>
                <a:cubicBezTo>
                  <a:pt x="8066" y="14746"/>
                  <a:pt x="8053" y="14747"/>
                  <a:pt x="8096" y="14784"/>
                </a:cubicBezTo>
                <a:cubicBezTo>
                  <a:pt x="8096" y="14803"/>
                  <a:pt x="8096" y="14810"/>
                  <a:pt x="8116" y="14803"/>
                </a:cubicBezTo>
                <a:cubicBezTo>
                  <a:pt x="8091" y="14793"/>
                  <a:pt x="8068" y="14790"/>
                  <a:pt x="8057" y="14784"/>
                </a:cubicBezTo>
                <a:cubicBezTo>
                  <a:pt x="8018" y="14763"/>
                  <a:pt x="8021" y="14753"/>
                  <a:pt x="7977" y="14744"/>
                </a:cubicBezTo>
                <a:cubicBezTo>
                  <a:pt x="7922" y="14733"/>
                  <a:pt x="7867" y="14761"/>
                  <a:pt x="7838" y="14724"/>
                </a:cubicBezTo>
                <a:cubicBezTo>
                  <a:pt x="7809" y="14687"/>
                  <a:pt x="7812" y="14611"/>
                  <a:pt x="7818" y="14565"/>
                </a:cubicBezTo>
                <a:cubicBezTo>
                  <a:pt x="7824" y="14523"/>
                  <a:pt x="7828" y="14549"/>
                  <a:pt x="7838" y="14506"/>
                </a:cubicBezTo>
                <a:cubicBezTo>
                  <a:pt x="7838" y="14554"/>
                  <a:pt x="7816" y="14675"/>
                  <a:pt x="7858" y="14704"/>
                </a:cubicBezTo>
                <a:cubicBezTo>
                  <a:pt x="7903" y="14735"/>
                  <a:pt x="8005" y="14679"/>
                  <a:pt x="8037" y="14684"/>
                </a:cubicBezTo>
                <a:cubicBezTo>
                  <a:pt x="8080" y="14691"/>
                  <a:pt x="8095" y="14697"/>
                  <a:pt x="8136" y="14724"/>
                </a:cubicBezTo>
                <a:cubicBezTo>
                  <a:pt x="8173" y="14748"/>
                  <a:pt x="8162" y="14759"/>
                  <a:pt x="8195" y="14784"/>
                </a:cubicBezTo>
                <a:cubicBezTo>
                  <a:pt x="8211" y="14796"/>
                  <a:pt x="8234" y="14808"/>
                  <a:pt x="8255" y="14823"/>
                </a:cubicBezTo>
                <a:cubicBezTo>
                  <a:pt x="8274" y="14836"/>
                  <a:pt x="8287" y="14849"/>
                  <a:pt x="8315" y="14863"/>
                </a:cubicBezTo>
                <a:cubicBezTo>
                  <a:pt x="8344" y="14877"/>
                  <a:pt x="8356" y="14870"/>
                  <a:pt x="8374" y="14883"/>
                </a:cubicBezTo>
                <a:cubicBezTo>
                  <a:pt x="8405" y="14906"/>
                  <a:pt x="8404" y="14923"/>
                  <a:pt x="8434" y="14942"/>
                </a:cubicBezTo>
                <a:cubicBezTo>
                  <a:pt x="8461" y="14959"/>
                  <a:pt x="8482" y="14955"/>
                  <a:pt x="8513" y="14982"/>
                </a:cubicBezTo>
                <a:cubicBezTo>
                  <a:pt x="8541" y="15006"/>
                  <a:pt x="8563" y="15040"/>
                  <a:pt x="8572" y="15061"/>
                </a:cubicBezTo>
                <a:cubicBezTo>
                  <a:pt x="8584" y="15089"/>
                  <a:pt x="8577" y="15112"/>
                  <a:pt x="8592" y="15141"/>
                </a:cubicBezTo>
                <a:cubicBezTo>
                  <a:pt x="8605" y="15167"/>
                  <a:pt x="8612" y="15179"/>
                  <a:pt x="8632" y="15200"/>
                </a:cubicBezTo>
                <a:cubicBezTo>
                  <a:pt x="8684" y="15254"/>
                  <a:pt x="8648" y="15223"/>
                  <a:pt x="8711" y="15240"/>
                </a:cubicBezTo>
                <a:cubicBezTo>
                  <a:pt x="8764" y="15254"/>
                  <a:pt x="8902" y="15257"/>
                  <a:pt x="8930" y="15260"/>
                </a:cubicBezTo>
                <a:cubicBezTo>
                  <a:pt x="8991" y="15266"/>
                  <a:pt x="9031" y="15260"/>
                  <a:pt x="9088" y="15280"/>
                </a:cubicBezTo>
                <a:cubicBezTo>
                  <a:pt x="9121" y="15292"/>
                  <a:pt x="9156" y="15325"/>
                  <a:pt x="9188" y="15339"/>
                </a:cubicBezTo>
                <a:cubicBezTo>
                  <a:pt x="9234" y="15359"/>
                  <a:pt x="9285" y="15382"/>
                  <a:pt x="9327" y="15399"/>
                </a:cubicBezTo>
                <a:cubicBezTo>
                  <a:pt x="9360" y="15412"/>
                  <a:pt x="9415" y="15450"/>
                  <a:pt x="9446" y="15458"/>
                </a:cubicBezTo>
                <a:cubicBezTo>
                  <a:pt x="9614" y="15503"/>
                  <a:pt x="9854" y="15442"/>
                  <a:pt x="10001" y="15478"/>
                </a:cubicBezTo>
                <a:cubicBezTo>
                  <a:pt x="10036" y="15486"/>
                  <a:pt x="10050" y="15485"/>
                  <a:pt x="10081" y="15498"/>
                </a:cubicBezTo>
                <a:cubicBezTo>
                  <a:pt x="10107" y="15508"/>
                  <a:pt x="10135" y="15529"/>
                  <a:pt x="10160" y="15538"/>
                </a:cubicBezTo>
                <a:cubicBezTo>
                  <a:pt x="10178" y="15545"/>
                  <a:pt x="10224" y="15548"/>
                  <a:pt x="10239" y="15558"/>
                </a:cubicBezTo>
                <a:cubicBezTo>
                  <a:pt x="10268" y="15577"/>
                  <a:pt x="10265" y="15609"/>
                  <a:pt x="10299" y="15617"/>
                </a:cubicBezTo>
                <a:cubicBezTo>
                  <a:pt x="10504" y="15668"/>
                  <a:pt x="10754" y="15592"/>
                  <a:pt x="10954" y="15637"/>
                </a:cubicBezTo>
                <a:cubicBezTo>
                  <a:pt x="10994" y="15646"/>
                  <a:pt x="11049" y="15665"/>
                  <a:pt x="11093" y="15677"/>
                </a:cubicBezTo>
                <a:cubicBezTo>
                  <a:pt x="11127" y="15686"/>
                  <a:pt x="11157" y="15692"/>
                  <a:pt x="11192" y="15696"/>
                </a:cubicBezTo>
                <a:cubicBezTo>
                  <a:pt x="11276" y="15705"/>
                  <a:pt x="11366" y="15696"/>
                  <a:pt x="11450" y="15696"/>
                </a:cubicBezTo>
                <a:cubicBezTo>
                  <a:pt x="11422" y="15680"/>
                  <a:pt x="11420" y="15649"/>
                  <a:pt x="11390" y="15637"/>
                </a:cubicBezTo>
                <a:cubicBezTo>
                  <a:pt x="11364" y="15637"/>
                  <a:pt x="11351" y="15637"/>
                  <a:pt x="11331" y="15637"/>
                </a:cubicBezTo>
              </a:path>
            </a:pathLst>
          </a:custGeom>
          <a:noFill/>
          <a:ln cap="sq" w="228600">
            <a:solidFill>
              <a:srgbClr val="ff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22640" y="5451480"/>
            <a:ext cx="900000" cy="506520"/>
          </a:xfrm>
          <a:custGeom>
            <a:avLst/>
            <a:gdLst/>
            <a:ahLst/>
            <a:rect l="l" t="t" r="r" b="b"/>
            <a:pathLst>
              <a:path w="2501" h="1410">
                <a:moveTo>
                  <a:pt x="11172" y="15577"/>
                </a:moveTo>
                <a:cubicBezTo>
                  <a:pt x="11007" y="15577"/>
                  <a:pt x="10907" y="15606"/>
                  <a:pt x="10755" y="15677"/>
                </a:cubicBezTo>
                <a:cubicBezTo>
                  <a:pt x="10666" y="15719"/>
                  <a:pt x="10587" y="15749"/>
                  <a:pt x="10497" y="15776"/>
                </a:cubicBezTo>
                <a:cubicBezTo>
                  <a:pt x="10458" y="15788"/>
                  <a:pt x="10427" y="15794"/>
                  <a:pt x="10378" y="15796"/>
                </a:cubicBezTo>
                <a:cubicBezTo>
                  <a:pt x="10314" y="15798"/>
                  <a:pt x="10328" y="15785"/>
                  <a:pt x="10279" y="15756"/>
                </a:cubicBezTo>
                <a:cubicBezTo>
                  <a:pt x="10245" y="15735"/>
                  <a:pt x="10234" y="15730"/>
                  <a:pt x="10200" y="15716"/>
                </a:cubicBezTo>
                <a:cubicBezTo>
                  <a:pt x="10158" y="15699"/>
                  <a:pt x="10153" y="15698"/>
                  <a:pt x="10100" y="15696"/>
                </a:cubicBezTo>
                <a:cubicBezTo>
                  <a:pt x="10012" y="15693"/>
                  <a:pt x="9927" y="15693"/>
                  <a:pt x="9842" y="15677"/>
                </a:cubicBezTo>
                <a:cubicBezTo>
                  <a:pt x="9743" y="15658"/>
                  <a:pt x="9645" y="15608"/>
                  <a:pt x="9545" y="15597"/>
                </a:cubicBezTo>
                <a:cubicBezTo>
                  <a:pt x="9436" y="15584"/>
                  <a:pt x="9307" y="15588"/>
                  <a:pt x="9208" y="15577"/>
                </a:cubicBezTo>
                <a:cubicBezTo>
                  <a:pt x="9166" y="15572"/>
                  <a:pt x="9127" y="15574"/>
                  <a:pt x="9088" y="15558"/>
                </a:cubicBezTo>
                <a:cubicBezTo>
                  <a:pt x="9035" y="15536"/>
                  <a:pt x="9002" y="15531"/>
                  <a:pt x="8950" y="15518"/>
                </a:cubicBezTo>
                <a:cubicBezTo>
                  <a:pt x="8907" y="15507"/>
                  <a:pt x="8853" y="15511"/>
                  <a:pt x="8811" y="15498"/>
                </a:cubicBezTo>
                <a:cubicBezTo>
                  <a:pt x="8804" y="15491"/>
                  <a:pt x="8798" y="15485"/>
                  <a:pt x="8791" y="15478"/>
                </a:cubicBezTo>
                <a:cubicBezTo>
                  <a:pt x="8816" y="15453"/>
                  <a:pt x="8839" y="15438"/>
                  <a:pt x="8850" y="15419"/>
                </a:cubicBezTo>
                <a:cubicBezTo>
                  <a:pt x="8883" y="15362"/>
                  <a:pt x="8870" y="15379"/>
                  <a:pt x="8830" y="15319"/>
                </a:cubicBezTo>
                <a:cubicBezTo>
                  <a:pt x="8811" y="15292"/>
                  <a:pt x="8787" y="15294"/>
                  <a:pt x="8771" y="15280"/>
                </a:cubicBezTo>
                <a:cubicBezTo>
                  <a:pt x="8746" y="15259"/>
                  <a:pt x="8733" y="15254"/>
                  <a:pt x="8711" y="15220"/>
                </a:cubicBezTo>
                <a:cubicBezTo>
                  <a:pt x="8709" y="15217"/>
                  <a:pt x="8672" y="15178"/>
                  <a:pt x="8672" y="15161"/>
                </a:cubicBezTo>
                <a:cubicBezTo>
                  <a:pt x="8672" y="15141"/>
                  <a:pt x="8672" y="15134"/>
                  <a:pt x="8692" y="15141"/>
                </a:cubicBezTo>
                <a:cubicBezTo>
                  <a:pt x="8698" y="15169"/>
                  <a:pt x="8710" y="15184"/>
                  <a:pt x="8711" y="15220"/>
                </a:cubicBezTo>
                <a:cubicBezTo>
                  <a:pt x="8725" y="15662"/>
                  <a:pt x="8711" y="16107"/>
                  <a:pt x="8711" y="16550"/>
                </a:cubicBezTo>
              </a:path>
            </a:pathLst>
          </a:custGeom>
          <a:noFill/>
          <a:ln cap="sq" w="228600">
            <a:solidFill>
              <a:srgbClr val="ff00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28840" y="5929200"/>
            <a:ext cx="414360" cy="500040"/>
          </a:xfrm>
          <a:custGeom>
            <a:avLst/>
            <a:gdLst/>
            <a:ahLst/>
            <a:rect l="l" t="t" r="r" b="b"/>
            <a:pathLst>
              <a:path w="1152" h="1390">
                <a:moveTo>
                  <a:pt x="5080" y="16470"/>
                </a:moveTo>
                <a:cubicBezTo>
                  <a:pt x="5068" y="16484"/>
                  <a:pt x="5054" y="16503"/>
                  <a:pt x="5040" y="16530"/>
                </a:cubicBezTo>
                <a:cubicBezTo>
                  <a:pt x="5026" y="16556"/>
                  <a:pt x="5029" y="16581"/>
                  <a:pt x="5020" y="16609"/>
                </a:cubicBezTo>
                <a:cubicBezTo>
                  <a:pt x="5010" y="16639"/>
                  <a:pt x="4995" y="16676"/>
                  <a:pt x="4981" y="16708"/>
                </a:cubicBezTo>
                <a:cubicBezTo>
                  <a:pt x="4971" y="16731"/>
                  <a:pt x="4953" y="16814"/>
                  <a:pt x="4941" y="16828"/>
                </a:cubicBezTo>
                <a:cubicBezTo>
                  <a:pt x="4921" y="16851"/>
                  <a:pt x="4896" y="16854"/>
                  <a:pt x="4882" y="16867"/>
                </a:cubicBezTo>
                <a:cubicBezTo>
                  <a:pt x="4866" y="16882"/>
                  <a:pt x="4824" y="16922"/>
                  <a:pt x="4822" y="16927"/>
                </a:cubicBezTo>
                <a:cubicBezTo>
                  <a:pt x="4803" y="16964"/>
                  <a:pt x="4796" y="17010"/>
                  <a:pt x="4782" y="17046"/>
                </a:cubicBezTo>
                <a:cubicBezTo>
                  <a:pt x="4776" y="17062"/>
                  <a:pt x="4741" y="17088"/>
                  <a:pt x="4723" y="17105"/>
                </a:cubicBezTo>
                <a:cubicBezTo>
                  <a:pt x="4694" y="17132"/>
                  <a:pt x="4679" y="17155"/>
                  <a:pt x="4643" y="17165"/>
                </a:cubicBezTo>
                <a:cubicBezTo>
                  <a:pt x="4603" y="17176"/>
                  <a:pt x="4564" y="17174"/>
                  <a:pt x="4544" y="17185"/>
                </a:cubicBezTo>
                <a:cubicBezTo>
                  <a:pt x="4520" y="17198"/>
                  <a:pt x="4485" y="17193"/>
                  <a:pt x="4465" y="17205"/>
                </a:cubicBezTo>
                <a:cubicBezTo>
                  <a:pt x="4418" y="17233"/>
                  <a:pt x="4420" y="17291"/>
                  <a:pt x="4385" y="17324"/>
                </a:cubicBezTo>
                <a:cubicBezTo>
                  <a:pt x="4363" y="17344"/>
                  <a:pt x="4349" y="17355"/>
                  <a:pt x="4326" y="17383"/>
                </a:cubicBezTo>
                <a:cubicBezTo>
                  <a:pt x="4319" y="17392"/>
                  <a:pt x="4276" y="17412"/>
                  <a:pt x="4266" y="17423"/>
                </a:cubicBezTo>
                <a:cubicBezTo>
                  <a:pt x="4245" y="17447"/>
                  <a:pt x="4220" y="17453"/>
                  <a:pt x="4207" y="17482"/>
                </a:cubicBezTo>
                <a:cubicBezTo>
                  <a:pt x="4195" y="17509"/>
                  <a:pt x="4207" y="17526"/>
                  <a:pt x="4187" y="17542"/>
                </a:cubicBezTo>
                <a:cubicBezTo>
                  <a:pt x="4154" y="17567"/>
                  <a:pt x="4149" y="17565"/>
                  <a:pt x="4128" y="17601"/>
                </a:cubicBezTo>
                <a:cubicBezTo>
                  <a:pt x="4111" y="17629"/>
                  <a:pt x="4078" y="17670"/>
                  <a:pt x="4068" y="17701"/>
                </a:cubicBezTo>
                <a:cubicBezTo>
                  <a:pt x="4059" y="17729"/>
                  <a:pt x="4067" y="17745"/>
                  <a:pt x="4048" y="17760"/>
                </a:cubicBezTo>
                <a:cubicBezTo>
                  <a:pt x="4016" y="17784"/>
                  <a:pt x="4010" y="17794"/>
                  <a:pt x="3989" y="17820"/>
                </a:cubicBezTo>
                <a:cubicBezTo>
                  <a:pt x="3976" y="17835"/>
                  <a:pt x="3980" y="17842"/>
                  <a:pt x="3969" y="17859"/>
                </a:cubicBezTo>
                <a:cubicBezTo>
                  <a:pt x="4015" y="17848"/>
                  <a:pt x="4002" y="17856"/>
                  <a:pt x="4048" y="17820"/>
                </a:cubicBezTo>
                <a:cubicBezTo>
                  <a:pt x="4074" y="17800"/>
                  <a:pt x="4092" y="17754"/>
                  <a:pt x="4108" y="17740"/>
                </a:cubicBezTo>
                <a:cubicBezTo>
                  <a:pt x="4148" y="17705"/>
                  <a:pt x="4147" y="17700"/>
                  <a:pt x="4167" y="17641"/>
                </a:cubicBezTo>
                <a:cubicBezTo>
                  <a:pt x="4172" y="17625"/>
                  <a:pt x="4218" y="17552"/>
                  <a:pt x="4227" y="17542"/>
                </a:cubicBezTo>
                <a:cubicBezTo>
                  <a:pt x="4239" y="17530"/>
                  <a:pt x="4275" y="17510"/>
                  <a:pt x="4286" y="17502"/>
                </a:cubicBezTo>
                <a:cubicBezTo>
                  <a:pt x="4331" y="17471"/>
                  <a:pt x="4356" y="17457"/>
                  <a:pt x="4385" y="17423"/>
                </a:cubicBezTo>
                <a:cubicBezTo>
                  <a:pt x="4407" y="17397"/>
                  <a:pt x="4442" y="17359"/>
                  <a:pt x="4465" y="17343"/>
                </a:cubicBezTo>
                <a:cubicBezTo>
                  <a:pt x="4501" y="17317"/>
                  <a:pt x="4492" y="17310"/>
                  <a:pt x="4524" y="17284"/>
                </a:cubicBezTo>
                <a:cubicBezTo>
                  <a:pt x="4546" y="17266"/>
                  <a:pt x="4560" y="17243"/>
                  <a:pt x="4584" y="17224"/>
                </a:cubicBezTo>
                <a:cubicBezTo>
                  <a:pt x="4605" y="17208"/>
                  <a:pt x="4647" y="17199"/>
                  <a:pt x="4663" y="17165"/>
                </a:cubicBezTo>
                <a:cubicBezTo>
                  <a:pt x="4673" y="17143"/>
                  <a:pt x="4665" y="17103"/>
                  <a:pt x="4683" y="17085"/>
                </a:cubicBezTo>
                <a:cubicBezTo>
                  <a:pt x="4714" y="17055"/>
                  <a:pt x="4714" y="17059"/>
                  <a:pt x="4743" y="17026"/>
                </a:cubicBezTo>
                <a:cubicBezTo>
                  <a:pt x="4768" y="16997"/>
                  <a:pt x="4822" y="16966"/>
                  <a:pt x="4822" y="16927"/>
                </a:cubicBezTo>
                <a:cubicBezTo>
                  <a:pt x="4822" y="16883"/>
                  <a:pt x="4786" y="16884"/>
                  <a:pt x="4762" y="16867"/>
                </a:cubicBezTo>
                <a:cubicBezTo>
                  <a:pt x="4737" y="16898"/>
                  <a:pt x="4732" y="16886"/>
                  <a:pt x="4703" y="16907"/>
                </a:cubicBezTo>
                <a:cubicBezTo>
                  <a:pt x="4662" y="16936"/>
                  <a:pt x="4680" y="16954"/>
                  <a:pt x="4663" y="16986"/>
                </a:cubicBezTo>
                <a:cubicBezTo>
                  <a:pt x="4654" y="17003"/>
                  <a:pt x="4648" y="16989"/>
                  <a:pt x="4643" y="17026"/>
                </a:cubicBezTo>
                <a:cubicBezTo>
                  <a:pt x="4667" y="16990"/>
                  <a:pt x="4657" y="16981"/>
                  <a:pt x="4683" y="16947"/>
                </a:cubicBezTo>
                <a:cubicBezTo>
                  <a:pt x="4708" y="16913"/>
                  <a:pt x="4707" y="16898"/>
                  <a:pt x="4723" y="16867"/>
                </a:cubicBezTo>
                <a:cubicBezTo>
                  <a:pt x="4734" y="16846"/>
                  <a:pt x="4768" y="16781"/>
                  <a:pt x="4782" y="16768"/>
                </a:cubicBezTo>
                <a:cubicBezTo>
                  <a:pt x="4823" y="16729"/>
                  <a:pt x="4842" y="16710"/>
                  <a:pt x="4882" y="16669"/>
                </a:cubicBezTo>
                <a:cubicBezTo>
                  <a:pt x="4896" y="16654"/>
                  <a:pt x="4926" y="16640"/>
                  <a:pt x="4961" y="16649"/>
                </a:cubicBezTo>
                <a:cubicBezTo>
                  <a:pt x="4966" y="16650"/>
                  <a:pt x="4989" y="16667"/>
                  <a:pt x="5020" y="16669"/>
                </a:cubicBezTo>
                <a:cubicBezTo>
                  <a:pt x="5053" y="16671"/>
                  <a:pt x="5087" y="16669"/>
                  <a:pt x="5120" y="16669"/>
                </a:cubicBezTo>
                <a:cubicBezTo>
                  <a:pt x="5105" y="16699"/>
                  <a:pt x="5088" y="16714"/>
                  <a:pt x="5080" y="16748"/>
                </a:cubicBezTo>
                <a:cubicBezTo>
                  <a:pt x="5075" y="16772"/>
                  <a:pt x="5080" y="16804"/>
                  <a:pt x="5080" y="16828"/>
                </a:cubicBezTo>
                <a:cubicBezTo>
                  <a:pt x="5039" y="16823"/>
                  <a:pt x="5035" y="16829"/>
                  <a:pt x="5001" y="16808"/>
                </a:cubicBezTo>
                <a:cubicBezTo>
                  <a:pt x="4976" y="16792"/>
                  <a:pt x="4979" y="16793"/>
                  <a:pt x="4941" y="16788"/>
                </a:cubicBezTo>
                <a:cubicBezTo>
                  <a:pt x="4908" y="16828"/>
                  <a:pt x="4898" y="16811"/>
                  <a:pt x="4862" y="16847"/>
                </a:cubicBezTo>
                <a:cubicBezTo>
                  <a:pt x="4846" y="16863"/>
                  <a:pt x="4815" y="16923"/>
                  <a:pt x="4802" y="16947"/>
                </a:cubicBezTo>
                <a:cubicBezTo>
                  <a:pt x="4780" y="16986"/>
                  <a:pt x="4748" y="17003"/>
                  <a:pt x="4743" y="17006"/>
                </a:cubicBezTo>
                <a:cubicBezTo>
                  <a:pt x="4772" y="16940"/>
                  <a:pt x="4793" y="16928"/>
                  <a:pt x="4842" y="16887"/>
                </a:cubicBezTo>
                <a:cubicBezTo>
                  <a:pt x="4858" y="16874"/>
                  <a:pt x="4897" y="16829"/>
                  <a:pt x="4901" y="16828"/>
                </a:cubicBezTo>
                <a:cubicBezTo>
                  <a:pt x="4928" y="16818"/>
                  <a:pt x="4949" y="16814"/>
                  <a:pt x="4961" y="16808"/>
                </a:cubicBezTo>
                <a:cubicBezTo>
                  <a:pt x="4984" y="16796"/>
                  <a:pt x="5017" y="16799"/>
                  <a:pt x="5040" y="16788"/>
                </a:cubicBezTo>
                <a:cubicBezTo>
                  <a:pt x="5067" y="16775"/>
                  <a:pt x="5054" y="16779"/>
                  <a:pt x="5080" y="16748"/>
                </a:cubicBezTo>
              </a:path>
            </a:pathLst>
          </a:custGeom>
          <a:noFill/>
          <a:ln cap="sq" w="228600">
            <a:solidFill>
              <a:srgbClr val="c16059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ИРОДНЫЕ ЗОНЫ</a:t>
            </a:r>
            <a:br>
              <a:rPr sz="2000"/>
            </a:b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ЗАДАНИЕ№9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7d47d"/>
                </a:solidFill>
                <a:uFillTx/>
                <a:latin typeface="Arial"/>
              </a:rPr>
              <a:t>КАКОЕ ЗНАЧЕНИЕ ИМЕЕТ ПЕРУАНСКОЕ ТЕЧЕНИЕ В ОБРАЗОВАНИИ  БЕРЕГОВОЙ ПУСТЫНИ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7d47d"/>
                </a:solidFill>
                <a:uFillTx/>
                <a:latin typeface="Arial"/>
              </a:rPr>
              <a:t>Как называеется эта пустыня? Где находится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635280" y="2349360"/>
            <a:ext cx="40147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ИРОДНЫЕ ЗОН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f1311"/>
                </a:solidFill>
                <a:uFillTx/>
                <a:latin typeface="Arial"/>
              </a:rPr>
              <a:t>ЗАДАНИЕ№1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В КАКУЮ ПРИРОДНУЮ ЗОНУ ВЫ ПОПАДЁТЕ, ПЕРЕМЕЩАЯСЬ ИЗ ТОЧКИ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В ТОЧКУ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4888080" y="2046240"/>
            <a:ext cx="1904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ЗАДАНИЕ №11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КАК НАЗЫВАЕТСЯ ПРЕДСТАВЛЕННАЯ ПРИРОДНАЯ ЗОНА?                           Где расположена ?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16200" cy="44971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032000" y="1598760"/>
            <a:ext cx="3617640" cy="21715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696888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ЗАДАНИЕ №12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НАЗОВИТЕ ПРЕДСТАВИТЕЛЕЙ РАСТИТЕЛЬНОГО МИРА, КОТОРЫЕ ВСТРЕЧАЮТСЯ  НА МАТЕРИКАХ Африка и Австралия?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076720" y="3922560"/>
            <a:ext cx="1528920" cy="21733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392720" y="15987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1003320" y="3922560"/>
            <a:ext cx="2135160" cy="21733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62388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 КАКИХ ПРИРОДНЫХ ЗОНАХ ОБИТАЮТ ПРЕДСТАВЛЕННЫЕ ПТИЦЫ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392720" y="3922560"/>
            <a:ext cx="2896920" cy="21733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2360520" cy="24177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623880" y="3922560"/>
            <a:ext cx="2894040" cy="21733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1351080" y="1598760"/>
            <a:ext cx="22129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1611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Цель урока: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овторить и обобщить тему материк “Южная Америка”; закрепить знания по тем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280" y="4869000"/>
            <a:ext cx="597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ДИКОВИНЫ ЮЖНОЙ АМЕРИКИ. СЕЛЬВА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16200" cy="21715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3617640" cy="20923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4300560" y="1598760"/>
            <a:ext cx="3079800" cy="21715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2700360" y="4005360"/>
            <a:ext cx="2897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16200" cy="21715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600720" cy="3456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3851280" y="260280"/>
            <a:ext cx="3436920" cy="35100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1019160" y="3922560"/>
            <a:ext cx="50655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АМПИР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7543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АВАНН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16200" cy="21715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63160" y="3922200"/>
            <a:ext cx="3616200" cy="21733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780000" y="1628640"/>
            <a:ext cx="3887640" cy="46944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324000" y="1557360"/>
            <a:ext cx="3456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АМП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47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ЕДСТАВИТЕЛИ ПАМП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21308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535640" y="1598760"/>
            <a:ext cx="2609640" cy="21715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22440" y="3922560"/>
            <a:ext cx="2896920" cy="21733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623880" y="1598760"/>
            <a:ext cx="2895480" cy="21715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557360" y="3537000"/>
            <a:ext cx="1208160" cy="263520"/>
          </a:xfrm>
          <a:custGeom>
            <a:avLst/>
            <a:gdLst/>
            <a:ahLst/>
            <a:rect l="l" t="t" r="r" b="b"/>
            <a:pathLst>
              <a:path w="3355" h="735">
                <a:moveTo>
                  <a:pt x="4326" y="9981"/>
                </a:moveTo>
                <a:cubicBezTo>
                  <a:pt x="4366" y="9991"/>
                  <a:pt x="4366" y="10000"/>
                  <a:pt x="4366" y="10041"/>
                </a:cubicBezTo>
                <a:cubicBezTo>
                  <a:pt x="4366" y="10193"/>
                  <a:pt x="4366" y="10345"/>
                  <a:pt x="4366" y="10497"/>
                </a:cubicBezTo>
              </a:path>
              <a:path w="3355" h="735">
                <a:moveTo>
                  <a:pt x="4385" y="10220"/>
                </a:moveTo>
                <a:cubicBezTo>
                  <a:pt x="4416" y="10197"/>
                  <a:pt x="4426" y="10200"/>
                  <a:pt x="4465" y="10200"/>
                </a:cubicBezTo>
                <a:cubicBezTo>
                  <a:pt x="4498" y="10200"/>
                  <a:pt x="4531" y="10200"/>
                  <a:pt x="4564" y="10200"/>
                </a:cubicBezTo>
              </a:path>
              <a:path w="3355" h="735">
                <a:moveTo>
                  <a:pt x="4683" y="9942"/>
                </a:moveTo>
                <a:cubicBezTo>
                  <a:pt x="4683" y="10114"/>
                  <a:pt x="4683" y="10286"/>
                  <a:pt x="4683" y="10458"/>
                </a:cubicBezTo>
              </a:path>
              <a:path w="3355" h="735">
                <a:moveTo>
                  <a:pt x="5179" y="9981"/>
                </a:moveTo>
                <a:cubicBezTo>
                  <a:pt x="5125" y="9981"/>
                  <a:pt x="5044" y="9968"/>
                  <a:pt x="5020" y="10001"/>
                </a:cubicBezTo>
                <a:cubicBezTo>
                  <a:pt x="4997" y="10033"/>
                  <a:pt x="4975" y="10020"/>
                  <a:pt x="4961" y="10061"/>
                </a:cubicBezTo>
                <a:cubicBezTo>
                  <a:pt x="4951" y="10091"/>
                  <a:pt x="4941" y="10105"/>
                  <a:pt x="4941" y="10140"/>
                </a:cubicBezTo>
                <a:cubicBezTo>
                  <a:pt x="4941" y="10229"/>
                  <a:pt x="4935" y="10320"/>
                  <a:pt x="4961" y="10398"/>
                </a:cubicBezTo>
                <a:cubicBezTo>
                  <a:pt x="4971" y="10429"/>
                  <a:pt x="4982" y="10454"/>
                  <a:pt x="5020" y="10458"/>
                </a:cubicBezTo>
                <a:cubicBezTo>
                  <a:pt x="5065" y="10463"/>
                  <a:pt x="5082" y="10447"/>
                  <a:pt x="5100" y="10438"/>
                </a:cubicBezTo>
                <a:cubicBezTo>
                  <a:pt x="5126" y="10425"/>
                  <a:pt x="5151" y="10390"/>
                  <a:pt x="5179" y="10378"/>
                </a:cubicBezTo>
                <a:cubicBezTo>
                  <a:pt x="5203" y="10367"/>
                  <a:pt x="5205" y="10334"/>
                  <a:pt x="5239" y="10319"/>
                </a:cubicBezTo>
                <a:cubicBezTo>
                  <a:pt x="5268" y="10306"/>
                  <a:pt x="5259" y="10297"/>
                  <a:pt x="5259" y="10259"/>
                </a:cubicBezTo>
                <a:cubicBezTo>
                  <a:pt x="5259" y="10160"/>
                  <a:pt x="5259" y="10061"/>
                  <a:pt x="5259" y="9962"/>
                </a:cubicBezTo>
              </a:path>
              <a:path w="3355" h="735">
                <a:moveTo>
                  <a:pt x="5913" y="10001"/>
                </a:moveTo>
                <a:cubicBezTo>
                  <a:pt x="5842" y="10030"/>
                  <a:pt x="5883" y="9984"/>
                  <a:pt x="5854" y="9962"/>
                </a:cubicBezTo>
                <a:cubicBezTo>
                  <a:pt x="5841" y="9952"/>
                  <a:pt x="5801" y="9907"/>
                  <a:pt x="5794" y="9902"/>
                </a:cubicBezTo>
                <a:cubicBezTo>
                  <a:pt x="5769" y="9885"/>
                  <a:pt x="5609" y="9896"/>
                  <a:pt x="5596" y="9922"/>
                </a:cubicBezTo>
                <a:cubicBezTo>
                  <a:pt x="5585" y="9945"/>
                  <a:pt x="5563" y="9954"/>
                  <a:pt x="5536" y="9981"/>
                </a:cubicBezTo>
                <a:cubicBezTo>
                  <a:pt x="5516" y="10001"/>
                  <a:pt x="5500" y="10034"/>
                  <a:pt x="5497" y="10061"/>
                </a:cubicBezTo>
                <a:cubicBezTo>
                  <a:pt x="5487" y="10147"/>
                  <a:pt x="5489" y="10286"/>
                  <a:pt x="5517" y="10339"/>
                </a:cubicBezTo>
                <a:cubicBezTo>
                  <a:pt x="5534" y="10371"/>
                  <a:pt x="5541" y="10389"/>
                  <a:pt x="5556" y="10418"/>
                </a:cubicBezTo>
                <a:cubicBezTo>
                  <a:pt x="5570" y="10446"/>
                  <a:pt x="5577" y="10438"/>
                  <a:pt x="5616" y="10438"/>
                </a:cubicBezTo>
                <a:cubicBezTo>
                  <a:pt x="5683" y="10438"/>
                  <a:pt x="5825" y="10457"/>
                  <a:pt x="5854" y="10418"/>
                </a:cubicBezTo>
                <a:cubicBezTo>
                  <a:pt x="5879" y="10385"/>
                  <a:pt x="5935" y="10379"/>
                  <a:pt x="5953" y="10339"/>
                </a:cubicBezTo>
                <a:cubicBezTo>
                  <a:pt x="5962" y="10319"/>
                  <a:pt x="5953" y="10282"/>
                  <a:pt x="5953" y="10259"/>
                </a:cubicBezTo>
              </a:path>
              <a:path w="3355" h="735">
                <a:moveTo>
                  <a:pt x="6191" y="9862"/>
                </a:moveTo>
                <a:cubicBezTo>
                  <a:pt x="6191" y="9911"/>
                  <a:pt x="6163" y="10136"/>
                  <a:pt x="6211" y="10160"/>
                </a:cubicBezTo>
                <a:cubicBezTo>
                  <a:pt x="6248" y="10178"/>
                  <a:pt x="6267" y="10153"/>
                  <a:pt x="6290" y="10200"/>
                </a:cubicBezTo>
                <a:cubicBezTo>
                  <a:pt x="6370" y="10200"/>
                  <a:pt x="6456" y="10211"/>
                  <a:pt x="6529" y="10180"/>
                </a:cubicBezTo>
              </a:path>
              <a:path w="3355" h="735">
                <a:moveTo>
                  <a:pt x="6548" y="9823"/>
                </a:moveTo>
                <a:cubicBezTo>
                  <a:pt x="6548" y="9955"/>
                  <a:pt x="6548" y="10088"/>
                  <a:pt x="6548" y="10220"/>
                </a:cubicBezTo>
                <a:cubicBezTo>
                  <a:pt x="6519" y="10230"/>
                  <a:pt x="6529" y="10244"/>
                  <a:pt x="6529" y="10279"/>
                </a:cubicBezTo>
                <a:cubicBezTo>
                  <a:pt x="6529" y="10286"/>
                  <a:pt x="6529" y="10292"/>
                  <a:pt x="6529" y="10299"/>
                </a:cubicBezTo>
                <a:cubicBezTo>
                  <a:pt x="6479" y="10312"/>
                  <a:pt x="6492" y="10341"/>
                  <a:pt x="6469" y="10378"/>
                </a:cubicBezTo>
                <a:cubicBezTo>
                  <a:pt x="6438" y="10430"/>
                  <a:pt x="6416" y="10404"/>
                  <a:pt x="6370" y="10418"/>
                </a:cubicBezTo>
                <a:cubicBezTo>
                  <a:pt x="6327" y="10431"/>
                  <a:pt x="6288" y="10444"/>
                  <a:pt x="6271" y="10478"/>
                </a:cubicBezTo>
                <a:cubicBezTo>
                  <a:pt x="6251" y="10478"/>
                  <a:pt x="6244" y="10478"/>
                  <a:pt x="6231" y="10478"/>
                </a:cubicBezTo>
              </a:path>
              <a:path w="3355" h="735">
                <a:moveTo>
                  <a:pt x="6687" y="9981"/>
                </a:moveTo>
                <a:cubicBezTo>
                  <a:pt x="6715" y="10016"/>
                  <a:pt x="6727" y="10036"/>
                  <a:pt x="6727" y="10081"/>
                </a:cubicBezTo>
                <a:cubicBezTo>
                  <a:pt x="6727" y="10128"/>
                  <a:pt x="6767" y="10196"/>
                  <a:pt x="6787" y="10239"/>
                </a:cubicBezTo>
                <a:cubicBezTo>
                  <a:pt x="6797" y="10260"/>
                  <a:pt x="6824" y="10328"/>
                  <a:pt x="6846" y="10339"/>
                </a:cubicBezTo>
                <a:cubicBezTo>
                  <a:pt x="6853" y="10339"/>
                  <a:pt x="6859" y="10339"/>
                  <a:pt x="6866" y="10339"/>
                </a:cubicBezTo>
                <a:cubicBezTo>
                  <a:pt x="6866" y="10387"/>
                  <a:pt x="6889" y="10379"/>
                  <a:pt x="6906" y="10418"/>
                </a:cubicBezTo>
                <a:cubicBezTo>
                  <a:pt x="6922" y="10455"/>
                  <a:pt x="6948" y="10446"/>
                  <a:pt x="6965" y="10478"/>
                </a:cubicBezTo>
                <a:cubicBezTo>
                  <a:pt x="6983" y="10514"/>
                  <a:pt x="6992" y="10497"/>
                  <a:pt x="7025" y="10478"/>
                </a:cubicBezTo>
              </a:path>
              <a:path w="3355" h="735">
                <a:moveTo>
                  <a:pt x="7025" y="9902"/>
                </a:moveTo>
                <a:cubicBezTo>
                  <a:pt x="7025" y="9954"/>
                  <a:pt x="7027" y="9974"/>
                  <a:pt x="7005" y="10021"/>
                </a:cubicBezTo>
                <a:cubicBezTo>
                  <a:pt x="6990" y="10052"/>
                  <a:pt x="6968" y="10089"/>
                  <a:pt x="6965" y="10120"/>
                </a:cubicBezTo>
                <a:cubicBezTo>
                  <a:pt x="6961" y="10155"/>
                  <a:pt x="6935" y="10169"/>
                  <a:pt x="6925" y="10200"/>
                </a:cubicBezTo>
                <a:cubicBezTo>
                  <a:pt x="6914" y="10233"/>
                  <a:pt x="6885" y="10273"/>
                  <a:pt x="6866" y="10299"/>
                </a:cubicBezTo>
                <a:cubicBezTo>
                  <a:pt x="6843" y="10332"/>
                  <a:pt x="6831" y="10369"/>
                  <a:pt x="6806" y="10398"/>
                </a:cubicBezTo>
                <a:cubicBezTo>
                  <a:pt x="6758" y="10454"/>
                  <a:pt x="6700" y="10504"/>
                  <a:pt x="6648" y="10557"/>
                </a:cubicBezTo>
              </a:path>
              <a:path w="3355" h="735">
                <a:moveTo>
                  <a:pt x="7560" y="9902"/>
                </a:moveTo>
                <a:cubicBezTo>
                  <a:pt x="7554" y="9895"/>
                  <a:pt x="7547" y="9889"/>
                  <a:pt x="7541" y="9882"/>
                </a:cubicBezTo>
                <a:cubicBezTo>
                  <a:pt x="7520" y="9930"/>
                  <a:pt x="7506" y="9999"/>
                  <a:pt x="7481" y="10041"/>
                </a:cubicBezTo>
                <a:cubicBezTo>
                  <a:pt x="7456" y="10082"/>
                  <a:pt x="7442" y="10116"/>
                  <a:pt x="7422" y="10160"/>
                </a:cubicBezTo>
                <a:cubicBezTo>
                  <a:pt x="7406" y="10195"/>
                  <a:pt x="7386" y="10232"/>
                  <a:pt x="7362" y="10259"/>
                </a:cubicBezTo>
                <a:cubicBezTo>
                  <a:pt x="7339" y="10285"/>
                  <a:pt x="7335" y="10310"/>
                  <a:pt x="7322" y="10339"/>
                </a:cubicBezTo>
                <a:cubicBezTo>
                  <a:pt x="7308" y="10371"/>
                  <a:pt x="7292" y="10408"/>
                  <a:pt x="7283" y="10438"/>
                </a:cubicBezTo>
                <a:cubicBezTo>
                  <a:pt x="7278" y="10453"/>
                  <a:pt x="7283" y="10481"/>
                  <a:pt x="7283" y="10497"/>
                </a:cubicBezTo>
              </a:path>
              <a:path w="3355" h="735">
                <a:moveTo>
                  <a:pt x="7521" y="9902"/>
                </a:moveTo>
                <a:cubicBezTo>
                  <a:pt x="7534" y="9902"/>
                  <a:pt x="7547" y="9902"/>
                  <a:pt x="7560" y="9902"/>
                </a:cubicBezTo>
                <a:cubicBezTo>
                  <a:pt x="7565" y="9921"/>
                  <a:pt x="7570" y="9964"/>
                  <a:pt x="7580" y="9981"/>
                </a:cubicBezTo>
                <a:cubicBezTo>
                  <a:pt x="7596" y="10009"/>
                  <a:pt x="7607" y="10037"/>
                  <a:pt x="7620" y="10061"/>
                </a:cubicBezTo>
                <a:cubicBezTo>
                  <a:pt x="7639" y="10095"/>
                  <a:pt x="7676" y="10121"/>
                  <a:pt x="7680" y="10160"/>
                </a:cubicBezTo>
                <a:cubicBezTo>
                  <a:pt x="7691" y="10263"/>
                  <a:pt x="7680" y="10374"/>
                  <a:pt x="7680" y="10478"/>
                </a:cubicBezTo>
                <a:cubicBezTo>
                  <a:pt x="7680" y="10451"/>
                  <a:pt x="7680" y="10438"/>
                  <a:pt x="7680" y="10418"/>
                </a:cubicBezTo>
              </a:path>
              <a:path w="3355" h="735">
                <a:moveTo>
                  <a:pt x="7441" y="10279"/>
                </a:moveTo>
                <a:cubicBezTo>
                  <a:pt x="7507" y="10279"/>
                  <a:pt x="7574" y="10279"/>
                  <a:pt x="7640" y="102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51040" y="5878440"/>
            <a:ext cx="500040" cy="236520"/>
          </a:xfrm>
          <a:custGeom>
            <a:avLst/>
            <a:gdLst/>
            <a:ahLst/>
            <a:rect l="l" t="t" r="r" b="b"/>
            <a:pathLst>
              <a:path w="1390" h="656">
                <a:moveTo>
                  <a:pt x="5259" y="16391"/>
                </a:moveTo>
                <a:cubicBezTo>
                  <a:pt x="5259" y="16530"/>
                  <a:pt x="5259" y="16669"/>
                  <a:pt x="5259" y="16808"/>
                </a:cubicBezTo>
              </a:path>
              <a:path w="1390" h="656">
                <a:moveTo>
                  <a:pt x="5278" y="16371"/>
                </a:moveTo>
                <a:cubicBezTo>
                  <a:pt x="5221" y="16371"/>
                  <a:pt x="5123" y="16353"/>
                  <a:pt x="5080" y="16391"/>
                </a:cubicBezTo>
                <a:cubicBezTo>
                  <a:pt x="5051" y="16417"/>
                  <a:pt x="5037" y="16444"/>
                  <a:pt x="5020" y="16470"/>
                </a:cubicBezTo>
                <a:cubicBezTo>
                  <a:pt x="5000" y="16501"/>
                  <a:pt x="5001" y="16511"/>
                  <a:pt x="5001" y="16550"/>
                </a:cubicBezTo>
                <a:cubicBezTo>
                  <a:pt x="5001" y="16585"/>
                  <a:pt x="4990" y="16643"/>
                  <a:pt x="5020" y="16669"/>
                </a:cubicBezTo>
                <a:cubicBezTo>
                  <a:pt x="5040" y="16687"/>
                  <a:pt x="5041" y="16716"/>
                  <a:pt x="5060" y="16748"/>
                </a:cubicBezTo>
                <a:cubicBezTo>
                  <a:pt x="5067" y="16755"/>
                  <a:pt x="5073" y="16761"/>
                  <a:pt x="5080" y="16768"/>
                </a:cubicBezTo>
                <a:cubicBezTo>
                  <a:pt x="5107" y="16732"/>
                  <a:pt x="5106" y="16721"/>
                  <a:pt x="5159" y="16708"/>
                </a:cubicBezTo>
                <a:cubicBezTo>
                  <a:pt x="5181" y="16702"/>
                  <a:pt x="5248" y="16671"/>
                  <a:pt x="5259" y="16649"/>
                </a:cubicBezTo>
                <a:cubicBezTo>
                  <a:pt x="5272" y="16623"/>
                  <a:pt x="5267" y="16633"/>
                  <a:pt x="5298" y="16609"/>
                </a:cubicBezTo>
              </a:path>
              <a:path w="1390" h="656">
                <a:moveTo>
                  <a:pt x="5140" y="16847"/>
                </a:moveTo>
                <a:cubicBezTo>
                  <a:pt x="5093" y="16847"/>
                  <a:pt x="5077" y="16855"/>
                  <a:pt x="5040" y="16867"/>
                </a:cubicBezTo>
                <a:cubicBezTo>
                  <a:pt x="4995" y="16882"/>
                  <a:pt x="4961" y="16887"/>
                  <a:pt x="4941" y="16927"/>
                </a:cubicBezTo>
                <a:cubicBezTo>
                  <a:pt x="4884" y="16935"/>
                  <a:pt x="4898" y="16955"/>
                  <a:pt x="4862" y="16966"/>
                </a:cubicBezTo>
              </a:path>
              <a:path w="1390" h="656">
                <a:moveTo>
                  <a:pt x="5259" y="16748"/>
                </a:moveTo>
                <a:cubicBezTo>
                  <a:pt x="5259" y="16775"/>
                  <a:pt x="5259" y="16801"/>
                  <a:pt x="5259" y="16828"/>
                </a:cubicBezTo>
                <a:cubicBezTo>
                  <a:pt x="5288" y="16838"/>
                  <a:pt x="5278" y="16852"/>
                  <a:pt x="5278" y="16887"/>
                </a:cubicBezTo>
                <a:cubicBezTo>
                  <a:pt x="5278" y="16907"/>
                  <a:pt x="5278" y="16927"/>
                  <a:pt x="5278" y="16947"/>
                </a:cubicBezTo>
              </a:path>
              <a:path w="1390" h="656">
                <a:moveTo>
                  <a:pt x="5536" y="16490"/>
                </a:moveTo>
                <a:cubicBezTo>
                  <a:pt x="5536" y="16552"/>
                  <a:pt x="5542" y="16592"/>
                  <a:pt x="5556" y="16649"/>
                </a:cubicBezTo>
                <a:cubicBezTo>
                  <a:pt x="5581" y="16748"/>
                  <a:pt x="5556" y="16883"/>
                  <a:pt x="5556" y="16986"/>
                </a:cubicBezTo>
              </a:path>
              <a:path w="1390" h="656">
                <a:moveTo>
                  <a:pt x="5517" y="16411"/>
                </a:moveTo>
                <a:cubicBezTo>
                  <a:pt x="5555" y="16411"/>
                  <a:pt x="5580" y="16429"/>
                  <a:pt x="5616" y="16431"/>
                </a:cubicBezTo>
                <a:cubicBezTo>
                  <a:pt x="5662" y="16434"/>
                  <a:pt x="5709" y="16431"/>
                  <a:pt x="5755" y="16431"/>
                </a:cubicBezTo>
              </a:path>
              <a:path w="1390" h="656">
                <a:moveTo>
                  <a:pt x="5973" y="16371"/>
                </a:moveTo>
                <a:cubicBezTo>
                  <a:pt x="5973" y="16426"/>
                  <a:pt x="5945" y="16645"/>
                  <a:pt x="5993" y="16669"/>
                </a:cubicBezTo>
                <a:cubicBezTo>
                  <a:pt x="6000" y="16669"/>
                  <a:pt x="6006" y="16669"/>
                  <a:pt x="6013" y="16669"/>
                </a:cubicBezTo>
                <a:cubicBezTo>
                  <a:pt x="6023" y="16699"/>
                  <a:pt x="6036" y="16689"/>
                  <a:pt x="6072" y="16689"/>
                </a:cubicBezTo>
                <a:cubicBezTo>
                  <a:pt x="6118" y="16689"/>
                  <a:pt x="6165" y="16689"/>
                  <a:pt x="6211" y="16689"/>
                </a:cubicBezTo>
              </a:path>
              <a:path w="1390" h="656">
                <a:moveTo>
                  <a:pt x="6251" y="16331"/>
                </a:moveTo>
                <a:cubicBezTo>
                  <a:pt x="6251" y="16457"/>
                  <a:pt x="6314" y="16814"/>
                  <a:pt x="6231" y="16907"/>
                </a:cubicBezTo>
                <a:cubicBezTo>
                  <a:pt x="6207" y="16934"/>
                  <a:pt x="6186" y="16927"/>
                  <a:pt x="6152" y="16927"/>
                </a:cubicBezTo>
                <a:cubicBezTo>
                  <a:pt x="6112" y="16927"/>
                  <a:pt x="6072" y="16927"/>
                  <a:pt x="6032" y="169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71680" y="5900760"/>
            <a:ext cx="399960" cy="243000"/>
          </a:xfrm>
          <a:custGeom>
            <a:avLst/>
            <a:gdLst/>
            <a:ahLst/>
            <a:rect l="l" t="t" r="r" b="b"/>
            <a:pathLst>
              <a:path w="1112" h="676">
                <a:moveTo>
                  <a:pt x="6767" y="16391"/>
                </a:moveTo>
                <a:cubicBezTo>
                  <a:pt x="6767" y="16453"/>
                  <a:pt x="6764" y="16498"/>
                  <a:pt x="6747" y="16550"/>
                </a:cubicBezTo>
                <a:cubicBezTo>
                  <a:pt x="6738" y="16576"/>
                  <a:pt x="6735" y="16605"/>
                  <a:pt x="6727" y="16629"/>
                </a:cubicBezTo>
                <a:cubicBezTo>
                  <a:pt x="6712" y="16675"/>
                  <a:pt x="6706" y="16719"/>
                  <a:pt x="6687" y="16768"/>
                </a:cubicBezTo>
                <a:cubicBezTo>
                  <a:pt x="6670" y="16812"/>
                  <a:pt x="6664" y="16849"/>
                  <a:pt x="6648" y="16887"/>
                </a:cubicBezTo>
                <a:cubicBezTo>
                  <a:pt x="6635" y="16918"/>
                  <a:pt x="6624" y="16962"/>
                  <a:pt x="6608" y="16986"/>
                </a:cubicBezTo>
                <a:cubicBezTo>
                  <a:pt x="6601" y="16993"/>
                  <a:pt x="6595" y="16999"/>
                  <a:pt x="6588" y="17006"/>
                </a:cubicBezTo>
              </a:path>
              <a:path w="1112" h="676">
                <a:moveTo>
                  <a:pt x="6787" y="16411"/>
                </a:moveTo>
                <a:cubicBezTo>
                  <a:pt x="6796" y="16448"/>
                  <a:pt x="6829" y="16492"/>
                  <a:pt x="6846" y="16530"/>
                </a:cubicBezTo>
                <a:cubicBezTo>
                  <a:pt x="6867" y="16576"/>
                  <a:pt x="6866" y="16598"/>
                  <a:pt x="6866" y="16649"/>
                </a:cubicBezTo>
                <a:cubicBezTo>
                  <a:pt x="6866" y="16690"/>
                  <a:pt x="6881" y="16713"/>
                  <a:pt x="6906" y="16748"/>
                </a:cubicBezTo>
                <a:cubicBezTo>
                  <a:pt x="6924" y="16773"/>
                  <a:pt x="6942" y="16817"/>
                  <a:pt x="6945" y="16847"/>
                </a:cubicBezTo>
                <a:cubicBezTo>
                  <a:pt x="6945" y="16854"/>
                  <a:pt x="6945" y="16860"/>
                  <a:pt x="6945" y="16867"/>
                </a:cubicBezTo>
                <a:cubicBezTo>
                  <a:pt x="6982" y="16886"/>
                  <a:pt x="6977" y="16916"/>
                  <a:pt x="7005" y="16947"/>
                </a:cubicBezTo>
                <a:cubicBezTo>
                  <a:pt x="7031" y="16976"/>
                  <a:pt x="7040" y="16999"/>
                  <a:pt x="7064" y="17026"/>
                </a:cubicBezTo>
                <a:cubicBezTo>
                  <a:pt x="7099" y="17066"/>
                  <a:pt x="7093" y="17080"/>
                  <a:pt x="7104" y="17026"/>
                </a:cubicBezTo>
              </a:path>
              <a:path w="1112" h="676">
                <a:moveTo>
                  <a:pt x="6747" y="16847"/>
                </a:moveTo>
                <a:cubicBezTo>
                  <a:pt x="6787" y="16847"/>
                  <a:pt x="6826" y="16847"/>
                  <a:pt x="6866" y="16847"/>
                </a:cubicBezTo>
              </a:path>
              <a:path w="1112" h="676">
                <a:moveTo>
                  <a:pt x="7342" y="16450"/>
                </a:moveTo>
                <a:cubicBezTo>
                  <a:pt x="7342" y="16609"/>
                  <a:pt x="7342" y="16768"/>
                  <a:pt x="7342" y="16927"/>
                </a:cubicBezTo>
              </a:path>
              <a:path w="1112" h="676">
                <a:moveTo>
                  <a:pt x="7342" y="16609"/>
                </a:moveTo>
                <a:cubicBezTo>
                  <a:pt x="7427" y="16609"/>
                  <a:pt x="7551" y="16588"/>
                  <a:pt x="7620" y="16629"/>
                </a:cubicBezTo>
              </a:path>
              <a:path w="1112" h="676">
                <a:moveTo>
                  <a:pt x="7600" y="16391"/>
                </a:moveTo>
                <a:cubicBezTo>
                  <a:pt x="7607" y="16391"/>
                  <a:pt x="7613" y="16391"/>
                  <a:pt x="7620" y="16391"/>
                </a:cubicBezTo>
                <a:cubicBezTo>
                  <a:pt x="7620" y="16480"/>
                  <a:pt x="7593" y="16633"/>
                  <a:pt x="7640" y="16708"/>
                </a:cubicBezTo>
                <a:cubicBezTo>
                  <a:pt x="7660" y="16740"/>
                  <a:pt x="7660" y="16748"/>
                  <a:pt x="7660" y="16788"/>
                </a:cubicBezTo>
                <a:cubicBezTo>
                  <a:pt x="7660" y="16824"/>
                  <a:pt x="7680" y="16849"/>
                  <a:pt x="7680" y="16887"/>
                </a:cubicBezTo>
                <a:cubicBezTo>
                  <a:pt x="7680" y="16920"/>
                  <a:pt x="7673" y="16933"/>
                  <a:pt x="7699" y="169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86120" y="5900760"/>
            <a:ext cx="136440" cy="228600"/>
          </a:xfrm>
          <a:custGeom>
            <a:avLst/>
            <a:gdLst/>
            <a:ahLst/>
            <a:rect l="l" t="t" r="r" b="b"/>
            <a:pathLst>
              <a:path w="378" h="636">
                <a:moveTo>
                  <a:pt x="8017" y="16391"/>
                </a:moveTo>
                <a:cubicBezTo>
                  <a:pt x="8017" y="16596"/>
                  <a:pt x="8017" y="16801"/>
                  <a:pt x="8017" y="17006"/>
                </a:cubicBezTo>
              </a:path>
              <a:path w="378" h="636">
                <a:moveTo>
                  <a:pt x="8076" y="16391"/>
                </a:moveTo>
                <a:cubicBezTo>
                  <a:pt x="8076" y="16435"/>
                  <a:pt x="8085" y="16447"/>
                  <a:pt x="8096" y="16490"/>
                </a:cubicBezTo>
                <a:cubicBezTo>
                  <a:pt x="8105" y="16524"/>
                  <a:pt x="8110" y="16576"/>
                  <a:pt x="8116" y="16609"/>
                </a:cubicBezTo>
                <a:cubicBezTo>
                  <a:pt x="8125" y="16657"/>
                  <a:pt x="8151" y="16701"/>
                  <a:pt x="8156" y="16748"/>
                </a:cubicBezTo>
                <a:cubicBezTo>
                  <a:pt x="8160" y="16788"/>
                  <a:pt x="8153" y="16797"/>
                  <a:pt x="8195" y="16808"/>
                </a:cubicBezTo>
                <a:cubicBezTo>
                  <a:pt x="8206" y="16865"/>
                  <a:pt x="8236" y="16849"/>
                  <a:pt x="8255" y="16887"/>
                </a:cubicBezTo>
                <a:cubicBezTo>
                  <a:pt x="8255" y="16894"/>
                  <a:pt x="8255" y="16900"/>
                  <a:pt x="8255" y="16907"/>
                </a:cubicBezTo>
                <a:cubicBezTo>
                  <a:pt x="8302" y="16919"/>
                  <a:pt x="8278" y="16948"/>
                  <a:pt x="8315" y="16966"/>
                </a:cubicBezTo>
                <a:cubicBezTo>
                  <a:pt x="8352" y="16985"/>
                  <a:pt x="8355" y="17000"/>
                  <a:pt x="8394" y="17026"/>
                </a:cubicBezTo>
              </a:path>
              <a:path w="378" h="636">
                <a:moveTo>
                  <a:pt x="8037" y="16847"/>
                </a:moveTo>
                <a:cubicBezTo>
                  <a:pt x="8037" y="16841"/>
                  <a:pt x="8037" y="16834"/>
                  <a:pt x="8037" y="16828"/>
                </a:cubicBezTo>
                <a:cubicBezTo>
                  <a:pt x="8077" y="16828"/>
                  <a:pt x="8116" y="16828"/>
                  <a:pt x="8156" y="1682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9760" y="3543480"/>
            <a:ext cx="1393920" cy="250560"/>
          </a:xfrm>
          <a:custGeom>
            <a:avLst/>
            <a:gdLst/>
            <a:ahLst/>
            <a:rect l="l" t="t" r="r" b="b"/>
            <a:pathLst>
              <a:path w="3871" h="696">
                <a:moveTo>
                  <a:pt x="13156" y="9842"/>
                </a:moveTo>
                <a:cubicBezTo>
                  <a:pt x="13149" y="9891"/>
                  <a:pt x="13131" y="9901"/>
                  <a:pt x="13117" y="9942"/>
                </a:cubicBezTo>
                <a:cubicBezTo>
                  <a:pt x="13107" y="9971"/>
                  <a:pt x="13113" y="10014"/>
                  <a:pt x="13097" y="10041"/>
                </a:cubicBezTo>
                <a:cubicBezTo>
                  <a:pt x="13083" y="10064"/>
                  <a:pt x="13044" y="10115"/>
                  <a:pt x="13037" y="10140"/>
                </a:cubicBezTo>
                <a:cubicBezTo>
                  <a:pt x="13025" y="10181"/>
                  <a:pt x="13002" y="10237"/>
                  <a:pt x="12998" y="10279"/>
                </a:cubicBezTo>
                <a:cubicBezTo>
                  <a:pt x="12994" y="10314"/>
                  <a:pt x="12966" y="10340"/>
                  <a:pt x="12958" y="10378"/>
                </a:cubicBezTo>
                <a:cubicBezTo>
                  <a:pt x="12930" y="10387"/>
                  <a:pt x="12941" y="10408"/>
                  <a:pt x="12918" y="10438"/>
                </a:cubicBezTo>
              </a:path>
              <a:path w="3871" h="696">
                <a:moveTo>
                  <a:pt x="13176" y="9842"/>
                </a:moveTo>
                <a:cubicBezTo>
                  <a:pt x="13176" y="9886"/>
                  <a:pt x="13166" y="9929"/>
                  <a:pt x="13196" y="9962"/>
                </a:cubicBezTo>
                <a:cubicBezTo>
                  <a:pt x="13227" y="9996"/>
                  <a:pt x="13253" y="10028"/>
                  <a:pt x="13275" y="10061"/>
                </a:cubicBezTo>
                <a:cubicBezTo>
                  <a:pt x="13291" y="10085"/>
                  <a:pt x="13323" y="10113"/>
                  <a:pt x="13335" y="10140"/>
                </a:cubicBezTo>
                <a:cubicBezTo>
                  <a:pt x="13341" y="10153"/>
                  <a:pt x="13335" y="10186"/>
                  <a:pt x="13335" y="10200"/>
                </a:cubicBezTo>
                <a:cubicBezTo>
                  <a:pt x="13367" y="10208"/>
                  <a:pt x="13367" y="10207"/>
                  <a:pt x="13375" y="10239"/>
                </a:cubicBezTo>
                <a:cubicBezTo>
                  <a:pt x="13423" y="10251"/>
                  <a:pt x="13396" y="10280"/>
                  <a:pt x="13434" y="10299"/>
                </a:cubicBezTo>
                <a:cubicBezTo>
                  <a:pt x="13471" y="10317"/>
                  <a:pt x="13466" y="10327"/>
                  <a:pt x="13494" y="10358"/>
                </a:cubicBezTo>
                <a:cubicBezTo>
                  <a:pt x="13521" y="10387"/>
                  <a:pt x="13531" y="10409"/>
                  <a:pt x="13553" y="10438"/>
                </a:cubicBezTo>
              </a:path>
              <a:path w="3871" h="696">
                <a:moveTo>
                  <a:pt x="13037" y="10239"/>
                </a:moveTo>
                <a:cubicBezTo>
                  <a:pt x="13079" y="10257"/>
                  <a:pt x="13093" y="10259"/>
                  <a:pt x="13137" y="10259"/>
                </a:cubicBezTo>
                <a:cubicBezTo>
                  <a:pt x="13210" y="10259"/>
                  <a:pt x="13282" y="10259"/>
                  <a:pt x="13355" y="10259"/>
                </a:cubicBezTo>
              </a:path>
              <a:path w="3871" h="696">
                <a:moveTo>
                  <a:pt x="13950" y="9902"/>
                </a:moveTo>
                <a:cubicBezTo>
                  <a:pt x="13950" y="9975"/>
                  <a:pt x="13951" y="10039"/>
                  <a:pt x="13930" y="10100"/>
                </a:cubicBezTo>
                <a:cubicBezTo>
                  <a:pt x="13930" y="10120"/>
                  <a:pt x="13930" y="10127"/>
                  <a:pt x="13930" y="10140"/>
                </a:cubicBezTo>
                <a:cubicBezTo>
                  <a:pt x="13900" y="10150"/>
                  <a:pt x="13910" y="10164"/>
                  <a:pt x="13910" y="10200"/>
                </a:cubicBezTo>
                <a:cubicBezTo>
                  <a:pt x="13881" y="10210"/>
                  <a:pt x="13891" y="10224"/>
                  <a:pt x="13891" y="10259"/>
                </a:cubicBezTo>
                <a:cubicBezTo>
                  <a:pt x="13891" y="10291"/>
                  <a:pt x="13871" y="10303"/>
                  <a:pt x="13871" y="10339"/>
                </a:cubicBezTo>
                <a:cubicBezTo>
                  <a:pt x="13871" y="10372"/>
                  <a:pt x="13871" y="10405"/>
                  <a:pt x="13871" y="10438"/>
                </a:cubicBezTo>
                <a:cubicBezTo>
                  <a:pt x="13826" y="10453"/>
                  <a:pt x="13878" y="10476"/>
                  <a:pt x="13851" y="10497"/>
                </a:cubicBezTo>
                <a:cubicBezTo>
                  <a:pt x="13844" y="10497"/>
                  <a:pt x="13838" y="10497"/>
                  <a:pt x="13831" y="10497"/>
                </a:cubicBezTo>
              </a:path>
              <a:path w="3871" h="696">
                <a:moveTo>
                  <a:pt x="13970" y="9842"/>
                </a:moveTo>
                <a:cubicBezTo>
                  <a:pt x="13977" y="9842"/>
                  <a:pt x="13983" y="9842"/>
                  <a:pt x="13990" y="9842"/>
                </a:cubicBezTo>
                <a:cubicBezTo>
                  <a:pt x="13990" y="9988"/>
                  <a:pt x="13990" y="10133"/>
                  <a:pt x="13990" y="10279"/>
                </a:cubicBezTo>
                <a:cubicBezTo>
                  <a:pt x="14030" y="10289"/>
                  <a:pt x="14030" y="10298"/>
                  <a:pt x="14030" y="10339"/>
                </a:cubicBezTo>
                <a:cubicBezTo>
                  <a:pt x="14030" y="10377"/>
                  <a:pt x="14026" y="10403"/>
                  <a:pt x="14049" y="10438"/>
                </a:cubicBezTo>
                <a:cubicBezTo>
                  <a:pt x="14068" y="10467"/>
                  <a:pt x="14069" y="10462"/>
                  <a:pt x="14069" y="10497"/>
                </a:cubicBezTo>
                <a:cubicBezTo>
                  <a:pt x="14102" y="10505"/>
                  <a:pt x="14101" y="10504"/>
                  <a:pt x="14109" y="10537"/>
                </a:cubicBezTo>
              </a:path>
              <a:path w="3871" h="696">
                <a:moveTo>
                  <a:pt x="14268" y="9922"/>
                </a:moveTo>
                <a:cubicBezTo>
                  <a:pt x="14288" y="9922"/>
                  <a:pt x="14294" y="9922"/>
                  <a:pt x="14307" y="9922"/>
                </a:cubicBezTo>
                <a:cubicBezTo>
                  <a:pt x="14307" y="10107"/>
                  <a:pt x="14307" y="10293"/>
                  <a:pt x="14307" y="10478"/>
                </a:cubicBezTo>
              </a:path>
              <a:path w="3871" h="696">
                <a:moveTo>
                  <a:pt x="14347" y="10140"/>
                </a:moveTo>
                <a:cubicBezTo>
                  <a:pt x="14389" y="10140"/>
                  <a:pt x="14390" y="10136"/>
                  <a:pt x="14407" y="10160"/>
                </a:cubicBezTo>
                <a:cubicBezTo>
                  <a:pt x="14426" y="10187"/>
                  <a:pt x="14448" y="10193"/>
                  <a:pt x="14466" y="10220"/>
                </a:cubicBezTo>
                <a:cubicBezTo>
                  <a:pt x="14494" y="10261"/>
                  <a:pt x="14540" y="10302"/>
                  <a:pt x="14565" y="10339"/>
                </a:cubicBezTo>
                <a:cubicBezTo>
                  <a:pt x="14602" y="10394"/>
                  <a:pt x="14602" y="10386"/>
                  <a:pt x="14585" y="10438"/>
                </a:cubicBezTo>
                <a:cubicBezTo>
                  <a:pt x="14580" y="10453"/>
                  <a:pt x="14551" y="10486"/>
                  <a:pt x="14526" y="10497"/>
                </a:cubicBezTo>
                <a:cubicBezTo>
                  <a:pt x="14484" y="10515"/>
                  <a:pt x="14423" y="10487"/>
                  <a:pt x="14387" y="10478"/>
                </a:cubicBezTo>
                <a:cubicBezTo>
                  <a:pt x="14368" y="10474"/>
                  <a:pt x="14323" y="10467"/>
                  <a:pt x="14307" y="10458"/>
                </a:cubicBezTo>
                <a:cubicBezTo>
                  <a:pt x="14301" y="10451"/>
                  <a:pt x="14294" y="10445"/>
                  <a:pt x="14288" y="10438"/>
                </a:cubicBezTo>
              </a:path>
              <a:path w="3871" h="696">
                <a:moveTo>
                  <a:pt x="14803" y="10001"/>
                </a:moveTo>
                <a:cubicBezTo>
                  <a:pt x="14797" y="10001"/>
                  <a:pt x="14790" y="10001"/>
                  <a:pt x="14784" y="10001"/>
                </a:cubicBezTo>
                <a:cubicBezTo>
                  <a:pt x="14784" y="10173"/>
                  <a:pt x="14784" y="10345"/>
                  <a:pt x="14784" y="10517"/>
                </a:cubicBezTo>
              </a:path>
              <a:path w="3871" h="696">
                <a:moveTo>
                  <a:pt x="14764" y="9942"/>
                </a:moveTo>
                <a:cubicBezTo>
                  <a:pt x="14798" y="9916"/>
                  <a:pt x="14818" y="9922"/>
                  <a:pt x="14863" y="9922"/>
                </a:cubicBezTo>
                <a:cubicBezTo>
                  <a:pt x="14924" y="9922"/>
                  <a:pt x="14972" y="9913"/>
                  <a:pt x="15022" y="9902"/>
                </a:cubicBezTo>
                <a:cubicBezTo>
                  <a:pt x="15096" y="9886"/>
                  <a:pt x="15081" y="9953"/>
                  <a:pt x="15081" y="10001"/>
                </a:cubicBezTo>
                <a:cubicBezTo>
                  <a:pt x="15081" y="10077"/>
                  <a:pt x="15049" y="10441"/>
                  <a:pt x="15101" y="10458"/>
                </a:cubicBezTo>
              </a:path>
              <a:path w="3871" h="696">
                <a:moveTo>
                  <a:pt x="15379" y="9922"/>
                </a:moveTo>
                <a:cubicBezTo>
                  <a:pt x="15405" y="9957"/>
                  <a:pt x="15399" y="9974"/>
                  <a:pt x="15399" y="10021"/>
                </a:cubicBezTo>
                <a:cubicBezTo>
                  <a:pt x="15399" y="10193"/>
                  <a:pt x="15399" y="10669"/>
                  <a:pt x="15399" y="10497"/>
                </a:cubicBezTo>
              </a:path>
              <a:path w="3871" h="696">
                <a:moveTo>
                  <a:pt x="15458" y="9942"/>
                </a:moveTo>
                <a:cubicBezTo>
                  <a:pt x="15503" y="9942"/>
                  <a:pt x="15543" y="9933"/>
                  <a:pt x="15577" y="9962"/>
                </a:cubicBezTo>
                <a:cubicBezTo>
                  <a:pt x="15611" y="9991"/>
                  <a:pt x="15597" y="10038"/>
                  <a:pt x="15597" y="10081"/>
                </a:cubicBezTo>
                <a:cubicBezTo>
                  <a:pt x="15597" y="10199"/>
                  <a:pt x="15582" y="10334"/>
                  <a:pt x="15617" y="10438"/>
                </a:cubicBezTo>
                <a:cubicBezTo>
                  <a:pt x="15629" y="10474"/>
                  <a:pt x="15598" y="10485"/>
                  <a:pt x="15637" y="10497"/>
                </a:cubicBezTo>
              </a:path>
              <a:path w="3871" h="696">
                <a:moveTo>
                  <a:pt x="15458" y="10259"/>
                </a:moveTo>
                <a:cubicBezTo>
                  <a:pt x="15504" y="10259"/>
                  <a:pt x="15551" y="10259"/>
                  <a:pt x="15597" y="10259"/>
                </a:cubicBezTo>
              </a:path>
              <a:path w="3871" h="696">
                <a:moveTo>
                  <a:pt x="15776" y="9981"/>
                </a:moveTo>
                <a:cubicBezTo>
                  <a:pt x="15783" y="9981"/>
                  <a:pt x="15789" y="9981"/>
                  <a:pt x="15796" y="9981"/>
                </a:cubicBezTo>
                <a:cubicBezTo>
                  <a:pt x="15796" y="10166"/>
                  <a:pt x="15796" y="10352"/>
                  <a:pt x="15796" y="10537"/>
                </a:cubicBezTo>
              </a:path>
              <a:path w="3871" h="696">
                <a:moveTo>
                  <a:pt x="16113" y="9962"/>
                </a:moveTo>
                <a:cubicBezTo>
                  <a:pt x="16113" y="10017"/>
                  <a:pt x="16129" y="10099"/>
                  <a:pt x="16093" y="10140"/>
                </a:cubicBezTo>
                <a:cubicBezTo>
                  <a:pt x="16066" y="10170"/>
                  <a:pt x="16033" y="10216"/>
                  <a:pt x="15994" y="10220"/>
                </a:cubicBezTo>
                <a:cubicBezTo>
                  <a:pt x="15942" y="10226"/>
                  <a:pt x="15887" y="10220"/>
                  <a:pt x="15835" y="10220"/>
                </a:cubicBezTo>
                <a:cubicBezTo>
                  <a:pt x="15843" y="10251"/>
                  <a:pt x="15862" y="10262"/>
                  <a:pt x="15875" y="10279"/>
                </a:cubicBezTo>
                <a:cubicBezTo>
                  <a:pt x="15893" y="10297"/>
                  <a:pt x="15897" y="10304"/>
                  <a:pt x="15915" y="10299"/>
                </a:cubicBezTo>
                <a:cubicBezTo>
                  <a:pt x="15924" y="10334"/>
                  <a:pt x="15959" y="10364"/>
                  <a:pt x="15994" y="10378"/>
                </a:cubicBezTo>
                <a:cubicBezTo>
                  <a:pt x="16029" y="10392"/>
                  <a:pt x="16051" y="10408"/>
                  <a:pt x="16073" y="10418"/>
                </a:cubicBezTo>
                <a:cubicBezTo>
                  <a:pt x="16110" y="10435"/>
                  <a:pt x="16136" y="10474"/>
                  <a:pt x="16173" y="10478"/>
                </a:cubicBezTo>
                <a:cubicBezTo>
                  <a:pt x="16204" y="10482"/>
                  <a:pt x="16276" y="10490"/>
                  <a:pt x="16292" y="10458"/>
                </a:cubicBezTo>
                <a:cubicBezTo>
                  <a:pt x="16292" y="10438"/>
                  <a:pt x="16292" y="10431"/>
                  <a:pt x="16292" y="10418"/>
                </a:cubicBezTo>
              </a:path>
              <a:path w="3871" h="696">
                <a:moveTo>
                  <a:pt x="16649" y="9842"/>
                </a:moveTo>
                <a:cubicBezTo>
                  <a:pt x="16656" y="9842"/>
                  <a:pt x="16662" y="9842"/>
                  <a:pt x="16669" y="9842"/>
                </a:cubicBezTo>
                <a:cubicBezTo>
                  <a:pt x="16645" y="9878"/>
                  <a:pt x="16630" y="9890"/>
                  <a:pt x="16609" y="9922"/>
                </a:cubicBezTo>
                <a:cubicBezTo>
                  <a:pt x="16583" y="9962"/>
                  <a:pt x="16573" y="9972"/>
                  <a:pt x="16550" y="10021"/>
                </a:cubicBezTo>
                <a:cubicBezTo>
                  <a:pt x="16527" y="10044"/>
                  <a:pt x="16521" y="10054"/>
                  <a:pt x="16530" y="10081"/>
                </a:cubicBezTo>
                <a:cubicBezTo>
                  <a:pt x="16500" y="10091"/>
                  <a:pt x="16510" y="10104"/>
                  <a:pt x="16510" y="10140"/>
                </a:cubicBezTo>
                <a:cubicBezTo>
                  <a:pt x="16510" y="10266"/>
                  <a:pt x="16510" y="10391"/>
                  <a:pt x="16510" y="10517"/>
                </a:cubicBezTo>
              </a:path>
              <a:path w="3871" h="696">
                <a:moveTo>
                  <a:pt x="16708" y="9902"/>
                </a:moveTo>
                <a:cubicBezTo>
                  <a:pt x="16735" y="9902"/>
                  <a:pt x="16761" y="9902"/>
                  <a:pt x="16788" y="9902"/>
                </a:cubicBezTo>
                <a:cubicBezTo>
                  <a:pt x="16788" y="10107"/>
                  <a:pt x="16788" y="10312"/>
                  <a:pt x="16788" y="10517"/>
                </a:cubicBezTo>
              </a:path>
              <a:path w="3871" h="696">
                <a:moveTo>
                  <a:pt x="16589" y="10279"/>
                </a:moveTo>
                <a:cubicBezTo>
                  <a:pt x="16642" y="10279"/>
                  <a:pt x="16695" y="10279"/>
                  <a:pt x="16748" y="1027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АТАГО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39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СТУДЕНТ ПЕРЕСЕКАЕТ ПУСТЫНЮ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6391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Х РОДИНА-ЮЖНАЯ АМЕРИ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649760" y="3922560"/>
            <a:ext cx="2381400" cy="21733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118120" y="1598760"/>
            <a:ext cx="1444680" cy="21715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995400" y="3922560"/>
            <a:ext cx="2152440" cy="21733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501480" y="1598760"/>
            <a:ext cx="3138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ТРАНЫ ЮЖНОЙ АМЕРИКИ. БРАЗИЛ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7399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1.     Продолжить формирование представления о целостности природы материк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2.     Развивать образное мышление, речь, умение выделять главное, умение работать с картой, обобщать материа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3.     Развивать умения выслушивать и анализировать ответы товарищ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4.    Формирование логического мышления обучающихся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5.     Развитие  навыков работы с компьютером, интернет- ресурсами 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ГЕОГРАФИЧЕСКОЕ ПОЛОЖЕНИЕ МАТЕРИ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КРАЙНИЕ ТОЧКИ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7d47d"/>
                </a:solidFill>
                <a:uFillTx/>
                <a:latin typeface="Arial"/>
              </a:rPr>
              <a:t>СЕ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7d47d"/>
                </a:solidFill>
                <a:uFillTx/>
                <a:latin typeface="Arial"/>
              </a:rPr>
              <a:t>ЮЖ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7d47d"/>
                </a:solidFill>
                <a:uFillTx/>
                <a:latin typeface="Arial"/>
              </a:rPr>
              <a:t>ЗАП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7d47d"/>
                </a:solidFill>
                <a:uFillTx/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7d47d"/>
                </a:solidFill>
                <a:uFillTx/>
                <a:latin typeface="Arial"/>
              </a:rPr>
              <a:t>ВОСТ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ДАНИЕ№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ОБОЗНАЧИТЬ НА КОНТУРНОЙ КАРТ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4316400" y="1751040"/>
            <a:ext cx="3048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ИЗ ИСТОРИИ ОТКРЫТИЯ И ИССЛЕДОВАНИЯ МАТЕРИКА</a:t>
            </a:r>
            <a:br>
              <a:rPr sz="1800"/>
            </a:b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№2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2262240" cy="3068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72000" y="3789360"/>
            <a:ext cx="2664000" cy="2952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076720" y="907920"/>
            <a:ext cx="2448000" cy="2748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395280" y="981000"/>
            <a:ext cx="2495520" cy="2789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622520" y="1708200"/>
            <a:ext cx="191880" cy="6480"/>
          </a:xfrm>
          <a:custGeom>
            <a:avLst/>
            <a:gdLst/>
            <a:ahLst/>
            <a:rect l="l" t="t" r="r" b="b"/>
            <a:pathLst>
              <a:path w="536" h="20">
                <a:moveTo>
                  <a:pt x="4505" y="4762"/>
                </a:moveTo>
                <a:lnTo>
                  <a:pt x="4505" y="4762"/>
                </a:lnTo>
              </a:path>
              <a:path w="536" h="20">
                <a:moveTo>
                  <a:pt x="5040" y="4743"/>
                </a:moveTo>
                <a:lnTo>
                  <a:pt x="5040" y="4743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58040" y="1363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939" y="3790"/>
                </a:moveTo>
                <a:lnTo>
                  <a:pt x="17939" y="379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2944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304" y="3770"/>
                </a:moveTo>
                <a:lnTo>
                  <a:pt x="17304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2944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304" y="3770"/>
                </a:moveTo>
                <a:lnTo>
                  <a:pt x="17304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2944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304" y="3770"/>
                </a:moveTo>
                <a:lnTo>
                  <a:pt x="17304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4364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899" y="3770"/>
                </a:moveTo>
                <a:lnTo>
                  <a:pt x="17899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4364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899" y="3770"/>
                </a:moveTo>
                <a:lnTo>
                  <a:pt x="17899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364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899" y="3770"/>
                </a:moveTo>
                <a:lnTo>
                  <a:pt x="17899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899" y="3770"/>
                </a:moveTo>
                <a:lnTo>
                  <a:pt x="17899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43640" y="13572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7899" y="3770"/>
                </a:moveTo>
                <a:lnTo>
                  <a:pt x="17899" y="3770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4572000" y="3789360"/>
            <a:ext cx="2664000" cy="2952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395280" y="981000"/>
            <a:ext cx="2495520" cy="2789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395280" y="981000"/>
            <a:ext cx="2495520" cy="2789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1332000" y="3789360"/>
            <a:ext cx="22622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Христофор Колумб </a:t>
            </a: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1492год- открыл Америку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417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Америго Веспуччи </a:t>
            </a: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принял участие в 2 экспедициях. Первым описал открытые земли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176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ександр </a:t>
            </a: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Гумбольдт-</a:t>
            </a: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немецкий географ-18-19в изучал природу материка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475308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08:23:08Z</dcterms:created>
  <dc:creator>Admin</dc:creator>
  <dc:description/>
  <dc:language>en-US</dc:language>
  <cp:lastModifiedBy>Admin</cp:lastModifiedBy>
  <dcterms:modified xsi:type="dcterms:W3CDTF">2012-10-27T05:46:26Z</dcterms:modified>
  <cp:revision>23</cp:revision>
  <dc:subject/>
  <dc:title>Слайд 1</dc:title>
</cp:coreProperties>
</file>