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8E1-0765-4606-8E91-B0243F93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61C-8077-4031-8419-E1DB873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158-C27F-40EB-AD61-EFCE2EAC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C71-B7EF-4DF3-85CF-7B496031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4D5-707A-4927-AECF-22C9E4D3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58B-8DA8-41CC-886D-4BAAEF0A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FA3-EBFA-45AE-8349-127C6376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DD4-7135-4A96-AD2E-3FF62CA8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A19-F451-49A5-BF76-44BE7050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838-806B-4853-BAA0-B128F8AC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D97-19C0-4E94-90E1-7156C54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409-8A2B-4F11-A0C5-AC44709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4674-AF39-4C91-A11E-CA616D1C7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мои рисунки\цветы\xl_1233057749.jpg"/>
          <p:cNvPicPr/>
          <p:nvPr/>
        </p:nvPicPr>
        <p:blipFill>
          <a:blip r:embed="rId2"/>
          <a:stretch/>
        </p:blipFill>
        <p:spPr>
          <a:xfrm>
            <a:off x="-6480" y="2279520"/>
            <a:ext cx="4737240" cy="43959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4443480" y="933480"/>
            <a:ext cx="4438440" cy="56325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4"/>
          <a:stretch/>
        </p:blipFill>
        <p:spPr>
          <a:xfrm>
            <a:off x="-6480" y="-158760"/>
            <a:ext cx="90043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йка Адамс</cp:lastModifiedBy>
  <dcterms:modified xsi:type="dcterms:W3CDTF">2010-12-03T16:31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