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3A76-29CA-4801-85C1-D3A15819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9260-9E0C-48EF-96BE-A04DC774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DDE7-1A97-4407-BE8B-43B725A5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585A-C145-483F-8DBD-050A50C5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51B3-3444-4761-A95D-DD0E75F3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2394-E55C-46E6-839D-688B0D11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77D5-365E-4770-9874-8810FD97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4EEE-AC0E-4282-B706-CD40BCD7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0F2F-4741-46EF-9B15-43A34A13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DCCC-3F11-40E5-AAE5-A3176EFA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F4E8-2E10-4D8A-B4A4-F2E07C3C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4E10-7416-48BD-BE5E-D3D866AC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F65D-84E0-44F0-96C7-8C1E28E7FF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мои рисунки\цветы\xl_1233057749.jpg"/>
          <p:cNvPicPr/>
          <p:nvPr/>
        </p:nvPicPr>
        <p:blipFill>
          <a:blip r:embed="rId2"/>
          <a:stretch/>
        </p:blipFill>
        <p:spPr>
          <a:xfrm>
            <a:off x="-6480" y="2279520"/>
            <a:ext cx="4737240" cy="43959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3"/>
          <a:stretch/>
        </p:blipFill>
        <p:spPr>
          <a:xfrm>
            <a:off x="4443480" y="933480"/>
            <a:ext cx="4438440" cy="563256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4"/>
          <a:stretch/>
        </p:blipFill>
        <p:spPr>
          <a:xfrm>
            <a:off x="-6480" y="-158760"/>
            <a:ext cx="90043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йка Адамс</cp:lastModifiedBy>
  <dcterms:modified xsi:type="dcterms:W3CDTF">2010-12-03T16:31:3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