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chimes.wav" ContentType="audio/x-wav"/>
  <Override PartName="/ppt/media/image4.gif" ContentType="image/gif"/>
  <Override PartName="/ppt/media/image7.wmf" ContentType="image/x-wmf"/>
  <Override PartName="/ppt/media/CHIMES.WAV" ContentType="audio/x-wav"/>
  <Override PartName="/ppt/media/image6.wmf" ContentType="image/x-wmf"/>
  <Override PartName="/ppt/media/image2.wmf" ContentType="image/x-wmf"/>
  <Override PartName="/ppt/media/image3.wmf" ContentType="image/x-wm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980F-B77B-4033-B57B-02A75CC40D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L_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8C7D-DB1C-493A-8EFB-892E2C4891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D64F-9334-48B5-ABC0-81AC998E41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3113-417B-4CA5-A223-9BACC99A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C1E6-F664-4C56-B036-149A1B49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2310-196D-4D17-A90C-27AE077B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0D86-3914-474E-B1FC-4349B582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C949-3697-4026-B7F7-0F69FB8A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8345-1DB5-4A04-8F17-C151FC22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EDA6-1F0B-4B38-952A-E69120CD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9A2D-3E59-4B1C-9035-180E460C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ECA3-1BD9-40B4-BF44-66048DA9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5D27-BD47-410F-993C-09231B7A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ED68-E362-43FD-AFD1-347E2F1D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D90F-4FAB-4FAE-B49D-0039423C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5D7B-BE5C-4512-9624-F167086C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570F-72A5-4252-AF81-9040B76B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D982-3BF5-4C30-A1AB-ED805F12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873C-7471-4C88-B01C-1B3C7B01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368A-6042-4096-8438-B637263A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5794-B2EA-43BD-AAD3-2716EB83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5F30-0332-4B12-ADF2-14022BA5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03EB-9E18-4477-BEFD-FBBE49D3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70D3-CC8A-4D45-941F-F9685886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B00E-298F-41E2-A956-931E445B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7C4C-2880-4C2F-BA3D-43BB8D97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80DB-F9ED-48A3-9EC5-6F5C931C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25d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7C34-68A9-44BD-AD6B-A76D47ED99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25d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FDE2-3DCF-4AAF-94A8-74569376FD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L_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1428840" y="642960"/>
            <a:ext cx="685800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SL_Times New Roman"/>
              </a:rPr>
              <a:t>Лексик-грамматик материал. </a:t>
            </a:r>
            <a:endParaRPr b="0" lang="en-US" sz="2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SL_Times New Roman"/>
              </a:rPr>
              <a:t>“</a:t>
            </a:r>
            <a:r>
              <a:rPr b="1" lang="tt-RU" sz="2800" spc="-1" strike="noStrike">
                <a:solidFill>
                  <a:srgbClr val="000000"/>
                </a:solidFill>
                <a:latin typeface="SL_Times New Roman"/>
              </a:rPr>
              <a:t>ЗИРӘК КАРТ”. Татар халык әкияте</a:t>
            </a:r>
            <a:endParaRPr b="0" lang="en-US" sz="2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L_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L_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L_Times New Roman"/>
              </a:rPr>
              <a:t>Укытучы:</a:t>
            </a:r>
            <a:endParaRPr b="0" lang="en-US" sz="3200" spc="-1" strike="noStrike">
              <a:solidFill>
                <a:srgbClr val="000000"/>
              </a:solidFill>
              <a:latin typeface="SL_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L_Times New Roman"/>
              </a:rPr>
              <a:t>Попова Г</a:t>
            </a:r>
            <a:r>
              <a:rPr b="0" lang="tt-RU" sz="3200" spc="-1" strike="noStrike">
                <a:solidFill>
                  <a:srgbClr val="000000"/>
                </a:solidFill>
                <a:latin typeface="SL_Times New Roman"/>
              </a:rPr>
              <a:t>өлниса Гаян кызы</a:t>
            </a:r>
            <a:endParaRPr b="0" lang="en-US" sz="3200" spc="-1" strike="noStrike">
              <a:solidFill>
                <a:srgbClr val="000000"/>
              </a:solidFill>
              <a:latin typeface="SL_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380880"/>
            <a:ext cx="6399360" cy="60724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9f25d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47fd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9947fd"/>
                </a:solidFill>
                <a:latin typeface="Times New Roman"/>
              </a:rPr>
              <a:t>Тест</a:t>
            </a:r>
            <a:br>
              <a:rPr sz="3600"/>
            </a:br>
            <a:r>
              <a:rPr b="0" lang="ru-RU" sz="2800" spc="-1" strike="noStrike">
                <a:solidFill>
                  <a:srgbClr val="9947fd"/>
                </a:solidFill>
                <a:latin typeface="Times New Roman"/>
              </a:rPr>
              <a:t>1) вернулся из леса</a:t>
            </a:r>
            <a:br>
              <a:rPr sz="2800"/>
            </a:br>
            <a:r>
              <a:rPr b="0" lang="ru-RU" sz="2800" spc="-1" strike="noStrike">
                <a:solidFill>
                  <a:srgbClr val="9947fd"/>
                </a:solidFill>
                <a:latin typeface="Times New Roman"/>
              </a:rPr>
              <a:t>- урманга барган</a:t>
            </a:r>
            <a:br>
              <a:rPr sz="2800"/>
            </a:br>
            <a:r>
              <a:rPr b="0" lang="ru-RU" sz="2800" spc="-1" strike="noStrike">
                <a:solidFill>
                  <a:srgbClr val="9947fd"/>
                </a:solidFill>
                <a:latin typeface="Times New Roman"/>
              </a:rPr>
              <a:t>- урманга киткщн</a:t>
            </a:r>
            <a:br>
              <a:rPr sz="2800"/>
            </a:br>
            <a:r>
              <a:rPr b="0" lang="ru-RU" sz="2800" spc="-1" strike="noStrike">
                <a:solidFill>
                  <a:srgbClr val="9947fd"/>
                </a:solidFill>
                <a:latin typeface="Times New Roman"/>
              </a:rPr>
              <a:t>- урманнан кайткан</a:t>
            </a:r>
            <a:br>
              <a:rPr sz="2800"/>
            </a:br>
            <a:r>
              <a:rPr b="0" lang="ru-RU" sz="2800" spc="-1" strike="noStrike">
                <a:solidFill>
                  <a:srgbClr val="9947fd"/>
                </a:solidFill>
                <a:latin typeface="Times New Roman"/>
              </a:rPr>
              <a:t>2) растет ива</a:t>
            </a:r>
            <a:br>
              <a:rPr sz="2800"/>
            </a:br>
            <a:r>
              <a:rPr b="0" lang="ru-RU" sz="2800" spc="-1" strike="noStrike">
                <a:solidFill>
                  <a:srgbClr val="9947fd"/>
                </a:solidFill>
                <a:latin typeface="Times New Roman"/>
              </a:rPr>
              <a:t>- </a:t>
            </a:r>
            <a:r>
              <a:rPr b="0" lang="tt-RU" sz="2800" spc="-1" strike="noStrike">
                <a:solidFill>
                  <a:srgbClr val="9947fd"/>
                </a:solidFill>
                <a:latin typeface="Times New Roman"/>
              </a:rPr>
              <a:t>каен үсә</a:t>
            </a:r>
            <a:br>
              <a:rPr sz="2800"/>
            </a:br>
            <a:r>
              <a:rPr b="0" lang="tt-RU" sz="2800" spc="-1" strike="noStrike">
                <a:solidFill>
                  <a:srgbClr val="9947fd"/>
                </a:solidFill>
                <a:latin typeface="Times New Roman"/>
              </a:rPr>
              <a:t>-имән үсә</a:t>
            </a:r>
            <a:br>
              <a:rPr sz="2800"/>
            </a:br>
            <a:r>
              <a:rPr b="0" lang="tt-RU" sz="2800" spc="-1" strike="noStrike">
                <a:solidFill>
                  <a:srgbClr val="9947fd"/>
                </a:solidFill>
                <a:latin typeface="Times New Roman"/>
              </a:rPr>
              <a:t>өянке үсә</a:t>
            </a:r>
            <a:br>
              <a:rPr sz="2800"/>
            </a:br>
            <a:r>
              <a:rPr b="0" lang="ru-RU" sz="2800" spc="-1" strike="noStrike">
                <a:solidFill>
                  <a:srgbClr val="9947fd"/>
                </a:solidFill>
                <a:latin typeface="Times New Roman"/>
              </a:rPr>
              <a:t>3) мудрый старик</a:t>
            </a:r>
            <a:r>
              <a:rPr b="1" lang="ru-RU" sz="3600" spc="-1" strike="noStrike">
                <a:solidFill>
                  <a:srgbClr val="9947fd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9947fd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9947fd"/>
                </a:solidFill>
                <a:latin typeface="Times New Roman"/>
              </a:rPr>
              <a:t>акылсыз карт</a:t>
            </a:r>
            <a:br>
              <a:rPr sz="2800"/>
            </a:br>
            <a:r>
              <a:rPr b="1" lang="ru-RU" sz="3600" spc="-1" strike="noStrike">
                <a:solidFill>
                  <a:srgbClr val="9947fd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9947fd"/>
                </a:solidFill>
                <a:latin typeface="Times New Roman"/>
              </a:rPr>
              <a:t>белемле карт</a:t>
            </a:r>
            <a:br>
              <a:rPr sz="2800"/>
            </a:br>
            <a:r>
              <a:rPr b="1" lang="ru-RU" sz="2800" spc="-1" strike="noStrike">
                <a:solidFill>
                  <a:srgbClr val="9947fd"/>
                </a:solidFill>
                <a:latin typeface="Times New Roman"/>
              </a:rPr>
              <a:t>- зирәк карт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295280" y="137160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523880" y="1219320"/>
            <a:ext cx="632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819520" y="1371600"/>
            <a:ext cx="601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SL_Times New Roman"/>
            </a:endParaRPr>
          </a:p>
        </p:txBody>
      </p:sp>
      <p:pic>
        <p:nvPicPr>
          <p:cNvPr id="126" name="Picture 6" descr="J0079190"/>
          <p:cNvPicPr/>
          <p:nvPr/>
        </p:nvPicPr>
        <p:blipFill>
          <a:blip r:embed="rId1"/>
          <a:stretch/>
        </p:blipFill>
        <p:spPr>
          <a:xfrm flipH="1">
            <a:off x="250560" y="2060640"/>
            <a:ext cx="1981080" cy="4038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J0079073"/>
          <p:cNvPicPr/>
          <p:nvPr/>
        </p:nvPicPr>
        <p:blipFill>
          <a:blip r:embed="rId2"/>
          <a:stretch/>
        </p:blipFill>
        <p:spPr>
          <a:xfrm>
            <a:off x="0" y="260280"/>
            <a:ext cx="2592360" cy="1067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 flipV="1">
            <a:off x="7380360" y="7100280"/>
            <a:ext cx="1152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30592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cc"/>
                </a:solidFill>
                <a:latin typeface="Times New Roman"/>
              </a:rPr>
              <a:t>Орфографик разминка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700360" y="4508640"/>
            <a:ext cx="39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pic>
        <p:nvPicPr>
          <p:cNvPr id="131" name="Picture 11" descr="18"/>
          <p:cNvPicPr/>
          <p:nvPr/>
        </p:nvPicPr>
        <p:blipFill>
          <a:blip r:embed="rId1"/>
          <a:stretch/>
        </p:blipFill>
        <p:spPr>
          <a:xfrm>
            <a:off x="6762600" y="0"/>
            <a:ext cx="1924200" cy="1123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J0079190"/>
          <p:cNvPicPr/>
          <p:nvPr/>
        </p:nvPicPr>
        <p:blipFill>
          <a:blip r:embed="rId2"/>
          <a:stretch/>
        </p:blipFill>
        <p:spPr>
          <a:xfrm flipH="1">
            <a:off x="228600" y="1981080"/>
            <a:ext cx="2316240" cy="4581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5"/>
          <p:cNvSpPr/>
          <p:nvPr/>
        </p:nvSpPr>
        <p:spPr>
          <a:xfrm>
            <a:off x="3708360" y="2276640"/>
            <a:ext cx="22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3276720" y="2708280"/>
            <a:ext cx="22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ъ</a:t>
            </a:r>
            <a:endParaRPr b="0" lang="en-US" sz="20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3419640" y="3141720"/>
            <a:ext cx="22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ъ</a:t>
            </a:r>
            <a:endParaRPr b="0" lang="en-US" sz="20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3419640" y="3500280"/>
            <a:ext cx="152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ъ</a:t>
            </a:r>
            <a:endParaRPr b="0" lang="en-US" sz="20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3348000" y="3933720"/>
            <a:ext cx="22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3419640" y="4365720"/>
            <a:ext cx="22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ъ</a:t>
            </a:r>
            <a:endParaRPr b="0" lang="en-US" sz="20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3059280" y="501336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3492360" y="5157720"/>
            <a:ext cx="22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1" name="Text Box 23"/>
          <p:cNvSpPr/>
          <p:nvPr/>
        </p:nvSpPr>
        <p:spPr>
          <a:xfrm>
            <a:off x="2340000" y="1557360"/>
            <a:ext cx="561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SL_Times New Roman"/>
              </a:rPr>
              <a:t>Ъ һәм ь билгеләрен куегыз</a:t>
            </a:r>
            <a:endParaRPr b="0" lang="en-US" sz="24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3059280" y="2276640"/>
            <a:ext cx="2232000" cy="36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SL_Times New Roman"/>
              </a:rPr>
              <a:t>Сәгат...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SL_Times New Roman"/>
              </a:rPr>
              <a:t>Ар..як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SL_Times New Roman"/>
              </a:rPr>
              <a:t>Кул..яулык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SL_Times New Roman"/>
              </a:rPr>
              <a:t>Сәг..ди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SL_Times New Roman"/>
              </a:rPr>
              <a:t>Ал..пинист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SL_Times New Roman"/>
              </a:rPr>
              <a:t>Тәк..дим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SL_Times New Roman"/>
              </a:rPr>
              <a:t>Ил..нур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SL_Times New Roman"/>
              </a:rPr>
              <a:t>Биш...еллык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1116000" y="2708280"/>
            <a:ext cx="1224000" cy="55548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556000" y="2708280"/>
            <a:ext cx="1224000" cy="55548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1116000" y="3716280"/>
            <a:ext cx="1224000" cy="55584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4572000" y="5373720"/>
            <a:ext cx="1224000" cy="55548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2916360" y="5373720"/>
            <a:ext cx="1224000" cy="55548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3708360" y="4365720"/>
            <a:ext cx="1224000" cy="55548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6948360" y="4797360"/>
            <a:ext cx="1224000" cy="55584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6877080" y="3716280"/>
            <a:ext cx="1224000" cy="55584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6877080" y="2637000"/>
            <a:ext cx="1224000" cy="55548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2" name="Line 14"/>
          <p:cNvSpPr/>
          <p:nvPr/>
        </p:nvSpPr>
        <p:spPr>
          <a:xfrm>
            <a:off x="1692360" y="32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3" name="Line 15"/>
          <p:cNvSpPr/>
          <p:nvPr/>
        </p:nvSpPr>
        <p:spPr>
          <a:xfrm flipH="1">
            <a:off x="3564000" y="4941720"/>
            <a:ext cx="720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4" name="Line 16"/>
          <p:cNvSpPr/>
          <p:nvPr/>
        </p:nvSpPr>
        <p:spPr>
          <a:xfrm>
            <a:off x="4284720" y="494172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5" name="Line 17"/>
          <p:cNvSpPr/>
          <p:nvPr/>
        </p:nvSpPr>
        <p:spPr>
          <a:xfrm>
            <a:off x="752472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6" name="Line 18"/>
          <p:cNvSpPr/>
          <p:nvPr/>
        </p:nvSpPr>
        <p:spPr>
          <a:xfrm>
            <a:off x="752472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7" name="Line 19"/>
          <p:cNvSpPr/>
          <p:nvPr/>
        </p:nvSpPr>
        <p:spPr>
          <a:xfrm>
            <a:off x="234000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8" name="Line 20"/>
          <p:cNvSpPr/>
          <p:nvPr/>
        </p:nvSpPr>
        <p:spPr>
          <a:xfrm>
            <a:off x="2340000" y="306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9" name="Line 21"/>
          <p:cNvSpPr/>
          <p:nvPr/>
        </p:nvSpPr>
        <p:spPr>
          <a:xfrm>
            <a:off x="4140360" y="558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60" name="Line 22"/>
          <p:cNvSpPr/>
          <p:nvPr/>
        </p:nvSpPr>
        <p:spPr>
          <a:xfrm>
            <a:off x="4140360" y="573408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468360" y="404640"/>
            <a:ext cx="7920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3399"/>
                </a:solidFill>
                <a:latin typeface="SL_Times New Roman"/>
              </a:rPr>
              <a:t>Схемаларга туры китереп җөмләләр төзегез</a:t>
            </a:r>
            <a:endParaRPr b="0" lang="en-US" sz="2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62" name="Rectangle 27"/>
          <p:cNvSpPr/>
          <p:nvPr/>
        </p:nvSpPr>
        <p:spPr>
          <a:xfrm>
            <a:off x="91800" y="1268280"/>
            <a:ext cx="902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0000"/>
                </a:solidFill>
                <a:latin typeface="SL_Times New Roman"/>
              </a:rPr>
              <a:t>1</a:t>
            </a:r>
            <a:r>
              <a:rPr b="0" lang="tt-RU" sz="3600" spc="-1" strike="noStrike">
                <a:solidFill>
                  <a:srgbClr val="ff0000"/>
                </a:solidFill>
                <a:latin typeface="SL_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SL_Times New Roman"/>
              </a:rPr>
              <a:t>( </a:t>
            </a:r>
            <a:r>
              <a:rPr b="0" lang="tt-RU" sz="3600" spc="-1" strike="noStrike">
                <a:solidFill>
                  <a:srgbClr val="000000"/>
                </a:solidFill>
                <a:latin typeface="SL_Times New Roman"/>
              </a:rPr>
              <a:t>-кәч </a:t>
            </a:r>
            <a:r>
              <a:rPr b="0" lang="en-US" sz="3600" spc="-1" strike="noStrike">
                <a:solidFill>
                  <a:srgbClr val="000000"/>
                </a:solidFill>
                <a:latin typeface="SL_Times New Roman"/>
              </a:rPr>
              <a:t> ) </a:t>
            </a:r>
            <a:r>
              <a:rPr b="0" lang="tt-RU" sz="3600" spc="-1" strike="noStrike">
                <a:solidFill>
                  <a:srgbClr val="000000"/>
                </a:solidFill>
                <a:latin typeface="SL_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SL_Times New Roman"/>
              </a:rPr>
              <a:t>[  ]      </a:t>
            </a:r>
            <a:r>
              <a:rPr b="1" lang="tt-RU" sz="3600" spc="-1" strike="noStrike">
                <a:solidFill>
                  <a:srgbClr val="ff0000"/>
                </a:solidFill>
                <a:latin typeface="SL_Times New Roman"/>
              </a:rPr>
              <a:t>2</a:t>
            </a:r>
            <a:r>
              <a:rPr b="0" lang="tt-RU" sz="3600" spc="-1" strike="noStrike">
                <a:solidFill>
                  <a:srgbClr val="ff0000"/>
                </a:solidFill>
                <a:latin typeface="SL_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SL_Times New Roman"/>
              </a:rPr>
              <a:t>[  ]</a:t>
            </a:r>
            <a:r>
              <a:rPr b="0" lang="tt-RU" sz="3600" spc="-1" strike="noStrike">
                <a:solidFill>
                  <a:srgbClr val="000000"/>
                </a:solidFill>
                <a:latin typeface="SL_Times New Roman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SL_Times New Roman"/>
              </a:rPr>
              <a:t>   [  ]</a:t>
            </a:r>
            <a:r>
              <a:rPr b="0" lang="tt-RU" sz="3600" spc="-1" strike="noStrike">
                <a:solidFill>
                  <a:srgbClr val="000000"/>
                </a:solidFill>
                <a:latin typeface="SL_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SL_Times New Roman"/>
              </a:rPr>
              <a:t>  [  ]     </a:t>
            </a:r>
            <a:r>
              <a:rPr b="1" lang="tt-RU" sz="3600" spc="-1" strike="noStrike">
                <a:solidFill>
                  <a:srgbClr val="ff0000"/>
                </a:solidFill>
                <a:latin typeface="SL_Times New Roman"/>
              </a:rPr>
              <a:t>3</a:t>
            </a:r>
            <a:r>
              <a:rPr b="0" lang="tt-RU" sz="3600" spc="-1" strike="noStrike">
                <a:solidFill>
                  <a:srgbClr val="ff0000"/>
                </a:solidFill>
                <a:latin typeface="SL_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SL_Times New Roman"/>
              </a:rPr>
              <a:t> [  ]</a:t>
            </a:r>
            <a:r>
              <a:rPr b="0" lang="tt-RU" sz="3600" spc="-1" strike="noStrike">
                <a:solidFill>
                  <a:srgbClr val="000000"/>
                </a:solidFill>
                <a:latin typeface="SL_Times New Roman"/>
              </a:rPr>
              <a:t> : (  )</a:t>
            </a:r>
            <a:endParaRPr b="0" lang="en-US" sz="36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63" name="Text Box 28"/>
          <p:cNvSpPr/>
          <p:nvPr/>
        </p:nvSpPr>
        <p:spPr>
          <a:xfrm>
            <a:off x="468360" y="2924280"/>
            <a:ext cx="3585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0000"/>
                </a:solidFill>
                <a:latin typeface="SL_Times New Roman"/>
              </a:rPr>
              <a:t>4</a:t>
            </a:r>
            <a:r>
              <a:rPr b="0" lang="tt-RU" sz="3600" spc="-1" strike="noStrike">
                <a:solidFill>
                  <a:srgbClr val="ff0000"/>
                </a:solidFill>
                <a:latin typeface="SL_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64" name="Text Box 29"/>
          <p:cNvSpPr/>
          <p:nvPr/>
        </p:nvSpPr>
        <p:spPr>
          <a:xfrm>
            <a:off x="6156360" y="2637000"/>
            <a:ext cx="358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0000"/>
                </a:solidFill>
                <a:latin typeface="SL_Times New Roman"/>
              </a:rPr>
              <a:t>5</a:t>
            </a:r>
            <a:r>
              <a:rPr b="0" lang="tt-RU" sz="3600" spc="-1" strike="noStrike">
                <a:solidFill>
                  <a:srgbClr val="ff0000"/>
                </a:solidFill>
                <a:latin typeface="SL_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65" name="Text Box 30"/>
          <p:cNvSpPr/>
          <p:nvPr/>
        </p:nvSpPr>
        <p:spPr>
          <a:xfrm>
            <a:off x="3059280" y="4508640"/>
            <a:ext cx="3585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0000"/>
                </a:solidFill>
                <a:latin typeface="SL_Times New Roman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SL_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533520" y="914400"/>
            <a:ext cx="706572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99"/>
                </a:solidFill>
                <a:latin typeface="Times New Roman"/>
              </a:rPr>
              <a:t>Кыңгырау ял итәргә чакыра</a:t>
            </a:r>
            <a:endParaRPr b="0" lang="en-US" sz="40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L_Times New Roman"/>
            </a:endParaRPr>
          </a:p>
        </p:txBody>
      </p:sp>
      <p:pic>
        <p:nvPicPr>
          <p:cNvPr id="167" name="Picture 3" descr="J0336978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4"/>
          <p:cNvGrpSpPr/>
          <p:nvPr/>
        </p:nvGrpSpPr>
        <p:grpSpPr>
          <a:xfrm>
            <a:off x="1893600" y="3641040"/>
            <a:ext cx="4379760" cy="1000800"/>
            <a:chOff x="1893600" y="3641040"/>
            <a:chExt cx="4379760" cy="1000800"/>
          </a:xfrm>
        </p:grpSpPr>
        <p:sp>
          <p:nvSpPr>
            <p:cNvPr id="169" name="AutoShape 5"/>
            <p:cNvSpPr/>
            <p:nvPr/>
          </p:nvSpPr>
          <p:spPr>
            <a:xfrm rot="21471600">
              <a:off x="1907640" y="3719160"/>
              <a:ext cx="4202280" cy="844560"/>
            </a:xfrm>
            <a:prstGeom prst="wedgeEllipseCallout">
              <a:avLst>
                <a:gd name="adj1" fmla="val -65805"/>
                <a:gd name="adj2" fmla="val 60425"/>
              </a:avLst>
            </a:prstGeom>
            <a:solidFill>
              <a:srgbClr val="e8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170" name="Text Box 6"/>
            <p:cNvSpPr/>
            <p:nvPr/>
          </p:nvSpPr>
          <p:spPr>
            <a:xfrm rot="21471600">
              <a:off x="2272680" y="3849480"/>
              <a:ext cx="398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0" lang="ru-RU" sz="3200" spc="-1" strike="noStrike">
                  <a:solidFill>
                    <a:srgbClr val="0000ff"/>
                  </a:solidFill>
                  <a:latin typeface="Times New Roman"/>
                </a:rPr>
                <a:t>Сау булыгыз!</a:t>
              </a:r>
              <a:r>
                <a:rPr b="0" lang="ru-RU" sz="40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</p:grpSp>
      <p:grpSp>
        <p:nvGrpSpPr>
          <p:cNvPr id="171" name="Group 7"/>
          <p:cNvGrpSpPr/>
          <p:nvPr/>
        </p:nvGrpSpPr>
        <p:grpSpPr>
          <a:xfrm>
            <a:off x="2155320" y="4327920"/>
            <a:ext cx="5410800" cy="2216880"/>
            <a:chOff x="2155320" y="4327920"/>
            <a:chExt cx="5410800" cy="2216880"/>
          </a:xfrm>
        </p:grpSpPr>
        <p:sp>
          <p:nvSpPr>
            <p:cNvPr id="172" name="AutoShape 8"/>
            <p:cNvSpPr/>
            <p:nvPr/>
          </p:nvSpPr>
          <p:spPr>
            <a:xfrm rot="20879400">
              <a:off x="2216160" y="4865400"/>
              <a:ext cx="5289120" cy="1141200"/>
            </a:xfrm>
            <a:prstGeom prst="wedgeEllipseCallout">
              <a:avLst>
                <a:gd name="adj1" fmla="val 59180"/>
                <a:gd name="adj2" fmla="val -19106"/>
              </a:avLst>
            </a:prstGeom>
            <a:solidFill>
              <a:srgbClr val="e8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173" name="Rectangle 9"/>
            <p:cNvSpPr/>
            <p:nvPr/>
          </p:nvSpPr>
          <p:spPr>
            <a:xfrm rot="20879400">
              <a:off x="2934720" y="4875840"/>
              <a:ext cx="434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ff"/>
                  </a:solidFill>
                  <a:latin typeface="Times New Roman"/>
                </a:rPr>
                <a:t>-Дәрестә актив катнашуыгыз өчен рәхмәт! Хушыгыз!</a:t>
              </a:r>
              <a:endParaRPr b="0" lang="en-US" sz="24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</p:grpSp>
      <p:pic>
        <p:nvPicPr>
          <p:cNvPr id="174" name="Picture 10" descr="J0232452"/>
          <p:cNvPicPr/>
          <p:nvPr/>
        </p:nvPicPr>
        <p:blipFill>
          <a:blip r:embed="rId2"/>
          <a:stretch/>
        </p:blipFill>
        <p:spPr>
          <a:xfrm>
            <a:off x="0" y="4292640"/>
            <a:ext cx="1116000" cy="2565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J0079114"/>
          <p:cNvPicPr/>
          <p:nvPr/>
        </p:nvPicPr>
        <p:blipFill>
          <a:blip r:embed="rId3"/>
          <a:stretch/>
        </p:blipFill>
        <p:spPr>
          <a:xfrm flipH="1">
            <a:off x="7694640" y="3573360"/>
            <a:ext cx="144936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3" dur="1" fill="hold"/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Times New Roman"/>
              </a:rPr>
              <a:t>C</a:t>
            </a:r>
            <a:r>
              <a:rPr b="1" lang="tt-RU" sz="4000" spc="-1" strike="noStrike">
                <a:solidFill>
                  <a:srgbClr val="cc0099"/>
                </a:solidFill>
                <a:latin typeface="Times New Roman"/>
              </a:rPr>
              <a:t>үзләрне тәрҗемә итәргә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Picture 3" descr="J0336978"/>
          <p:cNvPicPr/>
          <p:nvPr/>
        </p:nvPicPr>
        <p:blipFill>
          <a:blip r:embed="rId1"/>
          <a:stretch/>
        </p:blipFill>
        <p:spPr>
          <a:xfrm>
            <a:off x="7380360" y="26028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395280" y="2157480"/>
            <a:ext cx="856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әзир, падишаһ, гәүһәр, җем-җем итә, өянке, шәүлә, баш,  оч, өстәрәк, астарак, төп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SL_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618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әзир- министр двор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дишаһ - цар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гәүһәр –жемчуг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җем-җем итә – блисти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өянке – плакучая ив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шәүлә – тен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баш – начал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оч –верхуш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өстәрәк - повыш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старак – пониж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төп- пень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285840"/>
            <a:ext cx="8385120" cy="714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Җөмләләрне тәрҗемә итегез</a:t>
            </a:r>
            <a:br>
              <a:rPr sz="3200"/>
            </a:br>
            <a:br>
              <a:rPr sz="3200"/>
            </a:br>
            <a:br>
              <a:rPr sz="2800"/>
            </a:b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шаның вәзирләре киңәшмәгә җыелды.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ша үзенең кызына гәүһәр кашлы алка бүләк итте.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янке төбендәге урындыкта яш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 егет утыра.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өстендә кояш нурлары җем-җем итә.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 ат яш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тка юл биреп китә.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га салгач, агачның очы өскә күтәрелә.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тием акыл бирә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04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ири царя собрались на совет.</a:t>
            </a:r>
            <a:br>
              <a:rPr sz="3600"/>
            </a:b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рь своей дочери подарил сережки с жемчугом.</a:t>
            </a:r>
            <a:br>
              <a:rPr sz="3600"/>
            </a:b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ивой на стуле сидит молодой парень.</a:t>
            </a:r>
            <a:br>
              <a:rPr sz="3600"/>
            </a:b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водой блестят лучи солнца.</a:t>
            </a:r>
            <a:br>
              <a:rPr sz="3600"/>
            </a:b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ый конь молодому уступает дорогу.</a:t>
            </a:r>
            <a:br>
              <a:rPr sz="3600"/>
            </a:b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оде верхушка дерево поднимается вверх.</a:t>
            </a:r>
            <a:br>
              <a:rPr sz="3600"/>
            </a:b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ц учит уму-разуму.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85120" cy="10512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9f25d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Times New Roman"/>
              </a:rPr>
              <a:t>C</a:t>
            </a:r>
            <a:r>
              <a:rPr b="1" lang="tt-RU" sz="4000" spc="-1" strike="noStrike">
                <a:solidFill>
                  <a:srgbClr val="cc0099"/>
                </a:solidFill>
                <a:latin typeface="Times New Roman"/>
              </a:rPr>
              <a:t>оравыңны әйт кенә,</a:t>
            </a:r>
            <a:br>
              <a:rPr sz="4000"/>
            </a:br>
            <a:r>
              <a:rPr b="1" lang="tt-RU" sz="4000" spc="-1" strike="noStrike">
                <a:solidFill>
                  <a:srgbClr val="cc0099"/>
                </a:solidFill>
                <a:latin typeface="Times New Roman"/>
              </a:rPr>
              <a:t>Җавап табам тиз генә!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68360" y="2435760"/>
            <a:ext cx="82184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33336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үзләрнең синонимнарын табарга: оч, төп, усал, яхшы, карт.</a:t>
            </a:r>
            <a:endParaRPr b="0" lang="en-US" sz="2800" spc="-1" strike="noStrike">
              <a:solidFill>
                <a:srgbClr val="000000"/>
              </a:solidFill>
              <a:latin typeface="SL_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33336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. Сүзләрнең антонимнарын табыгыз: усал, яшь</a:t>
            </a: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өстәрәк, башында, зирәк, яхшылык, озак.</a:t>
            </a:r>
            <a:endParaRPr b="0" lang="en-US" sz="2800" spc="-1" strike="noStrike">
              <a:solidFill>
                <a:srgbClr val="000000"/>
              </a:solidFill>
              <a:latin typeface="SL_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33336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. Бирелгән фигыл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ьләрне төрле заманнарга куеп языгыз: бул, төш, тап, яшер.</a:t>
            </a:r>
            <a:endParaRPr b="0" lang="en-US" sz="3200" spc="-1" strike="noStrike">
              <a:solidFill>
                <a:srgbClr val="000000"/>
              </a:solidFill>
              <a:latin typeface="SL_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33336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SL_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56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3336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. Оч – баш, нәрсәнең булса да башланган урыны.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өп – әһәмиятле, агачның үсеп чыккан урыны.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сал –явыз, начар кеше.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Яхшы – мәрхәмәтле, әйбәт.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рт – озак яшәгән кеше.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. Сүзләрнең антонимнарын табыгыз: усал –яхшы, яшь – карт</a:t>
            </a:r>
            <a:r>
              <a:rPr b="1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өстәрәк – астарак, башында – ахырында, зирәк – акыллы , озак – тиз, яхшылык – начарлык.</a:t>
            </a:r>
            <a:br>
              <a:rPr sz="2800"/>
            </a:br>
            <a:r>
              <a:rPr b="1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. Бирелгән фигыл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ьләрне төрле заманнарга куеп языгыз: бул, төш, тап, яшер.</a:t>
            </a:r>
            <a:br>
              <a:rPr sz="2800"/>
            </a:br>
            <a:br>
              <a:rPr sz="4800"/>
            </a:b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39640" y="4869000"/>
          <a:ext cx="8353440" cy="1280880"/>
        </p:xfrm>
        <a:graphic>
          <a:graphicData uri="http://schemas.openxmlformats.org/drawingml/2006/table">
            <a:tbl>
              <a:tblPr/>
              <a:tblGrid>
                <a:gridCol w="1579680"/>
                <a:gridCol w="1762200"/>
                <a:gridCol w="1670040"/>
                <a:gridCol w="1671480"/>
                <a:gridCol w="16700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илгеле ү.з.х.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5760">
                      <a:solidFill>
                        <a:srgbClr val="f9f25d"/>
                      </a:solidFill>
                    </a:lnT>
                    <a:lnB w="18720">
                      <a:solidFill>
                        <a:srgbClr val="f9f25d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илгесез ү.з.х.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5760">
                      <a:solidFill>
                        <a:srgbClr val="f9f25d"/>
                      </a:solidFill>
                    </a:lnT>
                    <a:lnB w="18720">
                      <a:solidFill>
                        <a:srgbClr val="f9f25d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әзерге з. Х.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5760">
                      <a:solidFill>
                        <a:srgbClr val="f9f25d"/>
                      </a:solidFill>
                    </a:lnT>
                    <a:lnB w="18720">
                      <a:solidFill>
                        <a:srgbClr val="f9f25d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илгесез к.з.х.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5760">
                      <a:solidFill>
                        <a:srgbClr val="f9f25d"/>
                      </a:solidFill>
                    </a:lnT>
                    <a:lnB w="18720">
                      <a:solidFill>
                        <a:srgbClr val="f9f25d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илгеле к.з.х.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5760">
                      <a:solidFill>
                        <a:srgbClr val="f9f25d"/>
                      </a:solidFill>
                    </a:lnT>
                    <a:lnB w="18720">
                      <a:solidFill>
                        <a:srgbClr val="f9f25d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ул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18720">
                      <a:solidFill>
                        <a:srgbClr val="f9f25d"/>
                      </a:solidFill>
                    </a:lnT>
                    <a:lnB w="5760">
                      <a:solidFill>
                        <a:srgbClr val="f9f25d"/>
                      </a:solidFill>
                    </a:lnB>
                    <a:solidFill>
                      <a:srgbClr val="f6f9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улг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18720">
                      <a:solidFill>
                        <a:srgbClr val="f9f25d"/>
                      </a:solidFill>
                    </a:lnT>
                    <a:lnB w="5760">
                      <a:solidFill>
                        <a:srgbClr val="f9f25d"/>
                      </a:solidFill>
                    </a:lnB>
                    <a:solidFill>
                      <a:srgbClr val="f6f9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18720">
                      <a:solidFill>
                        <a:srgbClr val="f9f25d"/>
                      </a:solidFill>
                    </a:lnT>
                    <a:lnB w="5760">
                      <a:solidFill>
                        <a:srgbClr val="f9f25d"/>
                      </a:solidFill>
                    </a:lnB>
                    <a:solidFill>
                      <a:srgbClr val="f6f9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улы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18720">
                      <a:solidFill>
                        <a:srgbClr val="f9f25d"/>
                      </a:solidFill>
                    </a:lnT>
                    <a:lnB w="5760">
                      <a:solidFill>
                        <a:srgbClr val="f9f25d"/>
                      </a:solidFill>
                    </a:lnB>
                    <a:solidFill>
                      <a:srgbClr val="f6f9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улач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18720">
                      <a:solidFill>
                        <a:srgbClr val="f9f25d"/>
                      </a:solidFill>
                    </a:lnT>
                    <a:lnB w="5760">
                      <a:solidFill>
                        <a:srgbClr val="f9f25d"/>
                      </a:solidFill>
                    </a:lnB>
                    <a:solidFill>
                      <a:srgbClr val="f6f9f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8000" y="691920"/>
            <a:ext cx="693432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ешле фигыльләрне яз. </a:t>
            </a:r>
            <a:br>
              <a:rPr sz="3200"/>
            </a:br>
            <a:r>
              <a:rPr b="1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шма җөмләләр төзе.</a:t>
            </a:r>
            <a:br>
              <a:rPr sz="3200"/>
            </a:br>
            <a:r>
              <a:rPr b="1" i="1" lang="tt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Өлкәннәрне ... кирәк. Әби белән бабайны ... кирәк. Яш</a:t>
            </a:r>
            <a:r>
              <a:rPr b="1" i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ь</a:t>
            </a:r>
            <a:r>
              <a:rPr b="1" i="1" lang="tt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үсентеләрне яхшы ... кирәк. Әти-әниең биргән киңәшне ... кирәк.</a:t>
            </a:r>
            <a:br>
              <a:rPr sz="3200"/>
            </a:br>
            <a:r>
              <a:rPr b="1" i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яраткач, яратырга;  хөрмәт итәргә, хөрмәт итте; тәрбияли, тәрбияләргә, тәрбияләде; тыңлый, тыңларга, тыңлады.</a:t>
            </a:r>
            <a:r>
              <a:rPr b="1" i="1" lang="tt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Picture 7" descr="J0079190"/>
          <p:cNvPicPr/>
          <p:nvPr/>
        </p:nvPicPr>
        <p:blipFill>
          <a:blip r:embed="rId1"/>
          <a:stretch/>
        </p:blipFill>
        <p:spPr>
          <a:xfrm flipH="1">
            <a:off x="250920" y="2060640"/>
            <a:ext cx="1512720" cy="4038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J0079073"/>
          <p:cNvPicPr/>
          <p:nvPr/>
        </p:nvPicPr>
        <p:blipFill>
          <a:blip r:embed="rId2"/>
          <a:stretch/>
        </p:blipFill>
        <p:spPr>
          <a:xfrm>
            <a:off x="684360" y="260280"/>
            <a:ext cx="2592360" cy="10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244080"/>
            <a:ext cx="8591400" cy="599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8388360" cy="37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Өлкәннәрне</a:t>
            </a:r>
            <a:r>
              <a:rPr b="0" i="1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яратырга</a:t>
            </a:r>
            <a:r>
              <a:rPr b="0" i="1" lang="tt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кирәк. Әби белән бабайны </a:t>
            </a:r>
            <a:r>
              <a:rPr b="0" i="1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хөрмәт итәргә</a:t>
            </a:r>
            <a:r>
              <a:rPr b="0" i="1" lang="tt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кирәк. Яш</a:t>
            </a:r>
            <a:r>
              <a:rPr b="0" i="1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ь</a:t>
            </a:r>
            <a:r>
              <a:rPr b="0" i="1" lang="tt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үсентеләрне яхшы</a:t>
            </a:r>
            <a:r>
              <a:rPr b="0" i="1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, тәрбияләргә</a:t>
            </a:r>
            <a:r>
              <a:rPr b="0" i="1" lang="tt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кирәк. Әти-әниең биргән киңәшне</a:t>
            </a:r>
            <a:r>
              <a:rPr b="0" i="1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тыңларга</a:t>
            </a:r>
            <a:r>
              <a:rPr b="0" i="1" lang="tt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кирәк</a:t>
            </a:r>
            <a:r>
              <a:rPr b="0" i="1" lang="tt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132"/>
          <p:cNvPicPr/>
          <p:nvPr/>
        </p:nvPicPr>
        <p:blipFill>
          <a:blip r:embed="rId1"/>
          <a:stretch/>
        </p:blipFill>
        <p:spPr>
          <a:xfrm>
            <a:off x="3564000" y="4923000"/>
            <a:ext cx="1922400" cy="160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4:58:13Z</dcterms:created>
  <dc:creator>Ильгиз</dc:creator>
  <dc:description/>
  <dc:language>en-US</dc:language>
  <cp:lastModifiedBy>Admin</cp:lastModifiedBy>
  <dcterms:modified xsi:type="dcterms:W3CDTF">2012-10-17T16:31:59Z</dcterms:modified>
  <cp:revision>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