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4.gif" ContentType="image/gif"/>
  <Override PartName="/ppt/media/image7.wmf" ContentType="image/x-wmf"/>
  <Override PartName="/ppt/media/CHIMES.WAV" ContentType="audio/x-wav"/>
  <Override PartName="/ppt/media/image6.wmf" ContentType="image/x-wmf"/>
  <Override PartName="/ppt/media/image2.wmf" ContentType="image/x-wmf"/>
  <Override PartName="/ppt/media/image3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274B-B154-4CC0-BCF2-30CFEB37F3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FFF7-9A39-4F97-B062-04DBBC605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135F-9C36-4D78-AF9F-8A1983A74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3F5-46F7-4E04-8373-BC033BAE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78A-FE43-49EE-8383-C7DFF677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F26-7CC7-43A4-A2B0-B1DAAB61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294-1EF5-4D3A-A190-032A160F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BACC-0E43-4DD4-B5C8-49E4FBD0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6DBF-5F69-495D-A9DB-C85166EA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A3C7-9003-43BC-A687-4689639C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105E-1DA6-4F23-A495-A0422ABA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FAC1-2FB0-4E41-BC3D-1229BA8F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FFFD-C86A-46B5-9393-9DF5646E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EF56-C912-4287-B2CB-BD34E00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F28-6FCB-4E19-9851-3A8280F2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F966-8377-4F3D-B4D3-6FF67D9E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6A9C-9107-464C-B160-0979189D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30E5-1A27-43A8-99DA-A39FD5D8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7D8B-C759-4968-91B9-126FF5E6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7900-E885-452E-B8EC-A339D891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C64-D85D-4777-B0D6-4017EB9F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585-D612-48D9-94F5-F6D52ECA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FA2-5CDB-4C71-A0E7-93853F6C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CE8-FC87-4FC2-9370-5966F133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AA4-7A10-4EB5-966F-48DD6166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0D3-B854-4B91-A132-34857BD3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684-08CA-460A-B5C8-088EB5A7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25d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3E0A-8E9A-472D-94FF-0F6F83ABD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25d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56DE-4DB1-4A12-A5BC-674DC954E4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428840" y="642960"/>
            <a:ext cx="68580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SL_Times New Roman"/>
              </a:rPr>
              <a:t>Лексик-грамматик материал. 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SL_Times New Roman"/>
              </a:rPr>
              <a:t>“</a:t>
            </a:r>
            <a:r>
              <a:rPr b="1" lang="tt-RU" sz="2800" spc="-1" strike="noStrike">
                <a:solidFill>
                  <a:srgbClr val="000000"/>
                </a:solidFill>
                <a:latin typeface="SL_Times New Roman"/>
              </a:rPr>
              <a:t>ЗИРӘК КАРТ”. Татар халык әкияте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L_Times New Roman"/>
              </a:rPr>
              <a:t>Укытучы: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L_Times New Roman"/>
              </a:rPr>
              <a:t>Попова Г</a:t>
            </a:r>
            <a:r>
              <a:rPr b="0" lang="tt-RU" sz="3200" spc="-1" strike="noStrike">
                <a:solidFill>
                  <a:srgbClr val="000000"/>
                </a:solidFill>
                <a:latin typeface="SL_Times New Roman"/>
              </a:rPr>
              <a:t>өлниса Гаян кызы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380880"/>
            <a:ext cx="6399360" cy="6072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9f25d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47fd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Тест</a:t>
            </a:r>
            <a:br>
              <a:rPr sz="36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1) вернулся из леса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урманга барган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урманга киткщн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урманнан кайткан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2) растет ива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</a:t>
            </a:r>
            <a:r>
              <a:rPr b="0" lang="tt-RU" sz="2800" spc="-1" strike="noStrike">
                <a:solidFill>
                  <a:srgbClr val="9947fd"/>
                </a:solidFill>
                <a:latin typeface="Times New Roman"/>
              </a:rPr>
              <a:t>каен үсә</a:t>
            </a:r>
            <a:br>
              <a:rPr sz="2800"/>
            </a:br>
            <a:r>
              <a:rPr b="0" lang="tt-RU" sz="2800" spc="-1" strike="noStrike">
                <a:solidFill>
                  <a:srgbClr val="9947fd"/>
                </a:solidFill>
                <a:latin typeface="Times New Roman"/>
              </a:rPr>
              <a:t>-имән үсә</a:t>
            </a:r>
            <a:br>
              <a:rPr sz="2800"/>
            </a:br>
            <a:r>
              <a:rPr b="0" lang="tt-RU" sz="2800" spc="-1" strike="noStrike">
                <a:solidFill>
                  <a:srgbClr val="9947fd"/>
                </a:solidFill>
                <a:latin typeface="Times New Roman"/>
              </a:rPr>
              <a:t>өянке үсә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3) мудрый старик</a:t>
            </a: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9947fd"/>
                </a:solidFill>
                <a:latin typeface="Times New Roman"/>
              </a:rPr>
              <a:t>акылсыз карт</a:t>
            </a:r>
            <a:br>
              <a:rPr sz="2800"/>
            </a:b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9947fd"/>
                </a:solidFill>
                <a:latin typeface="Times New Roman"/>
              </a:rPr>
              <a:t>белемле карт</a:t>
            </a:r>
            <a:br>
              <a:rPr sz="2800"/>
            </a:br>
            <a:r>
              <a:rPr b="1" lang="ru-RU" sz="2800" spc="-1" strike="noStrike">
                <a:solidFill>
                  <a:srgbClr val="9947fd"/>
                </a:solidFill>
                <a:latin typeface="Times New Roman"/>
              </a:rPr>
              <a:t>- зирәк карт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295280" y="137160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23880" y="1219320"/>
            <a:ext cx="632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819520" y="1371600"/>
            <a:ext cx="601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pic>
        <p:nvPicPr>
          <p:cNvPr id="126" name="Picture 6" descr="J0079190"/>
          <p:cNvPicPr/>
          <p:nvPr/>
        </p:nvPicPr>
        <p:blipFill>
          <a:blip r:embed="rId1"/>
          <a:stretch/>
        </p:blipFill>
        <p:spPr>
          <a:xfrm flipH="1">
            <a:off x="250560" y="2060640"/>
            <a:ext cx="1981080" cy="4038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079073"/>
          <p:cNvPicPr/>
          <p:nvPr/>
        </p:nvPicPr>
        <p:blipFill>
          <a:blip r:embed="rId2"/>
          <a:stretch/>
        </p:blipFill>
        <p:spPr>
          <a:xfrm>
            <a:off x="0" y="26028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 flipV="1">
            <a:off x="7380360" y="7100280"/>
            <a:ext cx="115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30592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cc"/>
                </a:solidFill>
                <a:latin typeface="Times New Roman"/>
              </a:rPr>
              <a:t>Орфографик разминка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700360" y="450864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pic>
        <p:nvPicPr>
          <p:cNvPr id="131" name="Picture 11" descr="18"/>
          <p:cNvPicPr/>
          <p:nvPr/>
        </p:nvPicPr>
        <p:blipFill>
          <a:blip r:embed="rId1"/>
          <a:stretch/>
        </p:blipFill>
        <p:spPr>
          <a:xfrm>
            <a:off x="6762600" y="0"/>
            <a:ext cx="1924200" cy="1123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J0079190"/>
          <p:cNvPicPr/>
          <p:nvPr/>
        </p:nvPicPr>
        <p:blipFill>
          <a:blip r:embed="rId2"/>
          <a:stretch/>
        </p:blipFill>
        <p:spPr>
          <a:xfrm flipH="1">
            <a:off x="228600" y="1981080"/>
            <a:ext cx="2316240" cy="4581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5"/>
          <p:cNvSpPr/>
          <p:nvPr/>
        </p:nvSpPr>
        <p:spPr>
          <a:xfrm>
            <a:off x="3708360" y="227664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3276720" y="270828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419640" y="3141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3419640" y="3500280"/>
            <a:ext cx="152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3348000" y="3933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3419640" y="4365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3059280" y="501336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3492360" y="5157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2340000" y="1557360"/>
            <a:ext cx="56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Ъ һәм ь билгеләрен куегыз</a:t>
            </a:r>
            <a:endParaRPr b="0" lang="en-US" sz="24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3059280" y="2276640"/>
            <a:ext cx="223200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Сәгат...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Ар..як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Кул..яулык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Сәг..ди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Ал..пинист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Тәк..дим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Ил..нур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Биш...еллык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116000" y="270828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56000" y="270828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116000" y="3716280"/>
            <a:ext cx="1224000" cy="55584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572000" y="537372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916360" y="537372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3708360" y="436572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948360" y="4797360"/>
            <a:ext cx="1224000" cy="55584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877080" y="3716280"/>
            <a:ext cx="1224000" cy="55584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877080" y="263700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169236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3" name="Line 15"/>
          <p:cNvSpPr/>
          <p:nvPr/>
        </p:nvSpPr>
        <p:spPr>
          <a:xfrm flipH="1">
            <a:off x="3564000" y="494172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4284720" y="494172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75247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6" name="Line 18"/>
          <p:cNvSpPr/>
          <p:nvPr/>
        </p:nvSpPr>
        <p:spPr>
          <a:xfrm>
            <a:off x="7524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2340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2340000" y="306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4140360" y="558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4140360" y="57340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468360" y="404640"/>
            <a:ext cx="7920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3399"/>
                </a:solidFill>
                <a:latin typeface="SL_Times New Roman"/>
              </a:rPr>
              <a:t>Схемаларга туры китереп җөмләләр төзегез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91800" y="1268280"/>
            <a:ext cx="902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1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( 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-кәч 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) 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[  ]      </a:t>
            </a: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2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[  ]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  [  ]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 [  ]     </a:t>
            </a: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3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[  ]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 : (  )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468360" y="2924280"/>
            <a:ext cx="358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4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6156360" y="2637000"/>
            <a:ext cx="358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5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3059280" y="4508640"/>
            <a:ext cx="358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533520" y="914400"/>
            <a:ext cx="706572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99"/>
                </a:solidFill>
                <a:latin typeface="Times New Roman"/>
              </a:rPr>
              <a:t>Кыңгырау ял итәргә чакыра</a:t>
            </a:r>
            <a:endParaRPr b="0" lang="en-US" sz="40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L_Times New Roman"/>
            </a:endParaRPr>
          </a:p>
        </p:txBody>
      </p:sp>
      <p:pic>
        <p:nvPicPr>
          <p:cNvPr id="167" name="Picture 3" descr="J0336978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1893600" y="3641040"/>
            <a:ext cx="4379760" cy="1000800"/>
            <a:chOff x="1893600" y="3641040"/>
            <a:chExt cx="4379760" cy="1000800"/>
          </a:xfrm>
        </p:grpSpPr>
        <p:sp>
          <p:nvSpPr>
            <p:cNvPr id="169" name="AutoShape 5"/>
            <p:cNvSpPr/>
            <p:nvPr/>
          </p:nvSpPr>
          <p:spPr>
            <a:xfrm rot="21471600">
              <a:off x="1907640" y="3719160"/>
              <a:ext cx="4202280" cy="844560"/>
            </a:xfrm>
            <a:prstGeom prst="wedgeEllipseCallout">
              <a:avLst>
                <a:gd name="adj1" fmla="val -65805"/>
                <a:gd name="adj2" fmla="val 60425"/>
              </a:avLst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170" name="Text Box 6"/>
            <p:cNvSpPr/>
            <p:nvPr/>
          </p:nvSpPr>
          <p:spPr>
            <a:xfrm rot="21471600">
              <a:off x="2272680" y="3849480"/>
              <a:ext cx="398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Сау булыгыз!</a:t>
              </a: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grpSp>
        <p:nvGrpSpPr>
          <p:cNvPr id="171" name="Group 7"/>
          <p:cNvGrpSpPr/>
          <p:nvPr/>
        </p:nvGrpSpPr>
        <p:grpSpPr>
          <a:xfrm>
            <a:off x="2155320" y="4327920"/>
            <a:ext cx="5410800" cy="2216880"/>
            <a:chOff x="2155320" y="4327920"/>
            <a:chExt cx="5410800" cy="2216880"/>
          </a:xfrm>
        </p:grpSpPr>
        <p:sp>
          <p:nvSpPr>
            <p:cNvPr id="172" name="AutoShape 8"/>
            <p:cNvSpPr/>
            <p:nvPr/>
          </p:nvSpPr>
          <p:spPr>
            <a:xfrm rot="20879400">
              <a:off x="2216160" y="4865400"/>
              <a:ext cx="5289120" cy="1141200"/>
            </a:xfrm>
            <a:prstGeom prst="wedgeEllipseCallout">
              <a:avLst>
                <a:gd name="adj1" fmla="val 59180"/>
                <a:gd name="adj2" fmla="val -19106"/>
              </a:avLst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 rot="20879400">
              <a:off x="2934720" y="4875840"/>
              <a:ext cx="434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imes New Roman"/>
                </a:rPr>
                <a:t>-Дәрестә актив катнашуыгыз өчен рәхмәт! Хушыгыз!</a:t>
              </a:r>
              <a:endParaRPr b="0" lang="en-US" sz="24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pic>
        <p:nvPicPr>
          <p:cNvPr id="174" name="Picture 10" descr="J0232452"/>
          <p:cNvPicPr/>
          <p:nvPr/>
        </p:nvPicPr>
        <p:blipFill>
          <a:blip r:embed="rId2"/>
          <a:stretch/>
        </p:blipFill>
        <p:spPr>
          <a:xfrm>
            <a:off x="0" y="4292640"/>
            <a:ext cx="1116000" cy="2565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J0079114"/>
          <p:cNvPicPr/>
          <p:nvPr/>
        </p:nvPicPr>
        <p:blipFill>
          <a:blip r:embed="rId3"/>
          <a:stretch/>
        </p:blipFill>
        <p:spPr>
          <a:xfrm flipH="1">
            <a:off x="7694640" y="3573360"/>
            <a:ext cx="14493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imes New Roman"/>
              </a:rPr>
              <a:t>C</a:t>
            </a: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үзләрне тәрҗемә итәргә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3" descr="J0336978"/>
          <p:cNvPicPr/>
          <p:nvPr/>
        </p:nvPicPr>
        <p:blipFill>
          <a:blip r:embed="rId1"/>
          <a:stretch/>
        </p:blipFill>
        <p:spPr>
          <a:xfrm>
            <a:off x="7380360" y="26028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95280" y="215748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әзир, падишаһ, гәүһәр, җем-җем итә, өянке, шәүлә, баш,  оч, өстәрәк, астарак, төп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618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әзир- министр двор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дишаһ - цар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гәүһәр –жемчуг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җем-җем итә – блисти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өянке – плакучая и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шәүлә – т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ш – начал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оч –верхуш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өстәрәк - повыш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тарак – пониж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өп- пень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85840"/>
            <a:ext cx="8385120" cy="714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өмләләрне тәрҗемә итегез</a:t>
            </a:r>
            <a:br>
              <a:rPr sz="3200"/>
            </a:br>
            <a:br>
              <a:rPr sz="3200"/>
            </a:br>
            <a:br>
              <a:rPr sz="28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шаның вәзирләре киңәшмәгә җыелды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ша үзенең кызына гәүһәр кашлы алка бүләк итте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янке төбендәге урындыкта я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 егет утыра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өстендә кояш нурлары җем-җем итә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 ат я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тка юл биреп китә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га салгач, агачның очы өскә күтәрелә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тием акыл бирә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04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ири царя собрались на совет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своей дочери подарил сережки с жемчугом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ивой на стуле сидит молодой парень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водой блестят лучи солнца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ый конь молодому уступает дорогу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де верхушка дерево поднимается вверх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учит уму-разуму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85120" cy="1051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9f25d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imes New Roman"/>
              </a:rPr>
              <a:t>C</a:t>
            </a: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оравыңны әйт кенә,</a:t>
            </a:r>
            <a:br>
              <a:rPr sz="4000"/>
            </a:b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Җавап табам тиз генә!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68360" y="2435760"/>
            <a:ext cx="82184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үзләрнең синонимнарын табарга: оч, төп, усал, яхшы, карт.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Сүзләрнең антонимнарын табыгыз: усал, яшь</a:t>
            </a: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өстәрәк, башында, зирәк, яхшылык, озак.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Бирелгән фигыл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ьләрне төрле заманнарга куеп языгыз: бул, төш, тап, яшер.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56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Оч – баш, нәрсәнең булса да башланган урыны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өп – әһәмиятле, агачның үсеп чыккан урыны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ал –явыз, начар кеше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Яхшы – мәрхәмәтле, әйбәт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рт – озак яшәгән кеше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Сүзләрнең антонимнарын табыгыз: усал –яхшы, яшь – карт</a:t>
            </a:r>
            <a:r>
              <a:rPr b="1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өстәрәк – астарак, башында – ахырында, зирәк – акыллы , озак – тиз, яхшылык – начарлык.</a:t>
            </a:r>
            <a:br>
              <a:rPr sz="2800"/>
            </a:br>
            <a:r>
              <a:rPr b="1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Бирелгән фигыл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ьләрне төрле заманнарга куеп языгыз: бул, төш, тап, яшер.</a:t>
            </a:r>
            <a:br>
              <a:rPr sz="2800"/>
            </a:br>
            <a:br>
              <a:rPr sz="4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4869000"/>
          <a:ext cx="8353440" cy="1280880"/>
        </p:xfrm>
        <a:graphic>
          <a:graphicData uri="http://schemas.openxmlformats.org/drawingml/2006/table">
            <a:tbl>
              <a:tblPr/>
              <a:tblGrid>
                <a:gridCol w="1579680"/>
                <a:gridCol w="1762200"/>
                <a:gridCol w="1670040"/>
                <a:gridCol w="1671480"/>
                <a:gridCol w="16700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ле ү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сез ү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әзерге з. 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сез к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ле к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ы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ач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69343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ешле фигыльләрне яз. </a:t>
            </a:r>
            <a:br>
              <a:rPr sz="3200"/>
            </a:b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шма җөмләләр төзе.</a:t>
            </a:r>
            <a:br>
              <a:rPr sz="3200"/>
            </a:br>
            <a:r>
              <a:rPr b="1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лкәннәрне ... кирәк. Әби белән бабайны ... кирәк. Яш</a:t>
            </a:r>
            <a:r>
              <a:rPr b="1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ь</a:t>
            </a:r>
            <a:r>
              <a:rPr b="1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үсентеләрне яхшы ... кирәк. Әти-әниең биргән киңәшне ... кирәк.</a:t>
            </a:r>
            <a:br>
              <a:rPr sz="3200"/>
            </a:br>
            <a:r>
              <a:rPr b="1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яраткач, яратырга;  хөрмәт итәргә, хөрмәт итте; тәрбияли, тәрбияләргә, тәрбияләде; тыңлый, тыңларга, тыңлады.</a:t>
            </a:r>
            <a:r>
              <a:rPr b="1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Picture 7" descr="J0079190"/>
          <p:cNvPicPr/>
          <p:nvPr/>
        </p:nvPicPr>
        <p:blipFill>
          <a:blip r:embed="rId1"/>
          <a:stretch/>
        </p:blipFill>
        <p:spPr>
          <a:xfrm flipH="1">
            <a:off x="250920" y="2060640"/>
            <a:ext cx="151272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J0079073"/>
          <p:cNvPicPr/>
          <p:nvPr/>
        </p:nvPicPr>
        <p:blipFill>
          <a:blip r:embed="rId2"/>
          <a:stretch/>
        </p:blipFill>
        <p:spPr>
          <a:xfrm>
            <a:off x="684360" y="260280"/>
            <a:ext cx="259236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599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388360" cy="37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лкәннәрне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яратырга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. Әби белән бабайны 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хөрмәт итәргә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. Яш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ь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үсентеләрне яхшы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, тәрбияләргә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. Әти-әниең биргән киңәшне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тыңларга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</a:t>
            </a:r>
            <a:r>
              <a:rPr b="0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32"/>
          <p:cNvPicPr/>
          <p:nvPr/>
        </p:nvPicPr>
        <p:blipFill>
          <a:blip r:embed="rId1"/>
          <a:stretch/>
        </p:blipFill>
        <p:spPr>
          <a:xfrm>
            <a:off x="3564000" y="4923000"/>
            <a:ext cx="1922400" cy="160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58:13Z</dcterms:created>
  <dc:creator>Ильгиз</dc:creator>
  <dc:description/>
  <dc:language>en-US</dc:language>
  <cp:lastModifiedBy>Admin</cp:lastModifiedBy>
  <dcterms:modified xsi:type="dcterms:W3CDTF">2012-10-17T16:31:59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