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543A-35E5-42D5-B786-BDEC086AB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D452-AFC0-4813-B41F-DCF25DEB3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13B6-6C2E-47C1-9657-72347AAA7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835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5767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9072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835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5767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9223-A398-4D50-A027-5FE14D81A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C95CF-D9CA-4107-BFF8-ADE733AC1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3E45B-4643-4E89-90AB-46D34A82A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83579-76EC-460C-B11F-A90922200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750D5-6DD2-4B39-8C3D-F419A8EA9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03F78-3470-4975-B554-AB6607589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38CBC-0643-4007-98E2-FC5966CE0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51FFF-6F51-414C-A169-E5E2B105F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C3B1-87A6-4720-8F97-297735150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DD843-BE59-49EE-B917-8136FC9D8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2E3C7-41D7-4B2C-B426-8C716FC7D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C84A2-684B-4A5F-9151-5B9369331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6B363-6E4A-434D-835B-41E0D9366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835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5767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99072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835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5767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BC99E-F21A-48B1-9920-E483922BC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EE76-1F34-4F00-B06F-0CEA3D10D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790F-6829-415E-854A-EB0792D95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A9F0-2A22-4A14-A237-96E747FC8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DC4C-0A3F-4344-8A17-F514CCCF7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7313-40CC-4492-A979-9A70594B3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7F3B-A327-482A-B548-F5F377822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AF80-2ED1-4BB4-9D50-AEA2BE32D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B322B-C62D-4916-AC60-FB18DF5FA4E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7AAAB-831D-4725-BFCD-7905E2F8E03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ff"/>
                </a:solidFill>
                <a:latin typeface="Arial Black"/>
              </a:rPr>
              <a:t>Детская агрессивность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114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ff"/>
                </a:solidFill>
                <a:latin typeface="Arial"/>
              </a:rPr>
              <a:t>Рекомендации для            родител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752480" y="2209680"/>
            <a:ext cx="586764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"/>
          <p:cNvGrpSpPr/>
          <p:nvPr/>
        </p:nvGrpSpPr>
        <p:grpSpPr>
          <a:xfrm>
            <a:off x="666360" y="167760"/>
            <a:ext cx="7810200" cy="6372000"/>
            <a:chOff x="666360" y="167760"/>
            <a:chExt cx="7810200" cy="6372000"/>
          </a:xfrm>
        </p:grpSpPr>
        <p:sp>
          <p:nvSpPr>
            <p:cNvPr id="102" name="_s11283"/>
            <p:cNvSpPr/>
            <p:nvPr/>
          </p:nvSpPr>
          <p:spPr>
            <a:xfrm flipH="1" flipV="1">
              <a:off x="2691360" y="2556000"/>
              <a:ext cx="939960" cy="3981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_s11282"/>
            <p:cNvSpPr/>
            <p:nvPr/>
          </p:nvSpPr>
          <p:spPr>
            <a:xfrm>
              <a:off x="666360" y="1360800"/>
              <a:ext cx="2171160" cy="159336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Модель поведения,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взятая у 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героев фильмов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_s11281"/>
            <p:cNvSpPr/>
            <p:nvPr/>
          </p:nvSpPr>
          <p:spPr>
            <a:xfrm flipH="1">
              <a:off x="2691360" y="3751200"/>
              <a:ext cx="939960" cy="3981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_s11280"/>
            <p:cNvSpPr/>
            <p:nvPr/>
          </p:nvSpPr>
          <p:spPr>
            <a:xfrm>
              <a:off x="666360" y="3751200"/>
              <a:ext cx="2171160" cy="159336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Обида и злость 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на кого - либо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_s11279"/>
            <p:cNvSpPr/>
            <p:nvPr/>
          </p:nvSpPr>
          <p:spPr>
            <a:xfrm>
              <a:off x="4571640" y="4149720"/>
              <a:ext cx="0" cy="7966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78"/>
            <p:cNvSpPr/>
            <p:nvPr/>
          </p:nvSpPr>
          <p:spPr>
            <a:xfrm>
              <a:off x="3485880" y="4946400"/>
              <a:ext cx="2171160" cy="159336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Психоневрологические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заболевания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7"/>
            <p:cNvSpPr/>
            <p:nvPr/>
          </p:nvSpPr>
          <p:spPr>
            <a:xfrm>
              <a:off x="5511240" y="3751200"/>
              <a:ext cx="939960" cy="3981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_s11276"/>
            <p:cNvSpPr/>
            <p:nvPr/>
          </p:nvSpPr>
          <p:spPr>
            <a:xfrm>
              <a:off x="6305400" y="3751200"/>
              <a:ext cx="2171160" cy="159336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Слишком строгое 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воспитание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75"/>
            <p:cNvSpPr/>
            <p:nvPr/>
          </p:nvSpPr>
          <p:spPr>
            <a:xfrm flipV="1">
              <a:off x="5511240" y="2558160"/>
              <a:ext cx="939960" cy="3981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_s11274"/>
            <p:cNvSpPr/>
            <p:nvPr/>
          </p:nvSpPr>
          <p:spPr>
            <a:xfrm>
              <a:off x="6305400" y="1362960"/>
              <a:ext cx="2171160" cy="159336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Ревность к другим 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членам семьи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_s11273"/>
            <p:cNvSpPr/>
            <p:nvPr/>
          </p:nvSpPr>
          <p:spPr>
            <a:xfrm flipV="1">
              <a:off x="4571640" y="1761120"/>
              <a:ext cx="0" cy="7966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_s11272"/>
            <p:cNvSpPr/>
            <p:nvPr/>
          </p:nvSpPr>
          <p:spPr>
            <a:xfrm>
              <a:off x="3485880" y="167760"/>
              <a:ext cx="2171160" cy="159336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Агрессия – 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Норма общения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в семье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1"/>
            <p:cNvSpPr/>
            <p:nvPr/>
          </p:nvSpPr>
          <p:spPr>
            <a:xfrm>
              <a:off x="3485880" y="2558160"/>
              <a:ext cx="2171160" cy="159336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900" spc="-1" strike="noStrike">
                  <a:solidFill>
                    <a:srgbClr val="000000"/>
                  </a:solidFill>
                  <a:latin typeface="Arial"/>
                </a:rPr>
                <a:t>Причины 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900" spc="-1" strike="noStrike">
                  <a:solidFill>
                    <a:srgbClr val="000000"/>
                  </a:solidFill>
                  <a:latin typeface="Arial"/>
                </a:rPr>
                <a:t>агрессивности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 Black"/>
              </a:rPr>
              <a:t>Рекомендации по снижению агрессии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1532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Arial"/>
              </a:rPr>
              <a:t>Нельзя применять физические методы наказания и кричать на агрессивного ребенка</a:t>
            </a:r>
            <a:r>
              <a:rPr b="0" lang="en-US" sz="5400" spc="-1" strike="noStrike">
                <a:solidFill>
                  <a:srgbClr val="6600ff"/>
                </a:solidFill>
                <a:latin typeface="Arial"/>
              </a:rPr>
              <a:t>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213336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99"/>
                </a:solidFill>
                <a:latin typeface="Arial Black"/>
              </a:rPr>
              <a:t>Нужно показывать, что поведение ребенка доставляет огорчение</a:t>
            </a:r>
            <a:r>
              <a:rPr b="1" lang="en-US" sz="3600" spc="-1" strike="noStrike">
                <a:solidFill>
                  <a:srgbClr val="000099"/>
                </a:solidFill>
                <a:latin typeface="Arial Black"/>
              </a:rPr>
              <a:t>.</a:t>
            </a:r>
            <a:br>
              <a:rPr sz="3600"/>
            </a:b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24382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99"/>
                </a:solidFill>
                <a:latin typeface="Arial Black"/>
              </a:rPr>
              <a:t>Акцентировать внимание ребенка на его хороших качествах.</a:t>
            </a:r>
            <a:br>
              <a:rPr sz="5400"/>
            </a:b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19810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99"/>
                </a:solidFill>
                <a:latin typeface="Arial Black"/>
              </a:rPr>
              <a:t>Реагируйте на агрессию.</a:t>
            </a:r>
            <a:br>
              <a:rPr sz="7200"/>
            </a:br>
            <a:endParaRPr b="1" lang="en-US" sz="72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251460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99"/>
                </a:solidFill>
                <a:latin typeface="Arial Black"/>
              </a:rPr>
              <a:t>Направляйте агрессию ребенка в другое русло(игры, спорт)</a:t>
            </a:r>
            <a:br>
              <a:rPr sz="5400"/>
            </a:b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5" descr="19308980004c59d2ba5c6b9769a99f25af49e74ff1"/>
          <p:cNvPicPr/>
          <p:nvPr/>
        </p:nvPicPr>
        <p:blipFill>
          <a:blip r:embed="rId1"/>
          <a:stretch/>
        </p:blipFill>
        <p:spPr>
          <a:xfrm>
            <a:off x="826920" y="1197000"/>
            <a:ext cx="7742520" cy="540072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 Black"/>
              </a:rPr>
              <a:t>Спасибо за внимание!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1-02-07T09:40:35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