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B48-D460-4D57-A20C-5DFE366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5C8-B155-4C8D-A0E6-D983F30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94D-AEC4-4BE5-AFE8-83088EF7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B0A-9DAA-4AD5-8A59-D6DB7443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0B09-51DD-4CCD-8357-36669DCE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2748-B1D6-41E8-B784-6CE3582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0D4-EBEA-4FD7-A5E9-64ECBC3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C6AC-A6A2-4734-A5C8-AF62813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480-1ACF-44D7-A8D6-0E74CA1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7CF-506F-49A1-96EF-E4A736E0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FC39-CF08-43D5-A42A-9520BC9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DD8-8F6F-4301-8582-3D7690A8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3713-BB01-40CA-A618-E2A3838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55D-EE2F-4B10-A048-4E02EC0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07A8-264E-4F2C-A528-0B8C2C1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C681-6616-4EC9-92C6-6AB81728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D514-B9D7-49B0-9830-7B30DEB1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E45-D730-4F08-B0F7-869EAE2D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7E2-496B-47FF-84C5-E0907FE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5F3-B4CE-499F-914C-E83072AB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43F-53F7-4DEE-8C28-43E95FB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A26-4BF6-4535-A0AA-2932B71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DB0-B0F7-409E-B947-3359BC4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2F0-F9C1-4E61-B838-D1AD80D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C5F-BD8A-4418-9609-9FBD556A6B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1DE-8B0E-45D3-8333-A77BDD4E1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 Black"/>
              </a:rPr>
              <a:t>Детская агрессив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Arial"/>
              </a:rPr>
              <a:t>Рекомендации для           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8676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66360" y="167760"/>
            <a:ext cx="7810200" cy="6372000"/>
            <a:chOff x="666360" y="167760"/>
            <a:chExt cx="7810200" cy="6372000"/>
          </a:xfrm>
        </p:grpSpPr>
        <p:sp>
          <p:nvSpPr>
            <p:cNvPr id="102" name="_s11283"/>
            <p:cNvSpPr/>
            <p:nvPr/>
          </p:nvSpPr>
          <p:spPr>
            <a:xfrm flipH="1" flipV="1">
              <a:off x="2691360" y="25560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1282"/>
            <p:cNvSpPr/>
            <p:nvPr/>
          </p:nvSpPr>
          <p:spPr>
            <a:xfrm>
              <a:off x="666360" y="13608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Модель поведения,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зятая у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героев фильм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1281"/>
            <p:cNvSpPr/>
            <p:nvPr/>
          </p:nvSpPr>
          <p:spPr>
            <a:xfrm flipH="1">
              <a:off x="2691360" y="37512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11280"/>
            <p:cNvSpPr/>
            <p:nvPr/>
          </p:nvSpPr>
          <p:spPr>
            <a:xfrm>
              <a:off x="666360" y="37512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ида и злость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а кого - либ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1279"/>
            <p:cNvSpPr/>
            <p:nvPr/>
          </p:nvSpPr>
          <p:spPr>
            <a:xfrm>
              <a:off x="4571640" y="4149720"/>
              <a:ext cx="0" cy="79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78"/>
            <p:cNvSpPr/>
            <p:nvPr/>
          </p:nvSpPr>
          <p:spPr>
            <a:xfrm>
              <a:off x="3485880" y="49464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сихоневрологически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заболев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7"/>
            <p:cNvSpPr/>
            <p:nvPr/>
          </p:nvSpPr>
          <p:spPr>
            <a:xfrm>
              <a:off x="5511240" y="375120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1276"/>
            <p:cNvSpPr/>
            <p:nvPr/>
          </p:nvSpPr>
          <p:spPr>
            <a:xfrm>
              <a:off x="6305400" y="375120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Слишком строго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75"/>
            <p:cNvSpPr/>
            <p:nvPr/>
          </p:nvSpPr>
          <p:spPr>
            <a:xfrm flipV="1">
              <a:off x="5511240" y="2558160"/>
              <a:ext cx="939960" cy="39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1274"/>
            <p:cNvSpPr/>
            <p:nvPr/>
          </p:nvSpPr>
          <p:spPr>
            <a:xfrm>
              <a:off x="6305400" y="13629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Ревность к другим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членам семь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1273"/>
            <p:cNvSpPr/>
            <p:nvPr/>
          </p:nvSpPr>
          <p:spPr>
            <a:xfrm flipV="1">
              <a:off x="4571640" y="1761120"/>
              <a:ext cx="0" cy="79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1272"/>
            <p:cNvSpPr/>
            <p:nvPr/>
          </p:nvSpPr>
          <p:spPr>
            <a:xfrm>
              <a:off x="3485880" y="1677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Агрессия –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Норма общ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в семь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1"/>
            <p:cNvSpPr/>
            <p:nvPr/>
          </p:nvSpPr>
          <p:spPr>
            <a:xfrm>
              <a:off x="3485880" y="2558160"/>
              <a:ext cx="2171160" cy="1593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Arial"/>
                </a:rPr>
                <a:t>агрессивности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Рекомендации по снижению агресс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Нельзя применять физические методы наказания и кричать на агрессивного ребенка</a:t>
            </a:r>
            <a:r>
              <a:rPr b="0" lang="en-US" sz="5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Нужно показывать, что поведение ребенка доставляет огорчение</a:t>
            </a: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Акцентировать внимание ребенка на его хороших качествах.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981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 Black"/>
              </a:rPr>
              <a:t>Реагируйте на агрессию.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 Black"/>
              </a:rPr>
              <a:t>Направляйте агрессию ребенка в другое русло(игры, спорт)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19308980004c59d2ba5c6b9769a99f25af49e74ff1"/>
          <p:cNvPicPr/>
          <p:nvPr/>
        </p:nvPicPr>
        <p:blipFill>
          <a:blip r:embed="rId1"/>
          <a:stretch/>
        </p:blipFill>
        <p:spPr>
          <a:xfrm>
            <a:off x="826920" y="1197000"/>
            <a:ext cx="7742520" cy="540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пасибо за внимани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2-07T09:40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