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547-EA7A-4B2C-86EE-76B0F9C7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7F3-3C35-4560-9497-42F39357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C45-E534-4869-AAC1-DDDA018C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D55-45C2-49AA-ACE1-29C61D6B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529B-A50D-40E2-ADD8-B1C204F0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82B5-C7E4-4914-B765-A00C2135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417B-8EED-431F-BB34-2C3749A7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7DD5-F39B-4A01-BD87-8F84863F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FB7E-A2A5-459F-9616-447D0857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AA62-23B0-4D61-81B2-B29B31C5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B631-82A7-407F-A441-3C6A5553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073-FC51-498A-920B-2C7366C3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2C76-C08D-415E-9799-7B4F55C0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7690-2C11-4534-A5C3-252EF404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7319-6815-45FB-B93F-D02570C0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DA73-51A5-4023-BF1B-808E6380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3D52-C099-4278-A10E-1E05407C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0D4-5CC9-46B7-B641-137354DE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C3E-A96A-47C0-AD0F-AC856696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768-93ED-44B4-B4B4-D8F8F1B2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A0B5-D674-4434-A0B7-23A0E184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9C6-79A8-4958-8F4C-D584806F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983-4ED4-4AB2-84F4-1593BD5D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953-E257-4C93-B479-152CBC2E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091B-A335-4441-B12D-9C58A55B11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2345-64E8-450E-84D5-4D65DD91AB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 rot="1044000">
            <a:off x="4800240" y="685440"/>
            <a:ext cx="3962520" cy="2673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овощи и фрукты"/>
          <p:cNvPicPr/>
          <p:nvPr/>
        </p:nvPicPr>
        <p:blipFill>
          <a:blip r:embed="rId2"/>
          <a:stretch/>
        </p:blipFill>
        <p:spPr>
          <a:xfrm rot="20705400">
            <a:off x="380520" y="3200400"/>
            <a:ext cx="4191120" cy="314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осенние листья2"/>
          <p:cNvPicPr/>
          <p:nvPr/>
        </p:nvPicPr>
        <p:blipFill>
          <a:blip r:embed="rId3"/>
          <a:stretch/>
        </p:blipFill>
        <p:spPr>
          <a:xfrm rot="20608200">
            <a:off x="914400" y="456840"/>
            <a:ext cx="3701880" cy="3809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полет"/>
          <p:cNvPicPr/>
          <p:nvPr/>
        </p:nvPicPr>
        <p:blipFill>
          <a:blip r:embed="rId4"/>
          <a:stretch/>
        </p:blipFill>
        <p:spPr>
          <a:xfrm rot="1507800">
            <a:off x="4281480" y="31860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80880" y="22860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f32a15"/>
                </a:solidFill>
                <a:latin typeface="Times New Roman"/>
              </a:rPr>
              <a:t>Картинная галерея Осен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62481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И Левитан. Золотая осен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Picture 3" descr="Рамка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146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04920" y="5925960"/>
            <a:ext cx="836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31520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640080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eec94"/>
                </a:solidFill>
                <a:latin typeface="Times New Roman"/>
              </a:rPr>
              <a:t>И. Левитан. Осенний день. Сокольники.</a:t>
            </a:r>
            <a:br>
              <a:rPr sz="4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3" descr="Рамка"/>
          <p:cNvPicPr/>
          <p:nvPr/>
        </p:nvPicPr>
        <p:blipFill>
          <a:blip r:embed="rId1"/>
          <a:stretch/>
        </p:blipFill>
        <p:spPr>
          <a:xfrm>
            <a:off x="2209680" y="0"/>
            <a:ext cx="5072040" cy="6248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2590920" y="380880"/>
            <a:ext cx="42368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6171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3" descr="Рамка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61722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779400" y="6400800"/>
            <a:ext cx="836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620120" cy="50720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914400" y="6248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И.Остроухов. Золотая ос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64008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С.Жуковский.     Брошенная терраса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3" descr="Рамка"/>
          <p:cNvPicPr/>
          <p:nvPr/>
        </p:nvPicPr>
        <p:blipFill>
          <a:blip r:embed="rId1"/>
          <a:stretch/>
        </p:blipFill>
        <p:spPr>
          <a:xfrm>
            <a:off x="1447920" y="0"/>
            <a:ext cx="6476760" cy="63244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 rot="10826400">
            <a:off x="469440" y="-285480"/>
            <a:ext cx="823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1828800" y="457200"/>
            <a:ext cx="56386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5943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И.Левитан   Осень.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3" descr="Рамка"/>
          <p:cNvPicPr/>
          <p:nvPr/>
        </p:nvPicPr>
        <p:blipFill>
          <a:blip r:embed="rId1"/>
          <a:stretch/>
        </p:blipFill>
        <p:spPr>
          <a:xfrm>
            <a:off x="1143000" y="469800"/>
            <a:ext cx="7467480" cy="55562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 flipH="1">
            <a:off x="-540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Левитан"/>
          <p:cNvPicPr/>
          <p:nvPr/>
        </p:nvPicPr>
        <p:blipFill>
          <a:blip r:embed="rId2"/>
          <a:stretch/>
        </p:blipFill>
        <p:spPr>
          <a:xfrm>
            <a:off x="1676520" y="990720"/>
            <a:ext cx="640080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ечка</cp:lastModifiedBy>
  <dcterms:modified xsi:type="dcterms:W3CDTF">2012-10-27T16:55:2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