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26D-470B-46B2-9430-4B993ED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622-75F8-49C0-B46C-463BB8D7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CCD-6319-4CAD-BC95-857D823C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079-EB6D-4936-933D-C3BDEA49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C683-0C89-45E0-B92A-5CB9605C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0429-56E8-40E8-8DB7-C913EA14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A65-02C1-4C91-A42B-8CFCBBF4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2E80-6C74-4B83-B32E-C2ADC09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89D5-147A-4B10-9526-A67B6F69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42AF-8FA3-4564-8F7B-381C0B9A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33DF-FD91-473C-B150-DCCC55E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B74-578D-44D5-8C5F-88F1CE71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0001-CA15-4F61-A392-EF7EE4D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AB26-E3C5-4BE0-A749-BB4643A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A71B-BA29-4EE7-AC3B-73E44C3C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99A-67B2-4F1C-94DD-F5C7FB26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0E02-40D8-4DF5-A066-15ADE61C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EDC-3B5D-44ED-AFF8-E8062A2C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19B-5A1D-440F-B38E-41544D70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A45-8F9A-4CA1-B00C-A8300ACE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CDE-2BBD-409B-9220-3D34EE6F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064-4A5C-4787-8D3F-F5B05DF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731-4D39-4535-BDDF-5340AB84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2C2-267D-4CC6-B4CC-9BBE4CD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A91-9CC0-4CF1-B1BD-253D619784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457-49DF-4CD6-B53F-63983731A8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 rot="1044000">
            <a:off x="4800240" y="685440"/>
            <a:ext cx="3962520" cy="267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овощи и фрукты"/>
          <p:cNvPicPr/>
          <p:nvPr/>
        </p:nvPicPr>
        <p:blipFill>
          <a:blip r:embed="rId2"/>
          <a:stretch/>
        </p:blipFill>
        <p:spPr>
          <a:xfrm rot="20705400">
            <a:off x="380520" y="32004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осенние листья2"/>
          <p:cNvPicPr/>
          <p:nvPr/>
        </p:nvPicPr>
        <p:blipFill>
          <a:blip r:embed="rId3"/>
          <a:stretch/>
        </p:blipFill>
        <p:spPr>
          <a:xfrm rot="20608200">
            <a:off x="914400" y="456840"/>
            <a:ext cx="370188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полет"/>
          <p:cNvPicPr/>
          <p:nvPr/>
        </p:nvPicPr>
        <p:blipFill>
          <a:blip r:embed="rId4"/>
          <a:stretch/>
        </p:blipFill>
        <p:spPr>
          <a:xfrm rot="1507800">
            <a:off x="4281480" y="31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80880" y="22860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32a15"/>
                </a:solidFill>
                <a:latin typeface="Times New Roman"/>
              </a:rPr>
              <a:t>Картинная галерея Осен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6248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И Левитан. Золотая осен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3" descr="Рамка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14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4920" y="5925960"/>
            <a:ext cx="836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3152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64008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И. Левитан. Осенний день. Сокольники.</a:t>
            </a:r>
            <a:br>
              <a:rPr sz="4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3" descr="Рамка"/>
          <p:cNvPicPr/>
          <p:nvPr/>
        </p:nvPicPr>
        <p:blipFill>
          <a:blip r:embed="rId1"/>
          <a:stretch/>
        </p:blipFill>
        <p:spPr>
          <a:xfrm>
            <a:off x="2209680" y="0"/>
            <a:ext cx="5072040" cy="624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236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6171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Рамка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172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779400" y="6400800"/>
            <a:ext cx="836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620120" cy="5072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914400" y="6248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.Остроухов. Золотая ос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400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С.Жуковский.     Брошенная терраса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3" descr="Рамка"/>
          <p:cNvPicPr/>
          <p:nvPr/>
        </p:nvPicPr>
        <p:blipFill>
          <a:blip r:embed="rId1"/>
          <a:stretch/>
        </p:blipFill>
        <p:spPr>
          <a:xfrm>
            <a:off x="1447920" y="0"/>
            <a:ext cx="6476760" cy="6324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 rot="10826400">
            <a:off x="469440" y="-285480"/>
            <a:ext cx="82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6386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.Левитан   Осень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3" descr="Рамка"/>
          <p:cNvPicPr/>
          <p:nvPr/>
        </p:nvPicPr>
        <p:blipFill>
          <a:blip r:embed="rId1"/>
          <a:stretch/>
        </p:blipFill>
        <p:spPr>
          <a:xfrm>
            <a:off x="1143000" y="469800"/>
            <a:ext cx="7467480" cy="5556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 flipH="1">
            <a:off x="-540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Левитан"/>
          <p:cNvPicPr/>
          <p:nvPr/>
        </p:nvPicPr>
        <p:blipFill>
          <a:blip r:embed="rId2"/>
          <a:stretch/>
        </p:blipFill>
        <p:spPr>
          <a:xfrm>
            <a:off x="1676520" y="990720"/>
            <a:ext cx="64008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ечка</cp:lastModifiedBy>
  <dcterms:modified xsi:type="dcterms:W3CDTF">2012-10-27T16:55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