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21.jpeg" ContentType="image/jpeg"/>
  <Override PartName="/ppt/media/image17.gif" ContentType="image/gif"/>
  <Override PartName="/ppt/media/image2.jpeg" ContentType="image/jpeg"/>
  <Override PartName="/ppt/media/image4.jpeg" ContentType="image/jpeg"/>
  <Override PartName="/ppt/media/image16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38026222_849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19280" y="3573000"/>
            <a:ext cx="5724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382920" y="1125360"/>
            <a:ext cx="57610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праздник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468360" y="260280"/>
            <a:ext cx="3267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вый го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разработала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симова Елена Николаевн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4176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СТОРИЯ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Н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 </a:t>
            </a:r>
            <a:br>
              <a:rPr sz="3200"/>
            </a:b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4" descr="V1m7XDWeKh"/>
          <p:cNvPicPr/>
          <p:nvPr/>
        </p:nvPicPr>
        <p:blipFill>
          <a:blip r:embed="rId1"/>
          <a:stretch/>
        </p:blipFill>
        <p:spPr>
          <a:xfrm flipH="1">
            <a:off x="0" y="2637000"/>
            <a:ext cx="4859280" cy="4046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076720" y="1268280"/>
            <a:ext cx="39229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Уже в ноябре на улицах городов появляются праздничная иллюминация и наряженные елки. Раньше люди верили, что, украшая елку, они делают злые силы добрее. О злых силах давно забыли, но новогодняя елка, украшенная всевозможными игрушками и гирляндами, по-прежнему является символом новогоднего праздника.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радиция праздновать Новый год с елкой появилась в России при Петре I. В 1699 году он издал указ, которым ввел новое летоисчисление - от Рождества Христова, а Новый год повелел праздновать по-европейски - 1 января. Царским указом всем жителям Москвы было велено отмечать встречу Нового года: зажигать в новогоднюю ночь костры, пускать фейерверки, поздравлять друг друга, украшать дома хвойными деревьями. </a:t>
            </a: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осле смерти Петра I новогодние елки ставить перестали. Лишь владельцы трактиров украшали ими свои дома, причем эти елки стояли на трактирах круглый год - отсюда пошло их название - "елки-палки".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360" y="-171720"/>
            <a:ext cx="3816360" cy="71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овогодние празднества и традиция ставить елки возродились при Екатерине II. А украшать елки стали лишь в середине ХIХ века. Считается, что первую рождественскую елку в Петербурге устроили проживавшие там немцы. Этот обычай горожанам так понравился, что они стали устанавливать елки в своих домах. Из столицы империи эта традиция начала распространяться по всей стране. 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старину елку украшали различными лакомствами: орехами в яркой обертке, конфетами и даже овощами. На ветках горели восковые свечи, которые затем уступили место электрическим гирляндам. А блестящие шары появились сравнительно недавно - примерно сто лет назад. Макушку елки венчала Вифлеемская звезда, на смену которой потом пришла красная пятиконечная.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067280" y="-243000"/>
            <a:ext cx="507672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5" name="Picture 8" descr="elka1"/>
          <p:cNvPicPr/>
          <p:nvPr/>
        </p:nvPicPr>
        <p:blipFill>
          <a:blip r:embed="rId1"/>
          <a:stretch/>
        </p:blipFill>
        <p:spPr>
          <a:xfrm>
            <a:off x="0" y="0"/>
            <a:ext cx="4211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0920" y="836640"/>
            <a:ext cx="4465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тотипом современного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еда Мороза был вполне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альный человек. В 4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еке в турецком городе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ира жил архиепископ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иколай. Это был очень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обрый человек, и за добрые дела Николая после его смерти объявили святым. Но в 11 веке церковь, где он был захоронен, ограбили пираты. Они похитили останки святого и увезли к себе на родину. Прихожане церкви Святого Николая были возмущены. История наделала так много шума, что Николай стал объектом почитания и поклонения христиан из разных стран мира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Picture 5" descr="379671487_d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5445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324000" y="5373720"/>
            <a:ext cx="8569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средние века установился обычай: В Николин день, 19 декабря, дарить детям подарки, так, как это делал Святой. После введения нового календаря Святой стал приходить к детям на Рождество, а уж потом и на Новый год. В Англии и Америке – этого доброго Святого называют Санта-Клаус (Святой Николай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619280" y="260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ед Мороз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1254208882_ny-night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3995640" y="0"/>
            <a:ext cx="489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ый костюм Деда Мороза тоже появился не сразу. Сначала его изображали в плаще. Дед Мороз  умело прочищал дымоходы, через которые забрасывал детям подарк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" name="Picture 5" descr="85ca28ff7af8"/>
          <p:cNvPicPr/>
          <p:nvPr/>
        </p:nvPicPr>
        <p:blipFill>
          <a:blip r:embed="rId2"/>
          <a:stretch/>
        </p:blipFill>
        <p:spPr>
          <a:xfrm flipH="1">
            <a:off x="-181440" y="1700280"/>
            <a:ext cx="61930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36465349_1"/>
          <p:cNvPicPr/>
          <p:nvPr/>
        </p:nvPicPr>
        <p:blipFill>
          <a:blip r:embed="rId1"/>
          <a:stretch/>
        </p:blipFill>
        <p:spPr>
          <a:xfrm>
            <a:off x="0" y="2637000"/>
            <a:ext cx="3438360" cy="4221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179280" y="0"/>
            <a:ext cx="5077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55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 вот в конце 19 века его одел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расную шубу, отороченную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ехом. Каков же он сейчас?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много суров на вид. Носит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линную шубу и высокую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пку, с бородой, в руках у него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ох и мешок с подарками. Да 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дедом» зовут не просто так, 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тому, что у него есть внучка 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419640" y="2997360"/>
            <a:ext cx="57243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0000"/>
                </a:solidFill>
                <a:latin typeface="Arial"/>
              </a:rPr>
              <a:t>Только у нашего Деда Мороза есть внучка Снегурочка и родилась она в России. Снегурочка - это литературный персонаж. Появилась она в 1873 году и сначала называлась не внучкой деда Мороза, а  дочкой . Произошло это благодаря пьесе Александра Островского «Снегурочка», которую он создал на основе народной сказки о девушке, вылепленной из снега и растаявшей от теплых солнечных лучей. Позже писатели и поэты превратили ее во внучку.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раз Снегурочки - символ застывших вод. Это девушка (а не девочка), одетая только в белые одежды. Никакой иной цвет в традиционной символике не допускается. Её головной убор - восьмилучевой венец, шитый серебром и жемчугом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8" name="Picture 16" descr="nevgod07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еликий Устюг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36352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Наверное, в мире уже не осталось страны,  которая не претендовала бы на звание родины Деда Мороза. На первых местах здесь, конечно же, скандинавские страны - Финляндия, Дания, Норвегия. Но не только - на данный титул претендовали в разное время даже Турция и Китай. Россия в этом споре никак не отстаёт от остальной планеты. В 1998 российской родиной Деда Мороза был назван </a:t>
            </a:r>
            <a:r>
              <a:rPr b="1" lang="ru-RU" sz="1700" spc="-1" strike="noStrike">
                <a:solidFill>
                  <a:srgbClr val="cc0000"/>
                </a:solidFill>
                <a:latin typeface="Arial"/>
              </a:rPr>
              <a:t>Великий Устюг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- древнейший город Вологодской области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1" name="Picture 4" descr="vrata"/>
          <p:cNvPicPr/>
          <p:nvPr/>
        </p:nvPicPr>
        <p:blipFill>
          <a:blip r:embed="rId1"/>
          <a:stretch/>
        </p:blipFill>
        <p:spPr>
          <a:xfrm>
            <a:off x="3782880" y="620640"/>
            <a:ext cx="5361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6" descr="http://img-fotki.yandex.ru/get/5702/adventure-p.47/0_3e549_9b8223a6_XXL.jpg"/>
          <p:cNvPicPr/>
          <p:nvPr/>
        </p:nvPicPr>
        <p:blipFill>
          <a:blip r:embed="rId1"/>
          <a:stretch/>
        </p:blipFill>
        <p:spPr>
          <a:xfrm>
            <a:off x="-108000" y="0"/>
            <a:ext cx="9576000" cy="70293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250920" y="5257800"/>
            <a:ext cx="889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мимо России, Старый Новый Год празднуют на Украине, в Латвии, Белоруссии, Молдавии, Армении, Казахстане, Сербии, Черногории, и, как ни странно, некоторых областях Швейцарии, где не прижился григорианский календарь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азднование Старого Нового года считается более тихим, спокойным делом, нежели Новый год. Суета и спешка, беготня за подарками уже позади, есть возможность собраться с самыми близкими, уделить время семье с тихо домашней обстановке.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59054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Откуда пришел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     обычай встреча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             Новый Год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2637000"/>
            <a:ext cx="8820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История этого     замечательного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раздника насчитывает, по меньшей мере, 25 веков. А пришла традиция праздновать Новый год в день весеннего равноденствия из Древней Месопотамии. Здесь каждый год (в день весеннего равноденствия) начинала прибывать вода в реке Тигр, а через две недели — в Евфрате. Именно поэтому все земледельческие работы начинались в этом месяце. Жители Месопотамии встречали этот день красочными шествиями, карнавалами, маскарадами, песнями и плясками.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6000" y="549000"/>
            <a:ext cx="44276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 раскопках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неегипетских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рамид археологи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шли сосуд,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котором было написано: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Начало нового года».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нем Египте Новый год праздновался во время разлива реки Нил (примерно в конце сентября). Разлив Нила был очень важен, т.к. только благодаря ему в сухой пустыне вырастало зерно. В Новый год статуи бога Амона, его жены богини неба Мут и сына, бога луны Хонсу ставили в лодку. Лодка плавала по Нилу месяц, что сопровождалось пением, танцами и весельем. Затем статуи вносили обратно в храм.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5" name="Picture 13" descr="statuets4"/>
          <p:cNvPicPr/>
          <p:nvPr/>
        </p:nvPicPr>
        <p:blipFill>
          <a:blip r:embed="rId1"/>
          <a:stretch/>
        </p:blipFill>
        <p:spPr>
          <a:xfrm>
            <a:off x="0" y="0"/>
            <a:ext cx="4470480" cy="6308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6"/>
          <p:cNvSpPr/>
          <p:nvPr/>
        </p:nvSpPr>
        <p:spPr>
          <a:xfrm>
            <a:off x="179280" y="64911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мон            Хонсу          Му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4716360" y="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Древний Египе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55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Древний Рим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835280" y="1628640"/>
            <a:ext cx="698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течение долгого времени римляне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аздновали Новый год в начале марта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 тех пор, пока Юлий Цезарь не ввёл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овый календарь (в настоящее время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называется юлианским). Таким образом, датой встречи Нового года стал первый день января. Месяц январь был назван в честь римского бога Януса (двуликого). Один лик Януса был якобы обращен назад к прошлому году, другой – вперед к новому. Праздник встречи нового года назывался «календы». Во время праздника люди украшали дома и дарили друг другу подарки и монеты с изображением двуликого Януса; рабы и их владельцы ели и веселились вместе. Римляне делали подарки императору. Сначала это происходило добровольно, но со временем императоры стали требовать подарки на Новый год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Picture 5" descr="363px-Двуликий_Янус_(вид_сбоку)"/>
          <p:cNvPicPr/>
          <p:nvPr/>
        </p:nvPicPr>
        <p:blipFill>
          <a:blip r:embed="rId1"/>
          <a:stretch/>
        </p:blipFill>
        <p:spPr>
          <a:xfrm>
            <a:off x="179280" y="2924280"/>
            <a:ext cx="196380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0" y="6308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вуликий Янус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hristmas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24000" y="115560"/>
            <a:ext cx="345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кануне 1700 года Петр І издал указ праздновать Новый год по европейскому обычаю – 1 января. 19 декабря по юлианскому календарю Пётр подписал именной указ «О писании впредь Генваря с 1 числа 1700 года во всех бумагах лета от Рождества Христова,». Ёлки и новогодние фейерверки появились в наших домах и на улицах так же благодаря этому указу Петра. 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тр повелел всем москвичам украсить свои дома и большие проезжие улицы сосновыми, еловыми, можжевеловыми ветвями. Все должны были поздравить родных и знакомых с праздником. В 12 часов ночи Петр І вышел на Красную площадь с факелом в руках и запустил в небо первую ракету. 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995640" y="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й год на Рус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Rectangle 8" descr=""/>
          <p:cNvPicPr/>
          <p:nvPr/>
        </p:nvPicPr>
        <p:blipFill>
          <a:blip r:embed="rId2"/>
          <a:stretch/>
        </p:blipFill>
        <p:spPr>
          <a:xfrm>
            <a:off x="-1841400" y="5943600"/>
            <a:ext cx="10991880" cy="3477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2843280" y="56577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, по велению Петра Первого 1 января 7208 год стал 1700 годом. Этот первый «настоящий» Новый год в столице прошёл шумно и весело, как и повелел Государь 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5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Новый Год на Рус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620640"/>
            <a:ext cx="52196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9" name="Picture 7" descr="1463"/>
          <p:cNvPicPr/>
          <p:nvPr/>
        </p:nvPicPr>
        <p:blipFill>
          <a:blip r:embed="rId1"/>
          <a:stretch/>
        </p:blipFill>
        <p:spPr>
          <a:xfrm>
            <a:off x="5148360" y="692280"/>
            <a:ext cx="3995640" cy="5472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179280" y="285264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овый год на протяжении уже более трех столетий остается одним из самых любимых праздников в нашей стране. Этот праздник настолько любим, что в России существует непонятная для многих иностранцев традиция в ночь с 13 на 14 января отмечать «старый» Новый год. Это традиция родилась после революции. В 1918 году по ленинскому указу Россия перешла на Григорианский календарь, который к ХХ столетию обогнал Юлианский на 13 дней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50920" y="5229360"/>
            <a:ext cx="8893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2" name="Picture 5" descr="header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5300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0" y="5300640"/>
            <a:ext cx="871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Но Православная церковь этого перехода не приняла и объявила, что будет праздновать Рождество по прежнему Юлианскому календарю. С тех самых пор православное Рождество в России отмечается 7 января. К тому же отказ Церкви переходить на новый календарь вызвал большую проблему для верующих людей: Новый год по новому стилю приходился на последнюю, самую стогую неделю поста. Вероятно, именно тогда в России возникла традиция отмечать еще и "старый" Новый год по старому Юлианскому календарю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Картинка 22 из 45576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4788000" y="2060640"/>
            <a:ext cx="43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20-х годах прошлого столетия большевики запретили устраивать елки и праздновать Новый год, считая это "буржуазной прихотью" и "старорежимным обычаем". Кроме того, по их мнению, "новогодний праздник слишком близко стоит в календаре от поповского Рождества и не следует вводить народ в искушение". С этого момента новогодняя елка "ушла в подполье": только в некоторых семьях решались устраивать ее и делали это тайно. </a:t>
            </a:r>
            <a:br>
              <a:rPr sz="1800"/>
            </a:b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Рисунок 8" descr="Картинка 108 из 45576"/>
          <p:cNvPicPr/>
          <p:nvPr/>
        </p:nvPicPr>
        <p:blipFill>
          <a:blip r:embed="rId2"/>
          <a:stretch/>
        </p:blipFill>
        <p:spPr>
          <a:xfrm>
            <a:off x="108000" y="549360"/>
            <a:ext cx="41911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6" descr="Картинка 83 из 45576"/>
          <p:cNvPicPr/>
          <p:nvPr/>
        </p:nvPicPr>
        <p:blipFill>
          <a:blip r:embed="rId1"/>
          <a:stretch/>
        </p:blipFill>
        <p:spPr>
          <a:xfrm>
            <a:off x="250920" y="260280"/>
            <a:ext cx="3529080" cy="58327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3995640" y="1159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1280" y="2569320"/>
            <a:ext cx="51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 декабре 1935 года праздник возродился, и в 1936 году в Колонном зале Дома Союзов была устроена елка для детей и молодежи. Лесная красавица вернулась после долгих лет забвения и уже навсегда вошла в нашу жизнь вечнозеленым чудом и волшебной сказкой. В 1954 году впервые зажглась главная елка страны - Кремлевская, которая искрится и сверкает каждый Новый год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1:37:19Z</dcterms:created>
  <dc:creator>Elena</dc:creator>
  <dc:description/>
  <dc:language>en-US</dc:language>
  <cp:lastModifiedBy>Елена</cp:lastModifiedBy>
  <dcterms:modified xsi:type="dcterms:W3CDTF">2012-10-27T15:40:42Z</dcterms:modified>
  <cp:revision>32</cp:revision>
  <dc:subject/>
  <dc:title>Новый год</dc:title>
</cp:coreProperties>
</file>