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19E-59A4-40B6-A5E5-90F2011B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7AC-D694-4347-BB64-3D43636C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622-2FAE-4553-B46E-48B08DA4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4DC-1B3E-4C54-8D80-978936D9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2B08-B217-4FD2-835F-6B98A657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2880-79F5-418F-88B6-C4E08EA0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F94E-1E3B-4B77-BDE0-D46859CA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5536-865F-4ABE-82D6-E4F46D5C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F713-45EB-4A38-A96B-94564F0B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01EA-0BAC-4E9F-A1EB-2656B05C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329B-CC96-48B8-9237-300EAC48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93B-902D-41FB-AB4A-E589B038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6C4A-3118-42CA-80E1-E6B403A7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8300-62FC-4510-AEEC-BB6BC503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6818-B8C5-41B2-BB58-7A62E487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0D36-1E74-416A-BE69-E3A9670A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61BB-734F-449F-9D3F-1C8A6CBC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E1A-6B34-4E88-95FA-12A86EE4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DCF-361F-4D11-81E7-8B625D17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705-359D-4BD7-8305-BEDB40C5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E2A-084F-4FDB-A477-5389DB7D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34D-0BF3-420D-94E1-C05BE1A5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5B5-38D2-46BE-B9FE-030AF39E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CF4-67A3-4165-B000-55A9CAD6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9227-B6FB-4F3D-A2F6-E88E0E2E960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99DD-B08F-4F2E-9A5F-F024B0C4BE3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ny club for boys and gir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476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4643280"/>
            <a:ext cx="8229600" cy="16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стник команды «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ar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 отвечает навопросы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071800" y="571680"/>
            <a:ext cx="5486400" cy="37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7120" y="53575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питан команды «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x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 готова к ответ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43040" y="1357200"/>
            <a:ext cx="54770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507168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стники команды «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r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 обсуждают  задание виктор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552780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4821120"/>
            <a:ext cx="8407440" cy="1446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500040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714680" y="928800"/>
            <a:ext cx="557820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14:16:31Z</dcterms:created>
  <dc:creator>Daniil</dc:creator>
  <dc:description/>
  <dc:language>en-US</dc:language>
  <cp:lastModifiedBy>Daniil</cp:lastModifiedBy>
  <dcterms:modified xsi:type="dcterms:W3CDTF">2012-10-27T14:41:26Z</dcterms:modified>
  <cp:revision>5</cp:revision>
  <dc:subject/>
  <dc:title>Слайд 1</dc:title>
</cp:coreProperties>
</file>