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E32-F384-4FCB-B668-6C9B97E5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8C2-BD61-495F-8AC1-6F7FC67D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C4A-E4CD-41F6-B523-377393C4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C92-1743-4A7C-B6E4-98F75DA7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29F8-DD1C-4200-A4E5-999436BD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5E59-29A9-4B6D-9B9E-BBE32FD0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F1C5-71F4-4B29-9D3C-169CBBEC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5586-6FA5-4E17-BADB-AF363972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7237-E174-4264-A7E8-D5828576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6A57-03F8-44AC-A1DB-2925617E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1942-9F37-48F0-8FBE-24B8675F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BB1-C025-415E-AE29-39660263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CBEF-DA60-4718-AAB2-BD0CE79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CE9C-1C3C-462F-AD0C-B2DA1587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C1A0-5E96-431A-B7AC-83FE1DEF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3B52-6A59-4127-973D-B96E0491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3B99-A633-4D15-8ED3-5551C970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E9E-1C8F-4869-A3B5-8A1258F8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A71-4188-4CD4-A0AC-016B13A3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150-4264-4110-81BC-B24DFD45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9B5-6500-4C9C-B38E-C47378AB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8C0-49CC-435B-BE22-98BA53E6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78A-92E3-4C96-A89E-25B62050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5D8-291A-43A7-A41F-C5B4FEF8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F4E6-44C3-4BA9-9E9C-F7EE89C9AFE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4F97-BAE8-4457-A215-C79BEDA312C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ny club for boys and gir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476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4643280"/>
            <a:ext cx="8229600" cy="16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стник команды «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ar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 отвечает навопросы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071800" y="571680"/>
            <a:ext cx="5486400" cy="37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7120" y="53575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питан команды «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ex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 готова к ответ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43040" y="1357200"/>
            <a:ext cx="54770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507168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стники команды «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r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 обсуждают  задание виктор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552780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4821120"/>
            <a:ext cx="8407440" cy="1446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500040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714680" y="928800"/>
            <a:ext cx="557820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14:16:31Z</dcterms:created>
  <dc:creator>Daniil</dc:creator>
  <dc:description/>
  <dc:language>en-US</dc:language>
  <cp:lastModifiedBy>Daniil</cp:lastModifiedBy>
  <dcterms:modified xsi:type="dcterms:W3CDTF">2012-10-27T14:41:26Z</dcterms:modified>
  <cp:revision>5</cp:revision>
  <dc:subject/>
  <dc:title>Слайд 1</dc:title>
</cp:coreProperties>
</file>