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Произвольный показ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527-2931-45D3-93C2-F5FA6487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9DB-7F82-41D4-B80E-367B2B37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CFF-3790-4040-B03A-DBECC442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830-9AF6-47C8-BAF7-AFD84B68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CC5-7CB9-4C13-83BB-4AEFE30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291-FA54-4AF0-9BB2-02EF0332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BAE-C0FB-49FA-B41B-21501E9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98C-A0F8-4693-8BA6-69943470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BBE-A7ED-468C-95FC-B52F70E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DF4-7E8D-4D0B-80AC-4A848EA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EA0-906D-4539-BC9E-67A4830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7E5-352D-4395-8F3F-8D9FC3A4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565E-B7F4-4355-930A-46A2429C6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684360" y="884160"/>
            <a:ext cx="8064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ормирование познавательной активности детей через экологическое вос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132000" y="1159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6" descr="S7301554"/>
          <p:cNvPicPr/>
          <p:nvPr/>
        </p:nvPicPr>
        <p:blipFill>
          <a:blip r:embed="rId3"/>
          <a:stretch/>
        </p:blipFill>
        <p:spPr>
          <a:xfrm>
            <a:off x="2197080" y="2700360"/>
            <a:ext cx="5038920" cy="3771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82040" y="115920"/>
            <a:ext cx="80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Наполняемость занят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-181080" y="981000"/>
          <a:ext cx="9144000" cy="571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981000"/>
                    <a:ext cx="914400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0"/>
          <p:cNvGraphicFramePr/>
          <p:nvPr/>
        </p:nvGraphicFramePr>
        <p:xfrm>
          <a:off x="546120" y="1130400"/>
          <a:ext cx="8202600" cy="525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120" y="1130400"/>
                    <a:ext cx="8202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Объект 2" descr=""/>
          <p:cNvPicPr/>
          <p:nvPr/>
        </p:nvPicPr>
        <p:blipFill>
          <a:blip r:embed="rId2"/>
          <a:stretch/>
        </p:blipFill>
        <p:spPr>
          <a:xfrm>
            <a:off x="406440" y="1930320"/>
            <a:ext cx="8331120" cy="4216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08000" y="1126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Диагностический срез по экологическому воспитанию (подготовительная груп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108000" y="11268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Диагностический срез уровня познавательной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Объект 1" descr=""/>
          <p:cNvPicPr/>
          <p:nvPr/>
        </p:nvPicPr>
        <p:blipFill>
          <a:blip r:embed="rId3"/>
          <a:stretch/>
        </p:blipFill>
        <p:spPr>
          <a:xfrm>
            <a:off x="920880" y="525600"/>
            <a:ext cx="6654600" cy="724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2052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Picture 4" descr="S7301564"/>
          <p:cNvPicPr/>
          <p:nvPr/>
        </p:nvPicPr>
        <p:blipFill>
          <a:blip r:embed="rId3"/>
          <a:stretch/>
        </p:blipFill>
        <p:spPr>
          <a:xfrm>
            <a:off x="363600" y="361800"/>
            <a:ext cx="3752640" cy="50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S7301567"/>
          <p:cNvPicPr/>
          <p:nvPr/>
        </p:nvPicPr>
        <p:blipFill>
          <a:blip r:embed="rId4"/>
          <a:stretch/>
        </p:blipFill>
        <p:spPr>
          <a:xfrm>
            <a:off x="5240160" y="390600"/>
            <a:ext cx="3697560" cy="4771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S7301565"/>
          <p:cNvPicPr/>
          <p:nvPr/>
        </p:nvPicPr>
        <p:blipFill>
          <a:blip r:embed="rId5"/>
          <a:stretch/>
        </p:blipFill>
        <p:spPr>
          <a:xfrm>
            <a:off x="568440" y="3573360"/>
            <a:ext cx="4029120" cy="300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S7301569"/>
          <p:cNvPicPr/>
          <p:nvPr/>
        </p:nvPicPr>
        <p:blipFill>
          <a:blip r:embed="rId6"/>
          <a:stretch/>
        </p:blipFill>
        <p:spPr>
          <a:xfrm>
            <a:off x="4788000" y="3627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S7301598"/>
          <p:cNvPicPr/>
          <p:nvPr/>
        </p:nvPicPr>
        <p:blipFill>
          <a:blip r:embed="rId7"/>
          <a:stretch/>
        </p:blipFill>
        <p:spPr>
          <a:xfrm>
            <a:off x="1692360" y="1190520"/>
            <a:ext cx="5968800" cy="4476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0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PC170084"/>
          <p:cNvPicPr/>
          <p:nvPr/>
        </p:nvPicPr>
        <p:blipFill>
          <a:blip r:embed="rId3"/>
          <a:stretch/>
        </p:blipFill>
        <p:spPr>
          <a:xfrm>
            <a:off x="324000" y="260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PC170088"/>
          <p:cNvPicPr/>
          <p:nvPr/>
        </p:nvPicPr>
        <p:blipFill>
          <a:blip r:embed="rId4"/>
          <a:stretch/>
        </p:blipFill>
        <p:spPr>
          <a:xfrm>
            <a:off x="4500720" y="260280"/>
            <a:ext cx="4392360" cy="29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C170091"/>
          <p:cNvPicPr/>
          <p:nvPr/>
        </p:nvPicPr>
        <p:blipFill>
          <a:blip r:embed="rId5"/>
          <a:stretch/>
        </p:blipFill>
        <p:spPr>
          <a:xfrm>
            <a:off x="395280" y="3440160"/>
            <a:ext cx="3889440" cy="31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PC170094"/>
          <p:cNvPicPr/>
          <p:nvPr/>
        </p:nvPicPr>
        <p:blipFill>
          <a:blip r:embed="rId6"/>
          <a:stretch/>
        </p:blipFill>
        <p:spPr>
          <a:xfrm>
            <a:off x="4500720" y="3500280"/>
            <a:ext cx="4319280" cy="309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PC170096"/>
          <p:cNvPicPr/>
          <p:nvPr/>
        </p:nvPicPr>
        <p:blipFill>
          <a:blip r:embed="rId7"/>
          <a:stretch/>
        </p:blipFill>
        <p:spPr>
          <a:xfrm>
            <a:off x="1763640" y="1187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48" name="TextBox 1"/>
          <p:cNvSpPr/>
          <p:nvPr/>
        </p:nvSpPr>
        <p:spPr>
          <a:xfrm>
            <a:off x="25092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Условия возникновения опы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Стрелка вниз 2" descr=""/>
          <p:cNvPicPr/>
          <p:nvPr/>
        </p:nvPicPr>
        <p:blipFill>
          <a:blip r:embed="rId3"/>
          <a:stretch/>
        </p:blipFill>
        <p:spPr>
          <a:xfrm>
            <a:off x="1908000" y="1042920"/>
            <a:ext cx="768600" cy="1109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01640" y="2584440"/>
            <a:ext cx="24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ижение уровня экологической культуры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348000" y="26258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ижение уровня развития речи и моторики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227640" y="2664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ижение познавательной 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Стрелка вниз 6" descr=""/>
          <p:cNvPicPr/>
          <p:nvPr/>
        </p:nvPicPr>
        <p:blipFill>
          <a:blip r:embed="rId4"/>
          <a:stretch/>
        </p:blipFill>
        <p:spPr>
          <a:xfrm>
            <a:off x="4614840" y="1146240"/>
            <a:ext cx="23832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Стрелка вниз 7" descr=""/>
          <p:cNvPicPr/>
          <p:nvPr/>
        </p:nvPicPr>
        <p:blipFill>
          <a:blip r:embed="rId5"/>
          <a:stretch/>
        </p:blipFill>
        <p:spPr>
          <a:xfrm>
            <a:off x="6583320" y="1090440"/>
            <a:ext cx="755640" cy="1062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7"/>
          <p:cNvSpPr/>
          <p:nvPr/>
        </p:nvSpPr>
        <p:spPr>
          <a:xfrm>
            <a:off x="209520" y="2924280"/>
            <a:ext cx="527040" cy="2449440"/>
          </a:xfrm>
          <a:custGeom>
            <a:avLst/>
            <a:gdLst>
              <a:gd name="textAreaLeft" fmla="*/ 70560 w 527040"/>
              <a:gd name="textAreaRight" fmla="*/ 456480 w 527040"/>
              <a:gd name="textAreaTop" fmla="*/ 435960 h 2449440"/>
              <a:gd name="textAreaBottom" fmla="*/ 17784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90" stAng="-5400000" swAng="-5400000"/>
                <a:lnTo>
                  <a:pt x="0" y="11837"/>
                </a:lnTo>
                <a:arcTo wR="21600" hR="7690" stAng="10800000" swAng="-2711943"/>
                <a:lnTo>
                  <a:pt x="14400" y="21160"/>
                </a:lnTo>
                <a:lnTo>
                  <a:pt x="21600" y="17454"/>
                </a:lnTo>
                <a:lnTo>
                  <a:pt x="14400" y="12867"/>
                </a:lnTo>
                <a:lnTo>
                  <a:pt x="14400" y="14940"/>
                </a:lnTo>
                <a:arcTo wR="21600" hR="7690" stAng="8088057" swAng="2370371"/>
                <a:lnTo>
                  <a:pt x="800" y="9764"/>
                </a:lnTo>
                <a:arcTo wR="21600" hR="7690" stAng="-10458428" swAng="5058428"/>
                <a:close/>
              </a:path>
              <a:path fill="darkenLess" w="21600" h="21600">
                <a:moveTo>
                  <a:pt x="21600" y="0"/>
                </a:moveTo>
                <a:arcTo wR="21600" hR="7690" stAng="-5400000" swAng="-5400000"/>
                <a:lnTo>
                  <a:pt x="0" y="7690"/>
                </a:lnTo>
                <a:arcTo wR="21600" hR="7690" stAng="10800000" swAng="-341572"/>
                <a:lnTo>
                  <a:pt x="800" y="9764"/>
                </a:lnTo>
                <a:arcTo wR="21600" hR="7690" stAng="-10458428" swAng="5058428"/>
                <a:close/>
              </a:path>
            </a:pathLst>
          </a:custGeom>
          <a:solidFill>
            <a:srgbClr val="ff0000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8388360" y="2924280"/>
            <a:ext cx="576360" cy="2562120"/>
          </a:xfrm>
          <a:custGeom>
            <a:avLst/>
            <a:gdLst>
              <a:gd name="textAreaLeft" fmla="*/ 77040 w 576360"/>
              <a:gd name="textAreaRight" fmla="*/ 499320 w 576360"/>
              <a:gd name="textAreaTop" fmla="*/ 465120 h 2562120"/>
              <a:gd name="textAreaBottom" fmla="*/ 1863360 h 25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4" stAng="-5400000" swAng="5400000"/>
                <a:lnTo>
                  <a:pt x="21600" y="11785"/>
                </a:lnTo>
                <a:arcTo wR="21600" hR="7844" stAng="0" swAng="2746020"/>
                <a:lnTo>
                  <a:pt x="7200" y="21151"/>
                </a:lnTo>
                <a:lnTo>
                  <a:pt x="0" y="17659"/>
                </a:lnTo>
                <a:lnTo>
                  <a:pt x="7200" y="13268"/>
                </a:lnTo>
                <a:lnTo>
                  <a:pt x="7200" y="15239"/>
                </a:lnTo>
                <a:arcTo wR="21600" hR="7844" stAng="2746020" swAng="-2422969"/>
                <a:lnTo>
                  <a:pt x="20907" y="9815"/>
                </a:lnTo>
                <a:arcTo wR="21600" hR="7844" stAng="-323051" swAng="-5076949"/>
                <a:close/>
              </a:path>
              <a:path fill="darkenLess" w="21600" h="21600">
                <a:moveTo>
                  <a:pt x="0" y="0"/>
                </a:moveTo>
                <a:arcTo wR="21600" hR="7844" stAng="-5400000" swAng="5400000"/>
                <a:lnTo>
                  <a:pt x="21600" y="11785"/>
                </a:lnTo>
                <a:arcTo wR="21600" hR="7844" stAng="0" swAng="-323051"/>
                <a:lnTo>
                  <a:pt x="20907" y="9815"/>
                </a:lnTo>
                <a:arcTo wR="21600" hR="7844" stAng="-323051" swAng="-5076949"/>
                <a:close/>
              </a:path>
            </a:pathLst>
          </a:custGeom>
          <a:solidFill>
            <a:srgbClr val="ff0000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042920" y="4653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Интегративная экологическая дея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1102320" y="277920"/>
            <a:ext cx="69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Актуальность опыт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690560" y="2108160"/>
            <a:ext cx="2233800" cy="358920"/>
          </a:xfrm>
          <a:custGeom>
            <a:avLst/>
            <a:gdLst>
              <a:gd name="textAreaLeft" fmla="*/ 390960 w 2233800"/>
              <a:gd name="textAreaRight" fmla="*/ 1619640 w 223380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932360" y="2149560"/>
            <a:ext cx="2233440" cy="358560"/>
          </a:xfrm>
          <a:custGeom>
            <a:avLst/>
            <a:gdLst>
              <a:gd name="textAreaLeft" fmla="*/ 390600 w 2233440"/>
              <a:gd name="textAreaRight" fmla="*/ 1619280 w 223344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30200" y="24987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Сниж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эколог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мировоззрения и познаватель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3370320" y="2552760"/>
            <a:ext cx="215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Формирование непрерывного экологическ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(1 звено – ДОУ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665760" y="26449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Треб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ФГ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940360" y="3284640"/>
            <a:ext cx="2954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интегрированное образование дете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речев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театрализ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изобразитель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музыкаль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108000" y="115920"/>
            <a:ext cx="8928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ahoma"/>
              </a:rPr>
              <a:t>Ведущая педагогическая идея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развитие познавательной активности детей путём внедрения различных видов деятельности и включения всех анализаторов на занятиях по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0" y="-246240"/>
            <a:ext cx="9144000" cy="710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2" name="TextBox 2"/>
          <p:cNvSpPr/>
          <p:nvPr/>
        </p:nvSpPr>
        <p:spPr>
          <a:xfrm>
            <a:off x="1908000" y="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Задач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Стрелка вниз 3"/>
          <p:cNvSpPr/>
          <p:nvPr/>
        </p:nvSpPr>
        <p:spPr>
          <a:xfrm rot="2451600">
            <a:off x="2700000" y="404280"/>
            <a:ext cx="146160" cy="102240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324000" y="1413000"/>
            <a:ext cx="223200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Живая прир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сширить, уточнить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систематизиро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едставл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детей 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стительном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животном мир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конкретизиров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едставления дет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б условиях жиз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стений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животн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различать п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нешнему виду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и правильно назы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бъекты изучения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меть сравни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278160" y="1525680"/>
            <a:ext cx="2664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Неживая прир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обобщать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систематизиро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едставления 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ременах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наблюд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зличные явл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закреплять ум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ередавать своё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тношение к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е в рассказа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и продуктивн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идах деятель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устанавли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чинно-следств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связи меж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ными явления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6156360" y="1413000"/>
            <a:ext cx="27367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Природоохра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звивать интере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к родному кра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оспиты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культуру пове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 природ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одвести детей 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ониманию того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    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что жизнь человека на земле находи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 прям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зависимости от состоя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кружающей сре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Стрелка вниз 23" descr=""/>
          <p:cNvPicPr/>
          <p:nvPr/>
        </p:nvPicPr>
        <p:blipFill>
          <a:blip r:embed="rId3"/>
          <a:stretch/>
        </p:blipFill>
        <p:spPr>
          <a:xfrm>
            <a:off x="5784840" y="414360"/>
            <a:ext cx="828720" cy="884160"/>
          </a:xfrm>
          <a:prstGeom prst="rect">
            <a:avLst/>
          </a:prstGeom>
          <a:ln w="0">
            <a:noFill/>
          </a:ln>
        </p:spPr>
      </p:pic>
      <p:pic>
        <p:nvPicPr>
          <p:cNvPr id="78" name="Стрелка вниз 24" descr=""/>
          <p:cNvPicPr/>
          <p:nvPr/>
        </p:nvPicPr>
        <p:blipFill>
          <a:blip r:embed="rId4"/>
          <a:stretch/>
        </p:blipFill>
        <p:spPr>
          <a:xfrm>
            <a:off x="4438800" y="828720"/>
            <a:ext cx="19980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670040" y="209520"/>
            <a:ext cx="59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оретическая ба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971640" y="98100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Непрерывное экол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ервое звено - ДО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21"/>
          <p:cNvSpPr/>
          <p:nvPr/>
        </p:nvSpPr>
        <p:spPr>
          <a:xfrm>
            <a:off x="1258920" y="1916280"/>
            <a:ext cx="144360" cy="792000"/>
          </a:xfrm>
          <a:prstGeom prst="downArrow">
            <a:avLst>
              <a:gd name="adj1" fmla="val 50000"/>
              <a:gd name="adj2" fmla="val 137157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2340000" y="1916280"/>
            <a:ext cx="144360" cy="2304720"/>
          </a:xfrm>
          <a:prstGeom prst="downArrow">
            <a:avLst>
              <a:gd name="adj1" fmla="val 50000"/>
              <a:gd name="adj2" fmla="val 399127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28"/>
          <p:cNvSpPr/>
          <p:nvPr/>
        </p:nvSpPr>
        <p:spPr>
          <a:xfrm>
            <a:off x="3708360" y="1989000"/>
            <a:ext cx="144360" cy="792360"/>
          </a:xfrm>
          <a:prstGeom prst="downArrow">
            <a:avLst>
              <a:gd name="adj1" fmla="val 50000"/>
              <a:gd name="adj2" fmla="val 137219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29"/>
          <p:cNvSpPr/>
          <p:nvPr/>
        </p:nvSpPr>
        <p:spPr>
          <a:xfrm>
            <a:off x="4932360" y="1989000"/>
            <a:ext cx="144360" cy="2303640"/>
          </a:xfrm>
          <a:prstGeom prst="downArrow">
            <a:avLst>
              <a:gd name="adj1" fmla="val 50000"/>
              <a:gd name="adj2" fmla="val 398940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30"/>
          <p:cNvSpPr/>
          <p:nvPr/>
        </p:nvSpPr>
        <p:spPr>
          <a:xfrm>
            <a:off x="6300720" y="1989000"/>
            <a:ext cx="144360" cy="792360"/>
          </a:xfrm>
          <a:prstGeom prst="downArrow">
            <a:avLst>
              <a:gd name="adj1" fmla="val 50000"/>
              <a:gd name="adj2" fmla="val 137219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31"/>
          <p:cNvSpPr/>
          <p:nvPr/>
        </p:nvSpPr>
        <p:spPr>
          <a:xfrm>
            <a:off x="7667640" y="1989000"/>
            <a:ext cx="144360" cy="2592360"/>
          </a:xfrm>
          <a:prstGeom prst="downArrow">
            <a:avLst>
              <a:gd name="adj1" fmla="val 50000"/>
              <a:gd name="adj2" fmla="val 448940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250920" y="2781360"/>
            <a:ext cx="19447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С. Г. и В. И. Ашиковых «Семицветик</a:t>
            </a:r>
            <a:r>
              <a:rPr b="1" lang="ru-RU" sz="1400" spc="-1" strike="noStrike">
                <a:solidFill>
                  <a:srgbClr val="0000ff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1476360" y="443700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. А. Рыжовой «Наш дом – природ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2556000" y="2781360"/>
            <a:ext cx="244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С. Н. Николаевой «Юный эколо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4067280" y="4508640"/>
            <a:ext cx="201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А. Верес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«Мы землян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5219640" y="2852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Ж. Л. Васякиной «Паутин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6696000" y="458136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ограм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Т. А. Копцевой «Природа и художн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Схема 2" descr=""/>
          <p:cNvPicPr/>
          <p:nvPr/>
        </p:nvPicPr>
        <p:blipFill>
          <a:blip r:embed="rId3"/>
          <a:stretch/>
        </p:blipFill>
        <p:spPr>
          <a:xfrm>
            <a:off x="139680" y="12600"/>
            <a:ext cx="903456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-163440" y="-560520"/>
            <a:ext cx="9388440" cy="7388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1561680" y="0"/>
            <a:ext cx="50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Tahoma"/>
              </a:rPr>
              <a:t>Новизна опы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Овал 4"/>
          <p:cNvSpPr/>
          <p:nvPr/>
        </p:nvSpPr>
        <p:spPr>
          <a:xfrm>
            <a:off x="3564000" y="2276640"/>
            <a:ext cx="1871640" cy="171432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Экологическое воспит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Овал 9"/>
          <p:cNvSpPr/>
          <p:nvPr/>
        </p:nvSpPr>
        <p:spPr>
          <a:xfrm>
            <a:off x="3203640" y="692280"/>
            <a:ext cx="2630520" cy="100476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Интегрированное образ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Овал 11"/>
          <p:cNvSpPr/>
          <p:nvPr/>
        </p:nvSpPr>
        <p:spPr>
          <a:xfrm>
            <a:off x="3276720" y="4653000"/>
            <a:ext cx="2447640" cy="100476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Метод проек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Овал 12"/>
          <p:cNvSpPr/>
          <p:nvPr/>
        </p:nvSpPr>
        <p:spPr>
          <a:xfrm>
            <a:off x="6156360" y="2492280"/>
            <a:ext cx="2663640" cy="130824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Комплексно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тематическ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постро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образовательного проце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Овал 13"/>
          <p:cNvSpPr/>
          <p:nvPr/>
        </p:nvSpPr>
        <p:spPr>
          <a:xfrm>
            <a:off x="179280" y="2492280"/>
            <a:ext cx="2592360" cy="138132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Совместная деятельность и самостоятельная деятельность в режимных момента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Стрелка вниз 6" descr=""/>
          <p:cNvPicPr/>
          <p:nvPr/>
        </p:nvPicPr>
        <p:blipFill>
          <a:blip r:embed="rId3"/>
          <a:stretch/>
        </p:blipFill>
        <p:spPr>
          <a:xfrm>
            <a:off x="4359240" y="4078440"/>
            <a:ext cx="176400" cy="500040"/>
          </a:xfrm>
          <a:prstGeom prst="rect">
            <a:avLst/>
          </a:prstGeom>
          <a:ln w="0">
            <a:noFill/>
          </a:ln>
        </p:spPr>
      </p:pic>
      <p:pic>
        <p:nvPicPr>
          <p:cNvPr id="108" name="Стрелка вниз 19" descr=""/>
          <p:cNvPicPr/>
          <p:nvPr/>
        </p:nvPicPr>
        <p:blipFill>
          <a:blip r:embed="rId4"/>
          <a:stretch/>
        </p:blipFill>
        <p:spPr>
          <a:xfrm>
            <a:off x="2914560" y="3071880"/>
            <a:ext cx="505080" cy="177840"/>
          </a:xfrm>
          <a:prstGeom prst="rect">
            <a:avLst/>
          </a:prstGeom>
          <a:ln w="0">
            <a:noFill/>
          </a:ln>
        </p:spPr>
      </p:pic>
      <p:pic>
        <p:nvPicPr>
          <p:cNvPr id="109" name="Стрелка вправо 15" descr=""/>
          <p:cNvPicPr/>
          <p:nvPr/>
        </p:nvPicPr>
        <p:blipFill>
          <a:blip r:embed="rId5"/>
          <a:stretch/>
        </p:blipFill>
        <p:spPr>
          <a:xfrm>
            <a:off x="5505480" y="3067200"/>
            <a:ext cx="511200" cy="156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7"/>
          <p:cNvSpPr/>
          <p:nvPr/>
        </p:nvSpPr>
        <p:spPr>
          <a:xfrm>
            <a:off x="446040" y="5013360"/>
            <a:ext cx="525600" cy="1584360"/>
          </a:xfrm>
          <a:custGeom>
            <a:avLst/>
            <a:gdLst>
              <a:gd name="textAreaLeft" fmla="*/ 70200 w 525600"/>
              <a:gd name="textAreaRight" fmla="*/ 455400 w 525600"/>
              <a:gd name="textAreaTop" fmla="*/ 219600 h 1584360"/>
              <a:gd name="textAreaBottom" fmla="*/ 11296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5994" stAng="-5400000" swAng="-5400000"/>
                <a:lnTo>
                  <a:pt x="0" y="12403"/>
                </a:lnTo>
                <a:arcTo wR="21600" hR="5994" stAng="10800000" swAng="-2287538"/>
                <a:lnTo>
                  <a:pt x="14400" y="21257"/>
                </a:lnTo>
                <a:lnTo>
                  <a:pt x="21600" y="15192"/>
                </a:lnTo>
                <a:lnTo>
                  <a:pt x="14400" y="8440"/>
                </a:lnTo>
                <a:lnTo>
                  <a:pt x="14400" y="11644"/>
                </a:lnTo>
                <a:arcTo wR="21600" hR="5994" stAng="8512462" swAng="1690109"/>
                <a:lnTo>
                  <a:pt x="3347" y="9198"/>
                </a:lnTo>
                <a:arcTo wR="21600" hR="5994" stAng="-10202570" swAng="4802570"/>
                <a:close/>
              </a:path>
              <a:path fill="darkenLess" w="21600" h="21600">
                <a:moveTo>
                  <a:pt x="21600" y="0"/>
                </a:moveTo>
                <a:arcTo wR="21600" hR="5994" stAng="-5400000" swAng="-5400000"/>
                <a:lnTo>
                  <a:pt x="0" y="5994"/>
                </a:lnTo>
                <a:arcTo wR="21600" hR="5994" stAng="10800000" swAng="-597430"/>
                <a:lnTo>
                  <a:pt x="3347" y="9198"/>
                </a:lnTo>
                <a:arcTo wR="21600" hR="5994" stAng="-10202570" swAng="4802570"/>
                <a:close/>
              </a:path>
            </a:pathLst>
          </a:custGeom>
          <a:solidFill>
            <a:srgbClr val="ff66cc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7885080" y="5013360"/>
            <a:ext cx="574560" cy="1481040"/>
          </a:xfrm>
          <a:custGeom>
            <a:avLst/>
            <a:gdLst>
              <a:gd name="textAreaLeft" fmla="*/ 76680 w 574560"/>
              <a:gd name="textAreaRight" fmla="*/ 497880 w 574560"/>
              <a:gd name="textAreaTop" fmla="*/ 194760 h 1481040"/>
              <a:gd name="textAreaBottom" fmla="*/ 1052280 h 14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5688" stAng="-5400000" swAng="5400000"/>
                <a:lnTo>
                  <a:pt x="21600" y="12504"/>
                </a:lnTo>
                <a:arcTo wR="21600" hR="5688" stAng="0" swAng="2200767"/>
                <a:lnTo>
                  <a:pt x="7200" y="21275"/>
                </a:lnTo>
                <a:lnTo>
                  <a:pt x="0" y="14784"/>
                </a:lnTo>
                <a:lnTo>
                  <a:pt x="7200" y="7643"/>
                </a:lnTo>
                <a:lnTo>
                  <a:pt x="7200" y="11051"/>
                </a:lnTo>
                <a:arcTo wR="21600" hR="5688" stAng="2200767" swAng="-1531873"/>
                <a:lnTo>
                  <a:pt x="17294" y="9096"/>
                </a:lnTo>
                <a:arcTo wR="21600" hR="5688" stAng="-668894" swAng="-4731106"/>
                <a:close/>
              </a:path>
              <a:path fill="darkenLess" w="21600" h="21600">
                <a:moveTo>
                  <a:pt x="0" y="0"/>
                </a:moveTo>
                <a:arcTo wR="21600" hR="5688" stAng="-5400000" swAng="5400000"/>
                <a:lnTo>
                  <a:pt x="21600" y="12504"/>
                </a:lnTo>
                <a:arcTo wR="21600" hR="5688" stAng="0" swAng="-668894"/>
                <a:lnTo>
                  <a:pt x="17294" y="9096"/>
                </a:lnTo>
                <a:arcTo wR="21600" hR="5688" stAng="-668894" swAng="-4731106"/>
                <a:close/>
              </a:path>
            </a:pathLst>
          </a:custGeom>
          <a:solidFill>
            <a:srgbClr val="ff66cc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22"/>
          <p:cNvSpPr/>
          <p:nvPr/>
        </p:nvSpPr>
        <p:spPr>
          <a:xfrm>
            <a:off x="971640" y="57340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тимулирование познавательной актив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Стрелка вниз 23" descr=""/>
          <p:cNvPicPr/>
          <p:nvPr/>
        </p:nvPicPr>
        <p:blipFill>
          <a:blip r:embed="rId6"/>
          <a:stretch/>
        </p:blipFill>
        <p:spPr>
          <a:xfrm>
            <a:off x="4359240" y="1773360"/>
            <a:ext cx="193680" cy="50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32"/>
          <p:cNvSpPr/>
          <p:nvPr/>
        </p:nvSpPr>
        <p:spPr>
          <a:xfrm rot="11840400">
            <a:off x="841320" y="1622520"/>
            <a:ext cx="658800" cy="2487600"/>
          </a:xfrm>
          <a:custGeom>
            <a:avLst/>
            <a:gdLst>
              <a:gd name="textAreaLeft" fmla="*/ 88200 w 658800"/>
              <a:gd name="textAreaRight" fmla="*/ 570600 w 658800"/>
              <a:gd name="textAreaTop" fmla="*/ 503280 h 2487600"/>
              <a:gd name="textAreaBottom" fmla="*/ 182628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2931143"/>
                <a:lnTo>
                  <a:pt x="7200" y="21100"/>
                </a:lnTo>
                <a:lnTo>
                  <a:pt x="0" y="18853"/>
                </a:lnTo>
                <a:lnTo>
                  <a:pt x="7200" y="15605"/>
                </a:lnTo>
                <a:lnTo>
                  <a:pt x="7200" y="16979"/>
                </a:lnTo>
                <a:arcTo wR="21600" hR="8740" stAng="2931143" swAng="-2710098"/>
                <a:lnTo>
                  <a:pt x="21332" y="10113"/>
                </a:lnTo>
                <a:arcTo wR="21600" hR="8740" stAng="-221045" swAng="-5178955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-221045"/>
                <a:lnTo>
                  <a:pt x="21332" y="10113"/>
                </a:lnTo>
                <a:arcTo wR="21600" hR="8740" stAng="-221045" swAng="-51789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670040" y="209520"/>
            <a:ext cx="59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хнология опы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722600" y="1389240"/>
            <a:ext cx="231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нтегрированная образователь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694480" y="1851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экскур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969160" y="40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риродоохр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708360" y="508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сюжетно-ролевые иг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116000" y="390384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гровые обучающие ситу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32"/>
          <p:cNvSpPr/>
          <p:nvPr/>
        </p:nvSpPr>
        <p:spPr>
          <a:xfrm rot="3299400">
            <a:off x="6248520" y="4487400"/>
            <a:ext cx="658800" cy="2487600"/>
          </a:xfrm>
          <a:custGeom>
            <a:avLst/>
            <a:gdLst>
              <a:gd name="textAreaLeft" fmla="*/ 88200 w 658800"/>
              <a:gd name="textAreaRight" fmla="*/ 570600 w 658800"/>
              <a:gd name="textAreaTop" fmla="*/ 503280 h 2487600"/>
              <a:gd name="textAreaBottom" fmla="*/ 182628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2931143"/>
                <a:lnTo>
                  <a:pt x="7200" y="21100"/>
                </a:lnTo>
                <a:lnTo>
                  <a:pt x="0" y="18853"/>
                </a:lnTo>
                <a:lnTo>
                  <a:pt x="7200" y="15605"/>
                </a:lnTo>
                <a:lnTo>
                  <a:pt x="7200" y="16979"/>
                </a:lnTo>
                <a:arcTo wR="21600" hR="8740" stAng="2931143" swAng="-2710098"/>
                <a:lnTo>
                  <a:pt x="21332" y="10113"/>
                </a:lnTo>
                <a:arcTo wR="21600" hR="8740" stAng="-221045" swAng="-5178955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-221045"/>
                <a:lnTo>
                  <a:pt x="21332" y="10113"/>
                </a:lnTo>
                <a:arcTo wR="21600" hR="8740" stAng="-221045" swAng="-51789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32"/>
          <p:cNvSpPr/>
          <p:nvPr/>
        </p:nvSpPr>
        <p:spPr>
          <a:xfrm rot="20971800">
            <a:off x="8040240" y="2077560"/>
            <a:ext cx="658800" cy="2171880"/>
          </a:xfrm>
          <a:custGeom>
            <a:avLst/>
            <a:gdLst>
              <a:gd name="textAreaLeft" fmla="*/ 88200 w 658800"/>
              <a:gd name="textAreaRight" fmla="*/ 570600 w 658800"/>
              <a:gd name="textAreaTop" fmla="*/ 424080 h 2171880"/>
              <a:gd name="textAreaBottom" fmla="*/ 1589400 h 21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40" stAng="-5400000" swAng="5400000"/>
                <a:lnTo>
                  <a:pt x="21600" y="11587"/>
                </a:lnTo>
                <a:arcTo wR="21600" hR="8440" stAng="0" swAng="2871517"/>
                <a:lnTo>
                  <a:pt x="7200" y="21117"/>
                </a:lnTo>
                <a:lnTo>
                  <a:pt x="0" y="18453"/>
                </a:lnTo>
                <a:lnTo>
                  <a:pt x="7200" y="14822"/>
                </a:lnTo>
                <a:lnTo>
                  <a:pt x="7200" y="16396"/>
                </a:lnTo>
                <a:arcTo wR="21600" hR="8440" stAng="2871517" swAng="-2617083"/>
                <a:lnTo>
                  <a:pt x="21221" y="10013"/>
                </a:lnTo>
                <a:arcTo wR="21600" hR="8440" stAng="-254434" swAng="-5145566"/>
                <a:close/>
              </a:path>
              <a:path fill="darkenLess" w="21600" h="21600">
                <a:moveTo>
                  <a:pt x="0" y="0"/>
                </a:moveTo>
                <a:arcTo wR="21600" hR="8440" stAng="-5400000" swAng="5400000"/>
                <a:lnTo>
                  <a:pt x="21600" y="11587"/>
                </a:lnTo>
                <a:arcTo wR="21600" hR="8440" stAng="0" swAng="-254434"/>
                <a:lnTo>
                  <a:pt x="21221" y="10013"/>
                </a:lnTo>
                <a:arcTo wR="21600" hR="8440" stAng="-254434" swAng="-514556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32"/>
          <p:cNvSpPr/>
          <p:nvPr/>
        </p:nvSpPr>
        <p:spPr>
          <a:xfrm rot="16483200">
            <a:off x="4903560" y="-178200"/>
            <a:ext cx="655560" cy="2725920"/>
          </a:xfrm>
          <a:custGeom>
            <a:avLst/>
            <a:gdLst>
              <a:gd name="textAreaLeft" fmla="*/ 87840 w 655560"/>
              <a:gd name="textAreaRight" fmla="*/ 567720 w 655560"/>
              <a:gd name="textAreaTop" fmla="*/ 563040 h 2725920"/>
              <a:gd name="textAreaBottom" fmla="*/ 2005200 h 272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8" stAng="-5400000" swAng="5400000"/>
                <a:lnTo>
                  <a:pt x="21600" y="11425"/>
                </a:lnTo>
                <a:arcTo wR="21600" hR="8928" stAng="0" swAng="2967341"/>
                <a:lnTo>
                  <a:pt x="7200" y="21089"/>
                </a:lnTo>
                <a:lnTo>
                  <a:pt x="0" y="19104"/>
                </a:lnTo>
                <a:lnTo>
                  <a:pt x="7200" y="16096"/>
                </a:lnTo>
                <a:lnTo>
                  <a:pt x="7200" y="17344"/>
                </a:lnTo>
                <a:arcTo wR="21600" hR="8928" stAng="2967341" swAng="-2766892"/>
                <a:lnTo>
                  <a:pt x="21388" y="10176"/>
                </a:lnTo>
                <a:arcTo wR="21600" hR="8928" stAng="-200450" swAng="-5199550"/>
                <a:close/>
              </a:path>
              <a:path fill="darkenLess" w="21600" h="21600">
                <a:moveTo>
                  <a:pt x="0" y="0"/>
                </a:moveTo>
                <a:arcTo wR="21600" hR="8928" stAng="-5400000" swAng="5400000"/>
                <a:lnTo>
                  <a:pt x="21600" y="11425"/>
                </a:lnTo>
                <a:arcTo wR="21600" hR="8928" stAng="0" swAng="-200450"/>
                <a:lnTo>
                  <a:pt x="21388" y="10176"/>
                </a:lnTo>
                <a:arcTo wR="21600" hR="8928" stAng="-200450" swAng="-519955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32"/>
          <p:cNvSpPr/>
          <p:nvPr/>
        </p:nvSpPr>
        <p:spPr>
          <a:xfrm rot="7162800">
            <a:off x="2463840" y="4573440"/>
            <a:ext cx="658800" cy="2487600"/>
          </a:xfrm>
          <a:custGeom>
            <a:avLst/>
            <a:gdLst>
              <a:gd name="textAreaLeft" fmla="*/ 88200 w 658800"/>
              <a:gd name="textAreaRight" fmla="*/ 570600 w 658800"/>
              <a:gd name="textAreaTop" fmla="*/ 503280 h 2487600"/>
              <a:gd name="textAreaBottom" fmla="*/ 182628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2931143"/>
                <a:lnTo>
                  <a:pt x="7200" y="21100"/>
                </a:lnTo>
                <a:lnTo>
                  <a:pt x="0" y="18853"/>
                </a:lnTo>
                <a:lnTo>
                  <a:pt x="7200" y="15605"/>
                </a:lnTo>
                <a:lnTo>
                  <a:pt x="7200" y="16979"/>
                </a:lnTo>
                <a:arcTo wR="21600" hR="8740" stAng="2931143" swAng="-2710098"/>
                <a:lnTo>
                  <a:pt x="21332" y="10113"/>
                </a:lnTo>
                <a:arcTo wR="21600" hR="8740" stAng="-221045" swAng="-5178955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-221045"/>
                <a:lnTo>
                  <a:pt x="21332" y="10113"/>
                </a:lnTo>
                <a:arcTo wR="21600" hR="8740" stAng="-221045" swAng="-51789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9:38:34Z</dcterms:created>
  <dc:creator>Admin</dc:creator>
  <dc:description/>
  <dc:language>en-US</dc:language>
  <cp:lastModifiedBy>Kolya</cp:lastModifiedBy>
  <dcterms:modified xsi:type="dcterms:W3CDTF">2012-10-27T13:29:42Z</dcterms:modified>
  <cp:revision>90</cp:revision>
  <dc:subject/>
  <dc:title>Презентация.</dc:title>
</cp:coreProperties>
</file>