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5.wmf" ContentType="image/x-wmf"/>
  <Override PartName="/ppt/media/image22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jpeg" ContentType="image/jpeg"/>
  <Override PartName="/ppt/media/image24.jpeg" ContentType="image/jpeg"/>
  <Override PartName="/ppt/media/image28.jpeg" ContentType="image/jpeg"/>
  <Override PartName="/ppt/media/image25.jpeg" ContentType="image/jpeg"/>
  <Override PartName="/ppt/media/image21.jpeg" ContentType="image/jpeg"/>
  <Override PartName="/ppt/media/image19.png" ContentType="image/png"/>
  <Override PartName="/ppt/media/image26.jpeg" ContentType="image/jpeg"/>
  <Override PartName="/ppt/media/image18.wmf" ContentType="image/x-wmf"/>
  <Override PartName="/ppt/media/image17.png" ContentType="image/png"/>
  <Override PartName="/ppt/media/image14.png" ContentType="image/png"/>
  <Override PartName="/ppt/media/image29.jpeg" ContentType="image/jpeg"/>
  <Override PartName="/ppt/media/image5.png" ContentType="image/png"/>
  <Override PartName="/ppt/media/image27.jpeg" ContentType="image/jpeg"/>
  <Override PartName="/ppt/media/image10.png" ContentType="image/png"/>
  <Override PartName="/ppt/media/image2.jpeg" ContentType="image/jpeg"/>
  <Override PartName="/ppt/media/image2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  <p:custShowLst>
    <p:custShow name="Произвольный показ 1" id="0">
      <p:sldLst>
        <p:sld r:id="rId3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CB61-716B-4BA5-8533-1C3E5361C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4898-0B56-496F-8512-4E30F5172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4695-EE80-4C8C-AB7D-BE082F5CE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862B-2C69-47FA-B68E-D690764E5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813A-505A-48AD-B091-98238C1FC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72F3-0B1D-498D-A343-DD4AB2344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B71E-6F36-4081-91F3-1405C4C40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F58C-32CD-4A07-88B0-36265EA58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1C62-DA89-4FD3-A81C-9984DD31B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07F0-3CF7-44E0-B530-AFE9083AA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A7F1-9111-4E7A-B131-EBE4E1AFE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14ED-8F0E-4512-9CB1-83BCD0711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326D1-B1E3-44A7-BA11-7D326EAEC7A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6.wmf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2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8.wm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image" Target="../media/image29.jpe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9280" y="1484280"/>
            <a:ext cx="8964720" cy="338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481"/>
                </a:solidFill>
                <a:latin typeface="Tahoma"/>
              </a:rPr>
              <a:t>Тема.</a:t>
            </a:r>
            <a:br>
              <a:rPr sz="4400"/>
            </a:br>
            <a:r>
              <a:rPr b="0" i="1" lang="en-US" sz="4400" spc="-1" strike="noStrike">
                <a:solidFill>
                  <a:srgbClr val="ffcc00"/>
                </a:solidFill>
                <a:latin typeface="Tahoma"/>
              </a:rPr>
              <a:t>«Формирование познавательной активности через экологическое воспитание»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2" name="Рисунок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TextBox 1"/>
          <p:cNvSpPr/>
          <p:nvPr/>
        </p:nvSpPr>
        <p:spPr>
          <a:xfrm>
            <a:off x="684360" y="884160"/>
            <a:ext cx="8064360" cy="16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Формирование познавательной активности детей через экологическое воспита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TextBox 2"/>
          <p:cNvSpPr/>
          <p:nvPr/>
        </p:nvSpPr>
        <p:spPr>
          <a:xfrm>
            <a:off x="3132000" y="115920"/>
            <a:ext cx="266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ahoma"/>
              </a:rPr>
              <a:t>Тема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5" name="Picture 6" descr="S7301554"/>
          <p:cNvPicPr/>
          <p:nvPr/>
        </p:nvPicPr>
        <p:blipFill>
          <a:blip r:embed="rId3"/>
          <a:stretch/>
        </p:blipFill>
        <p:spPr>
          <a:xfrm>
            <a:off x="2197080" y="2700360"/>
            <a:ext cx="5038920" cy="37717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280" y="1484280"/>
            <a:ext cx="8964720" cy="338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481"/>
                </a:solidFill>
                <a:latin typeface="Tahoma"/>
              </a:rPr>
              <a:t>Тема.</a:t>
            </a:r>
            <a:br>
              <a:rPr sz="4400"/>
            </a:br>
            <a:r>
              <a:rPr b="0" i="1" lang="en-US" sz="4400" spc="-1" strike="noStrike">
                <a:solidFill>
                  <a:srgbClr val="ffcc00"/>
                </a:solidFill>
                <a:latin typeface="Tahoma"/>
              </a:rPr>
              <a:t>«Формирование познавательной активности через экологическое воспитание»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28" name="Рисунок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5"/>
          <p:cNvSpPr/>
          <p:nvPr/>
        </p:nvSpPr>
        <p:spPr>
          <a:xfrm>
            <a:off x="482040" y="115920"/>
            <a:ext cx="8073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70c0"/>
                </a:solidFill>
                <a:latin typeface="Tahoma"/>
              </a:rPr>
              <a:t>Наполняемость занятий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30" name="Object 5"/>
          <p:cNvGraphicFramePr/>
          <p:nvPr/>
        </p:nvGraphicFramePr>
        <p:xfrm>
          <a:off x="-181080" y="981000"/>
          <a:ext cx="9144000" cy="5719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1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181080" y="981000"/>
                    <a:ext cx="9144000" cy="571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Object 10"/>
          <p:cNvGraphicFramePr/>
          <p:nvPr/>
        </p:nvGraphicFramePr>
        <p:xfrm>
          <a:off x="546120" y="1130400"/>
          <a:ext cx="8202600" cy="5257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3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6120" y="1130400"/>
                    <a:ext cx="820260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split dir="out" orient="vert"/>
  </p:transition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nodeType="clickEffect" fill="hold">
                      <p:stCondLst>
                        <p:cond delay="0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5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i="1" lang="en-US" sz="4400" spc="-1" strike="noStrike">
                <a:solidFill>
                  <a:srgbClr val="ffcc00"/>
                </a:solidFill>
                <a:latin typeface="Tahoma"/>
              </a:rPr>
              <a:t>«Формирование познавательной активности через экологическое воспитание»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35" name="Объект 2" descr=""/>
          <p:cNvPicPr/>
          <p:nvPr/>
        </p:nvPicPr>
        <p:blipFill>
          <a:blip r:embed="rId2"/>
          <a:stretch/>
        </p:blipFill>
        <p:spPr>
          <a:xfrm>
            <a:off x="406440" y="1930320"/>
            <a:ext cx="8331120" cy="4216320"/>
          </a:xfrm>
          <a:prstGeom prst="rect">
            <a:avLst/>
          </a:prstGeom>
          <a:ln w="0">
            <a:noFill/>
          </a:ln>
        </p:spPr>
      </p:pic>
      <p:pic>
        <p:nvPicPr>
          <p:cNvPr id="136" name="Рисунок 1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TextBox 5"/>
          <p:cNvSpPr/>
          <p:nvPr/>
        </p:nvSpPr>
        <p:spPr>
          <a:xfrm>
            <a:off x="108000" y="112680"/>
            <a:ext cx="903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ahoma"/>
              </a:rPr>
              <a:t>Диагностический срез по экологическому воспитанию (подготовительная групп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1523880" y="1395360"/>
          <a:ext cx="6096240" cy="4067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3880" y="1395360"/>
                    <a:ext cx="609624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split dir="out" orient="vert"/>
  </p:transition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nodeType="clickEffect" fill="hold">
                      <p:stCondLst>
                        <p:cond delay="0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4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i="1" lang="en-US" sz="4400" spc="-1" strike="noStrike">
                <a:solidFill>
                  <a:srgbClr val="ffcc00"/>
                </a:solidFill>
                <a:latin typeface="Tahoma"/>
              </a:rPr>
              <a:t>«Формирование познавательной активности через экологическое воспитание»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Рисунок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TextBox 5"/>
          <p:cNvSpPr/>
          <p:nvPr/>
        </p:nvSpPr>
        <p:spPr>
          <a:xfrm>
            <a:off x="108000" y="112680"/>
            <a:ext cx="903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Tahoma"/>
              </a:rPr>
              <a:t>Диагностический срез уровня познавательной активност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4" name="Объект 1" descr=""/>
          <p:cNvPicPr/>
          <p:nvPr/>
        </p:nvPicPr>
        <p:blipFill>
          <a:blip r:embed="rId3"/>
          <a:stretch/>
        </p:blipFill>
        <p:spPr>
          <a:xfrm>
            <a:off x="920880" y="525600"/>
            <a:ext cx="6654600" cy="72453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nodeType="clickEffect" fill="hold">
                      <p:stCondLst>
                        <p:cond delay="0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3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79280" y="1484280"/>
            <a:ext cx="8964720" cy="338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481"/>
                </a:solidFill>
                <a:latin typeface="Tahoma"/>
              </a:rPr>
              <a:t>Тема.</a:t>
            </a:r>
            <a:br>
              <a:rPr sz="4400"/>
            </a:br>
            <a:r>
              <a:rPr b="0" i="1" lang="en-US" sz="4400" spc="-1" strike="noStrike">
                <a:solidFill>
                  <a:srgbClr val="ffcc00"/>
                </a:solidFill>
                <a:latin typeface="Tahoma"/>
              </a:rPr>
              <a:t>«Формирование познавательной активности через экологическое воспитание»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46" name="Рисунок 1" descr=""/>
          <p:cNvPicPr/>
          <p:nvPr/>
        </p:nvPicPr>
        <p:blipFill>
          <a:blip r:embed="rId2"/>
          <a:stretch/>
        </p:blipFill>
        <p:spPr>
          <a:xfrm>
            <a:off x="20520" y="0"/>
            <a:ext cx="914400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47" name="Picture 4" descr="S7301564"/>
          <p:cNvPicPr/>
          <p:nvPr/>
        </p:nvPicPr>
        <p:blipFill>
          <a:blip r:embed="rId3"/>
          <a:stretch/>
        </p:blipFill>
        <p:spPr>
          <a:xfrm>
            <a:off x="363600" y="361800"/>
            <a:ext cx="3752640" cy="50007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" descr="S7301567"/>
          <p:cNvPicPr/>
          <p:nvPr/>
        </p:nvPicPr>
        <p:blipFill>
          <a:blip r:embed="rId4"/>
          <a:stretch/>
        </p:blipFill>
        <p:spPr>
          <a:xfrm>
            <a:off x="5240160" y="390600"/>
            <a:ext cx="3697560" cy="47718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6" descr="S7301565"/>
          <p:cNvPicPr/>
          <p:nvPr/>
        </p:nvPicPr>
        <p:blipFill>
          <a:blip r:embed="rId5"/>
          <a:stretch/>
        </p:blipFill>
        <p:spPr>
          <a:xfrm>
            <a:off x="568440" y="3573360"/>
            <a:ext cx="4029120" cy="30099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7" descr="S7301569"/>
          <p:cNvPicPr/>
          <p:nvPr/>
        </p:nvPicPr>
        <p:blipFill>
          <a:blip r:embed="rId6"/>
          <a:stretch/>
        </p:blipFill>
        <p:spPr>
          <a:xfrm>
            <a:off x="4788000" y="3627360"/>
            <a:ext cx="3960720" cy="29703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8" descr="S7301598"/>
          <p:cNvPicPr/>
          <p:nvPr/>
        </p:nvPicPr>
        <p:blipFill>
          <a:blip r:embed="rId7"/>
          <a:stretch/>
        </p:blipFill>
        <p:spPr>
          <a:xfrm>
            <a:off x="1692360" y="1190520"/>
            <a:ext cx="5968800" cy="44769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nodeType="clickEffect" fill="hold">
                      <p:stCondLst>
                        <p:cond delay="0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4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9" nodeType="afterEffect" fill="hold" presetClass="entr" presetID="49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46" nodeType="afterEffect" fill="hold" presetClass="entr" presetID="49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53" nodeType="afterEffect" fill="hold" presetClass="entr" presetID="49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460" nodeType="afterEffect" fill="hold" presetClass="entr" presetID="49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79280" y="1484280"/>
            <a:ext cx="8964720" cy="338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481"/>
                </a:solidFill>
                <a:latin typeface="Tahoma"/>
              </a:rPr>
              <a:t>Тема.</a:t>
            </a:r>
            <a:br>
              <a:rPr sz="4400"/>
            </a:br>
            <a:r>
              <a:rPr b="0" i="1" lang="en-US" sz="4400" spc="-1" strike="noStrike">
                <a:solidFill>
                  <a:srgbClr val="ffcc00"/>
                </a:solidFill>
                <a:latin typeface="Tahoma"/>
              </a:rPr>
              <a:t>«Формирование познавательной активности через экологическое воспитание»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53" name="Рисунок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PC170084"/>
          <p:cNvPicPr/>
          <p:nvPr/>
        </p:nvPicPr>
        <p:blipFill>
          <a:blip r:embed="rId3"/>
          <a:stretch/>
        </p:blipFill>
        <p:spPr>
          <a:xfrm>
            <a:off x="324000" y="260280"/>
            <a:ext cx="3962160" cy="29718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PC170088"/>
          <p:cNvPicPr/>
          <p:nvPr/>
        </p:nvPicPr>
        <p:blipFill>
          <a:blip r:embed="rId4"/>
          <a:stretch/>
        </p:blipFill>
        <p:spPr>
          <a:xfrm>
            <a:off x="4500720" y="260280"/>
            <a:ext cx="4392360" cy="29527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7" descr="PC170091"/>
          <p:cNvPicPr/>
          <p:nvPr/>
        </p:nvPicPr>
        <p:blipFill>
          <a:blip r:embed="rId5"/>
          <a:stretch/>
        </p:blipFill>
        <p:spPr>
          <a:xfrm>
            <a:off x="395280" y="3440160"/>
            <a:ext cx="3889440" cy="31860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8" descr="PC170094"/>
          <p:cNvPicPr/>
          <p:nvPr/>
        </p:nvPicPr>
        <p:blipFill>
          <a:blip r:embed="rId6"/>
          <a:stretch/>
        </p:blipFill>
        <p:spPr>
          <a:xfrm>
            <a:off x="4500720" y="3500280"/>
            <a:ext cx="4319280" cy="30974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9" descr="PC170096"/>
          <p:cNvPicPr/>
          <p:nvPr/>
        </p:nvPicPr>
        <p:blipFill>
          <a:blip r:embed="rId7"/>
          <a:stretch/>
        </p:blipFill>
        <p:spPr>
          <a:xfrm>
            <a:off x="1763640" y="1187280"/>
            <a:ext cx="5688000" cy="42656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nodeType="clickEffect" fill="hold">
                      <p:stCondLst>
                        <p:cond delay="0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4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8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9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9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6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9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3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0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484280"/>
            <a:ext cx="8964720" cy="338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481"/>
                </a:solidFill>
                <a:latin typeface="Tahoma"/>
              </a:rPr>
              <a:t>Тема.</a:t>
            </a:r>
            <a:br>
              <a:rPr sz="4400"/>
            </a:br>
            <a:r>
              <a:rPr b="0" i="1" lang="en-US" sz="4400" spc="-1" strike="noStrike">
                <a:solidFill>
                  <a:srgbClr val="ffcc00"/>
                </a:solidFill>
                <a:latin typeface="Tahoma"/>
              </a:rPr>
              <a:t>«Формирование познавательной активности через экологическое воспитание»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7" name="Рисунок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22320">
            <a:solidFill>
              <a:srgbClr val="ff0000"/>
            </a:solidFill>
            <a:miter/>
          </a:ln>
        </p:spPr>
      </p:pic>
      <p:sp>
        <p:nvSpPr>
          <p:cNvPr id="48" name="TextBox 1"/>
          <p:cNvSpPr/>
          <p:nvPr/>
        </p:nvSpPr>
        <p:spPr>
          <a:xfrm>
            <a:off x="250920" y="40464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ahoma"/>
              </a:rPr>
              <a:t>Условия возникновения опыт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9" name="Стрелка вниз 2" descr=""/>
          <p:cNvPicPr/>
          <p:nvPr/>
        </p:nvPicPr>
        <p:blipFill>
          <a:blip r:embed="rId3"/>
          <a:stretch/>
        </p:blipFill>
        <p:spPr>
          <a:xfrm>
            <a:off x="1908000" y="1042920"/>
            <a:ext cx="768600" cy="1109880"/>
          </a:xfrm>
          <a:prstGeom prst="rect">
            <a:avLst/>
          </a:prstGeom>
          <a:ln w="0">
            <a:noFill/>
          </a:ln>
        </p:spPr>
      </p:pic>
      <p:sp>
        <p:nvSpPr>
          <p:cNvPr id="50" name="TextBox 3"/>
          <p:cNvSpPr/>
          <p:nvPr/>
        </p:nvSpPr>
        <p:spPr>
          <a:xfrm>
            <a:off x="701640" y="2584440"/>
            <a:ext cx="2475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Tahoma"/>
              </a:rPr>
              <a:t>снижение уровня экологической культуры дете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TextBox 4"/>
          <p:cNvSpPr/>
          <p:nvPr/>
        </p:nvSpPr>
        <p:spPr>
          <a:xfrm>
            <a:off x="3348000" y="2625840"/>
            <a:ext cx="273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Tahoma"/>
              </a:rPr>
              <a:t>снижение уровня развития речи и моторики дете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TextBox 5"/>
          <p:cNvSpPr/>
          <p:nvPr/>
        </p:nvSpPr>
        <p:spPr>
          <a:xfrm>
            <a:off x="6227640" y="2664000"/>
            <a:ext cx="216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Tahoma"/>
              </a:rPr>
              <a:t>снижение познавательной активност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3" name="Стрелка вниз 6" descr=""/>
          <p:cNvPicPr/>
          <p:nvPr/>
        </p:nvPicPr>
        <p:blipFill>
          <a:blip r:embed="rId4"/>
          <a:stretch/>
        </p:blipFill>
        <p:spPr>
          <a:xfrm>
            <a:off x="4614840" y="1146240"/>
            <a:ext cx="238320" cy="1084320"/>
          </a:xfrm>
          <a:prstGeom prst="rect">
            <a:avLst/>
          </a:prstGeom>
          <a:ln w="0">
            <a:noFill/>
          </a:ln>
        </p:spPr>
      </p:pic>
      <p:pic>
        <p:nvPicPr>
          <p:cNvPr id="54" name="Стрелка вниз 7" descr=""/>
          <p:cNvPicPr/>
          <p:nvPr/>
        </p:nvPicPr>
        <p:blipFill>
          <a:blip r:embed="rId5"/>
          <a:stretch/>
        </p:blipFill>
        <p:spPr>
          <a:xfrm>
            <a:off x="6583320" y="1090440"/>
            <a:ext cx="755640" cy="1062360"/>
          </a:xfrm>
          <a:prstGeom prst="rect">
            <a:avLst/>
          </a:prstGeom>
          <a:ln w="0">
            <a:noFill/>
          </a:ln>
        </p:spPr>
      </p:pic>
      <p:sp>
        <p:nvSpPr>
          <p:cNvPr id="55" name="AutoShape 27"/>
          <p:cNvSpPr/>
          <p:nvPr/>
        </p:nvSpPr>
        <p:spPr>
          <a:xfrm>
            <a:off x="209520" y="2924280"/>
            <a:ext cx="527040" cy="2449440"/>
          </a:xfrm>
          <a:custGeom>
            <a:avLst/>
            <a:gdLst>
              <a:gd name="textAreaLeft" fmla="*/ 70560 w 527040"/>
              <a:gd name="textAreaRight" fmla="*/ 456480 w 527040"/>
              <a:gd name="textAreaTop" fmla="*/ 435960 h 2449440"/>
              <a:gd name="textAreaBottom" fmla="*/ 1778400 h 2449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690" stAng="-5400000" swAng="-5400000"/>
                <a:lnTo>
                  <a:pt x="0" y="11837"/>
                </a:lnTo>
                <a:arcTo wR="21600" hR="7690" stAng="10800000" swAng="-2711943"/>
                <a:lnTo>
                  <a:pt x="14400" y="21160"/>
                </a:lnTo>
                <a:lnTo>
                  <a:pt x="21600" y="17454"/>
                </a:lnTo>
                <a:lnTo>
                  <a:pt x="14400" y="12867"/>
                </a:lnTo>
                <a:lnTo>
                  <a:pt x="14400" y="14940"/>
                </a:lnTo>
                <a:arcTo wR="21600" hR="7690" stAng="8088057" swAng="2370371"/>
                <a:lnTo>
                  <a:pt x="800" y="9764"/>
                </a:lnTo>
                <a:arcTo wR="21600" hR="7690" stAng="-10458428" swAng="5058428"/>
                <a:close/>
              </a:path>
              <a:path fill="darkenLess" w="21600" h="21600">
                <a:moveTo>
                  <a:pt x="21600" y="0"/>
                </a:moveTo>
                <a:arcTo wR="21600" hR="7690" stAng="-5400000" swAng="-5400000"/>
                <a:lnTo>
                  <a:pt x="0" y="7690"/>
                </a:lnTo>
                <a:arcTo wR="21600" hR="7690" stAng="10800000" swAng="-341572"/>
                <a:lnTo>
                  <a:pt x="800" y="9764"/>
                </a:lnTo>
                <a:arcTo wR="21600" hR="7690" stAng="-10458428" swAng="5058428"/>
                <a:close/>
              </a:path>
            </a:pathLst>
          </a:custGeom>
          <a:solidFill>
            <a:srgbClr val="ff0000"/>
          </a:solidFill>
          <a:ln w="9360">
            <a:solidFill>
              <a:srgbClr val="2b5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AutoShape 28"/>
          <p:cNvSpPr/>
          <p:nvPr/>
        </p:nvSpPr>
        <p:spPr>
          <a:xfrm>
            <a:off x="8388360" y="2924280"/>
            <a:ext cx="576360" cy="2562120"/>
          </a:xfrm>
          <a:custGeom>
            <a:avLst/>
            <a:gdLst>
              <a:gd name="textAreaLeft" fmla="*/ 77040 w 576360"/>
              <a:gd name="textAreaRight" fmla="*/ 499320 w 576360"/>
              <a:gd name="textAreaTop" fmla="*/ 465120 h 2562120"/>
              <a:gd name="textAreaBottom" fmla="*/ 1863360 h 25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844" stAng="-5400000" swAng="5400000"/>
                <a:lnTo>
                  <a:pt x="21600" y="11785"/>
                </a:lnTo>
                <a:arcTo wR="21600" hR="7844" stAng="0" swAng="2746020"/>
                <a:lnTo>
                  <a:pt x="7200" y="21151"/>
                </a:lnTo>
                <a:lnTo>
                  <a:pt x="0" y="17659"/>
                </a:lnTo>
                <a:lnTo>
                  <a:pt x="7200" y="13268"/>
                </a:lnTo>
                <a:lnTo>
                  <a:pt x="7200" y="15239"/>
                </a:lnTo>
                <a:arcTo wR="21600" hR="7844" stAng="2746020" swAng="-2422969"/>
                <a:lnTo>
                  <a:pt x="20907" y="9815"/>
                </a:lnTo>
                <a:arcTo wR="21600" hR="7844" stAng="-323051" swAng="-5076949"/>
                <a:close/>
              </a:path>
              <a:path fill="darkenLess" w="21600" h="21600">
                <a:moveTo>
                  <a:pt x="0" y="0"/>
                </a:moveTo>
                <a:arcTo wR="21600" hR="7844" stAng="-5400000" swAng="5400000"/>
                <a:lnTo>
                  <a:pt x="21600" y="11785"/>
                </a:lnTo>
                <a:arcTo wR="21600" hR="7844" stAng="0" swAng="-323051"/>
                <a:lnTo>
                  <a:pt x="20907" y="9815"/>
                </a:lnTo>
                <a:arcTo wR="21600" hR="7844" stAng="-323051" swAng="-5076949"/>
                <a:close/>
              </a:path>
            </a:pathLst>
          </a:custGeom>
          <a:solidFill>
            <a:srgbClr val="ff0000"/>
          </a:solidFill>
          <a:ln w="9360">
            <a:solidFill>
              <a:srgbClr val="2b5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TextBox 10"/>
          <p:cNvSpPr/>
          <p:nvPr/>
        </p:nvSpPr>
        <p:spPr>
          <a:xfrm>
            <a:off x="1042920" y="4653000"/>
            <a:ext cx="69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ahoma"/>
              </a:rPr>
              <a:t>Интегративная экологическая деятельнос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split dir="out" orient="vert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9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1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2" nodeType="after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4" dur="275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9280" y="1484280"/>
            <a:ext cx="8964720" cy="338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481"/>
                </a:solidFill>
                <a:latin typeface="Tahoma"/>
              </a:rPr>
              <a:t>Тема.</a:t>
            </a:r>
            <a:br>
              <a:rPr sz="4400"/>
            </a:br>
            <a:r>
              <a:rPr b="0" i="1" lang="en-US" sz="4400" spc="-1" strike="noStrike">
                <a:solidFill>
                  <a:srgbClr val="ffcc00"/>
                </a:solidFill>
                <a:latin typeface="Tahoma"/>
              </a:rPr>
              <a:t>«Формирование познавательной активности через экологическое воспитание»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9" name="Рисунок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Прямоугольник 1"/>
          <p:cNvSpPr/>
          <p:nvPr/>
        </p:nvSpPr>
        <p:spPr>
          <a:xfrm>
            <a:off x="1102320" y="277920"/>
            <a:ext cx="6939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66"/>
                </a:solidFill>
                <a:latin typeface="Tahoma"/>
              </a:rPr>
              <a:t>Актуальность опыта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AutoShape 8"/>
          <p:cNvSpPr/>
          <p:nvPr/>
        </p:nvSpPr>
        <p:spPr>
          <a:xfrm>
            <a:off x="1690560" y="2108160"/>
            <a:ext cx="2233800" cy="358920"/>
          </a:xfrm>
          <a:custGeom>
            <a:avLst/>
            <a:gdLst>
              <a:gd name="textAreaLeft" fmla="*/ 390960 w 2233800"/>
              <a:gd name="textAreaRight" fmla="*/ 1619640 w 2233800"/>
              <a:gd name="textAreaTop" fmla="*/ 47880 h 358920"/>
              <a:gd name="textAreaBottom" fmla="*/ 311040 h 3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0099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AutoShape 8"/>
          <p:cNvSpPr/>
          <p:nvPr/>
        </p:nvSpPr>
        <p:spPr>
          <a:xfrm>
            <a:off x="4932360" y="2149560"/>
            <a:ext cx="2233440" cy="358560"/>
          </a:xfrm>
          <a:custGeom>
            <a:avLst/>
            <a:gdLst>
              <a:gd name="textAreaLeft" fmla="*/ 390600 w 2233440"/>
              <a:gd name="textAreaRight" fmla="*/ 1619280 w 2233440"/>
              <a:gd name="textAreaTop" fmla="*/ 47880 h 358560"/>
              <a:gd name="textAreaBottom" fmla="*/ 310680 h 35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0099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TextBox 2"/>
          <p:cNvSpPr/>
          <p:nvPr/>
        </p:nvSpPr>
        <p:spPr>
          <a:xfrm>
            <a:off x="430200" y="2498760"/>
            <a:ext cx="2376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Tahoma"/>
              </a:rPr>
              <a:t>Снижени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Tahoma"/>
              </a:rPr>
              <a:t>экологическог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Tahoma"/>
              </a:rPr>
              <a:t>мировоззрения и познавательной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Tahoma"/>
              </a:rPr>
              <a:t>активност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TextBox 3"/>
          <p:cNvSpPr/>
          <p:nvPr/>
        </p:nvSpPr>
        <p:spPr>
          <a:xfrm>
            <a:off x="3370320" y="2552760"/>
            <a:ext cx="2158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Tahoma"/>
              </a:rPr>
              <a:t>Формирование непрерывного экологического образован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Tahoma"/>
              </a:rPr>
              <a:t>(1 звено – ДОУ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6665760" y="2644920"/>
            <a:ext cx="17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Tahoma"/>
              </a:rPr>
              <a:t>Требован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Tahoma"/>
              </a:rPr>
              <a:t>ФГ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TextBox 8"/>
          <p:cNvSpPr/>
          <p:nvPr/>
        </p:nvSpPr>
        <p:spPr>
          <a:xfrm>
            <a:off x="5940360" y="3284640"/>
            <a:ext cx="29545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Tahoma"/>
              </a:rPr>
              <a:t>интегрированное образование детей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Tahoma"/>
              </a:rPr>
              <a:t>речевая деятельност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Tahoma"/>
              </a:rPr>
              <a:t>театрализованная деятельност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Tahoma"/>
              </a:rPr>
              <a:t>изобразительная деятельност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Tahoma"/>
              </a:rPr>
              <a:t>музыкальная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Tahoma"/>
              </a:rPr>
              <a:t>деятельност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66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split dir="out" orient="vert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484280"/>
            <a:ext cx="8964720" cy="338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481"/>
                </a:solidFill>
                <a:latin typeface="Tahoma"/>
              </a:rPr>
              <a:t>Тема.</a:t>
            </a:r>
            <a:br>
              <a:rPr sz="4400"/>
            </a:br>
            <a:r>
              <a:rPr b="0" i="1" lang="en-US" sz="4400" spc="-1" strike="noStrike">
                <a:solidFill>
                  <a:srgbClr val="ffcc00"/>
                </a:solidFill>
                <a:latin typeface="Tahoma"/>
              </a:rPr>
              <a:t>«Формирование познавательной активности через экологическое воспитание»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8" name="Рисунок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Прямоугольник 1"/>
          <p:cNvSpPr/>
          <p:nvPr/>
        </p:nvSpPr>
        <p:spPr>
          <a:xfrm>
            <a:off x="108000" y="115920"/>
            <a:ext cx="892800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Tahoma"/>
              </a:rPr>
              <a:t>Ведущая педагогическая идея </a:t>
            </a:r>
            <a:r>
              <a:rPr b="0" lang="en-US" sz="4400" spc="-1" strike="noStrike">
                <a:solidFill>
                  <a:srgbClr val="c00000"/>
                </a:solidFill>
                <a:latin typeface="Tahoma"/>
              </a:rPr>
              <a:t>–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ahoma"/>
              </a:rPr>
              <a:t>развитие познавательной активности детей путём внедрения различных видов деятельности и включения всех анализаторов на занятиях по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Tahoma"/>
              </a:rPr>
              <a:t>экологи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split dir="out" orient="vert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2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484280"/>
            <a:ext cx="8964720" cy="338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481"/>
                </a:solidFill>
                <a:latin typeface="Tahoma"/>
              </a:rPr>
              <a:t>Тема.</a:t>
            </a:r>
            <a:br>
              <a:rPr sz="4400"/>
            </a:br>
            <a:r>
              <a:rPr b="0" i="1" lang="en-US" sz="4400" spc="-1" strike="noStrike">
                <a:solidFill>
                  <a:srgbClr val="ffcc00"/>
                </a:solidFill>
                <a:latin typeface="Tahoma"/>
              </a:rPr>
              <a:t>«Формирование познавательной активности через экологическое воспитание»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1" name="Рисунок 1" descr=""/>
          <p:cNvPicPr/>
          <p:nvPr/>
        </p:nvPicPr>
        <p:blipFill>
          <a:blip r:embed="rId2"/>
          <a:stretch/>
        </p:blipFill>
        <p:spPr>
          <a:xfrm>
            <a:off x="0" y="-246240"/>
            <a:ext cx="9144000" cy="71042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72" name="TextBox 2"/>
          <p:cNvSpPr/>
          <p:nvPr/>
        </p:nvSpPr>
        <p:spPr>
          <a:xfrm>
            <a:off x="1908000" y="0"/>
            <a:ext cx="525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70c0"/>
                </a:solidFill>
                <a:latin typeface="Tahoma"/>
              </a:rPr>
              <a:t>Задачи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Стрелка вниз 3"/>
          <p:cNvSpPr/>
          <p:nvPr/>
        </p:nvSpPr>
        <p:spPr>
          <a:xfrm rot="2451600">
            <a:off x="2700000" y="404280"/>
            <a:ext cx="146160" cy="1022400"/>
          </a:xfrm>
          <a:prstGeom prst="downArrow">
            <a:avLst>
              <a:gd name="adj1" fmla="val 50000"/>
              <a:gd name="adj2" fmla="val 49969"/>
            </a:avLst>
          </a:prstGeom>
          <a:solidFill>
            <a:srgbClr val="0000ff"/>
          </a:solidFill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TextBox 5"/>
          <p:cNvSpPr/>
          <p:nvPr/>
        </p:nvSpPr>
        <p:spPr>
          <a:xfrm>
            <a:off x="324000" y="1413000"/>
            <a:ext cx="2232000" cy="636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Tahoma"/>
              </a:rPr>
              <a:t>  </a:t>
            </a:r>
            <a:r>
              <a:rPr b="1" lang="en-US" sz="1800" spc="-1" strike="noStrike">
                <a:solidFill>
                  <a:srgbClr val="0070c0"/>
                </a:solidFill>
                <a:latin typeface="Tahoma"/>
              </a:rPr>
              <a:t>Живая природ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buClr>
                <a:srgbClr val="00206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Tahoma"/>
              </a:rPr>
              <a:t>  </a:t>
            </a:r>
            <a:r>
              <a:rPr b="1" lang="en-US" sz="1400" spc="-1" strike="noStrike">
                <a:solidFill>
                  <a:srgbClr val="002060"/>
                </a:solidFill>
                <a:latin typeface="Tahoma"/>
              </a:rPr>
              <a:t>расширить, уточнить,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Tahoma"/>
              </a:rPr>
              <a:t>систематизировать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Tahoma"/>
              </a:rPr>
              <a:t>представления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Tahoma"/>
              </a:rPr>
              <a:t>детей о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Tahoma"/>
              </a:rPr>
              <a:t>растительном и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Tahoma"/>
              </a:rPr>
              <a:t>животном мир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Tahoma"/>
              </a:rPr>
              <a:t>природы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buClr>
                <a:srgbClr val="00206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Tahoma"/>
              </a:rPr>
              <a:t>  </a:t>
            </a:r>
            <a:r>
              <a:rPr b="1" lang="en-US" sz="1400" spc="-1" strike="noStrike">
                <a:solidFill>
                  <a:srgbClr val="002060"/>
                </a:solidFill>
                <a:latin typeface="Tahoma"/>
              </a:rPr>
              <a:t>конкретизировать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Tahoma"/>
              </a:rPr>
              <a:t>представления детей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Tahoma"/>
              </a:rPr>
              <a:t>об условиях жизни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Tahoma"/>
              </a:rPr>
              <a:t>растений и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Tahoma"/>
              </a:rPr>
              <a:t>животных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buClr>
                <a:srgbClr val="00206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Tahoma"/>
              </a:rPr>
              <a:t>  </a:t>
            </a:r>
            <a:r>
              <a:rPr b="1" lang="en-US" sz="1400" spc="-1" strike="noStrike">
                <a:solidFill>
                  <a:srgbClr val="002060"/>
                </a:solidFill>
                <a:latin typeface="Tahoma"/>
              </a:rPr>
              <a:t>учить различать по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Tahoma"/>
              </a:rPr>
              <a:t>внешнему виду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Tahoma"/>
              </a:rPr>
              <a:t>и правильно называть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Tahoma"/>
              </a:rPr>
              <a:t>объекты изучения,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Tahoma"/>
              </a:rPr>
              <a:t>уметь сравнивать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007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TextBox 14"/>
          <p:cNvSpPr/>
          <p:nvPr/>
        </p:nvSpPr>
        <p:spPr>
          <a:xfrm>
            <a:off x="3278160" y="1525680"/>
            <a:ext cx="2664000" cy="56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70c0"/>
                </a:solidFill>
                <a:latin typeface="Tahoma"/>
              </a:rPr>
              <a:t>Неживая природ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buClr>
                <a:srgbClr val="00206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Tahoma"/>
              </a:rPr>
              <a:t>  </a:t>
            </a:r>
            <a:r>
              <a:rPr b="1" lang="en-US" sz="1400" spc="-1" strike="noStrike">
                <a:solidFill>
                  <a:srgbClr val="002060"/>
                </a:solidFill>
                <a:latin typeface="Tahoma"/>
              </a:rPr>
              <a:t>учить обобщать и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Tahoma"/>
              </a:rPr>
              <a:t>систематизировать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Tahoma"/>
              </a:rPr>
              <a:t>представления о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Tahoma"/>
              </a:rPr>
              <a:t>временах год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buClr>
                <a:srgbClr val="00206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Tahoma"/>
              </a:rPr>
              <a:t>  </a:t>
            </a:r>
            <a:r>
              <a:rPr b="1" lang="en-US" sz="1400" spc="-1" strike="noStrike">
                <a:solidFill>
                  <a:srgbClr val="002060"/>
                </a:solidFill>
                <a:latin typeface="Tahoma"/>
              </a:rPr>
              <a:t>учить наблюдать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Tahoma"/>
              </a:rPr>
              <a:t>различные явления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Tahoma"/>
              </a:rPr>
              <a:t>природы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buClr>
                <a:srgbClr val="00206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Tahoma"/>
              </a:rPr>
              <a:t>  </a:t>
            </a:r>
            <a:r>
              <a:rPr b="1" lang="en-US" sz="1400" spc="-1" strike="noStrike">
                <a:solidFill>
                  <a:srgbClr val="002060"/>
                </a:solidFill>
                <a:latin typeface="Tahoma"/>
              </a:rPr>
              <a:t>закреплять умени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Tahoma"/>
              </a:rPr>
              <a:t>передавать своё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Tahoma"/>
              </a:rPr>
              <a:t>отношение к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Tahoma"/>
              </a:rPr>
              <a:t>природе в рассказах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Tahoma"/>
              </a:rPr>
              <a:t>и продуктивных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Tahoma"/>
              </a:rPr>
              <a:t>видах деятельности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buClr>
                <a:srgbClr val="00206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Tahoma"/>
              </a:rPr>
              <a:t>  </a:t>
            </a:r>
            <a:r>
              <a:rPr b="1" lang="en-US" sz="1400" spc="-1" strike="noStrike">
                <a:solidFill>
                  <a:srgbClr val="002060"/>
                </a:solidFill>
                <a:latin typeface="Tahoma"/>
              </a:rPr>
              <a:t>учить устанавливать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Tahoma"/>
              </a:rPr>
              <a:t>причинно-следственны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Tahoma"/>
              </a:rPr>
              <a:t>связи между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Tahoma"/>
              </a:rPr>
              <a:t>природными явлениями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Прямоугольник 19"/>
          <p:cNvSpPr/>
          <p:nvPr/>
        </p:nvSpPr>
        <p:spPr>
          <a:xfrm>
            <a:off x="6156360" y="1413000"/>
            <a:ext cx="2736720" cy="423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Tahoma"/>
              </a:rPr>
              <a:t>    </a:t>
            </a:r>
            <a:r>
              <a:rPr b="1" lang="en-US" sz="1800" spc="-1" strike="noStrike">
                <a:solidFill>
                  <a:srgbClr val="0070c0"/>
                </a:solidFill>
                <a:latin typeface="Tahoma"/>
              </a:rPr>
              <a:t>Природоохранна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Tahoma"/>
              </a:rPr>
              <a:t>сред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buClr>
                <a:srgbClr val="00206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Tahoma"/>
              </a:rPr>
              <a:t>  </a:t>
            </a:r>
            <a:r>
              <a:rPr b="1" lang="en-US" sz="1400" spc="-1" strike="noStrike">
                <a:solidFill>
                  <a:srgbClr val="002060"/>
                </a:solidFill>
                <a:latin typeface="Tahoma"/>
              </a:rPr>
              <a:t>развивать интерес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Tahoma"/>
              </a:rPr>
              <a:t>к родному краю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buClr>
                <a:srgbClr val="00206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Tahoma"/>
              </a:rPr>
              <a:t>  </a:t>
            </a:r>
            <a:r>
              <a:rPr b="1" lang="en-US" sz="1400" spc="-1" strike="noStrike">
                <a:solidFill>
                  <a:srgbClr val="002060"/>
                </a:solidFill>
                <a:latin typeface="Tahoma"/>
              </a:rPr>
              <a:t>воспитывать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Tahoma"/>
              </a:rPr>
              <a:t>  </a:t>
            </a:r>
            <a:r>
              <a:rPr b="1" lang="en-US" sz="1400" spc="-1" strike="noStrike">
                <a:solidFill>
                  <a:srgbClr val="002060"/>
                </a:solidFill>
                <a:latin typeface="Tahoma"/>
              </a:rPr>
              <a:t>культуру поведения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Tahoma"/>
              </a:rPr>
              <a:t>в природ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buClr>
                <a:srgbClr val="00206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Tahoma"/>
              </a:rPr>
              <a:t>  </a:t>
            </a:r>
            <a:r>
              <a:rPr b="1" lang="en-US" sz="1400" spc="-1" strike="noStrike">
                <a:solidFill>
                  <a:srgbClr val="002060"/>
                </a:solidFill>
                <a:latin typeface="Tahoma"/>
              </a:rPr>
              <a:t>подвести детей к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Tahoma"/>
              </a:rPr>
              <a:t>пониманию того,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Tahoma"/>
              </a:rPr>
              <a:t>        </a:t>
            </a:r>
            <a:r>
              <a:rPr b="1" lang="en-US" sz="1400" spc="-1" strike="noStrike">
                <a:solidFill>
                  <a:srgbClr val="002060"/>
                </a:solidFill>
                <a:latin typeface="Tahoma"/>
              </a:rPr>
              <a:t>что жизнь человека на земле находится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Tahoma"/>
              </a:rPr>
              <a:t>в прямой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Tahoma"/>
              </a:rPr>
              <a:t> </a:t>
            </a:r>
            <a:r>
              <a:rPr b="1" lang="en-US" sz="1400" spc="-1" strike="noStrike">
                <a:solidFill>
                  <a:srgbClr val="002060"/>
                </a:solidFill>
                <a:latin typeface="Tahoma"/>
              </a:rPr>
              <a:t>зависимости от состояния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Tahoma"/>
              </a:rPr>
              <a:t>   </a:t>
            </a:r>
            <a:r>
              <a:rPr b="1" lang="en-US" sz="1400" spc="-1" strike="noStrike">
                <a:solidFill>
                  <a:srgbClr val="002060"/>
                </a:solidFill>
                <a:latin typeface="Tahoma"/>
              </a:rPr>
              <a:t>окружающей среды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7" name="Стрелка вниз 23" descr=""/>
          <p:cNvPicPr/>
          <p:nvPr/>
        </p:nvPicPr>
        <p:blipFill>
          <a:blip r:embed="rId3"/>
          <a:stretch/>
        </p:blipFill>
        <p:spPr>
          <a:xfrm>
            <a:off x="5784840" y="414360"/>
            <a:ext cx="828720" cy="884160"/>
          </a:xfrm>
          <a:prstGeom prst="rect">
            <a:avLst/>
          </a:prstGeom>
          <a:ln w="0">
            <a:noFill/>
          </a:ln>
        </p:spPr>
      </p:pic>
      <p:pic>
        <p:nvPicPr>
          <p:cNvPr id="78" name="Стрелка вниз 24" descr=""/>
          <p:cNvPicPr/>
          <p:nvPr/>
        </p:nvPicPr>
        <p:blipFill>
          <a:blip r:embed="rId4"/>
          <a:stretch/>
        </p:blipFill>
        <p:spPr>
          <a:xfrm>
            <a:off x="4438800" y="828720"/>
            <a:ext cx="199800" cy="804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0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9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5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3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3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3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457200" y="1981080"/>
            <a:ext cx="8229600" cy="411480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1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TextBox 1"/>
          <p:cNvSpPr/>
          <p:nvPr/>
        </p:nvSpPr>
        <p:spPr>
          <a:xfrm>
            <a:off x="1670040" y="209520"/>
            <a:ext cx="598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Теоретическая баз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Text Box 20"/>
          <p:cNvSpPr/>
          <p:nvPr/>
        </p:nvSpPr>
        <p:spPr>
          <a:xfrm>
            <a:off x="971640" y="981000"/>
            <a:ext cx="7272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Непрерывное экологическое образован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Первое звено - ДО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AutoShape 21"/>
          <p:cNvSpPr/>
          <p:nvPr/>
        </p:nvSpPr>
        <p:spPr>
          <a:xfrm>
            <a:off x="1258920" y="1916280"/>
            <a:ext cx="144360" cy="792000"/>
          </a:xfrm>
          <a:prstGeom prst="downArrow">
            <a:avLst>
              <a:gd name="adj1" fmla="val 50000"/>
              <a:gd name="adj2" fmla="val 137157"/>
            </a:avLst>
          </a:prstGeom>
          <a:solidFill>
            <a:srgbClr val="0000ff"/>
          </a:solidFill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AutoShape 27"/>
          <p:cNvSpPr/>
          <p:nvPr/>
        </p:nvSpPr>
        <p:spPr>
          <a:xfrm>
            <a:off x="2340000" y="1916280"/>
            <a:ext cx="144360" cy="2304720"/>
          </a:xfrm>
          <a:prstGeom prst="downArrow">
            <a:avLst>
              <a:gd name="adj1" fmla="val 50000"/>
              <a:gd name="adj2" fmla="val 399127"/>
            </a:avLst>
          </a:prstGeom>
          <a:solidFill>
            <a:srgbClr val="0000ff"/>
          </a:solidFill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AutoShape 28"/>
          <p:cNvSpPr/>
          <p:nvPr/>
        </p:nvSpPr>
        <p:spPr>
          <a:xfrm>
            <a:off x="3708360" y="1989000"/>
            <a:ext cx="144360" cy="792360"/>
          </a:xfrm>
          <a:prstGeom prst="downArrow">
            <a:avLst>
              <a:gd name="adj1" fmla="val 50000"/>
              <a:gd name="adj2" fmla="val 137219"/>
            </a:avLst>
          </a:prstGeom>
          <a:solidFill>
            <a:srgbClr val="0000ff"/>
          </a:solidFill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AutoShape 29"/>
          <p:cNvSpPr/>
          <p:nvPr/>
        </p:nvSpPr>
        <p:spPr>
          <a:xfrm>
            <a:off x="4932360" y="1989000"/>
            <a:ext cx="144360" cy="2303640"/>
          </a:xfrm>
          <a:prstGeom prst="downArrow">
            <a:avLst>
              <a:gd name="adj1" fmla="val 50000"/>
              <a:gd name="adj2" fmla="val 398940"/>
            </a:avLst>
          </a:prstGeom>
          <a:solidFill>
            <a:srgbClr val="0000ff"/>
          </a:solidFill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AutoShape 30"/>
          <p:cNvSpPr/>
          <p:nvPr/>
        </p:nvSpPr>
        <p:spPr>
          <a:xfrm>
            <a:off x="6300720" y="1989000"/>
            <a:ext cx="144360" cy="792360"/>
          </a:xfrm>
          <a:prstGeom prst="downArrow">
            <a:avLst>
              <a:gd name="adj1" fmla="val 50000"/>
              <a:gd name="adj2" fmla="val 137219"/>
            </a:avLst>
          </a:prstGeom>
          <a:solidFill>
            <a:srgbClr val="0000ff"/>
          </a:solidFill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AutoShape 31"/>
          <p:cNvSpPr/>
          <p:nvPr/>
        </p:nvSpPr>
        <p:spPr>
          <a:xfrm>
            <a:off x="7667640" y="1989000"/>
            <a:ext cx="144360" cy="2592360"/>
          </a:xfrm>
          <a:prstGeom prst="downArrow">
            <a:avLst>
              <a:gd name="adj1" fmla="val 50000"/>
              <a:gd name="adj2" fmla="val 448940"/>
            </a:avLst>
          </a:prstGeom>
          <a:solidFill>
            <a:srgbClr val="0000ff"/>
          </a:solidFill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Text Box 32"/>
          <p:cNvSpPr/>
          <p:nvPr/>
        </p:nvSpPr>
        <p:spPr>
          <a:xfrm>
            <a:off x="250920" y="2781360"/>
            <a:ext cx="1944720" cy="13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ahoma"/>
              </a:rPr>
              <a:t>Программа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ahoma"/>
              </a:rPr>
              <a:t>С. Г. и В. И. Ашиковых «Семицветик</a:t>
            </a:r>
            <a:r>
              <a:rPr b="1" lang="ru-RU" sz="1400" spc="-1" strike="noStrike">
                <a:solidFill>
                  <a:srgbClr val="0000ff"/>
                </a:solidFill>
                <a:latin typeface="Tahoma"/>
              </a:rPr>
              <a:t>»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Text Box 33"/>
          <p:cNvSpPr/>
          <p:nvPr/>
        </p:nvSpPr>
        <p:spPr>
          <a:xfrm>
            <a:off x="1476360" y="4437000"/>
            <a:ext cx="22320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Программа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Н. А. Рыжовой «Наш дом – природа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Text Box 34"/>
          <p:cNvSpPr/>
          <p:nvPr/>
        </p:nvSpPr>
        <p:spPr>
          <a:xfrm>
            <a:off x="2556000" y="2781360"/>
            <a:ext cx="24476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Программа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С. Н. Николаевой «Юный эколог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Text Box 35"/>
          <p:cNvSpPr/>
          <p:nvPr/>
        </p:nvSpPr>
        <p:spPr>
          <a:xfrm>
            <a:off x="4067280" y="4508640"/>
            <a:ext cx="20174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Программа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А. Вересова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«Мы земляне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Text Box 36"/>
          <p:cNvSpPr/>
          <p:nvPr/>
        </p:nvSpPr>
        <p:spPr>
          <a:xfrm>
            <a:off x="5219640" y="2852640"/>
            <a:ext cx="2232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ahoma"/>
              </a:rPr>
              <a:t>Программа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ahoma"/>
              </a:rPr>
              <a:t>Ж. Л. Васякиной «Паутинка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Text Box 37"/>
          <p:cNvSpPr/>
          <p:nvPr/>
        </p:nvSpPr>
        <p:spPr>
          <a:xfrm>
            <a:off x="6696000" y="4581360"/>
            <a:ext cx="24480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ahoma"/>
              </a:rPr>
              <a:t>Программ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Tahoma"/>
              </a:rPr>
              <a:t>Т. А. Копцевой «Природа и художник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split dir="out" orient="vert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3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30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2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2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2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2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9280" y="1484280"/>
            <a:ext cx="8964720" cy="338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481"/>
                </a:solidFill>
                <a:latin typeface="Tahoma"/>
              </a:rPr>
              <a:t>Тема.</a:t>
            </a:r>
            <a:br>
              <a:rPr sz="4400"/>
            </a:br>
            <a:r>
              <a:rPr b="0" i="1" lang="en-US" sz="4400" spc="-1" strike="noStrike">
                <a:solidFill>
                  <a:srgbClr val="ffcc00"/>
                </a:solidFill>
                <a:latin typeface="Tahoma"/>
              </a:rPr>
              <a:t>«Формирование познавательной активности через экологическое воспитание»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7" name="Рисунок 1" descr=""/>
          <p:cNvPicPr/>
          <p:nvPr/>
        </p:nvPicPr>
        <p:blipFill>
          <a:blip r:embed="rId2"/>
          <a:stretch/>
        </p:blipFill>
        <p:spPr>
          <a:xfrm>
            <a:off x="0" y="-2844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8" name="Схема 2" descr=""/>
          <p:cNvPicPr/>
          <p:nvPr/>
        </p:nvPicPr>
        <p:blipFill>
          <a:blip r:embed="rId3"/>
          <a:stretch/>
        </p:blipFill>
        <p:spPr>
          <a:xfrm>
            <a:off x="139680" y="12600"/>
            <a:ext cx="9034560" cy="60962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0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9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9280" y="1484280"/>
            <a:ext cx="8964720" cy="338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481"/>
                </a:solidFill>
                <a:latin typeface="Tahoma"/>
              </a:rPr>
              <a:t>Тема.</a:t>
            </a:r>
            <a:br>
              <a:rPr sz="4400"/>
            </a:br>
            <a:r>
              <a:rPr b="0" i="1" lang="en-US" sz="4400" spc="-1" strike="noStrike">
                <a:solidFill>
                  <a:srgbClr val="ffcc00"/>
                </a:solidFill>
                <a:latin typeface="Tahoma"/>
              </a:rPr>
              <a:t>«Формирование познавательной активности через экологическое воспитание»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0" name="Рисунок 1" descr=""/>
          <p:cNvPicPr/>
          <p:nvPr/>
        </p:nvPicPr>
        <p:blipFill>
          <a:blip r:embed="rId2"/>
          <a:stretch/>
        </p:blipFill>
        <p:spPr>
          <a:xfrm>
            <a:off x="-163440" y="-560520"/>
            <a:ext cx="9388440" cy="7388280"/>
          </a:xfrm>
          <a:prstGeom prst="rect">
            <a:avLst/>
          </a:prstGeom>
          <a:ln w="0">
            <a:noFill/>
          </a:ln>
        </p:spPr>
      </p:pic>
      <p:sp>
        <p:nvSpPr>
          <p:cNvPr id="101" name="Прямоугольник 1"/>
          <p:cNvSpPr/>
          <p:nvPr/>
        </p:nvSpPr>
        <p:spPr>
          <a:xfrm>
            <a:off x="1561680" y="0"/>
            <a:ext cx="508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ahoma"/>
              </a:rPr>
              <a:t>      </a:t>
            </a:r>
            <a:r>
              <a:rPr b="1" lang="en-US" sz="4000" spc="-1" strike="noStrike">
                <a:solidFill>
                  <a:srgbClr val="c00000"/>
                </a:solidFill>
                <a:latin typeface="Tahoma"/>
              </a:rPr>
              <a:t>Новизна опыт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Овал 4"/>
          <p:cNvSpPr/>
          <p:nvPr/>
        </p:nvSpPr>
        <p:spPr>
          <a:xfrm>
            <a:off x="3564000" y="2276640"/>
            <a:ext cx="1871640" cy="1714320"/>
          </a:xfrm>
          <a:prstGeom prst="ellipse">
            <a:avLst/>
          </a:prstGeom>
          <a:solidFill>
            <a:srgbClr val="d1e0f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Tahoma"/>
              </a:rPr>
              <a:t>Экологическое воспитани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Овал 9"/>
          <p:cNvSpPr/>
          <p:nvPr/>
        </p:nvSpPr>
        <p:spPr>
          <a:xfrm>
            <a:off x="3203640" y="692280"/>
            <a:ext cx="2630520" cy="1004760"/>
          </a:xfrm>
          <a:prstGeom prst="ellipse">
            <a:avLst/>
          </a:prstGeom>
          <a:solidFill>
            <a:srgbClr val="d1e0f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Tahoma"/>
              </a:rPr>
              <a:t>Интегрированное образовани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Овал 11"/>
          <p:cNvSpPr/>
          <p:nvPr/>
        </p:nvSpPr>
        <p:spPr>
          <a:xfrm>
            <a:off x="3276720" y="4653000"/>
            <a:ext cx="2447640" cy="1004760"/>
          </a:xfrm>
          <a:prstGeom prst="ellipse">
            <a:avLst/>
          </a:prstGeom>
          <a:solidFill>
            <a:srgbClr val="d1e0f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Tahoma"/>
              </a:rPr>
              <a:t>Метод проектирования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Овал 12"/>
          <p:cNvSpPr/>
          <p:nvPr/>
        </p:nvSpPr>
        <p:spPr>
          <a:xfrm>
            <a:off x="6156360" y="2492280"/>
            <a:ext cx="2663640" cy="1308240"/>
          </a:xfrm>
          <a:prstGeom prst="ellipse">
            <a:avLst/>
          </a:prstGeom>
          <a:solidFill>
            <a:srgbClr val="d1e0f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Tahoma"/>
              </a:rPr>
              <a:t>Комплексно-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Tahoma"/>
              </a:rPr>
              <a:t>тематическо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Tahoma"/>
              </a:rPr>
              <a:t>построени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Tahoma"/>
              </a:rPr>
              <a:t>образовательного процесс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Овал 13"/>
          <p:cNvSpPr/>
          <p:nvPr/>
        </p:nvSpPr>
        <p:spPr>
          <a:xfrm>
            <a:off x="179280" y="2492280"/>
            <a:ext cx="2592360" cy="1381320"/>
          </a:xfrm>
          <a:prstGeom prst="ellipse">
            <a:avLst/>
          </a:prstGeom>
          <a:solidFill>
            <a:srgbClr val="d1e0f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Tahoma"/>
              </a:rPr>
              <a:t>Совместная деятельность и самостоятельная деятельность в режимных моментах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Стрелка вниз 6" descr=""/>
          <p:cNvPicPr/>
          <p:nvPr/>
        </p:nvPicPr>
        <p:blipFill>
          <a:blip r:embed="rId3"/>
          <a:stretch/>
        </p:blipFill>
        <p:spPr>
          <a:xfrm>
            <a:off x="4359240" y="4078440"/>
            <a:ext cx="176400" cy="500040"/>
          </a:xfrm>
          <a:prstGeom prst="rect">
            <a:avLst/>
          </a:prstGeom>
          <a:ln w="0">
            <a:noFill/>
          </a:ln>
        </p:spPr>
      </p:pic>
      <p:pic>
        <p:nvPicPr>
          <p:cNvPr id="108" name="Стрелка вниз 19" descr=""/>
          <p:cNvPicPr/>
          <p:nvPr/>
        </p:nvPicPr>
        <p:blipFill>
          <a:blip r:embed="rId4"/>
          <a:stretch/>
        </p:blipFill>
        <p:spPr>
          <a:xfrm>
            <a:off x="2914560" y="3071880"/>
            <a:ext cx="505080" cy="177840"/>
          </a:xfrm>
          <a:prstGeom prst="rect">
            <a:avLst/>
          </a:prstGeom>
          <a:ln w="0">
            <a:noFill/>
          </a:ln>
        </p:spPr>
      </p:pic>
      <p:pic>
        <p:nvPicPr>
          <p:cNvPr id="109" name="Стрелка вправо 15" descr=""/>
          <p:cNvPicPr/>
          <p:nvPr/>
        </p:nvPicPr>
        <p:blipFill>
          <a:blip r:embed="rId5"/>
          <a:stretch/>
        </p:blipFill>
        <p:spPr>
          <a:xfrm>
            <a:off x="5505480" y="3067200"/>
            <a:ext cx="511200" cy="156960"/>
          </a:xfrm>
          <a:prstGeom prst="rect">
            <a:avLst/>
          </a:prstGeom>
          <a:ln w="0">
            <a:noFill/>
          </a:ln>
        </p:spPr>
      </p:pic>
      <p:sp>
        <p:nvSpPr>
          <p:cNvPr id="110" name="AutoShape 27"/>
          <p:cNvSpPr/>
          <p:nvPr/>
        </p:nvSpPr>
        <p:spPr>
          <a:xfrm>
            <a:off x="446040" y="5013360"/>
            <a:ext cx="525600" cy="1584360"/>
          </a:xfrm>
          <a:custGeom>
            <a:avLst/>
            <a:gdLst>
              <a:gd name="textAreaLeft" fmla="*/ 70200 w 525600"/>
              <a:gd name="textAreaRight" fmla="*/ 455400 w 525600"/>
              <a:gd name="textAreaTop" fmla="*/ 219600 h 1584360"/>
              <a:gd name="textAreaBottom" fmla="*/ 112968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5994" stAng="-5400000" swAng="-5400000"/>
                <a:lnTo>
                  <a:pt x="0" y="12403"/>
                </a:lnTo>
                <a:arcTo wR="21600" hR="5994" stAng="10800000" swAng="-2287538"/>
                <a:lnTo>
                  <a:pt x="14400" y="21257"/>
                </a:lnTo>
                <a:lnTo>
                  <a:pt x="21600" y="15192"/>
                </a:lnTo>
                <a:lnTo>
                  <a:pt x="14400" y="8440"/>
                </a:lnTo>
                <a:lnTo>
                  <a:pt x="14400" y="11644"/>
                </a:lnTo>
                <a:arcTo wR="21600" hR="5994" stAng="8512462" swAng="1690109"/>
                <a:lnTo>
                  <a:pt x="3347" y="9198"/>
                </a:lnTo>
                <a:arcTo wR="21600" hR="5994" stAng="-10202570" swAng="4802570"/>
                <a:close/>
              </a:path>
              <a:path fill="darkenLess" w="21600" h="21600">
                <a:moveTo>
                  <a:pt x="21600" y="0"/>
                </a:moveTo>
                <a:arcTo wR="21600" hR="5994" stAng="-5400000" swAng="-5400000"/>
                <a:lnTo>
                  <a:pt x="0" y="5994"/>
                </a:lnTo>
                <a:arcTo wR="21600" hR="5994" stAng="10800000" swAng="-597430"/>
                <a:lnTo>
                  <a:pt x="3347" y="9198"/>
                </a:lnTo>
                <a:arcTo wR="21600" hR="5994" stAng="-10202570" swAng="4802570"/>
                <a:close/>
              </a:path>
            </a:pathLst>
          </a:custGeom>
          <a:solidFill>
            <a:srgbClr val="ff66cc"/>
          </a:solidFill>
          <a:ln w="9360">
            <a:solidFill>
              <a:srgbClr val="2b5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AutoShape 28"/>
          <p:cNvSpPr/>
          <p:nvPr/>
        </p:nvSpPr>
        <p:spPr>
          <a:xfrm>
            <a:off x="7885080" y="5013360"/>
            <a:ext cx="574560" cy="1481040"/>
          </a:xfrm>
          <a:custGeom>
            <a:avLst/>
            <a:gdLst>
              <a:gd name="textAreaLeft" fmla="*/ 76680 w 574560"/>
              <a:gd name="textAreaRight" fmla="*/ 497880 w 574560"/>
              <a:gd name="textAreaTop" fmla="*/ 194760 h 1481040"/>
              <a:gd name="textAreaBottom" fmla="*/ 1052280 h 1481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5688" stAng="-5400000" swAng="5400000"/>
                <a:lnTo>
                  <a:pt x="21600" y="12504"/>
                </a:lnTo>
                <a:arcTo wR="21600" hR="5688" stAng="0" swAng="2200767"/>
                <a:lnTo>
                  <a:pt x="7200" y="21275"/>
                </a:lnTo>
                <a:lnTo>
                  <a:pt x="0" y="14784"/>
                </a:lnTo>
                <a:lnTo>
                  <a:pt x="7200" y="7643"/>
                </a:lnTo>
                <a:lnTo>
                  <a:pt x="7200" y="11051"/>
                </a:lnTo>
                <a:arcTo wR="21600" hR="5688" stAng="2200767" swAng="-1531873"/>
                <a:lnTo>
                  <a:pt x="17294" y="9096"/>
                </a:lnTo>
                <a:arcTo wR="21600" hR="5688" stAng="-668894" swAng="-4731106"/>
                <a:close/>
              </a:path>
              <a:path fill="darkenLess" w="21600" h="21600">
                <a:moveTo>
                  <a:pt x="0" y="0"/>
                </a:moveTo>
                <a:arcTo wR="21600" hR="5688" stAng="-5400000" swAng="5400000"/>
                <a:lnTo>
                  <a:pt x="21600" y="12504"/>
                </a:lnTo>
                <a:arcTo wR="21600" hR="5688" stAng="0" swAng="-668894"/>
                <a:lnTo>
                  <a:pt x="17294" y="9096"/>
                </a:lnTo>
                <a:arcTo wR="21600" hR="5688" stAng="-668894" swAng="-4731106"/>
                <a:close/>
              </a:path>
            </a:pathLst>
          </a:custGeom>
          <a:solidFill>
            <a:srgbClr val="ff66cc"/>
          </a:solidFill>
          <a:ln w="9360">
            <a:solidFill>
              <a:srgbClr val="2b5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Прямоугольник 22"/>
          <p:cNvSpPr/>
          <p:nvPr/>
        </p:nvSpPr>
        <p:spPr>
          <a:xfrm>
            <a:off x="971640" y="5734080"/>
            <a:ext cx="720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Стимулирование познавательной активност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Стрелка вниз 23" descr=""/>
          <p:cNvPicPr/>
          <p:nvPr/>
        </p:nvPicPr>
        <p:blipFill>
          <a:blip r:embed="rId6"/>
          <a:stretch/>
        </p:blipFill>
        <p:spPr>
          <a:xfrm>
            <a:off x="4359240" y="1773360"/>
            <a:ext cx="193680" cy="5061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0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6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7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8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9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9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0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31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4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6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79280" y="1484280"/>
            <a:ext cx="8964720" cy="338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481"/>
                </a:solidFill>
                <a:latin typeface="Tahoma"/>
              </a:rPr>
              <a:t>Тема.</a:t>
            </a:r>
            <a:br>
              <a:rPr sz="4400"/>
            </a:br>
            <a:r>
              <a:rPr b="0" i="1" lang="en-US" sz="4400" spc="-1" strike="noStrike">
                <a:solidFill>
                  <a:srgbClr val="ffcc00"/>
                </a:solidFill>
                <a:latin typeface="Tahoma"/>
              </a:rPr>
              <a:t>«Формирование познавательной активности через экологическое воспитание»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5" name="Рисунок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AutoShape 32"/>
          <p:cNvSpPr/>
          <p:nvPr/>
        </p:nvSpPr>
        <p:spPr>
          <a:xfrm rot="11840400">
            <a:off x="841320" y="1622520"/>
            <a:ext cx="658800" cy="2487600"/>
          </a:xfrm>
          <a:custGeom>
            <a:avLst/>
            <a:gdLst>
              <a:gd name="textAreaLeft" fmla="*/ 88200 w 658800"/>
              <a:gd name="textAreaRight" fmla="*/ 570600 w 658800"/>
              <a:gd name="textAreaTop" fmla="*/ 503280 h 2487600"/>
              <a:gd name="textAreaBottom" fmla="*/ 1826280 h 2487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740" stAng="-5400000" swAng="5400000"/>
                <a:lnTo>
                  <a:pt x="21600" y="11487"/>
                </a:lnTo>
                <a:arcTo wR="21600" hR="8740" stAng="0" swAng="2931143"/>
                <a:lnTo>
                  <a:pt x="7200" y="21100"/>
                </a:lnTo>
                <a:lnTo>
                  <a:pt x="0" y="18853"/>
                </a:lnTo>
                <a:lnTo>
                  <a:pt x="7200" y="15605"/>
                </a:lnTo>
                <a:lnTo>
                  <a:pt x="7200" y="16979"/>
                </a:lnTo>
                <a:arcTo wR="21600" hR="8740" stAng="2931143" swAng="-2710098"/>
                <a:lnTo>
                  <a:pt x="21332" y="10113"/>
                </a:lnTo>
                <a:arcTo wR="21600" hR="8740" stAng="-221045" swAng="-5178955"/>
                <a:close/>
              </a:path>
              <a:path fill="darkenLess" w="21600" h="21600">
                <a:moveTo>
                  <a:pt x="0" y="0"/>
                </a:moveTo>
                <a:arcTo wR="21600" hR="8740" stAng="-5400000" swAng="5400000"/>
                <a:lnTo>
                  <a:pt x="21600" y="11487"/>
                </a:lnTo>
                <a:arcTo wR="21600" hR="8740" stAng="0" swAng="-221045"/>
                <a:lnTo>
                  <a:pt x="21332" y="10113"/>
                </a:lnTo>
                <a:arcTo wR="21600" hR="8740" stAng="-221045" swAng="-517895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TextBox 1"/>
          <p:cNvSpPr/>
          <p:nvPr/>
        </p:nvSpPr>
        <p:spPr>
          <a:xfrm>
            <a:off x="1670040" y="209520"/>
            <a:ext cx="598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Технология опыт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TextBox 2"/>
          <p:cNvSpPr/>
          <p:nvPr/>
        </p:nvSpPr>
        <p:spPr>
          <a:xfrm>
            <a:off x="1722600" y="1389240"/>
            <a:ext cx="231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Tahoma"/>
              </a:rPr>
              <a:t>интегрированная образовательная деятельност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TextBox 5"/>
          <p:cNvSpPr/>
          <p:nvPr/>
        </p:nvSpPr>
        <p:spPr>
          <a:xfrm>
            <a:off x="5694480" y="185112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Tahoma"/>
              </a:rPr>
              <a:t>экскурси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TextBox 6"/>
          <p:cNvSpPr/>
          <p:nvPr/>
        </p:nvSpPr>
        <p:spPr>
          <a:xfrm>
            <a:off x="5969160" y="404172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Tahoma"/>
              </a:rPr>
              <a:t>природоохранная деятельност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TextBox 7"/>
          <p:cNvSpPr/>
          <p:nvPr/>
        </p:nvSpPr>
        <p:spPr>
          <a:xfrm>
            <a:off x="3708360" y="5084640"/>
            <a:ext cx="25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Tahoma"/>
              </a:rPr>
              <a:t>сюжетно-ролевые игр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TextBox 8"/>
          <p:cNvSpPr/>
          <p:nvPr/>
        </p:nvSpPr>
        <p:spPr>
          <a:xfrm>
            <a:off x="1116000" y="3903840"/>
            <a:ext cx="194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Tahoma"/>
              </a:rPr>
              <a:t>игровые обучающие ситуаци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AutoShape 32"/>
          <p:cNvSpPr/>
          <p:nvPr/>
        </p:nvSpPr>
        <p:spPr>
          <a:xfrm rot="3299400">
            <a:off x="6248520" y="4487400"/>
            <a:ext cx="658800" cy="2487600"/>
          </a:xfrm>
          <a:custGeom>
            <a:avLst/>
            <a:gdLst>
              <a:gd name="textAreaLeft" fmla="*/ 88200 w 658800"/>
              <a:gd name="textAreaRight" fmla="*/ 570600 w 658800"/>
              <a:gd name="textAreaTop" fmla="*/ 503280 h 2487600"/>
              <a:gd name="textAreaBottom" fmla="*/ 1826280 h 2487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740" stAng="-5400000" swAng="5400000"/>
                <a:lnTo>
                  <a:pt x="21600" y="11487"/>
                </a:lnTo>
                <a:arcTo wR="21600" hR="8740" stAng="0" swAng="2931143"/>
                <a:lnTo>
                  <a:pt x="7200" y="21100"/>
                </a:lnTo>
                <a:lnTo>
                  <a:pt x="0" y="18853"/>
                </a:lnTo>
                <a:lnTo>
                  <a:pt x="7200" y="15605"/>
                </a:lnTo>
                <a:lnTo>
                  <a:pt x="7200" y="16979"/>
                </a:lnTo>
                <a:arcTo wR="21600" hR="8740" stAng="2931143" swAng="-2710098"/>
                <a:lnTo>
                  <a:pt x="21332" y="10113"/>
                </a:lnTo>
                <a:arcTo wR="21600" hR="8740" stAng="-221045" swAng="-5178955"/>
                <a:close/>
              </a:path>
              <a:path fill="darkenLess" w="21600" h="21600">
                <a:moveTo>
                  <a:pt x="0" y="0"/>
                </a:moveTo>
                <a:arcTo wR="21600" hR="8740" stAng="-5400000" swAng="5400000"/>
                <a:lnTo>
                  <a:pt x="21600" y="11487"/>
                </a:lnTo>
                <a:arcTo wR="21600" hR="8740" stAng="0" swAng="-221045"/>
                <a:lnTo>
                  <a:pt x="21332" y="10113"/>
                </a:lnTo>
                <a:arcTo wR="21600" hR="8740" stAng="-221045" swAng="-517895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AutoShape 32"/>
          <p:cNvSpPr/>
          <p:nvPr/>
        </p:nvSpPr>
        <p:spPr>
          <a:xfrm rot="20971800">
            <a:off x="8040240" y="2077560"/>
            <a:ext cx="658800" cy="2171880"/>
          </a:xfrm>
          <a:custGeom>
            <a:avLst/>
            <a:gdLst>
              <a:gd name="textAreaLeft" fmla="*/ 88200 w 658800"/>
              <a:gd name="textAreaRight" fmla="*/ 570600 w 658800"/>
              <a:gd name="textAreaTop" fmla="*/ 424080 h 2171880"/>
              <a:gd name="textAreaBottom" fmla="*/ 1589400 h 217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440" stAng="-5400000" swAng="5400000"/>
                <a:lnTo>
                  <a:pt x="21600" y="11587"/>
                </a:lnTo>
                <a:arcTo wR="21600" hR="8440" stAng="0" swAng="2871517"/>
                <a:lnTo>
                  <a:pt x="7200" y="21117"/>
                </a:lnTo>
                <a:lnTo>
                  <a:pt x="0" y="18453"/>
                </a:lnTo>
                <a:lnTo>
                  <a:pt x="7200" y="14822"/>
                </a:lnTo>
                <a:lnTo>
                  <a:pt x="7200" y="16396"/>
                </a:lnTo>
                <a:arcTo wR="21600" hR="8440" stAng="2871517" swAng="-2617083"/>
                <a:lnTo>
                  <a:pt x="21221" y="10013"/>
                </a:lnTo>
                <a:arcTo wR="21600" hR="8440" stAng="-254434" swAng="-5145566"/>
                <a:close/>
              </a:path>
              <a:path fill="darkenLess" w="21600" h="21600">
                <a:moveTo>
                  <a:pt x="0" y="0"/>
                </a:moveTo>
                <a:arcTo wR="21600" hR="8440" stAng="-5400000" swAng="5400000"/>
                <a:lnTo>
                  <a:pt x="21600" y="11587"/>
                </a:lnTo>
                <a:arcTo wR="21600" hR="8440" stAng="0" swAng="-254434"/>
                <a:lnTo>
                  <a:pt x="21221" y="10013"/>
                </a:lnTo>
                <a:arcTo wR="21600" hR="8440" stAng="-254434" swAng="-5145566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AutoShape 32"/>
          <p:cNvSpPr/>
          <p:nvPr/>
        </p:nvSpPr>
        <p:spPr>
          <a:xfrm rot="16483200">
            <a:off x="4903560" y="-178200"/>
            <a:ext cx="655560" cy="2725920"/>
          </a:xfrm>
          <a:custGeom>
            <a:avLst/>
            <a:gdLst>
              <a:gd name="textAreaLeft" fmla="*/ 87840 w 655560"/>
              <a:gd name="textAreaRight" fmla="*/ 567720 w 655560"/>
              <a:gd name="textAreaTop" fmla="*/ 563040 h 2725920"/>
              <a:gd name="textAreaBottom" fmla="*/ 2005200 h 2725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928" stAng="-5400000" swAng="5400000"/>
                <a:lnTo>
                  <a:pt x="21600" y="11425"/>
                </a:lnTo>
                <a:arcTo wR="21600" hR="8928" stAng="0" swAng="2967341"/>
                <a:lnTo>
                  <a:pt x="7200" y="21089"/>
                </a:lnTo>
                <a:lnTo>
                  <a:pt x="0" y="19104"/>
                </a:lnTo>
                <a:lnTo>
                  <a:pt x="7200" y="16096"/>
                </a:lnTo>
                <a:lnTo>
                  <a:pt x="7200" y="17344"/>
                </a:lnTo>
                <a:arcTo wR="21600" hR="8928" stAng="2967341" swAng="-2766892"/>
                <a:lnTo>
                  <a:pt x="21388" y="10176"/>
                </a:lnTo>
                <a:arcTo wR="21600" hR="8928" stAng="-200450" swAng="-5199550"/>
                <a:close/>
              </a:path>
              <a:path fill="darkenLess" w="21600" h="21600">
                <a:moveTo>
                  <a:pt x="0" y="0"/>
                </a:moveTo>
                <a:arcTo wR="21600" hR="8928" stAng="-5400000" swAng="5400000"/>
                <a:lnTo>
                  <a:pt x="21600" y="11425"/>
                </a:lnTo>
                <a:arcTo wR="21600" hR="8928" stAng="0" swAng="-200450"/>
                <a:lnTo>
                  <a:pt x="21388" y="10176"/>
                </a:lnTo>
                <a:arcTo wR="21600" hR="8928" stAng="-200450" swAng="-5199550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AutoShape 32"/>
          <p:cNvSpPr/>
          <p:nvPr/>
        </p:nvSpPr>
        <p:spPr>
          <a:xfrm rot="7162800">
            <a:off x="2463840" y="4573440"/>
            <a:ext cx="658800" cy="2487600"/>
          </a:xfrm>
          <a:custGeom>
            <a:avLst/>
            <a:gdLst>
              <a:gd name="textAreaLeft" fmla="*/ 88200 w 658800"/>
              <a:gd name="textAreaRight" fmla="*/ 570600 w 658800"/>
              <a:gd name="textAreaTop" fmla="*/ 503280 h 2487600"/>
              <a:gd name="textAreaBottom" fmla="*/ 1826280 h 2487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740" stAng="-5400000" swAng="5400000"/>
                <a:lnTo>
                  <a:pt x="21600" y="11487"/>
                </a:lnTo>
                <a:arcTo wR="21600" hR="8740" stAng="0" swAng="2931143"/>
                <a:lnTo>
                  <a:pt x="7200" y="21100"/>
                </a:lnTo>
                <a:lnTo>
                  <a:pt x="0" y="18853"/>
                </a:lnTo>
                <a:lnTo>
                  <a:pt x="7200" y="15605"/>
                </a:lnTo>
                <a:lnTo>
                  <a:pt x="7200" y="16979"/>
                </a:lnTo>
                <a:arcTo wR="21600" hR="8740" stAng="2931143" swAng="-2710098"/>
                <a:lnTo>
                  <a:pt x="21332" y="10113"/>
                </a:lnTo>
                <a:arcTo wR="21600" hR="8740" stAng="-221045" swAng="-5178955"/>
                <a:close/>
              </a:path>
              <a:path fill="darkenLess" w="21600" h="21600">
                <a:moveTo>
                  <a:pt x="0" y="0"/>
                </a:moveTo>
                <a:arcTo wR="21600" hR="8740" stAng="-5400000" swAng="5400000"/>
                <a:lnTo>
                  <a:pt x="21600" y="11487"/>
                </a:lnTo>
                <a:arcTo wR="21600" hR="8740" stAng="0" swAng="-221045"/>
                <a:lnTo>
                  <a:pt x="21332" y="10113"/>
                </a:lnTo>
                <a:arcTo wR="21600" hR="8740" stAng="-221045" swAng="-517895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split dir="out" orient="vert"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0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5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3" nodeType="after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8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52" nodeType="after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57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9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61" nodeType="after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66" nodeType="after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70" nodeType="after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75" nodeType="after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7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379" nodeType="after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384" nodeType="after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6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6T09:38:34Z</dcterms:created>
  <dc:creator>Admin</dc:creator>
  <dc:description/>
  <dc:language>en-US</dc:language>
  <cp:lastModifiedBy>Kolya</cp:lastModifiedBy>
  <dcterms:modified xsi:type="dcterms:W3CDTF">2012-10-27T13:29:42Z</dcterms:modified>
  <cp:revision>90</cp:revision>
  <dc:subject/>
  <dc:title>Презентация.</dc:title>
</cp:coreProperties>
</file>