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9D3E-3FB5-48D3-BD55-E6AFDD8A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3C3E-26E7-467A-A0D8-63BEE214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F52E93-B155-48C6-9DB3-0F284ADA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AE9812-7E21-4F65-979D-BE93FAB7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ADD385-4E6D-4D9D-8678-964EC017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A13281-3370-425A-908E-CC4DF5DD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40F751-91ED-4663-9AFD-61CF095A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DDB582-6061-4DFB-8CC0-5654E0FB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BFAED0-7236-4C3B-A39B-DF1F2AB9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E2BCDE-29A3-4B56-A51C-813A9A32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BBA6F5-AAA9-42A5-A4A0-7BF92DBF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F213B-E67D-4287-8445-C6AB08D3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9AA-CC26-4D29-8FBB-AAE790FA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122DF-9425-49BA-8ED5-9418EAF8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3B555-4D0B-4F5F-B6B3-400E1C7E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62F32-14A7-466E-963B-38F9BFC3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47BBC-53AB-4161-892F-27F07279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26F04-7420-48D2-801D-26FE141E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96BDE-40FF-4366-8771-3C6F54CB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6C349-60E8-422E-900D-CD6A3E89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18B64-002E-456D-A550-4150255B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B62F1-D309-4D34-8BC8-DDDC3E7D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C0E74-C0C4-4033-8B18-00B78B5A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366-86F2-4028-BE86-99F3692A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6A8FC-104A-4111-A75E-ECDF74EB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402BB-FBA6-40CC-AF2F-88F70618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C9C64-D447-4FFD-B8A2-4CA11D0A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6C274-FEA1-4A72-8AD0-AF4A1F7D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84816-743A-426E-979E-2C67A751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DFD81-3F8B-41D5-9E61-6F61AE87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D9960-421A-4610-AB85-33678678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70A5D-4D7F-424A-89F6-7F374B05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A3964-EBB3-4990-B9CE-52866DA0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8E68C-0ED8-4E4E-AAAE-5484F748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8E70-2639-4AF2-BEBC-1E4AB826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1BB8F-C88D-49A6-9557-1194ACBA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6A544-6244-4D16-AAC8-44A05F83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A4A66-684C-4537-883C-F47A2FBA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55683-E9EA-4DF3-B0DD-27E614F6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50CBA-830A-4CCF-BDCF-30DDBFDA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BD8CF-3D39-4EB9-B3E4-ED9A75E2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2F7A3-E2FE-437A-A87F-7944FAA0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F8CF0-C0E9-482F-87FB-B0A2276C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D675F-64B1-4226-95E5-21204B5C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FD929-C766-47F9-887F-EDF5DB95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0AE9-A159-4198-A9E8-C07482F2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79C20-DE19-434F-9EC1-6E94B5DD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20561-7B10-431A-9BC2-847F7630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DDC7D-A821-4B84-B90B-8E5814B7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C2269-90A4-421A-8A57-BFBB5827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4EAAD-229C-41B7-BEE1-9EF214F8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EC628-A6EE-47D9-8E70-644A441C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749A9A-6A88-4509-8F6A-0BD6D9B9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303FC-36EA-4FE9-BC01-01A6C80C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6E36F-CB78-4667-9263-25B0E8D2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A6C72-FB15-43F2-8BF8-CE07416E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CCDC-340D-4B68-8C63-FA68167F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26E3E-B1BF-4334-B6CF-F76F8F30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05570-5182-48F3-BFB1-CCF001D9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07D7E-A6C7-42BD-A6E8-604EB9C5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36B5BE-3FC9-4C84-A9F3-9F427180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B63D2-F617-450F-9953-989A574F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65142-DDEF-429A-AF8A-980A3F64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C9622-B58B-4F12-A304-DFDEB26F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08932A-1174-4006-92E7-3024C170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76C29-0331-412A-9D65-307605EB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73AFF6-3F4F-4999-A1C4-F991C407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F716-1CF3-4439-9318-9FC1B49F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15593-7DE0-4670-977C-7B96CD3E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A054C-1EF0-4314-A867-963F7570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A2B19-AF5E-4AFB-8A7C-89B6D18E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C4D94-584B-4BAE-BAAF-D148AA45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BC30E0-FF5E-403F-9FD4-1ECC3D7C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DE9C9-6A98-40A1-ACDD-06443D30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C5CA78-1660-4B42-85B3-36107238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9BE16-804C-4B0E-8ED4-0ABA8242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8B188-8534-44D0-A536-8AA0AD6B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1151-1C2B-4B5E-9A84-8B7D30CE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F72E-1A03-4D56-A4D9-A0265393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5AE6-EFFC-4B7E-9763-03499A91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EB3-9EBC-4618-8384-17AA37A8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D117-3D45-4316-9944-FBE79AA1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9650-5338-49DE-B753-ED58BE42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A068-2F5E-4FEE-BE33-EFF026E4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38F7-CE14-4BC9-B38B-E254B4D1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D353-4062-4F26-8ECA-4FE781FA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72AA6-696A-4126-95C0-D6A53033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F7986-0DEE-49EE-8865-1023D5D5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D941-EDDA-4231-ACC4-D1A6B3E3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453E7-5117-48E7-820D-FF953614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D8B16-F61F-481C-B693-DB1FB3BC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767-3A9E-41EA-A78F-B7BABA66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5C07B-045C-489D-B14B-F77103AC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5F681-119E-4BC8-B45F-7CAF0065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0C413-16AD-4EA8-BAB3-48987BCA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0598-CB8A-4D20-988D-3B01D286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DA783-B9B6-4E8F-9F4C-B51B9B7E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5B772-B819-4281-BD2A-832282E3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F2A6C-305E-4C3B-9A98-D3D63579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98522-9A48-4854-B3E3-45D4C61B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5FADE-BF66-4512-B233-645F23F9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EC2CD-8241-4853-AEDC-7E84C37D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3C9-7EE1-4FAE-8DF2-FF1FB4F4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050D9-7885-4F1E-8B3E-29976C57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A1530-0DB4-462E-8F0E-BB7B3CC5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EDA75-9B45-41CF-A4CD-5861EB43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DD67D-099E-4513-A78F-2CDF1F1A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8B238-E34C-4FDF-A9CA-A8122546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5D856-7639-4228-9EA8-41F0EEC6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4F8D4-9A81-4121-AA88-392D233C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BE62-843B-4547-9E35-D30CE5AB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18BE2-5854-4895-9E37-8A093B50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11D74-5CD8-403E-AC91-3298DC2A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0FC-00BA-4095-916C-E135D47C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27562-3B3A-4626-A092-DFEA8A4B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A4F9D0-1562-4B82-B80C-DE74A00E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5CFBD-93B9-4E14-933B-1CFB2D88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FABE5-2110-46FA-A0D3-E3174C84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25B9C-4719-49E9-9DF2-9EF7673C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33C42-EFAD-4D56-89E8-9570D539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B4979F-A5C9-4B7F-B519-9A65593B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1CCCB-D18A-43D9-8A32-B97FA4ED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33CF1-0EA1-491E-800F-95B61F40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E3135-6070-4DA4-9C91-979FB926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23D-23F6-4BB7-AB02-98604E56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4B774-687F-4C76-8FDC-11A51A2E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4A7E9-929D-4116-A1F0-65635EAC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B3F28-2213-4453-BB8C-A4C74323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31291-DCD8-4466-96A6-F89F915F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68545-53B0-468F-B92B-C08EC1A8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0EFA3-D42B-4E4D-B8B0-3FA2FF4C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95C02-5FB1-43D9-A0EE-33EB95FD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A0AF9-878E-4927-8D78-F20FD58E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2C468-90A0-4853-8C6A-048648C9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E2A0F-1D38-4D68-8901-5E90ABAC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57D-5DA1-43C2-A9B6-7C331D6E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DA744-1387-430B-866A-1F173BEA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11784-186C-402E-B4CD-8CB9F39C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02246-E899-43B4-9771-F288B711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488FCC-1DD0-4164-89B5-79D7EA99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1A1214-2D83-4E67-8DA9-3C9793A5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5BCCE4-3E74-46A4-8A7E-C4EBD0BE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6857F1-4287-446E-935A-81B9D9AE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2DC39F-E0F2-4734-8613-7E191464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8B9B8-B08F-4FAE-8F92-F6B19C41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D26F11-EC8E-4474-8124-0C9E9451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DE0-0B8C-4A7A-B65B-84F8FFD5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71EEAA-9C89-45D9-8D3B-EEA68742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E164B0-F4F2-434B-9858-F35C7658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6E9894-28F9-4EEA-9994-EC44C67C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F6D3E-9A76-4EB3-A557-1D7B5EE8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A1BA0D-606E-4893-A968-51BB5145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13EA62-0C21-441D-A15C-8C67428F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FF4379-1743-44E1-A757-62225B52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85C725-0D9B-4B4B-9416-36EB33F5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589242-0303-4D64-8F99-1759F4B3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A27B7A-B3F7-41F4-A5E8-436C80A8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389-7756-4BD7-AEAE-6BCFD02E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58B202-F8DC-4DD5-A512-63CDCA91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59ACB8-17D5-44A6-9858-3EE1BA64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3E2387-EA38-4A85-980E-0ECAA254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8C127A-6D92-4F2A-AF9B-7BAD53E8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9DCCB5-A1BD-412B-959E-F10D1309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4FE430-847F-4BB1-A994-00F30569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6F9A95-D15B-4603-B7FC-10355CEE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E0300A-6205-4C39-9305-641EFFF4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C602FF-841D-4B60-8CE1-2B194CFC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00D7CE-7BA0-464A-A0EA-C5AE7F45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f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999D-AA03-4526-9D95-437EA9304B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f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41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42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445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82FA-7195-41C1-9FE9-D99E1D544D62}" type="slidenum">
              <a:rPr b="0" lang="ru-RU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f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Прямоугольник 6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92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66F0-DE82-47BF-A861-1451A15453B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f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Прямоугольник 6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537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A990-9039-425C-910A-C126FDE08B6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f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Прямоугольник 6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3944-9CC9-4CCC-BD61-AF17DF5233A6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f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Прямоугольник 6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624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4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4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4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7EAC-6ADA-4433-840B-DC99527E393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f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4BDE-ACC8-4E04-86D6-7585E98AD0D2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f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1CD9-467C-4719-B40D-173C6956257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f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4EFE-E6CD-4220-B0FA-D83E58374B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f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9F50-0DBA-4D97-A988-E2AA85DE5C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f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4823-D887-4A4B-A19C-CCD2B177F9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f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F06E-57ED-44DD-9DE7-D2629D2732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f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6ABF-4E03-46D4-A0B7-CD473B53F5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f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89D0-FAFA-47C7-8CA1-08EBAACD27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Заголовок 5" descr=""/>
          <p:cNvPicPr/>
          <p:nvPr/>
        </p:nvPicPr>
        <p:blipFill>
          <a:blip r:embed="rId1"/>
          <a:stretch/>
        </p:blipFill>
        <p:spPr>
          <a:xfrm>
            <a:off x="1133640" y="19080"/>
            <a:ext cx="7613640" cy="167652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2437920" y="5181480"/>
            <a:ext cx="6172200" cy="1067040"/>
          </a:xfrm>
          <a:prstGeom prst="rect">
            <a:avLst/>
          </a:prstGeom>
          <a:noFill/>
          <a:ln w="9360">
            <a:solidFill>
              <a:srgbClr val="b7fbf9"/>
            </a:solidFill>
            <a:miter/>
          </a:ln>
        </p:spPr>
        <p:txBody>
          <a:bodyPr anchor="t">
            <a:normAutofit fontScale="77000"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Arial"/>
              </a:rPr>
              <a:t>Е.А.Кудрякова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Arial"/>
              </a:rPr>
              <a:t>учитель-дефектолог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9" name="Прямоугольник 4" descr=""/>
          <p:cNvPicPr/>
          <p:nvPr/>
        </p:nvPicPr>
        <p:blipFill>
          <a:blip r:embed="rId2"/>
          <a:stretch/>
        </p:blipFill>
        <p:spPr>
          <a:xfrm>
            <a:off x="1444680" y="1384200"/>
            <a:ext cx="7248600" cy="21639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" descr="C:\Documents and Settings\Admin\Рабочий стол\конкурс\фото\SS850061.JPG"/>
          <p:cNvPicPr/>
          <p:nvPr/>
        </p:nvPicPr>
        <p:blipFill>
          <a:blip r:embed="rId3"/>
          <a:stretch/>
        </p:blipFill>
        <p:spPr>
          <a:xfrm>
            <a:off x="228600" y="3276720"/>
            <a:ext cx="4876920" cy="3209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C:\Documents and Settings\Admin\Рабочий стол\конкурс\фото\SS850053.JPG"/>
          <p:cNvPicPr/>
          <p:nvPr/>
        </p:nvPicPr>
        <p:blipFill>
          <a:blip r:embed="rId1"/>
          <a:stretch/>
        </p:blipFill>
        <p:spPr>
          <a:xfrm>
            <a:off x="1905120" y="228600"/>
            <a:ext cx="4459320" cy="29401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" descr="C:\Documents and Settings\Admin\Рабочий стол\конкурс\фото\SS850045.JPG"/>
          <p:cNvPicPr/>
          <p:nvPr/>
        </p:nvPicPr>
        <p:blipFill>
          <a:blip r:embed="rId2"/>
          <a:stretch/>
        </p:blipFill>
        <p:spPr>
          <a:xfrm>
            <a:off x="3962520" y="3352680"/>
            <a:ext cx="4876560" cy="32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5640" y="1523880"/>
            <a:ext cx="6629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Обучение с применением интерактивных комплексов в нашей работе становится более качественным, интересным и продуктивным, оно никогда еще не было столь привлекательным и захватывающим. При условии систематического использования электронных мультимедиа обучающих программ в учебном процессе в сочетании с традиционными методами обучения и педагогическими инновациями значительно повышается эффективность обучения детей с разноуровневой подготовкой. При этом происходит качественное усиление результата образования вследствие одновременного воздействия нескольких технологий. Существует множество нарушений и способов их коррекции, но в работе дефектолога всегда найдется место для использования компьютерных программ, что позволит значительно повысить эффективность коррекционно-образовательного процесса. </a:t>
            </a:r>
            <a:endParaRPr b="0" lang="en-US" sz="16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:</a:t>
            </a:r>
            <a:endParaRPr b="0" lang="en-US" sz="4800" spc="-1" strike="noStrike">
              <a:solidFill>
                <a:srgbClr val="fff39d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00200" y="18288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Спасибо за внимание</a:t>
            </a:r>
            <a:endParaRPr b="0" lang="en-US" sz="4800" spc="-1" strike="noStrike">
              <a:solidFill>
                <a:srgbClr val="fff39d"/>
              </a:solidFill>
              <a:latin typeface="Century Schoolbook"/>
            </a:endParaRPr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Содержимое 2"/>
          <p:cNvSpPr/>
          <p:nvPr/>
        </p:nvSpPr>
        <p:spPr>
          <a:xfrm>
            <a:off x="2209680" y="380880"/>
            <a:ext cx="6629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1" lang="ru-RU" sz="3700" spc="-1" strike="noStrike">
                <a:solidFill>
                  <a:srgbClr val="e75c01"/>
                </a:solidFill>
                <a:latin typeface="Century Schoolbook"/>
              </a:rPr>
              <a:t>ТИП ПРОЕКТА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Century Schoolbook"/>
              </a:rPr>
              <a:t>долгосро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Century Schoolbook"/>
              </a:rPr>
              <a:t>тематиче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Century Schoolbook"/>
              </a:rPr>
              <a:t>творческ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озраст детей: 5-7</a:t>
            </a:r>
            <a:r>
              <a:rPr b="1" lang="en-US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е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слабослышащие дет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61722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75c01"/>
                </a:solidFill>
                <a:latin typeface="Century Schoolbook"/>
              </a:rPr>
              <a:t>АКТУАЛЬНОСТЬ:</a:t>
            </a:r>
            <a:endParaRPr b="0" lang="en-US" sz="26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904760" y="456840"/>
            <a:ext cx="7086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Доступность к информационным технологиям приобретает особенно большое значение в системе обучения и социальной реабилитации глухих и слабослышащих детей в связи со свойственными им коммуникативными ограничениями. Компьютерные технологии – это новое средство коррекционного обучения для удовлетворения особых образовательных потребностей неслышащих воспитанников, более эффективного решения собственно коррекционных задач. У слабослышащих детей зрительное восприятие информации приобретает ведущую роль, а в системе информационных технологий визуальный канал передачи информации занимает ведущую роль.  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marL="438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Мышление глухого дошкольника развивается медленнее, но интеллект остается сохранным в любом возрасте. Это значит, что потенциальные возможности глухого ребенка те же, что и у слышащего. Реализация этих возможностей достигается  в специально организованном  процессе обучения, который нацелен не только на вооружение знаниями, умениями и навыками, не только на развитие слуха и речи,  но и на формирование всей познавательной деятельности в целом.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marL="438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оэтому использование новых нестандартных приёмов объяснения и закрепления материала, тем более в игровой форме, повышает непроизвольное внимание детей, помогает развить произвольное внимание. В этом случае задействуются различные каналы восприятия, что позволяет заложить информацию не только в фактах, но и в ассоциациях в памяти детей глухих и слабослышащих, таким образом подача материала в виде мультимедийной презентации сокращает время обучения, высвобождает ресурсы здоровья детей.  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marL="438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МЕТОДОЛОГИЧЕСКАЯ БАЗА ПРОЕКТА: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75" name="Содержимое 2"/>
          <p:cNvSpPr/>
          <p:nvPr/>
        </p:nvSpPr>
        <p:spPr>
          <a:xfrm>
            <a:off x="1828800" y="1447920"/>
            <a:ext cx="7162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Воспитание и обучение слабослышащих детей дошкольного возраста» Головчиц Л. А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.Д. Пашкевич « Таинство педагогического проектирования в ДОУ»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плекс компьютерных программ «Мир за твоим окном», «Дельфа-142», логопедический тренажер «БОСС + Здоровье»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астюкова «Подготовка детей с ОВЗ к системному обучению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сурсы глобальной сети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2285640" y="1752120"/>
            <a:ext cx="6172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499"/>
              </a:spcBef>
              <a:buClr>
                <a:srgbClr val="e75c0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К (персональный компьютер);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e75c0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Мультимедиапроектор;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e75c0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Телевизор;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e75c0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Логопедический тренажерн «БОС + Здоровье»;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e75c0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Тренажер «Дельфа-142;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e75c0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компьютерная программа «Мир за твоим    окном»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МАТЕРИАЛЬНО-ТЕХНИЧЕСКАЯ БАЗА ПРОЕКТА: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19051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Schoolbook"/>
              </a:rPr>
              <a:t>Изучение компьютерных программ и внедрение их в обучении слабослышащих дошкольников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79" name="Заголовок 1"/>
          <p:cNvSpPr/>
          <p:nvPr/>
        </p:nvSpPr>
        <p:spPr>
          <a:xfrm>
            <a:off x="1828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2285640" y="837720"/>
            <a:ext cx="61722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75c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истематизация, обновление и пополнение информационных ресурсов образовательного процесса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35880" indent="-335880">
              <a:spcBef>
                <a:spcPts val="601"/>
              </a:spcBef>
              <a:buClr>
                <a:srgbClr val="e75c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азработка и апробация технологий мультемедийного сопровождения коррекционно-образовательного процесса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35880" indent="-335880">
              <a:spcBef>
                <a:spcPts val="601"/>
              </a:spcBef>
              <a:buClr>
                <a:srgbClr val="e75c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асширение использования информационно-компьютерных технологий в коррекционно-образовательном процессе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35880" indent="-335880">
              <a:spcBef>
                <a:spcPts val="601"/>
              </a:spcBef>
              <a:buClr>
                <a:srgbClr val="e75c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оздание банка компьютерных обучающих программ, дидактических и методических материалов по использованию информационных технологий в работе с детьми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35880" indent="-335880">
              <a:spcBef>
                <a:spcPts val="601"/>
              </a:spcBef>
              <a:buClr>
                <a:srgbClr val="e75c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азработка системы организации консультативной поддержки в области повышения информационной компетентности всех участников педагогического процесса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1752120" y="228600"/>
            <a:ext cx="52578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ЗАДАЧИ: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Заголовок 1"/>
          <p:cNvSpPr/>
          <p:nvPr/>
        </p:nvSpPr>
        <p:spPr>
          <a:xfrm>
            <a:off x="1676520" y="380880"/>
            <a:ext cx="701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ЭТАПЫ РЕАЛИЗАЦИИ ПРОЕК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Содержимое 2"/>
          <p:cNvSpPr/>
          <p:nvPr/>
        </p:nvSpPr>
        <p:spPr>
          <a:xfrm>
            <a:off x="1905120" y="1066680"/>
            <a:ext cx="69008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20000"/>
                </a:solidFill>
                <a:latin typeface="Century Schoolbook"/>
              </a:rPr>
              <a:t>Подготовительный этап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5c01"/>
                </a:solidFill>
                <a:latin typeface="Century Schoolbook"/>
              </a:rPr>
              <a:t>1. Проведения занятия « Знакомство с мультимедийной презентаци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20000"/>
                </a:solidFill>
                <a:latin typeface="Century Schoolbook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разработка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компьютерных презентаций для ознакомления детей с окружающей средой, с элементарными математическими представлен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20000"/>
                </a:solidFill>
                <a:latin typeface="Century Schoolbook"/>
              </a:rPr>
              <a:t>Описание этап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На презентациях дети знакомятся с новыми знаниями. Например, когда берется новая тема и используется компьютерная презентация, восприятие происходит быстрее, т. к. весь материал сопровождается сказочными героями, которые попали в трудную ситуацию и им нужна помощь. Дети готовы помочь, но для этого необходимо решить поставленную задачу. Формируются психофизические процессы – память, внимание, восприятие, воображение. Презентации состоят из красочных анимированных слайдов, которые будут прекрасными помощниками при проведении занятий. Цикл презентаций охватывает большой объем программного материала по ознакомлению с окружающей средой:  времена года, одежда, обувь, виды транспортных средств, овощи, фрукты. То есть, те темы, которые мы изучаем на занят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Содержимое 2"/>
          <p:cNvSpPr/>
          <p:nvPr/>
        </p:nvSpPr>
        <p:spPr>
          <a:xfrm>
            <a:off x="175248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Century Schoolbook"/>
              </a:rPr>
              <a:t>Основной этап</a:t>
            </a:r>
            <a:r>
              <a:rPr b="1" lang="ru-RU" sz="3000" spc="-1" strike="noStrike">
                <a:solidFill>
                  <a:srgbClr val="b32c16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(обучение ведется в индивидуальной и подгрупповой формах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"/>
          <p:cNvSpPr/>
          <p:nvPr/>
        </p:nvSpPr>
        <p:spPr>
          <a:xfrm>
            <a:off x="1752480" y="1022400"/>
            <a:ext cx="72392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Включить в основные занят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рограмму “Мир за твоим окном”, которая состоит из пяти частей – пяти программ: “Четыре времени года”; “Погода”, “Одежда”; “Рассказы о временах года”; “Календарь”. Она адресована старшим дошкольникам и младшим школьникам, испытывающим трудности в обучении, детям с задержкой психического развития, различными нарушениями слуха, речи. Программа особенно полезна тем детям, которые испытывают трудности в анализе явлений окружающей действительности, обобщении, систематизации и словесном выражении накопленных впечатлений и представл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тренажер "Дэльфа-142", который представляет собой комплексную программу по коррекции разных сторон устной и письменной речи детей. Тренажер позволяет работать с любыми речевыми единицами от звука до текста, решать разнообразные коррекционные задачи: от коррекции речевого дыхания и голоса до развития лексико-грамматической стороны речи, внести игровые моменты в процесс коррекции речевых нарушений, многократно дублировать необходимый тип упражнений и речевой материал, использовать различный стимульный материал (картинки, буквы, слоги, слова, предложения, звучащую речь), работать на разных уровнях сложности в зависимости от возможностей ученика, одновременно с логопедической работой осуществлять коррекцию восприятия, внимания,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Admin</cp:lastModifiedBy>
  <dcterms:modified xsi:type="dcterms:W3CDTF">2012-10-16T08:15:26Z</dcterms:modified>
  <cp:revision>67</cp:revision>
  <dc:subject/>
  <dc:title>Смешанная группа детского сада как модель интеграции детей с нарушениями слуха в общество слышащих.  Из опыта работы МДОУ "Детский сад № 396" г.Перми.</dc:title>
</cp:coreProperties>
</file>