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85F-8910-4F9F-ADB5-C6195F65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0E1-9E5F-4582-9E79-33D269AE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600-7585-400B-B434-E41B687B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821-F49C-40FE-A1A7-C17048B0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0D42-14DA-49FD-9611-CA0498FC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7401-3C38-4592-808B-FAECAA5E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712F-015C-4CD1-9369-F395138A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8F94-6C49-4AF7-845E-1EEB6110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D773-C5B6-4FD2-B42E-5E1C46DB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F275-8065-4D8D-81F1-7F677250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C400-0414-4B99-B7E6-F978B43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48A-9102-428A-AD67-8C67B6AD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017A-42C7-475F-A6CE-445CAE1F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51BC-CB6D-43CB-8AD2-A02ADEAA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BE92-5046-4506-AA53-096BAADE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B65E-9A59-4BC3-B198-3DDE7B33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65F0-2897-42EB-A316-050232ED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C9FDF-6230-42E3-8827-D56BA0C2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DB46-5914-467E-827D-3BC250F0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F014A-F4D6-49B5-84BF-934CD428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4273-5353-4D44-A4D2-52339D5C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3309-4F15-4C7F-9D6C-CA1CCDE9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3AE-1FFD-4FE2-8F9C-86227394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F3E0-DEF8-4C33-8670-C0224F81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5D69-D55F-4DD5-B685-79F58987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E2BE-B9DD-4CC0-A47B-0FE03879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6567-4141-453C-BCEA-510F288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DAD22-5AE6-454F-9D37-5557A7C1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2304A-5E71-4056-B2B7-6DC047E4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F734-1B3A-4138-951F-658801EC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C04C-A860-42B2-A153-6F3A420A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7F86-ADCB-4440-9C88-35A64085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CB52-2ECF-45F1-936D-17D882C8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599-8638-4FF5-8490-35FCF7FD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5A12-7691-47AC-9B8B-C87C4155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DC4E2-D73B-478E-BA49-13F31F2D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C8CE-E043-4F75-B369-A1B6E8BF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CC41E-E79F-420B-926B-899E97AA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9E03-60BD-498B-93AF-23EBEAE0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86D50-4449-4211-9F21-763C3900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4DEC-B9E7-40B8-8630-1FDD87FB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51B0-BB6F-4545-AFEF-A62A9887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98D8-C985-4FD2-BDCA-853512F4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0D8AC-097C-4E2A-AFC1-66FCFE21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7B0-93EA-4F6B-A87D-71F3C142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9076-BF45-4AB5-A88F-5940852A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E1F4C-C1AF-4907-BEBF-26255E70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B4C02-90F9-4AE9-877D-215E690B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FA6B5-778E-46FB-90CD-36429138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D176-059B-4EC3-96AF-284E1A63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A4EF-6EE6-421A-96A6-72010FAA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3F786-9181-473C-B8BB-19D294BC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05F6-FEC2-4B7D-880A-F6846788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5693A-4841-4C96-8CC6-AC0ACE38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ED4D-9578-4362-97BC-D83D6691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29F-F96F-4ADD-8B32-44A76D52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77E6A-2CCB-4054-BF0D-904B65B6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FF9-7A1A-492A-914E-D5DFB15F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6C2-8488-42E0-85FE-79C9BE03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F98-04BA-4B71-9D40-8E4AAB78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099D-0DB7-4F1C-A783-7C5C17AD6116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F3AC-3D38-403A-AE40-98CBB9EC6B18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CA27-685D-4946-B903-A333F638E3F3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E0E6-14A7-48C2-8D35-A859ED1328FE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50FF-760B-408E-AC6E-31117D83B555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52bde0"/>
                </a:solidFill>
                <a:latin typeface="Verdana"/>
              </a:rPr>
              <a:t>СКАНЕРЫ</a:t>
            </a:r>
            <a:endParaRPr b="1" lang="en-US" sz="45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http://djvu-soft.narod.ru/scan/ob01.jpg"/>
          <p:cNvPicPr/>
          <p:nvPr/>
        </p:nvPicPr>
        <p:blipFill>
          <a:blip r:embed="rId1"/>
          <a:stretch/>
        </p:blipFill>
        <p:spPr>
          <a:xfrm>
            <a:off x="2944800" y="3352680"/>
            <a:ext cx="6205680" cy="3213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Книжный сканер 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40" y="1267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назначены для сканирования брошюрованных документ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Verdana"/>
              </a:rPr>
              <a:t>Достоинств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кая скорость сканир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ункция "устранения перегиба" книги, которая обеспечивает отличное качество отсканированного изобра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Планетарный сканер 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11280" y="1341360"/>
            <a:ext cx="8183520" cy="244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няются для сканирования книг или легко повреждающихся документов. При сканировании нет контакта со сканируемым объектом Сканирование производится лицевой стороной вверх - таким образом позволяя повысить сохранность документов в архив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Книжный сканер Solar Copymaster A2 Flexscan "/>
          <p:cNvPicPr/>
          <p:nvPr/>
        </p:nvPicPr>
        <p:blipFill>
          <a:blip r:embed="rId1"/>
          <a:stretch/>
        </p:blipFill>
        <p:spPr>
          <a:xfrm>
            <a:off x="4280040" y="3713040"/>
            <a:ext cx="4387680" cy="290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Книжный сканер Элар ПланСкан"/>
          <p:cNvPicPr/>
          <p:nvPr/>
        </p:nvPicPr>
        <p:blipFill>
          <a:blip r:embed="rId2"/>
          <a:stretch/>
        </p:blipFill>
        <p:spPr>
          <a:xfrm>
            <a:off x="390600" y="3852720"/>
            <a:ext cx="38275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2bde0"/>
                </a:solidFill>
                <a:latin typeface="Verdana"/>
              </a:rPr>
              <a:t>Скане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анг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— это устройство перевода графической информации с твердого носителя в цифровой вид.</a:t>
            </a:r>
            <a:endParaRPr b="1" lang="en-US" sz="24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2908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пип сканера был создан в 1857 году (пантелеграф).  В 1902 году известный немецкий физик по имени Артур Корн придумал и запатентовал технологию, применяемую в фотоэлектрическом сканировании. Это изобретение впоследствии стали называть телефакс. Принцип работы, заложенный в нем, стал основой и для современных сканер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bde0"/>
                </a:solidFill>
                <a:latin typeface="Verdana"/>
              </a:rPr>
              <a:t>Схема действия сканера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24" name="Picture 7" descr="Scaning_Technology"/>
          <p:cNvPicPr/>
          <p:nvPr/>
        </p:nvPicPr>
        <p:blipFill>
          <a:blip r:embed="rId1"/>
          <a:stretch/>
        </p:blipFill>
        <p:spPr>
          <a:xfrm>
            <a:off x="250920" y="1413000"/>
            <a:ext cx="8515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bde0"/>
                </a:solidFill>
                <a:latin typeface="Verdana"/>
              </a:rPr>
              <a:t>Принцип работы сканера: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4000" y="765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ет, отражаемый от объекта, благодаря системе зеркал попадает на чувствительную матрицу, потом на аналого-цифровой преобразователь и далее передается компьютеру. Программное обеспечение пошаговые полоски объекта объединяет в общее изобра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анер всегда сканирует в формате RAW. Потом изображение конвертируется в общеиспользуемый графический формат. При конвертации применяются текущие настройки яркости, контрастности и тому подобного. В зависимости от сканера конвертация может происходить как в самом сканере, так и в компьютере. На качество изображения при сканировании влияют такие аппаратные настройки сканера, как уровни калибровки, время экспозиции матрицы и т. 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bde0"/>
                </a:solidFill>
                <a:latin typeface="Verdana"/>
              </a:rPr>
              <a:t>Виды сканеров</a:t>
            </a:r>
            <a:endParaRPr b="1" lang="en-US" sz="32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28" name="Схема 4" descr=""/>
          <p:cNvPicPr/>
          <p:nvPr/>
        </p:nvPicPr>
        <p:blipFill>
          <a:blip r:embed="rId1"/>
          <a:stretch/>
        </p:blipFill>
        <p:spPr>
          <a:xfrm>
            <a:off x="463680" y="420840"/>
            <a:ext cx="86868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481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Планшетный сканер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11280" y="191592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более распространённый вид сканер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Достоинств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кое качество изображ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ство в использован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дорогая стоим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6" descr="180px-Apple_Color_OneScanner_600-27"/>
          <p:cNvPicPr/>
          <p:nvPr/>
        </p:nvPicPr>
        <p:blipFill>
          <a:blip r:embed="rId1"/>
          <a:stretch/>
        </p:blipFill>
        <p:spPr>
          <a:xfrm>
            <a:off x="5815080" y="3790800"/>
            <a:ext cx="3066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Ручной сканер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1197000"/>
            <a:ext cx="818352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портативный вариант сканера. </a:t>
            </a: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Достоинств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Моби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Компак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Самодостаточность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Его можно использовать отдельно от компьютера, все отсканированные изображения сохраняются на карте памяти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Недостатк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b050"/>
                </a:solidFill>
                <a:latin typeface="Verdana"/>
              </a:rPr>
              <a:t>Низкое качество получаемых изображен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b050"/>
                </a:solidFill>
                <a:latin typeface="Verdana"/>
              </a:rPr>
              <a:t>Возможность перекоса при сканировани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bde0"/>
                </a:solidFill>
                <a:latin typeface="Verdana"/>
              </a:rPr>
              <a:t>Ручные сканеры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35" name="Picture 5" descr="http://www.prodayslona.ru/upload/iblock/047/Scaner_resize.jpg"/>
          <p:cNvPicPr/>
          <p:nvPr/>
        </p:nvPicPr>
        <p:blipFill>
          <a:blip r:embed="rId1"/>
          <a:stretch/>
        </p:blipFill>
        <p:spPr>
          <a:xfrm>
            <a:off x="6224760" y="542880"/>
            <a:ext cx="2303280" cy="3133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www.easyscan.pl/image/cache/NE_EM_BCS_GPS_LS2208-1_w-500x500.jpg"/>
          <p:cNvPicPr/>
          <p:nvPr/>
        </p:nvPicPr>
        <p:blipFill>
          <a:blip r:embed="rId2"/>
          <a:stretch/>
        </p:blipFill>
        <p:spPr>
          <a:xfrm>
            <a:off x="487440" y="1633680"/>
            <a:ext cx="32065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://techguru.ru/f/image/1/9/2/5/7/19257225_xerox_documate_250_1.jpg"/>
          <p:cNvPicPr/>
          <p:nvPr/>
        </p:nvPicPr>
        <p:blipFill>
          <a:blip r:embed="rId1"/>
          <a:stretch/>
        </p:blipFill>
        <p:spPr>
          <a:xfrm>
            <a:off x="4595760" y="4224240"/>
            <a:ext cx="4213440" cy="2597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Протяжный сканер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9640" y="1267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ист бумаги вставляется в щель и протягивается по направляющим роликам внутри сканера мимо ламп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Достоинств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Verdana"/>
              </a:rPr>
              <a:t>имеет меньшие размеры, по сравнению с  планшетны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Verdana"/>
              </a:rPr>
              <a:t>имеют устройство автоматической подачи, что позволяет быстро сканировать большое количество документ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Недостатк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Verdana"/>
              </a:rPr>
              <a:t>может сканировать только отдельные лис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7:28:20Z</dcterms:created>
  <dc:creator>Колян</dc:creator>
  <dc:description/>
  <dc:language>en-US</dc:language>
  <cp:lastModifiedBy>BEST</cp:lastModifiedBy>
  <dcterms:modified xsi:type="dcterms:W3CDTF">2012-10-27T11:51:28Z</dcterms:modified>
  <cp:revision>27</cp:revision>
  <dc:subject/>
  <dc:title>Сканирование</dc:title>
</cp:coreProperties>
</file>