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473-A6F0-4CCF-8906-0BB2D862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5DB-FB03-42DB-884D-13B8BB6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DEC-8714-4601-836D-C74E3347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453-73ED-4275-A4F0-9836B66E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E227-D1FE-4331-8D80-9D13F85C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C47D-2CED-4444-ADA2-3EFF6FA1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BBF0-8BAE-4188-89A7-5C251349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52E-333F-483E-B493-3F8F38E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1F88-3FC0-45D3-8784-D6CDECD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25EE-FF56-4ECC-85E1-FA1D71E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733C-C0B5-45CD-934E-5DB4812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03A-D718-4CC9-AF9D-79F40473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D48-5A88-4301-848E-A47D0FD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FE64-C7A2-4B24-B520-C57F76D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5DFC-76BA-4EC8-B6EC-74615D5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D87-AB37-4AD2-9D4C-7234271A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D85-0B36-4368-A13E-6B522BE5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1A3F-22F8-489D-B6A6-E83765FF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3B18-4C51-44EC-A119-1A9E02B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8CFE-C941-4949-8CA0-3BFE77E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C266-1885-4F33-9775-AB24FF9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495B8-5033-4EA6-850C-0536A82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F32-39F5-4F25-B059-D8CCC96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4AF9-3EE1-4855-B05B-64A1E260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9BDB-FC63-4A7D-8E24-09028CB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F866-EA29-49B4-BDDB-5FEFEE3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EC700-7BC1-4FEA-8CCB-4FC29759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02C8-ABB9-446E-9376-89571F92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5F3D-3860-4858-B659-8DEC0AE1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AA49-F7EE-4DBD-9AB0-CF4E2B5D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3D2F-780C-4A01-AE41-E4C4E63F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AF7F-A55A-4AE0-AC69-DEA312BE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821F-BE1C-4CBC-9447-2254F83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467-7156-40CD-BA35-8DA7FE5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A44F-2A3B-4FE0-9ED1-6AE97DD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EC8B9-3DEE-4493-9332-DF065A1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09D4-79A2-4A13-9F55-32B2EF83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BFF9-C2F2-4397-8C23-008B963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8B71-DE56-450A-9B64-C124545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F9C9-A896-4689-840E-C194933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AD4E-0A8D-4FC4-B0D7-BA960546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4E3A-6E53-471B-A944-A3733F30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7CBC-D095-4EE1-A771-B1E53FBB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AE7B-1DF6-42FA-BB2E-15E80AB9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58D-9051-4035-90E3-4BAAEE58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1C28-3596-4939-AF74-2A7803C0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4CC8-43FA-48A5-87D5-0A2C56A7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B9CB-619D-4F85-9619-42D3D98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CD8C-67E3-4FD5-B47C-D1905E08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43F4E-3559-4B8F-8777-D7760279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F425B-1461-46FB-89C7-DE93C94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4C87-3F5A-4915-9147-1E3B009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9351-AE1A-4B8A-810C-EB0468D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60D4-F847-4D25-B6E1-775CD0C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EDB1-9E90-4288-9DB2-3E5C5A15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9BA-C350-42C0-88C3-F7F0F7DE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EE10-EE09-44FD-B5F4-7D81DAA4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023-D6AC-4BFF-A795-750E365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164-801E-4C92-AF08-587246E4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C8E-7919-4D86-9A2F-208C3FB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88F0-0E1C-4A3F-9960-28B8B659D45A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92FB-E272-4479-8E73-A8D429739F7F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8A1C-D533-4504-9407-BF5F1106030A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929-5DB1-4841-AE7D-735ADF943815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777-1039-4297-B30F-AEC15D03AD98}" type="slidenum">
              <a:rPr b="0" lang="ru-RU" sz="1000" spc="-1" strike="noStrike">
                <a:solidFill>
                  <a:srgbClr val="a3b4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2bde0"/>
                </a:solidFill>
                <a:latin typeface="Verdana"/>
              </a:rPr>
              <a:t>СКАНЕРЫ</a:t>
            </a:r>
            <a:endParaRPr b="1" lang="en-US" sz="4500" spc="-1" strike="noStrike">
              <a:solidFill>
                <a:srgbClr val="52bde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http://djvu-soft.narod.ru/scan/ob01.jpg"/>
          <p:cNvPicPr/>
          <p:nvPr/>
        </p:nvPicPr>
        <p:blipFill>
          <a:blip r:embed="rId1"/>
          <a:stretch/>
        </p:blipFill>
        <p:spPr>
          <a:xfrm>
            <a:off x="2944800" y="3352680"/>
            <a:ext cx="6205680" cy="3213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Книжный сканер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назначены для сканирования брошюрованных документ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кая скорость скан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ункция "устранения перегиба" книги, которая обеспечивает отличное качество отсканированного изобра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ланетарный сканер 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11280" y="1341360"/>
            <a:ext cx="8183520" cy="244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яются для сканирования книг или легко повреждающихся документов. При сканировании нет контакта со сканируемым объектом Сканирование производится лицевой стороной вверх - таким образом позволяя повысить сохранность документов в архив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Книжный сканер Solar Copymaster A2 Flexscan "/>
          <p:cNvPicPr/>
          <p:nvPr/>
        </p:nvPicPr>
        <p:blipFill>
          <a:blip r:embed="rId1"/>
          <a:stretch/>
        </p:blipFill>
        <p:spPr>
          <a:xfrm>
            <a:off x="4280040" y="3713040"/>
            <a:ext cx="4387680" cy="290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Книжный сканер Элар ПланСкан"/>
          <p:cNvPicPr/>
          <p:nvPr/>
        </p:nvPicPr>
        <p:blipFill>
          <a:blip r:embed="rId2"/>
          <a:stretch/>
        </p:blipFill>
        <p:spPr>
          <a:xfrm>
            <a:off x="390600" y="3852720"/>
            <a:ext cx="382752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2bde0"/>
                </a:solidFill>
                <a:latin typeface="Verdana"/>
              </a:rPr>
              <a:t>Скане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анг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это устройство перевода графической информации с твердого носителя в цифровой вид.</a:t>
            </a:r>
            <a:endParaRPr b="1" lang="en-US" sz="24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2908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пип сканера был создан в 1857 году (пантелеграф).  В 1902 году известный немецкий физик по имени Артур Корн придумал и запатентовал технологию, применяемую в фотоэлектрическом сканировании. Это изобретение впоследствии стали называть телефакс. Принцип работы, заложенный в нем, стал основой и для современных сканер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Схема действия сканера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4" name="Picture 7" descr="Scaning_Technology"/>
          <p:cNvPicPr/>
          <p:nvPr/>
        </p:nvPicPr>
        <p:blipFill>
          <a:blip r:embed="rId1"/>
          <a:stretch/>
        </p:blipFill>
        <p:spPr>
          <a:xfrm>
            <a:off x="250920" y="1413000"/>
            <a:ext cx="8515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Принцип работы сканера: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765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вет, отражаемый от объекта, благодаря системе зеркал попадает на чувствительную матрицу, потом на аналого-цифровой преобразователь и далее передается компьютеру. Программное обеспечение пошаговые полоски объекта объединяет в общее изобра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нер всегда сканирует в формате RAW. Потом изображение конвертируется в общеиспользуемый графический формат. При конвертации применяются текущие настройки яркости, контрастности и тому подобного. В зависимости от сканера конвертация может происходить как в самом сканере, так и в компьютере. На качество изображения при сканировании влияют такие аппаратные настройки сканера, как уровни калибровки, время экспозиции матрицы и т. 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bde0"/>
                </a:solidFill>
                <a:latin typeface="Verdana"/>
              </a:rPr>
              <a:t>Виды сканеров</a:t>
            </a:r>
            <a:endParaRPr b="1" lang="en-US" sz="32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28" name="Схема 4" descr=""/>
          <p:cNvPicPr/>
          <p:nvPr/>
        </p:nvPicPr>
        <p:blipFill>
          <a:blip r:embed="rId1"/>
          <a:stretch/>
        </p:blipFill>
        <p:spPr>
          <a:xfrm>
            <a:off x="463680" y="420840"/>
            <a:ext cx="86868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481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ланшетны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1280" y="1915920"/>
            <a:ext cx="8183520" cy="4189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ее распространённый вид скане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окое качество изобра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ство в использован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огая стоим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6" descr="180px-Apple_Color_OneScanner_600-27"/>
          <p:cNvPicPr/>
          <p:nvPr/>
        </p:nvPicPr>
        <p:blipFill>
          <a:blip r:embed="rId1"/>
          <a:stretch/>
        </p:blipFill>
        <p:spPr>
          <a:xfrm>
            <a:off x="5815080" y="3790800"/>
            <a:ext cx="3066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Ручно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197000"/>
            <a:ext cx="818352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портативный вариант сканера. </a:t>
            </a: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Моби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Компак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Verdana"/>
              </a:rPr>
              <a:t>Самодостаточность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Его можно использовать отдельно от компьютера, все отсканированные изображения сохраняются на карте памят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Verdana"/>
              </a:rPr>
              <a:t>Низкое качество получаемых изображе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b050"/>
                </a:solidFill>
                <a:latin typeface="Verdana"/>
              </a:rPr>
              <a:t>Возможность перекоса при сканирован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bde0"/>
                </a:solidFill>
                <a:latin typeface="Verdana"/>
              </a:rPr>
              <a:t>Ручные сканеры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pic>
        <p:nvPicPr>
          <p:cNvPr id="235" name="Picture 5" descr="http://www.prodayslona.ru/upload/iblock/047/Scaner_resize.jpg"/>
          <p:cNvPicPr/>
          <p:nvPr/>
        </p:nvPicPr>
        <p:blipFill>
          <a:blip r:embed="rId1"/>
          <a:stretch/>
        </p:blipFill>
        <p:spPr>
          <a:xfrm>
            <a:off x="6224760" y="542880"/>
            <a:ext cx="2303280" cy="3133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easyscan.pl/image/cache/NE_EM_BCS_GPS_LS2208-1_w-500x500.jpg"/>
          <p:cNvPicPr/>
          <p:nvPr/>
        </p:nvPicPr>
        <p:blipFill>
          <a:blip r:embed="rId2"/>
          <a:stretch/>
        </p:blipFill>
        <p:spPr>
          <a:xfrm>
            <a:off x="487440" y="1633680"/>
            <a:ext cx="32065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techguru.ru/f/image/1/9/2/5/7/19257225_xerox_documate_250_1.jpg"/>
          <p:cNvPicPr/>
          <p:nvPr/>
        </p:nvPicPr>
        <p:blipFill>
          <a:blip r:embed="rId1"/>
          <a:stretch/>
        </p:blipFill>
        <p:spPr>
          <a:xfrm>
            <a:off x="4595760" y="4224240"/>
            <a:ext cx="4213440" cy="2597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Verdana"/>
              </a:rPr>
              <a:t>Протяжный сканер</a:t>
            </a:r>
            <a:endParaRPr b="1" lang="en-US" sz="40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 бумаги вставляется в щель и протягивается по направляющим роликам внутри сканера мимо ламп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имеет меньшие размеры, по сравнению с  планшетн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имеют устройство автоматической подачи, что позволяет быстро сканировать большое количество докумен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Verdana"/>
              </a:rPr>
              <a:t>может сканировать только отдельные лис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7:28:20Z</dcterms:created>
  <dc:creator>Колян</dc:creator>
  <dc:description/>
  <dc:language>en-US</dc:language>
  <cp:lastModifiedBy>BEST</cp:lastModifiedBy>
  <dcterms:modified xsi:type="dcterms:W3CDTF">2012-10-27T11:51:28Z</dcterms:modified>
  <cp:revision>27</cp:revision>
  <dc:subject/>
  <dc:title>Сканирование</dc:title>
</cp:coreProperties>
</file>