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1.gif" ContentType="image/gif"/>
  <Override PartName="/ppt/media/image14.png" ContentType="image/png"/>
  <Override PartName="/ppt/media/image9.png" ContentType="image/png"/>
  <Override PartName="/ppt/media/image6.jpeg" ContentType="image/jpeg"/>
  <Override PartName="/ppt/media/image10.gif" ContentType="image/gif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510-D9FE-4A87-9B1E-68054D2C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5BF-EC05-4C7E-A433-91C7E8CE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DDF-400E-46D1-994B-9992ECD2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982-FB2B-432B-97A6-30131EF4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E56-F790-49AA-9B4F-0FCBC8B8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CEF-4239-4178-BD4C-E8345B6B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418-12D0-4ADA-B6D0-DB0ED777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8BD-5EC9-46DC-84C4-6F6B7B51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705-DA0A-4275-836E-D324AFCD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B58-5B5D-4AF9-951E-905D4AB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B15-39A4-4FFE-BD23-2E50726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E49-C2DB-4911-8B5B-E13708D1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2294-9B93-40B1-919E-9BBC36784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5280" y="1844280"/>
            <a:ext cx="5688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Times New Roman"/>
              </a:rPr>
              <a:t>«Красивые</a:t>
            </a:r>
            <a:br>
              <a:rPr sz="6000"/>
            </a:br>
            <a:r>
              <a:rPr b="1" i="1" lang="en-US" sz="6000" spc="-1" strike="noStrike">
                <a:solidFill>
                  <a:srgbClr val="333399"/>
                </a:solidFill>
                <a:latin typeface="Times New Roman"/>
              </a:rPr>
              <a:t>платоч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4797360"/>
            <a:ext cx="302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ставила: 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вчук Лариса Константин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60280"/>
            <a:ext cx="72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лучинское муниципальное бюджетное дошкольное образовательное учреждение детский сад комбинированного вида «Сказ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6237360"/>
            <a:ext cx="28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.г.т.Излучинск,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476280"/>
            <a:ext cx="6408720" cy="5975280"/>
          </a:xfrm>
          <a:prstGeom prst="rect">
            <a:avLst/>
          </a:prstGeom>
          <a:solidFill>
            <a:srgbClr val="00cc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476280"/>
            <a:ext cx="1727280" cy="597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360" y="2997360"/>
            <a:ext cx="1079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765000"/>
            <a:ext cx="125856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765000"/>
            <a:ext cx="125856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765000"/>
            <a:ext cx="125856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765000"/>
            <a:ext cx="125856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2997360"/>
            <a:ext cx="1079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2997360"/>
            <a:ext cx="1079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80360" y="2997360"/>
            <a:ext cx="1079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50914E-006 L -0.22622 0.00509 E">
                                      <p:cBhvr>
                                        <p:cTn id="11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50914E-006 L -0.7224 0.00509 E">
                                      <p:cBhvr>
                                        <p:cTn id="12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9.41476E-007 L -0.72448 0.6086 E">
                                      <p:cBhvr>
                                        <p:cTn id="127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9366E-007 L -0.2283 0.60837 E">
                                      <p:cBhvr>
                                        <p:cTn id="1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5663E-006 L -0.72466 -2.45663E-006 E">
                                      <p:cBhvr>
                                        <p:cTn id="1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5663E-006 L -0.23629 -2.45663E-006 E">
                                      <p:cBhvr>
                                        <p:cTn id="13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5663E-006 L -0.47257 -0.30418 E">
                                      <p:cBhvr>
                                        <p:cTn id="1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5663E-006 L -0.47257 0.30442 E">
                                      <p:cBhvr>
                                        <p:cTn id="14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476280"/>
            <a:ext cx="6264360" cy="59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476280"/>
            <a:ext cx="1800360" cy="59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4360" y="765000"/>
            <a:ext cx="129528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765000"/>
            <a:ext cx="129528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765000"/>
            <a:ext cx="129528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765000"/>
            <a:ext cx="1295280" cy="1224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614200">
            <a:off x="7308360" y="2852280"/>
            <a:ext cx="107964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614200">
            <a:off x="7308360" y="2852280"/>
            <a:ext cx="107964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614200">
            <a:off x="7308360" y="2852280"/>
            <a:ext cx="107964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614200">
            <a:off x="7308360" y="2852280"/>
            <a:ext cx="1079640" cy="1081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0509 L -0.70868 -0.00509 E">
                                      <p:cBhvr>
                                        <p:cTn id="15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01573 L -0.70868 0.60328 E">
                                      <p:cBhvr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8885E-006 L -0.25209 0.61901 E">
                                      <p:cBhvr>
                                        <p:cTn id="16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41476E-007 L -0.70087 0.01041 E">
                                      <p:cBhvr>
                                        <p:cTn id="17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9366E-007 L -0.48819 0.30419 E">
                                      <p:cBhvr>
                                        <p:cTn id="17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9.41476E-007 L -0.4724 -0.28336 E">
                                      <p:cBhvr>
                                        <p:cTn id="18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5640" y="189000"/>
            <a:ext cx="3384720" cy="3168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3500280"/>
            <a:ext cx="3384720" cy="316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189000"/>
            <a:ext cx="3384720" cy="3168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3500280"/>
            <a:ext cx="3384720" cy="31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333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1484280"/>
            <a:ext cx="64764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2565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2565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33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04640"/>
            <a:ext cx="576000" cy="57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1557360"/>
            <a:ext cx="57636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557360"/>
            <a:ext cx="57636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2565360"/>
            <a:ext cx="576000" cy="57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587700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587700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364500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3645000"/>
            <a:ext cx="647640" cy="649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902200">
            <a:off x="2122920" y="3790080"/>
            <a:ext cx="576360" cy="57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736600">
            <a:off x="3349080" y="4723560"/>
            <a:ext cx="576360" cy="57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893800">
            <a:off x="972000" y="4723560"/>
            <a:ext cx="576360" cy="57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538000">
            <a:off x="2193480" y="5878080"/>
            <a:ext cx="576360" cy="57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484280"/>
            <a:ext cx="64764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33360"/>
            <a:ext cx="64764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2565360"/>
            <a:ext cx="647640" cy="64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3640" y="3789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826600">
            <a:off x="5291640" y="405360"/>
            <a:ext cx="57636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826600">
            <a:off x="7523640" y="2566080"/>
            <a:ext cx="57636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826600">
            <a:off x="5291640" y="2493000"/>
            <a:ext cx="57636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826600">
            <a:off x="7523640" y="477000"/>
            <a:ext cx="576360" cy="57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789360"/>
            <a:ext cx="57636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5734080"/>
            <a:ext cx="647640" cy="64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79736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472428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96360" y="5805360"/>
            <a:ext cx="576000" cy="57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5805360"/>
            <a:ext cx="576360" cy="57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3789360"/>
            <a:ext cx="57600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789360"/>
            <a:ext cx="57636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1646280" cy="16462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627280" y="907920"/>
            <a:ext cx="1893960" cy="14194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2011320" cy="13384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916360" y="3357720"/>
            <a:ext cx="1646280" cy="164592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1908000" y="189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Что нам нужно для рабо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836640"/>
            <a:ext cx="2881440" cy="2374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1125360"/>
            <a:ext cx="12970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4720" y="1341360"/>
            <a:ext cx="1297080" cy="12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1557360"/>
            <a:ext cx="1297080" cy="122400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7080" y="1844640"/>
            <a:ext cx="1297080" cy="1224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4005360"/>
            <a:ext cx="3454560" cy="216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5373720"/>
            <a:ext cx="576000" cy="576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5373720"/>
            <a:ext cx="57636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4869000"/>
            <a:ext cx="576360" cy="5760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56720" y="4221000"/>
            <a:ext cx="57600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4221000"/>
            <a:ext cx="50472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221000"/>
            <a:ext cx="504720" cy="50508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5157720"/>
            <a:ext cx="504720" cy="504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4869000"/>
            <a:ext cx="50508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492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ис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к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5229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кле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6165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алф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3357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Листы цветной бумаги для 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0" y="6237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Тарелочка с заготов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1728720" cy="172872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619280" y="189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Какие бывают пла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93080" y="1052640"/>
            <a:ext cx="1728720" cy="17254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1800000" cy="1800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77080" y="4581360"/>
            <a:ext cx="1871640" cy="1830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851280" y="4292640"/>
            <a:ext cx="1792440" cy="1800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484360" y="2060640"/>
            <a:ext cx="1800360" cy="17272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859280" y="1484280"/>
            <a:ext cx="1650960" cy="172728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66876" t="33140" r="3337" b="47714"/>
          <a:stretch/>
        </p:blipFill>
        <p:spPr>
          <a:xfrm>
            <a:off x="971640" y="907920"/>
            <a:ext cx="1942920" cy="1943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rcRect l="1094" t="33122" r="70405" b="47838"/>
          <a:stretch/>
        </p:blipFill>
        <p:spPr>
          <a:xfrm>
            <a:off x="3641760" y="2421000"/>
            <a:ext cx="2009880" cy="20876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rcRect l="33944" t="33281" r="36789" b="47943"/>
          <a:stretch/>
        </p:blipFill>
        <p:spPr>
          <a:xfrm>
            <a:off x="6300720" y="981000"/>
            <a:ext cx="2016360" cy="20145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rcRect l="64551" t="78868" r="6865" b="1477"/>
          <a:stretch/>
        </p:blipFill>
        <p:spPr>
          <a:xfrm>
            <a:off x="900000" y="4149720"/>
            <a:ext cx="2089440" cy="20876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6"/>
          <a:srcRect l="33972" t="78956" r="36789" b="1512"/>
          <a:stretch/>
        </p:blipFill>
        <p:spPr>
          <a:xfrm>
            <a:off x="6443640" y="4221000"/>
            <a:ext cx="1940040" cy="2016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700360" y="1484280"/>
            <a:ext cx="3743280" cy="338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04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зови фи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537372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Квадр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задумался"/>
          <p:cNvPicPr/>
          <p:nvPr/>
        </p:nvPicPr>
        <p:blipFill>
          <a:blip r:embed="rId2"/>
          <a:stretch/>
        </p:blipFill>
        <p:spPr>
          <a:xfrm>
            <a:off x="7524720" y="404640"/>
            <a:ext cx="112716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ови фи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1197000"/>
            <a:ext cx="3888000" cy="37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5877000"/>
            <a:ext cx="518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5373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КР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задумался"/>
          <p:cNvPicPr/>
          <p:nvPr/>
        </p:nvPicPr>
        <p:blipFill>
          <a:blip r:embed="rId2"/>
          <a:stretch/>
        </p:blipFill>
        <p:spPr>
          <a:xfrm>
            <a:off x="7451640" y="476280"/>
            <a:ext cx="112716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задумался"/>
          <p:cNvPicPr/>
          <p:nvPr/>
        </p:nvPicPr>
        <p:blipFill>
          <a:blip r:embed="rId3"/>
          <a:stretch/>
        </p:blipFill>
        <p:spPr>
          <a:xfrm>
            <a:off x="7451640" y="476280"/>
            <a:ext cx="1127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ови фи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730000">
            <a:off x="2950560" y="1234080"/>
            <a:ext cx="3384360" cy="33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551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РОМ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задумался"/>
          <p:cNvPicPr/>
          <p:nvPr/>
        </p:nvPicPr>
        <p:blipFill>
          <a:blip r:embed="rId2"/>
          <a:stretch/>
        </p:blipFill>
        <p:spPr>
          <a:xfrm>
            <a:off x="7596360" y="476280"/>
            <a:ext cx="1126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404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зови фи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53737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РЕУГОЛЬ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1268280"/>
            <a:ext cx="4752720" cy="367344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задумался"/>
          <p:cNvPicPr/>
          <p:nvPr/>
        </p:nvPicPr>
        <p:blipFill>
          <a:blip r:embed="rId2"/>
          <a:stretch/>
        </p:blipFill>
        <p:spPr>
          <a:xfrm>
            <a:off x="7451640" y="476280"/>
            <a:ext cx="1127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loud"/>
          <p:cNvSpPr/>
          <p:nvPr/>
        </p:nvSpPr>
        <p:spPr>
          <a:xfrm>
            <a:off x="1042920" y="1125360"/>
            <a:ext cx="2451240" cy="18558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1116000" y="3933720"/>
            <a:ext cx="2451240" cy="1855800"/>
          </a:xfrm>
          <a:prstGeom prst="pi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>
            <a:off x="5435640" y="3860640"/>
            <a:ext cx="2451240" cy="1855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5508720" y="1052640"/>
            <a:ext cx="2450880" cy="185580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189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зови ц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2997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587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29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лё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5877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ёл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задумался"/>
          <p:cNvPicPr/>
          <p:nvPr/>
        </p:nvPicPr>
        <p:blipFill>
          <a:blip r:embed="rId2"/>
          <a:stretch/>
        </p:blipFill>
        <p:spPr>
          <a:xfrm>
            <a:off x="3924360" y="2492280"/>
            <a:ext cx="1127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3" descr="дети"/>
          <p:cNvPicPr/>
          <p:nvPr/>
        </p:nvPicPr>
        <p:blipFill>
          <a:blip r:embed="rId2"/>
          <a:stretch/>
        </p:blipFill>
        <p:spPr>
          <a:xfrm>
            <a:off x="2195640" y="2781360"/>
            <a:ext cx="4103640" cy="2663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32000" y="83664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6:52:07Z</dcterms:created>
  <dc:creator>Larisa</dc:creator>
  <dc:description/>
  <dc:language>en-US</dc:language>
  <cp:lastModifiedBy>Larisa</cp:lastModifiedBy>
  <dcterms:modified xsi:type="dcterms:W3CDTF">2012-10-26T14:59:44Z</dcterms:modified>
  <cp:revision>24</cp:revision>
  <dc:subject/>
  <dc:title>Слайд 1</dc:title>
</cp:coreProperties>
</file>