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F224-E300-42B9-A9AF-5782AC5D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4A0-6839-4833-B4A5-619A1242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024-71A7-42B4-B0BC-B122A380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886F-327B-4382-99C6-8BDF9F7D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B74-5CBF-4338-8B19-6ACD9C07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B808-6AB9-406F-B2F0-9361D812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68C1-9634-4609-957E-DF276C71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10A-169B-4BD9-B7C8-29D444A6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C19-5C28-45EC-BB6B-58057233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945-E678-4A0E-8CFC-695E4C55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3B9-9396-43B1-90CB-316E07CD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D4B-3C00-49C1-B172-961C7965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9AE5-E9F7-4A8D-A1AE-662C773ED5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rambler.ru/pic_cache?url=http%3A//www.staber.ru/goods.php%3FClassID%3D558&amp;bi=http%3A//www.staber.ru/images/goods/0852.jpeg&amp;i=http%3A//media3.picsearch.com/is%3FBUqgA6msAczyZeW5sX4xXrtvKXoYSgM1ivlEETWx8S0&amp;w=128&amp;h=110&amp;f=25&amp;q=&#1088;&#1091;&#1076;&#1086;&#1083;&#1100;&#1092;%20&#1076;&#1080;&#1079;&#1077;&#1083;&#1100;&amp;p=1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ages.rambler.ru/pic_cache?url=http%3A//www.avtomedia.ru/publications/publication/show/266.htm&amp;bi=http%3A//www.avtomedia.ru/_data/publications/0000266/_3.jpg&amp;i=http%3A//media1.picsearch.com/is%3F4mu1nJ-Ss1siiAHKcZ3pHGt4KYRk5jD9_qliwCoROUw&amp;w=128&amp;h=119&amp;f=41&amp;q=&#1088;&#1091;&#1076;&#1086;&#1083;&#1100;&#1092;%20&#1076;&#1080;&#1079;&#1077;&#1083;&#1100;&amp;p=1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rambler.ru/pic_cache?url=http%3A//www.waterpurifier.ru/catalog/items/141.html&amp;bi=http%3A//www.waterpurifier.ru/uploads/RTEmagicC_G-4.JPG.JPG&amp;i=http%3A//media2.picsearch.com/is%3FQnhTZw_SThJSso3FZc54UWAthtpCocruuLdVe9g3e-w&amp;w=128&amp;h=91&amp;f=7&amp;q=&#1093;&#1072;&#1085;&#1089;%20&#1075;&#1077;&#1081;&#1079;&#1077;&#1088;&amp;p=2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images.rambler.ru/pic_cache?url=http%3A//www.fant-asia.ru/interesno.htm&amp;bi=http%3A//www.fant-asia.ru/humboldt.jpg&amp;i=http%3A//media3.picsearch.com/is%3FZGvk8KJ_6WSJYLERox3e3kdJlkF4K5HTvcB22f7dX70&amp;w=105&amp;h=128&amp;f=10&amp;q=&#1075;&#1072;&#1085;&#1089;%20&#1074;&#1080;&#1083;&#1100;&#1075;&#1077;&#1083;&#1100;&#1084;%20&#1075;&#1077;&#1081;&#1079;&#1077;&#1088;&amp;p=1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rambler.ru/pic_cache?url=http%3A//infotrash.ru/Bse/A-GOGO/0373.htm&amp;bi=http%3A//infotrash.ru/Bse/A-GOGO/0373-1.jpg&amp;i=http%3A//media3.picsearch.com/is%3FTyMNO2lirMtemiw9DEA5hBmThtSnbTj-pOPMF-5cjn8&amp;w=128&amp;h=107&amp;f=9&amp;q=&#1073;&#1088;&#1072;&#1081;&#1083;&#1100;&amp;p=1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images.rambler.ru/pic_cache?url=http%3A//dob.1september.ru/2002/13/4.htm&amp;bi=http%3A//dob.1september.ru/2002/13/6.jpg&amp;i=http%3A//media1.picsearch.com/is%3F53JibdB5LMz8bKx5tsAY21PoCPJDjPwiewe6FnOvwrs&amp;w=128&amp;h=128&amp;f=12&amp;q=&#1073;&#1088;&#1072;&#1081;&#1083;&#1100;%20&#1083;&#1091;&#1080;&amp;p=1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images.rambler.ru/pic_cache?url=http%3A//www.mobimag.ru/Articles/1742/SFB_MORZE.htm&amp;bi=http%3A//www.mobimag.ru/Articles/8/1742/standingmorse2s.jpg&amp;i=http%3A//media3.picsearch.com/is%3F5awIuwWb50IPXjj03twRJSxucEUPpXtLWKP2GwKL8lY&amp;w=106&amp;h=128&amp;f=7&amp;q=&#1084;&#1086;&#1088;&#1079;&#1077;&amp;p=1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rambler.ru/pic_cache?url=http%3A//www.prompostavka.com/production/cement/alumina/&amp;bi=http%3A//www.prompostavka.com/images/domen_pech.jpg&amp;i=http%3A//media5.picsearch.com/is%3FLUvYvtWgUNdpZZikzvCB2TRlJH_Qcagr18YSUHv0sjc&amp;w=103&amp;h=128&amp;f=10&amp;q=&#1092;&#1088;&#1072;&#1085;&#1082;&#1083;&#1080;&#1085;%20&#1076;&#1086;&#1084;&#1077;&#1085;&#1085;&#1072;&#1103;%20&#1087;&#1077;&#1095;&#1100;&amp;p=1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images.rambler.ru/pic_cache?url=http%3A//mech.math.msu.su/%7Eapentus/znaete/slova/d.htm&amp;bi=http%3A//mech.math.msu.su/%7Eapentus/znaete/images/s_domna2.jpg&amp;i=http%3A//media3.picsearch.com/is%3FBHvGuvunMj2jgXUp-Iium_IChbiz17BAsm-1ASRApzo&amp;w=100&amp;h=98&amp;f=3&amp;q=&#1092;&#1088;&#1072;&#1085;&#1082;&#1083;&#1080;&#1085;%20&#1076;&#1086;&#1084;&#1077;&#1085;&#1085;&#1072;&#1103;%20&#1087;&#1077;&#1095;&#1100;&amp;p=1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images.rambler.ru/pic_cache?url=http%3A//www.home-edu.ru/user/f/00000951/biograf/franklin.htm&amp;bi=http%3A//www.home-edu.ru/user/f/00000951/biograf/pic/franklin.jpg&amp;i=http%3A//media3.picsearch.com/is%3FoJek3LGQ98_EOqieGjHzhgyqIuA7TCwdk_IjDxMUd3o&amp;w=96&amp;h=128&amp;f=9&amp;q=&#1092;&#1088;&#1072;&#1085;&#1082;&#1083;&#1080;&#1085;&amp;p=1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rambler.ru/pic_cache?url=http%3A//www.lifeinfo.info/2006/03/03/chto_izobrel_dzhordzh_pulman_krome_znamenitogo_spalnogo_vagona.html&amp;bi=http%3A//vibiraem.com/uploads/sjimg/content/i9/9139.jpg&amp;i=http%3A//media2.picsearch.com/is%3FrKobZKcNkEAvJS9LCdkdpLdHRafqT2t8dWlRYLDt96Q&amp;w=128&amp;h=96&amp;f=50&amp;q=&#1087;&#1091;&#1083;&#1100;&#1084;&#1072;&#1085;%20&#1080;&#1079;&#1086;&#1073;&#1088;&#1077;&#1090;&#1072;&#1090;&#1077;&#1083;&#1100;%20&#1074;&#1072;&#1075;&#1086;&#1085;&#1072;&amp;p=1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a50021"/>
                </a:solidFill>
                <a:latin typeface="Arial Narrow"/>
              </a:rPr>
              <a:t>Inventions named after their invento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11280" y="1052640"/>
            <a:ext cx="6021360" cy="51800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4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Rudolf Diesel</a:t>
            </a:r>
            <a:br>
              <a:rPr sz="3600"/>
            </a:b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(1858-1913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3716280"/>
            <a:ext cx="162540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1628640"/>
            <a:ext cx="6050160" cy="4300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8360" y="1700280"/>
            <a:ext cx="2184480" cy="2663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Hans Wilhelm Geiser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(1882-1945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1484280"/>
            <a:ext cx="6121440" cy="5116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2349360"/>
            <a:ext cx="2737080" cy="27370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Luis Braille</a:t>
            </a:r>
            <a:br>
              <a:rPr sz="3600"/>
            </a:b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(1809 – 1852)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Louis Pasteur</a:t>
            </a:r>
            <a:br>
              <a:rPr sz="3600"/>
            </a:b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(1822-1895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 "/>
          <p:cNvPicPr/>
          <p:nvPr/>
        </p:nvPicPr>
        <p:blipFill>
          <a:blip r:embed="rId2"/>
          <a:stretch/>
        </p:blipFill>
        <p:spPr>
          <a:xfrm>
            <a:off x="539640" y="2133720"/>
            <a:ext cx="336564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John B. Stets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3333cc"/>
                </a:solidFill>
                <a:latin typeface="ROL-K8/Courier"/>
              </a:rPr>
              <a:t>Ковбойская шляпа — фетровая, кожаная или соломенная шляпа, с высокой округлой тульёй, вогнутой сверху, и с широкими подогнутыми вверх по бокам полями. Современная ковбойская шляпа была изобретена Джоном Стетсоном  в 1860-х годах. До сих пор популярна на юго-западе США, на севере Мексики и в западных провинциях Канады. Является атрибутом американских ковбоев и ранчеров, а также исполнителей музыки кантри. Стилизованная ковбойская шляпа присутствует на флаге канадского города Калгар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imes New Roman"/>
              </a:rPr>
              <a:t>CARDIG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5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Джеймс Томас Брюднелл, 7-й граф Кардиган, или Лорд Кардиган (англ.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James Thomas Brudenell, 7th Earl of Cardigan; 16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ктября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1797 — 28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март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1868) —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английски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генерал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Ему приписывается изобретение вязаного жакета на пуговицах и без воротника, который поддевался под форменный мундир, так называемого свитера «кардиган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дной из разновидностей кофты является кардиган (англ. cardigan) — вязаный шерстяной жакет по фигуре, без воротника, на пуговицах, с глубоким вырез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Назван в честь седьмого графа Кардигана, носившего подобный свит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99880" cy="1981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572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imes New Roman"/>
              </a:rPr>
              <a:t>KO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064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КОЛЬТ (Colt) Сэмюэл (10 июля 1814, Хартфорд, штат Коннектикут — 10 января 1862, там же), американский конструктор стрелкового оружия и промышленник, основатель оружейной фир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 молодости был моряком. Кольт считается автором удачной схемы модернизации револьвера (1835), но в гораздо больше степени он проявил себя как организатор промышленного производства оружия и талантливый бизнесмен. Кольт основал оружейный завод в Хартфорде, где работали самые квалифицированные оружейные специалисты своего врем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793960" cy="129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451640" y="333360"/>
            <a:ext cx="1371600" cy="19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imes New Roman"/>
              </a:rPr>
              <a:t>MACKINTOS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В 1823 году шотландский химик Чарльз Макинтош,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                    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проводя очередной опыт, измазал рукав пиджа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                    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раствором каучука и спустя некоторое время заметил, что рукав пиджака не промокает. Он запатентовал это изобретение и основал компанию Charles Macintosh and Co. по производству непромокаемых изделий — макинтош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Макинто́ш (англ. mackintosh) — плащ из непромокаемой прорезиненной ткани, а также летнее (обычно габардиновое) мужское пальто по типу такого плаща, бывшее в моде в середине XIX 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86048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imes New Roman"/>
              </a:rPr>
              <a:t>J. Bowi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278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James Bowie; 10 апреля 1796 — 6 марта 1836) — американский авантюрист, герой Техасской революц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В 1827 г. он получил огнестрельное и ножевое ранения в драке с шерифом местечка Рэпидс-Пэриш, которого прикончил большим ножом со срезанным клинком (т. н. «нож Боуи»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С началом техасской борьбы за независимость Боуи возглавил местное ополчение в боях за Консепсьон и т. н. «битве за сено» (1835). В 1836 г. Боуи руководил защитой миссии Аламо в Сан-Антонио. Все защитники осаждённой крепости погибли в бою. Боуи был прикован к постели болезнью, однако перед смертью, как гласит предание, успел разрядить свои пистолеты в ворвавшихся в его комнату мексиканце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67616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 "/>
          <p:cNvPicPr/>
          <p:nvPr/>
        </p:nvPicPr>
        <p:blipFill>
          <a:blip r:embed="rId2"/>
          <a:stretch/>
        </p:blipFill>
        <p:spPr>
          <a:xfrm>
            <a:off x="2268360" y="333360"/>
            <a:ext cx="6407280" cy="6407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Samuel Finley Breeze Morse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(17-91-187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133720"/>
            <a:ext cx="310032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03720" y="260280"/>
            <a:ext cx="5099040" cy="6337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02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B. Frankl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20000" y="4653000"/>
            <a:ext cx="1800000" cy="1763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 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8360" y="2997360"/>
            <a:ext cx="232236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G.H. Pullm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2041560"/>
            <a:ext cx="51861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2T10:59:36Z</dcterms:modified>
  <cp:revision>2</cp:revision>
  <dc:subject/>
  <dc:title>PowerPoint Presentation</dc:title>
</cp:coreProperties>
</file>