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189-40A5-4097-A056-ACCA475C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8C6-39D0-4DAC-9293-4E8A4B5A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338-BEF7-448C-BE5F-A728D4D6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E79-C825-4278-B50D-2B36900C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7315-429E-4A9F-8392-104B2D53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FD4F-4B68-4101-B90A-CEDAC865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6FDE-A0FA-483D-8AD1-67AC907B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40E5-CBAC-45F8-8446-03D21903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7830-5D20-4344-9822-5FCDE169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8C99-C624-4898-9824-560A20D9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357E-DFC8-4684-AE63-9A761F3D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1DC-B103-4A85-BB9B-B3EBD81B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7825-4FF4-4286-8503-DF45A30A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F491-5949-4C16-8DF2-2BA450C7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1017-83D1-4F26-816C-B5130E14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C6E7-3632-4168-B9CF-1BF02577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134B-6B83-4908-99CB-E6AAE99C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BF9A-813C-4F07-A545-5FB56137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862-CA1A-4AEA-A470-E053776C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041-C156-4E6D-BC6C-C1251F21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BCB-BDD2-4389-8BCF-433CB580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7C6-BBC0-4AD1-AE84-90598243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726-C39A-4A49-8E0E-04565AC6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80E-30CD-4050-BE1D-96AD30EF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03A4-038C-4E4B-8B13-9630150A66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F449-48ED-45C7-85C2-FF7A794C36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Кровь – «зеркало» организма</a:t>
            </a:r>
            <a:endParaRPr b="0" lang="en-US" sz="5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419360" y="4266720"/>
            <a:ext cx="4267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Выполнила: Городилова Ан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Ученица 2-В класса, СОШ № 130 г.Уф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Руководитель: Гришаева Е.В. ,учитель начальных клас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Значение крови</a:t>
            </a: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вь участвует в регуляции температуры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вь выполняет защитную функцию: попавшие в нее микробы и различные чужеродные вещества разрушаются, уничтожаются и обезвреживаются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вь выносит из организма продукты расп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70347" t="1949" r="-1991" b="53375"/>
          <a:stretch/>
        </p:blipFill>
        <p:spPr>
          <a:xfrm>
            <a:off x="1143000" y="1447920"/>
            <a:ext cx="2057400" cy="1743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70811" t="52519" r="0" b="4717"/>
          <a:stretch/>
        </p:blipFill>
        <p:spPr>
          <a:xfrm>
            <a:off x="2666880" y="3352680"/>
            <a:ext cx="1905120" cy="1630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36412" t="52519" r="33386" b="4028"/>
          <a:stretch/>
        </p:blipFill>
        <p:spPr>
          <a:xfrm>
            <a:off x="1143000" y="5029200"/>
            <a:ext cx="1905120" cy="164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Результаты исследования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1818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авнивая количественный состав кровяных клеток у здорового и больного человека мы делаем вывод, что состав крови при заболевании меняется: количество эритроцитов уменьшилось, лейкоцитов – увеличилось, а тромбоцитов – уменьшило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600880" y="1523880"/>
          <a:ext cx="3390840" cy="226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00880" y="1523880"/>
                    <a:ext cx="3390840" cy="22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791320" y="3352680"/>
          <a:ext cx="2819160" cy="187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1320" y="3352680"/>
                    <a:ext cx="28191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791320" y="5079960"/>
          <a:ext cx="2743200" cy="18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507996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Выводы: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В результате исследования мы выясн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*Кровь состоит из плазмы и кровяных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*Количество крови в организме поддерж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постоя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*Кровь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может выполнять жизненно необходи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, только находясь в непрерывном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движении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*Любое заболевание вызывает изменение состава крови,   что служит одним из показателей при установлении  диагноза того или иного заболе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Цель работы: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яснить, что можно узнать о здоровье человека по составу и анализу кров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Задачи: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учить состав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яснить значение крови для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авнить анализы крови здорового  и больного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роить диаграммы на основе полученны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ть вывод об изменении количественного состава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Состав крови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1600200"/>
            <a:ext cx="7771680" cy="4529520"/>
            <a:chOff x="914400" y="1600200"/>
            <a:chExt cx="7771680" cy="4529520"/>
          </a:xfrm>
        </p:grpSpPr>
        <p:cxnSp>
          <p:nvCxnSpPr>
            <p:cNvPr id="105" name="_s273429"/>
            <p:cNvCxnSpPr>
              <a:stCxn id="106" idx="0"/>
              <a:endCxn id="107" idx="2"/>
            </p:cNvCxnSpPr>
            <p:nvPr/>
          </p:nvCxnSpPr>
          <p:spPr>
            <a:xfrm flipV="1">
              <a:off x="4800240" y="4430880"/>
              <a:ext cx="2880" cy="566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08" name="_s273427"/>
            <p:cNvCxnSpPr>
              <a:stCxn id="109" idx="0"/>
              <a:endCxn id="107" idx="2"/>
            </p:cNvCxnSpPr>
            <p:nvPr/>
          </p:nvCxnSpPr>
          <p:spPr>
            <a:xfrm flipV="1" rot="16200000">
              <a:off x="5877000" y="3353400"/>
              <a:ext cx="566640" cy="2720880"/>
            </a:xfrm>
            <a:prstGeom prst="bentConnector3">
              <a:avLst>
                <a:gd name="adj1" fmla="val 2015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10" name="_s273425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3156840" y="3353760"/>
              <a:ext cx="566640" cy="2720880"/>
            </a:xfrm>
            <a:prstGeom prst="bentConnector3">
              <a:avLst>
                <a:gd name="adj1" fmla="val 2015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12" name="_s273419"/>
            <p:cNvCxnSpPr>
              <a:stCxn id="107" idx="0"/>
              <a:endCxn id="113" idx="2"/>
            </p:cNvCxnSpPr>
            <p:nvPr/>
          </p:nvCxnSpPr>
          <p:spPr>
            <a:xfrm flipV="1" rot="16200000">
              <a:off x="3836880" y="2334960"/>
              <a:ext cx="566640" cy="1360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14" name="_s273418"/>
            <p:cNvCxnSpPr>
              <a:stCxn id="115" idx="0"/>
              <a:endCxn id="113" idx="2"/>
            </p:cNvCxnSpPr>
            <p:nvPr/>
          </p:nvCxnSpPr>
          <p:spPr>
            <a:xfrm flipH="1" flipV="1" rot="5400000">
              <a:off x="2476800" y="2334960"/>
              <a:ext cx="566640" cy="136080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13" name="_s273414"/>
            <p:cNvSpPr/>
            <p:nvPr/>
          </p:nvSpPr>
          <p:spPr>
            <a:xfrm>
              <a:off x="2274480" y="1600200"/>
              <a:ext cx="2331360" cy="11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cc0000"/>
                  </a:solidFill>
                  <a:latin typeface="Georgia"/>
                </a:rPr>
                <a:t>Кровь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73415"/>
            <p:cNvSpPr/>
            <p:nvPr/>
          </p:nvSpPr>
          <p:spPr>
            <a:xfrm>
              <a:off x="914400" y="3298680"/>
              <a:ext cx="2331360" cy="11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a50021"/>
                  </a:solidFill>
                  <a:latin typeface="Georgia"/>
                </a:rPr>
                <a:t>Плазм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73416"/>
            <p:cNvSpPr/>
            <p:nvPr/>
          </p:nvSpPr>
          <p:spPr>
            <a:xfrm>
              <a:off x="3634560" y="3298680"/>
              <a:ext cx="2331360" cy="11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a50021"/>
                  </a:solidFill>
                  <a:latin typeface="Georgia"/>
                </a:rPr>
                <a:t>Клетки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73424"/>
            <p:cNvSpPr/>
            <p:nvPr/>
          </p:nvSpPr>
          <p:spPr>
            <a:xfrm>
              <a:off x="914400" y="4997520"/>
              <a:ext cx="2331360" cy="11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Georgia"/>
                </a:rPr>
                <a:t>Эритроциты</a:t>
              </a:r>
              <a:r>
                <a:rPr b="1" lang="en-US" sz="13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73426"/>
            <p:cNvSpPr/>
            <p:nvPr/>
          </p:nvSpPr>
          <p:spPr>
            <a:xfrm>
              <a:off x="6354720" y="4997520"/>
              <a:ext cx="2331360" cy="11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Тромбоциты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73428"/>
            <p:cNvSpPr/>
            <p:nvPr/>
          </p:nvSpPr>
          <p:spPr>
            <a:xfrm>
              <a:off x="3634560" y="4997520"/>
              <a:ext cx="2331360" cy="11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Лейкоциты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Плазма</a:t>
            </a: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4114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у кр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плазм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прозра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елтоватая солонова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идкость, которая состо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воды и растворенных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й веще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3388" t="8511" r="3388" b="4255"/>
          <a:stretch/>
        </p:blipFill>
        <p:spPr>
          <a:xfrm>
            <a:off x="4800600" y="533520"/>
            <a:ext cx="419112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Эритроциты</a:t>
            </a: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Эритроцит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асные кровяные к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и делают кровь красной. Эритроц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олняют самую важную работ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носят в потоке крови от легких ко в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каням кислород, а от тканей к лег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лекислый г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Лейкоциты 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a50021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Лейкоциты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белые кровяные клетки.  Эти клетки борются с инфекциями, ядами, убивают микробов, проникающих в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Тромбоциты 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Тромбоци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ровяные пластинки, которые помогают крови сворачиваться, когда при порезе, ранении она вытекает из р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ановить кровь – главная задача тромбоци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Значение крови</a:t>
            </a: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овь доставляет клеткам кислород и выносит из них углекислый газ. Обогащение крови кислородом происходит через капилляры легких, где кровь отдает углекислый газ, который удаляется с выдыхаемым воздухом. Протекая через капилляры различных тканей и органов, кровь отдает им кислород и поглощает углекислый г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роцессе пищеварения происходит расщепление пищевых продуктов. Эти вещества поступают в кровь и разносятся ею по всему орган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rcRect l="3261" t="3624" r="67392" b="52864"/>
          <a:stretch/>
        </p:blipFill>
        <p:spPr>
          <a:xfrm>
            <a:off x="6019920" y="4038480"/>
            <a:ext cx="2666880" cy="2340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rcRect l="3104" t="53303" r="67107" b="3398"/>
          <a:stretch/>
        </p:blipFill>
        <p:spPr>
          <a:xfrm>
            <a:off x="5943600" y="1752480"/>
            <a:ext cx="2743200" cy="2127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0-26T17:50:4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