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9ED-9A04-48E9-9EB0-02EE0DF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BE9-D4B0-4DEF-B971-36DDA0B6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516-A545-4839-AB7A-73D0AF89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8C7-880B-4CAD-BD4F-FBF5D515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973-BC46-44CD-9F82-25D34CDD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4A3D-950A-4156-AF5D-871EDB53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4D7F-B4C3-41C2-A269-609F110C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862D-02EE-4D2D-B3E5-6C84FD7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30D-90C5-44EC-A611-C51AE35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FA4-F412-420F-9EE6-0E4DCF96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CE37-3A12-4FF8-9F02-6DF9FAC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55E-2E0F-4D6A-833D-B450D5BD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8580-9F24-4FFC-BF8D-8C7E4BA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740-389B-429F-BB68-2B5E850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136-FD98-406C-849B-CAB1C46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353-2E46-4DCA-B65C-CB734041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46AC-F117-4E2B-9811-4A6673AF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D08-5155-479C-8435-3553C86C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338-BF4A-4777-8CA0-E8B5874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566-D5B3-490E-AA5C-F200E88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9AC-64CA-4724-8485-EE0333BB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E70-7589-438E-9687-AAB9A22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63B-290B-4022-A4CE-D7FFE30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B93-8DD0-4396-B52D-06186AF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19C1-37D5-4291-B0AF-B219B79047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4D2B-767A-42CA-A61E-42787455B7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овь – «зеркало» организма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Выполнила: Городилова Ан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Ученица 2-В класса, СОШ № 130 г.Уф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Руководитель: Гришаева Е.В. ,учитель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Значение крови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участвует в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выполняет защитную функцию: попавшие в нее микробы и различные чужеродные вещества разрушаются, уничтожаются и обезвреживаютс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выносит из организма продукты расп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70347" t="1949" r="-1991" b="53375"/>
          <a:stretch/>
        </p:blipFill>
        <p:spPr>
          <a:xfrm>
            <a:off x="1143000" y="144792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70811" t="52519" r="0" b="4717"/>
          <a:stretch/>
        </p:blipFill>
        <p:spPr>
          <a:xfrm>
            <a:off x="2666880" y="3352680"/>
            <a:ext cx="1905120" cy="1630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36412" t="52519" r="33386" b="4028"/>
          <a:stretch/>
        </p:blipFill>
        <p:spPr>
          <a:xfrm>
            <a:off x="1143000" y="5029200"/>
            <a:ext cx="190512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Результаты исследовани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818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ивая количественный состав кровяных клеток у здорового и больного человека мы делаем вывод, что состав крови при заболевании меняется: количество эритроцитов уменьшилось, лейкоцитов – увеличилось, а тромбоцитов – уменьш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600880" y="1523880"/>
          <a:ext cx="3390840" cy="226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0880" y="1523880"/>
                    <a:ext cx="339084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791320" y="3352680"/>
          <a:ext cx="281916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3352680"/>
                    <a:ext cx="28191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91320" y="5079960"/>
          <a:ext cx="274320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50799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Выводы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В результате исследования мы выясн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Кровь состоит из плазмы и кровяны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Количество крови в организме поддерж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остоя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*Кровь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может выполнять жизненно необход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, только находясь в непрерывном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вижени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Любое заболевание вызывает изменение состава крови,   что служит одним из показателей при установлении  диагноза того или иного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яснить, что можно узнать о здоровье человека по составу и анализу кр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ить состав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яснить значение крови для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ить анализы крови здорового  и больно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ить диаграммы на основе получен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ть вывод об изменении количественного состава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Состав крови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1600200"/>
            <a:ext cx="7771680" cy="4529520"/>
            <a:chOff x="914400" y="1600200"/>
            <a:chExt cx="7771680" cy="4529520"/>
          </a:xfrm>
        </p:grpSpPr>
        <p:cxnSp>
          <p:nvCxnSpPr>
            <p:cNvPr id="105" name="_s273429"/>
            <p:cNvCxnSpPr>
              <a:stCxn id="106" idx="0"/>
              <a:endCxn id="107" idx="2"/>
            </p:cNvCxnSpPr>
            <p:nvPr/>
          </p:nvCxnSpPr>
          <p:spPr>
            <a:xfrm flipV="1">
              <a:off x="4800240" y="4430880"/>
              <a:ext cx="2880" cy="566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8" name="_s273427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5877000" y="3353400"/>
              <a:ext cx="566640" cy="2720880"/>
            </a:xfrm>
            <a:prstGeom prst="bentConnector3">
              <a:avLst>
                <a:gd name="adj1" fmla="val 2015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0" name="_s273425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3156840" y="3353760"/>
              <a:ext cx="566640" cy="2720880"/>
            </a:xfrm>
            <a:prstGeom prst="bentConnector3">
              <a:avLst>
                <a:gd name="adj1" fmla="val 2015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2" name="_s273419"/>
            <p:cNvCxnSpPr>
              <a:stCxn id="107" idx="0"/>
              <a:endCxn id="113" idx="2"/>
            </p:cNvCxnSpPr>
            <p:nvPr/>
          </p:nvCxnSpPr>
          <p:spPr>
            <a:xfrm flipV="1" rot="16200000">
              <a:off x="3836880" y="2334960"/>
              <a:ext cx="566640" cy="1360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4" name="_s273418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2476800" y="2334960"/>
              <a:ext cx="566640" cy="136080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13" name="_s273414"/>
            <p:cNvSpPr/>
            <p:nvPr/>
          </p:nvSpPr>
          <p:spPr>
            <a:xfrm>
              <a:off x="2274480" y="160020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00"/>
                  </a:solidFill>
                  <a:latin typeface="Georgia"/>
                </a:rPr>
                <a:t>Кровь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73415"/>
            <p:cNvSpPr/>
            <p:nvPr/>
          </p:nvSpPr>
          <p:spPr>
            <a:xfrm>
              <a:off x="914400" y="329868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a50021"/>
                  </a:solidFill>
                  <a:latin typeface="Georgia"/>
                </a:rPr>
                <a:t>Плазм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73416"/>
            <p:cNvSpPr/>
            <p:nvPr/>
          </p:nvSpPr>
          <p:spPr>
            <a:xfrm>
              <a:off x="3634560" y="329868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a50021"/>
                  </a:solidFill>
                  <a:latin typeface="Georgia"/>
                </a:rPr>
                <a:t>Клетки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73424"/>
            <p:cNvSpPr/>
            <p:nvPr/>
          </p:nvSpPr>
          <p:spPr>
            <a:xfrm>
              <a:off x="91440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eorgia"/>
                </a:rPr>
                <a:t>Эритроциты</a:t>
              </a:r>
              <a:r>
                <a:rPr b="1" lang="en-US" sz="13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73426"/>
            <p:cNvSpPr/>
            <p:nvPr/>
          </p:nvSpPr>
          <p:spPr>
            <a:xfrm>
              <a:off x="635472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Тромбоциты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73428"/>
            <p:cNvSpPr/>
            <p:nvPr/>
          </p:nvSpPr>
          <p:spPr>
            <a:xfrm>
              <a:off x="363456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Лейкоциты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Плазма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у кр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плазм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прозра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товатая солон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дкость, которая со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воды и растворенных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й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388" t="8511" r="3388" b="4255"/>
          <a:stretch/>
        </p:blipFill>
        <p:spPr>
          <a:xfrm>
            <a:off x="4800600" y="53352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Эритроциты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Эритроци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асные кровяны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 делают кровь красной. Эритроц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яют самую важную работ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осят в потоке крови от легких ко в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каням кислород, а от тканей к лег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екислый г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Лейкоциты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Лейкоцит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белые кровяные клетки.  Эти клетки борются с инфекциями, ядами, убивают микробов, проникающих в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Тромбоциты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Тромбоци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овяные пластинки, которые помогают крови сворачиваться, когда при порезе, ранении она вытекает из р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новить кровь – главная задача тромбоци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Значение крови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вь доставляет клеткам кислород и выносит из них углекислый газ. Обогащение крови кислородом происходит через капилляры легких, где кровь отдает углекислый газ, который удаляется с выдыхаемым воздухом. Протекая через капилляры различных тканей и органов, кровь отдает им кислород и поглощает углекислый г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роцессе пищеварения происходит расщепление пищевых продуктов. Эти вещества поступают в кровь и разносятся ею по всем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rcRect l="3261" t="3624" r="67392" b="52864"/>
          <a:stretch/>
        </p:blipFill>
        <p:spPr>
          <a:xfrm>
            <a:off x="6019920" y="4038480"/>
            <a:ext cx="2666880" cy="23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3104" t="53303" r="67107" b="3398"/>
          <a:stretch/>
        </p:blipFill>
        <p:spPr>
          <a:xfrm>
            <a:off x="5943600" y="1752480"/>
            <a:ext cx="27432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6T17:5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