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B7E-2B50-4B93-875A-0D0BE8B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0F8-7EA8-41F4-B223-FD0CB728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B0D-7B29-45D4-9FD7-B3722EA7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761-C3C2-4F7B-9133-F1E40216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86C-E4AD-4A3A-BAE9-D715313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EA5-09DE-43B0-80A7-17853EE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8DA-BA3C-4C4D-919D-969BDC47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87E-1A24-427D-8F08-55B457C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88F-3E35-459D-BCAC-907CD987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99C-8D4C-45E7-95BB-CC78A1B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96B-E5B3-4839-98CE-B9DE24B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721-5974-4251-8BCA-2A7C94E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179-6033-4427-806E-DA48D8FAC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еликий классик немецкой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ы Г. Гей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Игнатьева М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Ш №26 г. Великий 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4560" y="274680"/>
            <a:ext cx="69148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4560" y="274680"/>
            <a:ext cx="69148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33360" y="380880"/>
            <a:ext cx="66772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7692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56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8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33360" y="274680"/>
            <a:ext cx="667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29:26Z</dcterms:created>
  <dc:creator>lera8</dc:creator>
  <dc:description/>
  <dc:language>en-US</dc:language>
  <cp:lastModifiedBy>lera8</cp:lastModifiedBy>
  <dcterms:modified xsi:type="dcterms:W3CDTF">2012-11-03T18:09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