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64B-5A87-4C73-B067-BDE48A92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3E8-0545-4D3B-95CB-61B5D2D8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299-7C94-4E08-8C36-FE43311B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A7F-7945-4F8C-9ED8-88BEEA62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5026-2281-4D76-A9FC-B8F36ABD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663D-FDB3-40BD-A356-8ED5C353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361C-DF83-4D58-A84C-7DE9BA5F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D7A3-4FC2-4DA8-BFF0-537A9835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A208-293B-453C-A3B3-D1C95667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3B41-2980-4C5C-800D-E6DAD2E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29DF-0C4A-4319-8F88-72F91354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38C-A96B-4B91-AD66-E5434BA8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B5EE-A500-4548-B578-DBDD9A37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0B61-A9B0-4471-AA10-05C35427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9F76-89C7-459E-A179-EBB6C299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614F-73BE-4648-91DC-0B338391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F567-1F0A-4426-A8F4-0876E22D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5DC-1DF1-4FD6-B917-86B0DE65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694-CF02-4CD1-B069-D2A2DD4B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494-40B2-4057-AEEE-7D1680EF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127-CDAD-4961-94B5-96AABDC6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B8C-892B-441A-B85C-515A94A1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1E7-807C-4587-8A44-26BCC8A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A75-835E-4C1D-8B19-C29FFF7C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746E-C44F-4C4D-B9D0-B25CA1CC61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3765-EE95-4B15-834D-09F6D9D9B920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H:/&#1052;&#1072;&#1088;&#1075;&#1072;&#1088;&#1080;&#1090;&#1072;.ppt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H:/&#1050;&#1056;&#1054;&#1057;&#1057;&#1042;&#1054;&#1056;&#1044;%20&#1055;&#1054;%20&#1048;&#1057;&#1058;&#1054;&#1056;&#1048;&#1048;%202.pps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H:/&#1080;&#1089;&#1090;&#1086;&#1088;&#1080;&#1103;%20&#1079;&#1077;&#1084;&#1083;&#1080;%20&#1042;&#1103;&#1090;&#1089;&#1082;&#1086;&#1081;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341360"/>
            <a:ext cx="6838920" cy="26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Развитие творческих способностей учащихся  на уроках истории и во внеурочной деятельност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8360" y="4797000"/>
            <a:ext cx="2984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Учитель истории и обществознания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Цыбаева Елена Алексеевна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МКОУ СОШ с УИОП №2 г. Котельнича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Ролевые игры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ри изучении Истории Древнего мира инсценирование мифа как способ деятельности, в котором сходятся историко-культурные особенности древней цивилизации и позиции автора инсценировки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«Похищение золотого руна»,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«Дедал и Икар»,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«Вельможа на приеме у фараона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Эсс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Трагедия гражданской войны 1918 – 1921 года учит нас…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Arial"/>
              </a:rPr>
              <a:t>В качестве домашнего задания предлагаю выделить из десяти библейских заповедей, на ваш взгляд, наиболее значимую и написать эссе на тему: «Хочу жить по правилу…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Анализ художественного текст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Тема: Гражданская война в Росси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Вот как писала об этом М. Цветаева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 “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Как правая и левая рука,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Твоя душа моей душе близка,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Мы смежены блаженно и тепло,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Как правое и левое крыло.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Но вихрь прошел, и пропасть пролегла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От правого до левого крыла”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А. Блок написал следующие строки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  “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Все это может показаться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мешным и устаревшим нам,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но, право, может только хам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над русской жизнью насмехаться.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Она всегда меж двух огней,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Не каждый может стать героем,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И люди лучшие, не скроем,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Бессильны часто перед ней”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Какие проблемы видят авторы этих строк в гражданской войне?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Научно-практические конференци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18920" y="1412640"/>
            <a:ext cx="727380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Подготовка и участие в научно- практической конференции дает ученику возможность развить свой интеллект в творческой, самостоятельной деятельности, с учетом индивидуальных особенностей и склонностей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В ходе работы над темой учащийся осознает свою значимость,  знакомится с методами научной и творческой работы, развивает познавательный интерес, любознательность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В процессе работы над избранной темой необходимо умение не только осуществлять поиск и локализацию информации, но и способность дать критическую оценку полученной информации из различных источников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Развитие коммуникативных умений  способствует большей уверенности в себе во время выступления перед аудиторией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Компьютерные технологии позволяют сделать </a:t>
            </a:r>
            <a:r>
              <a:rPr b="1" lang="ru-RU" sz="18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презентацию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яркой и впечатляющей.</a:t>
            </a: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Picture 5" descr="Изображение 105"/>
          <p:cNvPicPr/>
          <p:nvPr/>
        </p:nvPicPr>
        <p:blipFill>
          <a:blip r:embed="rId2"/>
          <a:stretch/>
        </p:blipFill>
        <p:spPr>
          <a:xfrm>
            <a:off x="0" y="0"/>
            <a:ext cx="1925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Результативность опыт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016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Использование данных приемов работы открывает путь к повышению  качества образования, т.к.  потребности школьников в самосовершенствовании можно использовать  для мотивации учения, которое будет осуществляться без принуждени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Школьники на таких уроках  более спокойны, уверенны, они имеют  возможность свободно высказывать  свое мнение, давать оценку ответам одноклассников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Творческая работа способствует развитию личности: формируются жизненно важные компетентности: коммуникативная, рефлексивная,  информационная, исследовательская, культурологическая и социальна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Результативность обучения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2006 – 2007 учебный год: 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итоговая аттестация 11 класс 4 человека сдавали историю России: итоги ЕГЭ сдавали 2 человека средний балл - 4,5; устный экзамен 2 человека средний балл – 5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Червякова Маргарита 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а Международной научной конференции «</a:t>
            </a: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VII 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Школьные Харитоновские чтения» получает звание  лауреата,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Червякова Маргарита 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а Х Региональном Конгрессе  молодых исследователей «Шаг в будущее» получает диплом 2 степени,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Турунцев Ярослав,  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учащийся 11 класса на  областной олимпиаде по истории  занимает 6 место,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2 выпускника 11 класса Турунцев Ярослав и Балыбердина Екатерина  поступают в ВГГУ на факультет «История»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2007 – 2008 учебный год: 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аттестация школы итоговая работа по истории России 11 класс – 100% уровень обученности класса, 73% написали работу на 4 и 5. Итоговая аттестация 11 класс 4 человека сдавали ЕГЭ по истории средний балл 3,75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Участие в городском конкурсе   «Викторина по истории родного края»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5 класс – 2 место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11 класс – 2 место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Ежегодно  мои учащиеся становятся победителями городских олимпиад и научно-практических конференций по истории, экономике и историческому краеведению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Опыт  творческой деятельност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Под творчеством в личностно ориентированном обучении понимается создание учеником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нового образовательного продукта 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на основе своего жизненного опыта и внутреннего потенциал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Творчество – форма самовыражения каждого школьника, независимо от уровня обучаемости  и  его познавательных возможностей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62974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Рисунки и подел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4941360"/>
            <a:ext cx="42480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оставить рассказ по своему рисунку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оставить отчет об экспедиции в первобытное общество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4" descr="SDC12862"/>
          <p:cNvPicPr/>
          <p:nvPr/>
        </p:nvPicPr>
        <p:blipFill>
          <a:blip r:embed="rId1"/>
          <a:stretch/>
        </p:blipFill>
        <p:spPr>
          <a:xfrm>
            <a:off x="684360" y="119700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DC12881"/>
          <p:cNvPicPr/>
          <p:nvPr/>
        </p:nvPicPr>
        <p:blipFill>
          <a:blip r:embed="rId2"/>
          <a:stretch/>
        </p:blipFill>
        <p:spPr>
          <a:xfrm>
            <a:off x="4967280" y="3726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SDC12874"/>
          <p:cNvPicPr/>
          <p:nvPr/>
        </p:nvPicPr>
        <p:blipFill>
          <a:blip r:embed="rId3"/>
          <a:stretch/>
        </p:blipFill>
        <p:spPr>
          <a:xfrm>
            <a:off x="5148360" y="692280"/>
            <a:ext cx="3995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Экскурси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2" name="Picture 6" descr="SDC12306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3294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9280" y="1676520"/>
            <a:ext cx="428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оставить рассказ от имени древнего жителя, проживающего на берегах Вятки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4" name="Picture 5" descr="SDC12318"/>
          <p:cNvPicPr/>
          <p:nvPr/>
        </p:nvPicPr>
        <p:blipFill>
          <a:blip r:embed="rId2"/>
          <a:stretch/>
        </p:blipFill>
        <p:spPr>
          <a:xfrm>
            <a:off x="4643280" y="3483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51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Творческое сочинение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6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2195640" y="836640"/>
            <a:ext cx="59767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11280" y="247680"/>
            <a:ext cx="493092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Олимпийские игры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8" name="Picture 5" descr="SDC12865"/>
          <p:cNvPicPr/>
          <p:nvPr/>
        </p:nvPicPr>
        <p:blipFill>
          <a:blip r:embed="rId1"/>
          <a:stretch/>
        </p:blipFill>
        <p:spPr>
          <a:xfrm>
            <a:off x="395280" y="981000"/>
            <a:ext cx="3836880" cy="287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Изображение"/>
          <p:cNvPicPr/>
          <p:nvPr/>
        </p:nvPicPr>
        <p:blipFill>
          <a:blip r:embed="rId2"/>
          <a:srcRect l="0" t="0" r="0" b="26910"/>
          <a:stretch/>
        </p:blipFill>
        <p:spPr>
          <a:xfrm>
            <a:off x="5003640" y="1268280"/>
            <a:ext cx="3768840" cy="489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SDC12864"/>
          <p:cNvPicPr/>
          <p:nvPr/>
        </p:nvPicPr>
        <p:blipFill>
          <a:blip r:embed="rId3"/>
          <a:stretch/>
        </p:blipFill>
        <p:spPr>
          <a:xfrm>
            <a:off x="1476360" y="4197240"/>
            <a:ext cx="354816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99ff"/>
                </a:solidFill>
                <a:uFillTx/>
                <a:latin typeface="Times New Roman"/>
                <a:hlinkClick r:id="rId1"/>
              </a:rPr>
              <a:t>КРОССВОРДЫ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2" name="Picture 4" descr="SDC12877"/>
          <p:cNvPicPr/>
          <p:nvPr/>
        </p:nvPicPr>
        <p:blipFill>
          <a:blip r:embed="rId2"/>
          <a:stretch/>
        </p:blipFill>
        <p:spPr>
          <a:xfrm>
            <a:off x="755640" y="1320840"/>
            <a:ext cx="813744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Проектная деятельность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Группе сильных учащихся предлагается опережающее задание: подготовить проект-презентацию с использованием компьютерных технологий  </a:t>
            </a:r>
            <a:r>
              <a:rPr b="1" lang="ru-RU" sz="20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«История Земли Вятской»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и продумать формы закрепления и контроля знаний. При этом преследуются следующие цели: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истематизация и актуализация знаний по предмету;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реализация творческих способностей учащихся;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использование новых технологий, где средства новой информационной технологии поддерживают овладение новым содержанием обучения;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внедрение новых методов и организационных форм учебной работы;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одготовка учащихся к жизни в условиях становления информационного общества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Учение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 увлечением”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12500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«Интервью с историческим героем»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Детям заранее, до начала игры, дается задание придумать интервью с историческим лицом (два человека из команды). Далее они представляют его командам не называя имени. Команда должна определить и назвать исторического деятеля и время его правлени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«Конкурс мудрецов»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Когда за доброе дело правитель страны решил наградить умного человека, тот пожелал взять столько золота, сколько весит слон. Но как же взвесить слона? В те времена не было таких весов. Чтобы в подобной ситуации смогли придумать вы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«Конкурс переводчиков»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Какие заповеди здесь написаны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Н КРСТ____________________ (не красть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Н ЛГТ_____________________ (не лгать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Н БВТ ЧЛВК_______________ (не убивать человека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ПЧТ Т ТЦ МТ____________________ (почитать отца и мать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7:28:10Z</dcterms:created>
  <dc:creator>Школа №5</dc:creator>
  <dc:description/>
  <dc:language>en-US</dc:language>
  <cp:lastModifiedBy>Лена</cp:lastModifiedBy>
  <dcterms:modified xsi:type="dcterms:W3CDTF">2012-11-03T19:39:35Z</dcterms:modified>
  <cp:revision>10</cp:revision>
  <dc:subject/>
  <dc:title>Развитие творческих способностей учащихся  на уроках истории и во внеурочной деятельности</dc:title>
</cp:coreProperties>
</file>