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806-492B-4353-95DF-9CAD6334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739-6A95-4C8E-A0B6-EC813ACC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17A-CDCC-4948-87CF-01487B15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1DE-D892-413C-B550-68F76DE9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CA35-2888-48B4-AD4A-9E2BC3D0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6A93-91BD-4C40-82E1-51C179B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DEF7-0EB2-431C-9186-6A39216E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6AF3-E964-4C29-95E8-DFDCF6D7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6CA5-9AB4-4A15-B80C-B8179E08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D96F-3C35-4ECB-9B6F-FDAFA07A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94A8-4443-45E3-B8E1-7EFA57DE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143-9A07-42B5-9F01-8420EDBC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8C06-1DC8-4351-9F6A-0D833E17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E4BF-5859-4156-9D29-0B86338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836-DB89-4962-90F9-44AC65E8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DD95-7489-460C-9E41-B9ED1104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2581-14F1-4756-89B9-7A536CFE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06A-9825-444D-B2C7-EE8ADD35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659-4B2A-4E16-A15F-63952517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149-43CA-406C-8E98-D8962A6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0B5-28B1-44B9-BBDA-B90A1D99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D2F-F0B8-419E-9004-924A077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4F2-38B1-46B8-9A3C-8FAB81A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6D5-E384-4868-8A84-DDA39A7D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2CFD-480F-42D0-8A6A-699BEF5D4B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BAC0-F1E2-4A8C-A794-F614C5EF25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38512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равянистые растения лес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од ногой в лесу трещит 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 хрустит валежник,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щем мы цветок весны,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Что зовут …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снеж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496360" cy="525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852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 в лесу, и в квасу,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 в конфетке, и в таблет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я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624720" cy="551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Есть корень кривой и рогатый,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Целебною силой богат,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, может, два века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Он ждет человека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 чащобе лесной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од кедровой сосной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ньше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Нам запах свежести лесной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риносит позднею весной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Цветок душистый, нежный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з кисти белоснежной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андыш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93080" cy="530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аленькая, аленькая,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 лес позвала, а сама спряталась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емлян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51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Зелёный и мягкий ковёр от природы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окрыл нам газоны, сады, огороды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размыслив, ты бы смог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не назвать олений мох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г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8135640" cy="525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385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пасибо за просмотр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ра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960720" cy="29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8880" y="2997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ечер в лесу: тишина и теплынь,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Запахом горьким дурманит…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лы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88000" cy="544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Я имею кислый вкус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 для щей всегда гожусь,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Я люблю в тени таиться,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А зовут меня …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исли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511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Есть в лесу трава – краса: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Листья словно паруса,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А в цвету красу – траву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е увидишь на яву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порот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92000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6:43:26Z</dcterms:created>
  <dc:creator>Шведов</dc:creator>
  <dc:description/>
  <dc:language>en-US</dc:language>
  <cp:lastModifiedBy>Шведов</cp:lastModifiedBy>
  <dcterms:modified xsi:type="dcterms:W3CDTF">2012-03-10T17:30:09Z</dcterms:modified>
  <cp:revision>2</cp:revision>
  <dc:subject/>
  <dc:title>Травянистые растения леса.</dc:title>
</cp:coreProperties>
</file>