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E215-ABA2-4A50-A6BB-95C0469EF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B025-C77C-47AA-8398-DC62089A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07E5-6603-45F3-99C1-40D75E30D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2D7F-ABFB-4D36-A157-CC1A2B45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08CE-C369-49EB-9FB2-26720BE6B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9BCA-74F8-43E6-B04A-FBE87BC0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B497-AD68-43C5-A431-E4637BA6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D498-90D1-423C-8E08-ECB66F25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7B6E-AA30-4C01-A23E-358024E5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4E76-B78C-4795-9980-CEB9ADE9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E08C-BB47-40C0-BFC6-A9C22F78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E2B3-6D9A-40FE-821E-1018D318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69CB-A275-4A49-82DE-1707008D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CE26-234B-410A-B05B-44878A3E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AADF-836A-47DC-ADB5-B0BE7636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418E-E12E-4419-BDF4-B1FBDF286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53A5-84F0-4A08-A4B2-C466DE9C0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968C-6301-4656-88A8-000D6F8C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E22A-5FC3-417A-9CA6-AAD4E5E3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4FF0-F6FA-4445-B21F-447D3981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9921-7EA7-439E-BCEA-87559082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1C8C-7052-4406-A39C-DCC5D19E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378C-08A5-4DCB-A2FC-A32DBD9E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1844-046E-47E2-8522-A54A66D0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49DF-6D5D-453F-93FC-E6C6B6A7D4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4752-56CB-42AD-A5A8-F889D2C2B4B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КОРОЛЕВСТВО Д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2" name="Picture 3" descr="denmark"/>
          <p:cNvPicPr/>
          <p:nvPr/>
        </p:nvPicPr>
        <p:blipFill>
          <a:blip r:embed="rId1"/>
          <a:stretch/>
        </p:blipFill>
        <p:spPr>
          <a:xfrm>
            <a:off x="228600" y="152280"/>
            <a:ext cx="165744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Дания – конституционная монархия. 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Глава государства – королева (король)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451160" y="167652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Флаг Д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Flag_Denmark_500px"/>
          <p:cNvPicPr/>
          <p:nvPr/>
        </p:nvPicPr>
        <p:blipFill>
          <a:blip r:embed="rId1"/>
          <a:stretch/>
        </p:blipFill>
        <p:spPr>
          <a:xfrm>
            <a:off x="685800" y="2819520"/>
            <a:ext cx="4191120" cy="26240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9"/>
          <p:cNvSpPr/>
          <p:nvPr/>
        </p:nvSpPr>
        <p:spPr>
          <a:xfrm>
            <a:off x="6403320" y="1752480"/>
            <a:ext cx="149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ерб Д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img"/>
          <p:cNvPicPr/>
          <p:nvPr/>
        </p:nvPicPr>
        <p:blipFill>
          <a:blip r:embed="rId2"/>
          <a:stretch/>
        </p:blipFill>
        <p:spPr>
          <a:xfrm>
            <a:off x="5943600" y="2438280"/>
            <a:ext cx="25239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537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оролевство Дания – самая маленькая и самая южная из скандинавских стран. Она расположена на полуострове Ютландия и на 406 островах Северного и Балтийского морей, крупнейшие из которых – Шеллан, Фюн, Вендсюссель-Ти, Зеландия. Дании также принадлежат Гренландия и Фарельские острова, имеющие право самоуправления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5" descr="dania-1"/>
          <p:cNvPicPr/>
          <p:nvPr/>
        </p:nvPicPr>
        <p:blipFill>
          <a:blip r:embed="rId1"/>
          <a:stretch/>
        </p:blipFill>
        <p:spPr>
          <a:xfrm>
            <a:off x="838080" y="1752480"/>
            <a:ext cx="754380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Большую часть жителей Дании составляют датчане, несколько тысяч немцев проживают в южной области страны, где нередко можно услышать немецкую речь. Что касается Гренландии, то здесь проживают эскимосы, а на Фарерских островах — фарерцы. Официальный язык — датский, но говорят здесь также на английском и немецком языках</a:t>
            </a: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85800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Климат Дании умеренно-морской. Благодаря влиянию теплого течения Гольфстрим в стране сравнительно мягкие зимы. Большую часть года преобладают сильные ветра. Летом стоит ясная теплая погода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1287518766_2"/>
          <p:cNvPicPr/>
          <p:nvPr/>
        </p:nvPicPr>
        <p:blipFill>
          <a:blip r:embed="rId1"/>
          <a:stretch/>
        </p:blipFill>
        <p:spPr>
          <a:xfrm>
            <a:off x="1371600" y="1752480"/>
            <a:ext cx="6553080" cy="49150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152280"/>
            <a:ext cx="8839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Почти вся территория Дании – это обширные волнистые равнины и невысокие холмы. Самой высокой точкой считается гора Индинг-Сковхой высотой 173 м, которая расположена на востоке Ютландии. Низшая точка находится на западном побережье этого же полуострова с высотой в 12 м ниже уровня моря. Причиной возникновения такого рельефа были ледники плейстоценового периода.</a:t>
            </a: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осточное побережье королевства состоит из множества бухт разных размеров. Западные и северные берега ровные с песчаными дюнами, юго-запад Ютландии покрыт ваттовыми берегами, которые постоянно меняются под натиском морских приливов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3733920" cy="2428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"/>
          <p:cNvPicPr/>
          <p:nvPr/>
        </p:nvPicPr>
        <p:blipFill>
          <a:blip r:embed="rId2"/>
          <a:stretch/>
        </p:blipFill>
        <p:spPr>
          <a:xfrm>
            <a:off x="609480" y="4191120"/>
            <a:ext cx="3733920" cy="2438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"/>
          <p:cNvPicPr/>
          <p:nvPr/>
        </p:nvPicPr>
        <p:blipFill>
          <a:blip r:embed="rId3"/>
          <a:stretch/>
        </p:blipFill>
        <p:spPr>
          <a:xfrm>
            <a:off x="5029200" y="4191120"/>
            <a:ext cx="3581280" cy="2481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"/>
          <p:cNvPicPr/>
          <p:nvPr/>
        </p:nvPicPr>
        <p:blipFill>
          <a:blip r:embed="rId4"/>
          <a:stretch/>
        </p:blipFill>
        <p:spPr>
          <a:xfrm>
            <a:off x="5029200" y="1676520"/>
            <a:ext cx="358128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ww.PHILka.RU</cp:lastModifiedBy>
  <dcterms:modified xsi:type="dcterms:W3CDTF">2012-11-04T19:13:4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